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0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2.wmf" ContentType="image/x-wmf"/>
  <Override PartName="/ppt/media/image6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9.png" ContentType="image/png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DC00-B03D-4206-8AE5-1164BD44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E972-CCB2-4782-B312-4F0651672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Point XP or above is needed to view the rotations on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B4E2-600D-474F-9E9F-ED3FCA16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C61-1F0C-4E03-9265-BBC09F6B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B7B-74FD-476D-8476-81AF49BE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974-CD08-44B4-ADF4-B5CDF4CF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77D-D9FD-496C-AC3A-2D17242A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A8B-6EB2-4B71-B979-D7DA7ED2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9E9-735F-4767-B1BE-33AD7A0F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2DE-CD05-4C67-AC76-A06D8CEF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FC3-F394-41B0-BF2B-B00F6D3B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7CD-D80D-458A-85F0-2676A5C9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EA3-EC26-44DC-BDCE-808D9EF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C14-54DD-42FF-98ED-314AAF9F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6A7-9217-4C98-AFEC-3EC8D28F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76D8-6FC4-4137-A8AC-0A502F959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1.jpeg"/><Relationship Id="rId11" Type="http://schemas.openxmlformats.org/officeDocument/2006/relationships/image" Target="../media/image6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7.png"/><Relationship Id="rId16" Type="http://schemas.openxmlformats.org/officeDocument/2006/relationships/image" Target="../media/image8.jpeg"/><Relationship Id="rId17" Type="http://schemas.openxmlformats.org/officeDocument/2006/relationships/image" Target="../media/image9.png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954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50000">
                <a:srgbClr val="ffffff"/>
              </a:gs>
              <a:gs pos="100000">
                <a:srgbClr val="a9a9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6762600"/>
            <a:ext cx="9144000" cy="954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50000">
                <a:srgbClr val="ffffff"/>
              </a:gs>
              <a:gs pos="100000">
                <a:srgbClr val="a9a9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5400" cy="68580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50000">
                <a:srgbClr val="ffffff"/>
              </a:gs>
              <a:gs pos="100000">
                <a:srgbClr val="a9a9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048600" y="0"/>
            <a:ext cx="95400" cy="685800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50000">
                <a:srgbClr val="ffffff"/>
              </a:gs>
              <a:gs pos="100000">
                <a:srgbClr val="a9a9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1346040" y="1003320"/>
            <a:ext cx="6496200" cy="4127400"/>
            <a:chOff x="1346040" y="1003320"/>
            <a:chExt cx="6496200" cy="4127400"/>
          </a:xfrm>
        </p:grpSpPr>
        <p:grpSp>
          <p:nvGrpSpPr>
            <p:cNvPr id="53" name="Group 7"/>
            <p:cNvGrpSpPr/>
            <p:nvPr/>
          </p:nvGrpSpPr>
          <p:grpSpPr>
            <a:xfrm>
              <a:off x="1346040" y="1003320"/>
              <a:ext cx="6496200" cy="4127400"/>
              <a:chOff x="1346040" y="1003320"/>
              <a:chExt cx="6496200" cy="412740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1508040" y="1047600"/>
                <a:ext cx="6245280" cy="405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9"/>
              <p:cNvSpPr/>
              <p:nvPr/>
            </p:nvSpPr>
            <p:spPr>
              <a:xfrm>
                <a:off x="1352520" y="1047600"/>
                <a:ext cx="152280" cy="4056120"/>
              </a:xfrm>
              <a:prstGeom prst="rect">
                <a:avLst/>
              </a:prstGeom>
              <a:gradFill rotWithShape="0">
                <a:gsLst>
                  <a:gs pos="0">
                    <a:srgbClr val="a48e63"/>
                  </a:gs>
                  <a:gs pos="50000">
                    <a:srgbClr val="f7d695"/>
                  </a:gs>
                  <a:gs pos="100000">
                    <a:srgbClr val="a48e6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0"/>
              <p:cNvSpPr/>
              <p:nvPr/>
            </p:nvSpPr>
            <p:spPr>
              <a:xfrm>
                <a:off x="7689960" y="1035000"/>
                <a:ext cx="152280" cy="4056120"/>
              </a:xfrm>
              <a:prstGeom prst="rect">
                <a:avLst/>
              </a:prstGeom>
              <a:gradFill rotWithShape="0">
                <a:gsLst>
                  <a:gs pos="0">
                    <a:srgbClr val="a48e63"/>
                  </a:gs>
                  <a:gs pos="50000">
                    <a:srgbClr val="f7d695"/>
                  </a:gs>
                  <a:gs pos="100000">
                    <a:srgbClr val="a48e6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1346040" y="1003320"/>
                <a:ext cx="6496200" cy="139680"/>
              </a:xfrm>
              <a:prstGeom prst="rect">
                <a:avLst/>
              </a:prstGeom>
              <a:gradFill rotWithShape="0">
                <a:gsLst>
                  <a:gs pos="0">
                    <a:srgbClr val="a48e63"/>
                  </a:gs>
                  <a:gs pos="50000">
                    <a:srgbClr val="f7d695"/>
                  </a:gs>
                  <a:gs pos="100000">
                    <a:srgbClr val="a48e6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1346040" y="4991040"/>
                <a:ext cx="6496200" cy="139680"/>
              </a:xfrm>
              <a:prstGeom prst="rect">
                <a:avLst/>
              </a:prstGeom>
              <a:gradFill rotWithShape="0">
                <a:gsLst>
                  <a:gs pos="0">
                    <a:srgbClr val="a48e63"/>
                  </a:gs>
                  <a:gs pos="50000">
                    <a:srgbClr val="f7d695"/>
                  </a:gs>
                  <a:gs pos="100000">
                    <a:srgbClr val="a48e6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 Box 13"/>
            <p:cNvSpPr/>
            <p:nvPr/>
          </p:nvSpPr>
          <p:spPr>
            <a:xfrm>
              <a:off x="2192400" y="1170000"/>
              <a:ext cx="5067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Whiteboardmaths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5424480" y="4764240"/>
              <a:ext cx="224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© 2007 All rights reserve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 flipV="1">
              <a:off x="2376360" y="1692360"/>
              <a:ext cx="4038840" cy="9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6"/>
            <p:cNvGrpSpPr/>
            <p:nvPr/>
          </p:nvGrpSpPr>
          <p:grpSpPr>
            <a:xfrm>
              <a:off x="1949400" y="1871640"/>
              <a:ext cx="850680" cy="990720"/>
              <a:chOff x="1949400" y="1871640"/>
              <a:chExt cx="850680" cy="990720"/>
            </a:xfrm>
          </p:grpSpPr>
          <p:sp>
            <p:nvSpPr>
              <p:cNvPr id="63" name="AutoShape 17"/>
              <p:cNvSpPr/>
              <p:nvPr/>
            </p:nvSpPr>
            <p:spPr>
              <a:xfrm>
                <a:off x="1950840" y="1871640"/>
                <a:ext cx="849240" cy="99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e928e"/>
                  </a:gs>
                  <a:gs pos="50000">
                    <a:srgbClr val="eedcd6"/>
                  </a:gs>
                  <a:gs pos="100000">
                    <a:srgbClr val="9e928e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18"/>
              <p:cNvSpPr/>
              <p:nvPr/>
            </p:nvSpPr>
            <p:spPr>
              <a:xfrm>
                <a:off x="1950840" y="1949400"/>
                <a:ext cx="846720" cy="847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2156"/>
                    </a:srgbClr>
                  </a:gs>
                  <a:gs pos="100000">
                    <a:srgbClr val="a9a9a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9"/>
              <p:cNvSpPr/>
              <p:nvPr/>
            </p:nvSpPr>
            <p:spPr>
              <a:xfrm>
                <a:off x="1949400" y="2635920"/>
                <a:ext cx="849240" cy="118800"/>
              </a:xfrm>
              <a:custGeom>
                <a:avLst/>
                <a:gdLst/>
                <a:ahLst/>
                <a:rect l="l" t="t" r="r" b="b"/>
                <a:pathLst>
                  <a:path w="1502" h="210">
                    <a:moveTo>
                      <a:pt x="0" y="201"/>
                    </a:moveTo>
                    <a:cubicBezTo>
                      <a:pt x="4" y="195"/>
                      <a:pt x="16" y="176"/>
                      <a:pt x="26" y="165"/>
                    </a:cubicBezTo>
                    <a:cubicBezTo>
                      <a:pt x="36" y="154"/>
                      <a:pt x="39" y="146"/>
                      <a:pt x="63" y="132"/>
                    </a:cubicBezTo>
                    <a:cubicBezTo>
                      <a:pt x="87" y="118"/>
                      <a:pt x="128" y="95"/>
                      <a:pt x="171" y="80"/>
                    </a:cubicBezTo>
                    <a:cubicBezTo>
                      <a:pt x="214" y="65"/>
                      <a:pt x="275" y="52"/>
                      <a:pt x="324" y="42"/>
                    </a:cubicBezTo>
                    <a:cubicBezTo>
                      <a:pt x="373" y="32"/>
                      <a:pt x="420" y="24"/>
                      <a:pt x="465" y="18"/>
                    </a:cubicBezTo>
                    <a:cubicBezTo>
                      <a:pt x="510" y="12"/>
                      <a:pt x="550" y="9"/>
                      <a:pt x="594" y="6"/>
                    </a:cubicBezTo>
                    <a:cubicBezTo>
                      <a:pt x="638" y="3"/>
                      <a:pt x="680" y="0"/>
                      <a:pt x="728" y="0"/>
                    </a:cubicBezTo>
                    <a:cubicBezTo>
                      <a:pt x="776" y="0"/>
                      <a:pt x="840" y="4"/>
                      <a:pt x="882" y="6"/>
                    </a:cubicBezTo>
                    <a:cubicBezTo>
                      <a:pt x="924" y="8"/>
                      <a:pt x="940" y="8"/>
                      <a:pt x="981" y="12"/>
                    </a:cubicBezTo>
                    <a:cubicBezTo>
                      <a:pt x="1022" y="16"/>
                      <a:pt x="1087" y="27"/>
                      <a:pt x="1128" y="33"/>
                    </a:cubicBezTo>
                    <a:cubicBezTo>
                      <a:pt x="1169" y="39"/>
                      <a:pt x="1191" y="42"/>
                      <a:pt x="1227" y="51"/>
                    </a:cubicBezTo>
                    <a:cubicBezTo>
                      <a:pt x="1263" y="60"/>
                      <a:pt x="1311" y="75"/>
                      <a:pt x="1344" y="87"/>
                    </a:cubicBezTo>
                    <a:cubicBezTo>
                      <a:pt x="1377" y="99"/>
                      <a:pt x="1403" y="110"/>
                      <a:pt x="1427" y="125"/>
                    </a:cubicBezTo>
                    <a:cubicBezTo>
                      <a:pt x="1451" y="140"/>
                      <a:pt x="1478" y="163"/>
                      <a:pt x="1490" y="177"/>
                    </a:cubicBezTo>
                    <a:cubicBezTo>
                      <a:pt x="1502" y="191"/>
                      <a:pt x="1498" y="203"/>
                      <a:pt x="1500" y="21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0"/>
              <p:cNvSpPr/>
              <p:nvPr/>
            </p:nvSpPr>
            <p:spPr>
              <a:xfrm flipV="1">
                <a:off x="1949400" y="2000880"/>
                <a:ext cx="849240" cy="118800"/>
              </a:xfrm>
              <a:custGeom>
                <a:avLst/>
                <a:gdLst/>
                <a:ahLst/>
                <a:rect l="l" t="t" r="r" b="b"/>
                <a:pathLst>
                  <a:path w="1502" h="210">
                    <a:moveTo>
                      <a:pt x="0" y="201"/>
                    </a:moveTo>
                    <a:cubicBezTo>
                      <a:pt x="4" y="195"/>
                      <a:pt x="16" y="176"/>
                      <a:pt x="26" y="165"/>
                    </a:cubicBezTo>
                    <a:cubicBezTo>
                      <a:pt x="36" y="154"/>
                      <a:pt x="39" y="146"/>
                      <a:pt x="63" y="132"/>
                    </a:cubicBezTo>
                    <a:cubicBezTo>
                      <a:pt x="87" y="118"/>
                      <a:pt x="128" y="95"/>
                      <a:pt x="171" y="80"/>
                    </a:cubicBezTo>
                    <a:cubicBezTo>
                      <a:pt x="214" y="65"/>
                      <a:pt x="275" y="52"/>
                      <a:pt x="324" y="42"/>
                    </a:cubicBezTo>
                    <a:cubicBezTo>
                      <a:pt x="373" y="32"/>
                      <a:pt x="420" y="24"/>
                      <a:pt x="465" y="18"/>
                    </a:cubicBezTo>
                    <a:cubicBezTo>
                      <a:pt x="510" y="12"/>
                      <a:pt x="550" y="9"/>
                      <a:pt x="594" y="6"/>
                    </a:cubicBezTo>
                    <a:cubicBezTo>
                      <a:pt x="638" y="3"/>
                      <a:pt x="680" y="0"/>
                      <a:pt x="728" y="0"/>
                    </a:cubicBezTo>
                    <a:cubicBezTo>
                      <a:pt x="776" y="0"/>
                      <a:pt x="840" y="4"/>
                      <a:pt x="882" y="6"/>
                    </a:cubicBezTo>
                    <a:cubicBezTo>
                      <a:pt x="924" y="8"/>
                      <a:pt x="940" y="8"/>
                      <a:pt x="981" y="12"/>
                    </a:cubicBezTo>
                    <a:cubicBezTo>
                      <a:pt x="1022" y="16"/>
                      <a:pt x="1087" y="27"/>
                      <a:pt x="1128" y="33"/>
                    </a:cubicBezTo>
                    <a:cubicBezTo>
                      <a:pt x="1169" y="39"/>
                      <a:pt x="1191" y="42"/>
                      <a:pt x="1227" y="51"/>
                    </a:cubicBezTo>
                    <a:cubicBezTo>
                      <a:pt x="1263" y="60"/>
                      <a:pt x="1311" y="75"/>
                      <a:pt x="1344" y="87"/>
                    </a:cubicBezTo>
                    <a:cubicBezTo>
                      <a:pt x="1377" y="99"/>
                      <a:pt x="1403" y="110"/>
                      <a:pt x="1427" y="125"/>
                    </a:cubicBezTo>
                    <a:cubicBezTo>
                      <a:pt x="1451" y="140"/>
                      <a:pt x="1478" y="163"/>
                      <a:pt x="1490" y="177"/>
                    </a:cubicBezTo>
                    <a:cubicBezTo>
                      <a:pt x="1502" y="191"/>
                      <a:pt x="1498" y="203"/>
                      <a:pt x="1500" y="21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1"/>
            <p:cNvGrpSpPr/>
            <p:nvPr/>
          </p:nvGrpSpPr>
          <p:grpSpPr>
            <a:xfrm>
              <a:off x="3308400" y="1785960"/>
              <a:ext cx="1144440" cy="1259280"/>
              <a:chOff x="3308400" y="1785960"/>
              <a:chExt cx="1144440" cy="1259280"/>
            </a:xfrm>
          </p:grpSpPr>
          <p:sp>
            <p:nvSpPr>
              <p:cNvPr id="68" name="Rectangle 22"/>
              <p:cNvSpPr/>
              <p:nvPr/>
            </p:nvSpPr>
            <p:spPr>
              <a:xfrm>
                <a:off x="3308400" y="2241000"/>
                <a:ext cx="340200" cy="345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3"/>
              <p:cNvSpPr/>
              <p:nvPr/>
            </p:nvSpPr>
            <p:spPr>
              <a:xfrm>
                <a:off x="3647880" y="2586240"/>
                <a:ext cx="39852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4"/>
              <p:cNvSpPr/>
              <p:nvPr/>
            </p:nvSpPr>
            <p:spPr>
              <a:xfrm rot="5430000">
                <a:off x="3787560" y="2670840"/>
                <a:ext cx="398880" cy="2314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5"/>
              <p:cNvSpPr/>
              <p:nvPr/>
            </p:nvSpPr>
            <p:spPr>
              <a:xfrm rot="10816800">
                <a:off x="3709800" y="2815920"/>
                <a:ext cx="39384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 rot="16216800">
                <a:off x="3563640" y="2730600"/>
                <a:ext cx="399240" cy="2278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7"/>
              <p:cNvSpPr/>
              <p:nvPr/>
            </p:nvSpPr>
            <p:spPr>
              <a:xfrm rot="10797600">
                <a:off x="3819960" y="1785960"/>
                <a:ext cx="39888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"/>
              <p:cNvSpPr/>
              <p:nvPr/>
            </p:nvSpPr>
            <p:spPr>
              <a:xfrm rot="16210800">
                <a:off x="4135680" y="2044080"/>
                <a:ext cx="400680" cy="23220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9"/>
              <p:cNvSpPr/>
              <p:nvPr/>
            </p:nvSpPr>
            <p:spPr>
              <a:xfrm rot="5416800">
                <a:off x="3563640" y="2101680"/>
                <a:ext cx="399240" cy="2278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0"/>
              <p:cNvSpPr/>
              <p:nvPr/>
            </p:nvSpPr>
            <p:spPr>
              <a:xfrm rot="21596400">
                <a:off x="3878280" y="2363760"/>
                <a:ext cx="39852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1"/>
              <p:cNvSpPr/>
              <p:nvPr/>
            </p:nvSpPr>
            <p:spPr>
              <a:xfrm>
                <a:off x="3877920" y="2016000"/>
                <a:ext cx="343440" cy="3459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32"/>
            <p:cNvGrpSpPr/>
            <p:nvPr/>
          </p:nvGrpSpPr>
          <p:grpSpPr>
            <a:xfrm>
              <a:off x="5046840" y="4151160"/>
              <a:ext cx="2611440" cy="639720"/>
              <a:chOff x="5046840" y="4151160"/>
              <a:chExt cx="2611440" cy="639720"/>
            </a:xfrm>
          </p:grpSpPr>
          <p:grpSp>
            <p:nvGrpSpPr>
              <p:cNvPr id="79" name="Group 33"/>
              <p:cNvGrpSpPr/>
              <p:nvPr/>
            </p:nvGrpSpPr>
            <p:grpSpPr>
              <a:xfrm>
                <a:off x="5046840" y="4151160"/>
                <a:ext cx="2611440" cy="639720"/>
                <a:chOff x="5046840" y="4151160"/>
                <a:chExt cx="2611440" cy="639720"/>
              </a:xfrm>
            </p:grpSpPr>
            <p:sp>
              <p:nvSpPr>
                <p:cNvPr id="80" name="Rectangle 34"/>
                <p:cNvSpPr/>
                <p:nvPr/>
              </p:nvSpPr>
              <p:spPr>
                <a:xfrm>
                  <a:off x="5046840" y="4668480"/>
                  <a:ext cx="2611440" cy="1224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5"/>
                <p:cNvGrpSpPr/>
                <p:nvPr/>
              </p:nvGrpSpPr>
              <p:grpSpPr>
                <a:xfrm>
                  <a:off x="5349600" y="4151160"/>
                  <a:ext cx="2009880" cy="517320"/>
                  <a:chOff x="5349600" y="4151160"/>
                  <a:chExt cx="2009880" cy="517320"/>
                </a:xfrm>
              </p:grpSpPr>
              <p:sp>
                <p:nvSpPr>
                  <p:cNvPr id="82" name="Rectangle 36"/>
                  <p:cNvSpPr/>
                  <p:nvPr/>
                </p:nvSpPr>
                <p:spPr>
                  <a:xfrm>
                    <a:off x="534960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Rectangle 37"/>
                  <p:cNvSpPr/>
                  <p:nvPr/>
                </p:nvSpPr>
                <p:spPr>
                  <a:xfrm>
                    <a:off x="635256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Rectangle 38"/>
                  <p:cNvSpPr/>
                  <p:nvPr/>
                </p:nvSpPr>
                <p:spPr>
                  <a:xfrm>
                    <a:off x="729972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Rectangle 39"/>
              <p:cNvSpPr/>
              <p:nvPr/>
            </p:nvSpPr>
            <p:spPr>
              <a:xfrm>
                <a:off x="6065640" y="4606560"/>
                <a:ext cx="667800" cy="61920"/>
              </a:xfrm>
              <a:prstGeom prst="rect">
                <a:avLst/>
              </a:prstGeom>
              <a:gradFill rotWithShape="0">
                <a:gsLst>
                  <a:gs pos="0">
                    <a:srgbClr val="a9a987"/>
                  </a:gs>
                  <a:gs pos="50000">
                    <a:srgbClr val="ffffcc"/>
                  </a:gs>
                  <a:gs pos="100000">
                    <a:srgbClr val="a9a98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40"/>
              <p:cNvSpPr/>
              <p:nvPr/>
            </p:nvSpPr>
            <p:spPr>
              <a:xfrm>
                <a:off x="6101280" y="4545000"/>
                <a:ext cx="583200" cy="61560"/>
              </a:xfrm>
              <a:prstGeom prst="rect">
                <a:avLst/>
              </a:prstGeom>
              <a:gradFill rotWithShape="0">
                <a:gsLst>
                  <a:gs pos="0">
                    <a:srgbClr val="a4a4a4"/>
                  </a:gs>
                  <a:gs pos="50000">
                    <a:srgbClr val="f8f8f8"/>
                  </a:gs>
                  <a:gs pos="100000">
                    <a:srgbClr val="a4a4a4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1"/>
              <p:cNvSpPr/>
              <p:nvPr/>
            </p:nvSpPr>
            <p:spPr>
              <a:xfrm>
                <a:off x="6145200" y="4482720"/>
                <a:ext cx="479160" cy="61920"/>
              </a:xfrm>
              <a:prstGeom prst="rect">
                <a:avLst/>
              </a:prstGeom>
              <a:gradFill rotWithShape="0">
                <a:gsLst>
                  <a:gs pos="0">
                    <a:srgbClr val="a9a987"/>
                  </a:gs>
                  <a:gs pos="50000">
                    <a:srgbClr val="ffffcc"/>
                  </a:gs>
                  <a:gs pos="100000">
                    <a:srgbClr val="a9a98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2"/>
              <p:cNvSpPr/>
              <p:nvPr/>
            </p:nvSpPr>
            <p:spPr>
              <a:xfrm>
                <a:off x="7146360" y="4606560"/>
                <a:ext cx="376920" cy="61920"/>
              </a:xfrm>
              <a:prstGeom prst="rect">
                <a:avLst/>
              </a:prstGeom>
              <a:gradFill rotWithShape="0">
                <a:gsLst>
                  <a:gs pos="0">
                    <a:srgbClr val="a4a4a4"/>
                  </a:gs>
                  <a:gs pos="50000">
                    <a:srgbClr val="f8f8f8"/>
                  </a:gs>
                  <a:gs pos="100000">
                    <a:srgbClr val="a4a4a4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3"/>
              <p:cNvSpPr/>
              <p:nvPr/>
            </p:nvSpPr>
            <p:spPr>
              <a:xfrm>
                <a:off x="5233320" y="4606560"/>
                <a:ext cx="284400" cy="61920"/>
              </a:xfrm>
              <a:prstGeom prst="rect">
                <a:avLst/>
              </a:prstGeom>
              <a:gradFill rotWithShape="0">
                <a:gsLst>
                  <a:gs pos="0">
                    <a:srgbClr val="a9a987"/>
                  </a:gs>
                  <a:gs pos="50000">
                    <a:srgbClr val="ffffcc"/>
                  </a:gs>
                  <a:gs pos="100000">
                    <a:srgbClr val="a9a98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44"/>
              <p:cNvSpPr/>
              <p:nvPr/>
            </p:nvSpPr>
            <p:spPr>
              <a:xfrm>
                <a:off x="5046840" y="4668480"/>
                <a:ext cx="2611440" cy="122400"/>
              </a:xfrm>
              <a:prstGeom prst="rect">
                <a:avLst/>
              </a:prstGeom>
              <a:gradFill rotWithShape="0">
                <a:gsLst>
                  <a:gs pos="0">
                    <a:srgbClr val="8f755a"/>
                  </a:gs>
                  <a:gs pos="50000">
                    <a:srgbClr val="d8b088"/>
                  </a:gs>
                  <a:gs pos="100000">
                    <a:srgbClr val="8f755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5"/>
            <p:cNvGrpSpPr/>
            <p:nvPr/>
          </p:nvGrpSpPr>
          <p:grpSpPr>
            <a:xfrm>
              <a:off x="4959360" y="1932120"/>
              <a:ext cx="905040" cy="868320"/>
              <a:chOff x="4959360" y="1932120"/>
              <a:chExt cx="905040" cy="868320"/>
            </a:xfrm>
          </p:grpSpPr>
          <p:grpSp>
            <p:nvGrpSpPr>
              <p:cNvPr id="92" name="Group 46"/>
              <p:cNvGrpSpPr/>
              <p:nvPr/>
            </p:nvGrpSpPr>
            <p:grpSpPr>
              <a:xfrm>
                <a:off x="4959360" y="1947960"/>
                <a:ext cx="858960" cy="852480"/>
                <a:chOff x="4959360" y="1947960"/>
                <a:chExt cx="858960" cy="852480"/>
              </a:xfrm>
            </p:grpSpPr>
            <p:sp>
              <p:nvSpPr>
                <p:cNvPr id="93" name="AutoShape 47"/>
                <p:cNvSpPr/>
                <p:nvPr/>
              </p:nvSpPr>
              <p:spPr>
                <a:xfrm>
                  <a:off x="495936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AutoShape 48"/>
                <p:cNvSpPr/>
                <p:nvPr/>
              </p:nvSpPr>
              <p:spPr>
                <a:xfrm>
                  <a:off x="524556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49"/>
                <p:cNvSpPr/>
                <p:nvPr/>
              </p:nvSpPr>
              <p:spPr>
                <a:xfrm>
                  <a:off x="553212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50"/>
                <p:cNvSpPr/>
                <p:nvPr/>
              </p:nvSpPr>
              <p:spPr>
                <a:xfrm>
                  <a:off x="495936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51"/>
                <p:cNvSpPr/>
                <p:nvPr/>
              </p:nvSpPr>
              <p:spPr>
                <a:xfrm>
                  <a:off x="524556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AutoShape 52"/>
                <p:cNvSpPr/>
                <p:nvPr/>
              </p:nvSpPr>
              <p:spPr>
                <a:xfrm>
                  <a:off x="553212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utoShape 53"/>
                <p:cNvSpPr/>
                <p:nvPr/>
              </p:nvSpPr>
              <p:spPr>
                <a:xfrm>
                  <a:off x="495936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AutoShape 54"/>
                <p:cNvSpPr/>
                <p:nvPr/>
              </p:nvSpPr>
              <p:spPr>
                <a:xfrm>
                  <a:off x="524556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55"/>
                <p:cNvSpPr/>
                <p:nvPr/>
              </p:nvSpPr>
              <p:spPr>
                <a:xfrm>
                  <a:off x="553212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9a987"/>
                    </a:gs>
                    <a:gs pos="50000">
                      <a:srgbClr val="ffffcc"/>
                    </a:gs>
                    <a:gs pos="100000">
                      <a:srgbClr val="a9a98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Text Box 56"/>
              <p:cNvSpPr/>
              <p:nvPr/>
            </p:nvSpPr>
            <p:spPr>
              <a:xfrm>
                <a:off x="5241960" y="221940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57"/>
              <p:cNvSpPr/>
              <p:nvPr/>
            </p:nvSpPr>
            <p:spPr>
              <a:xfrm>
                <a:off x="5226120" y="193212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58"/>
              <p:cNvSpPr/>
              <p:nvPr/>
            </p:nvSpPr>
            <p:spPr>
              <a:xfrm>
                <a:off x="5508720" y="193356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59"/>
              <p:cNvSpPr/>
              <p:nvPr/>
            </p:nvSpPr>
            <p:spPr>
              <a:xfrm>
                <a:off x="4959360" y="221760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60"/>
            <p:cNvGrpSpPr/>
            <p:nvPr/>
          </p:nvGrpSpPr>
          <p:grpSpPr>
            <a:xfrm>
              <a:off x="4717800" y="2920680"/>
              <a:ext cx="1087560" cy="1089360"/>
              <a:chOff x="4717800" y="2920680"/>
              <a:chExt cx="1087560" cy="1089360"/>
            </a:xfrm>
          </p:grpSpPr>
          <p:grpSp>
            <p:nvGrpSpPr>
              <p:cNvPr id="107" name="Group 61"/>
              <p:cNvGrpSpPr/>
              <p:nvPr/>
            </p:nvGrpSpPr>
            <p:grpSpPr>
              <a:xfrm>
                <a:off x="4717800" y="2920680"/>
                <a:ext cx="1087560" cy="1089360"/>
                <a:chOff x="4717800" y="2920680"/>
                <a:chExt cx="1087560" cy="1089360"/>
              </a:xfrm>
            </p:grpSpPr>
            <p:grpSp>
              <p:nvGrpSpPr>
                <p:cNvPr id="108" name="Group 62"/>
                <p:cNvGrpSpPr/>
                <p:nvPr/>
              </p:nvGrpSpPr>
              <p:grpSpPr>
                <a:xfrm>
                  <a:off x="4717800" y="2920680"/>
                  <a:ext cx="1087560" cy="1089360"/>
                  <a:chOff x="4717800" y="2920680"/>
                  <a:chExt cx="1087560" cy="1089360"/>
                </a:xfrm>
              </p:grpSpPr>
              <p:grpSp>
                <p:nvGrpSpPr>
                  <p:cNvPr id="109" name="Group 63"/>
                  <p:cNvGrpSpPr/>
                  <p:nvPr/>
                </p:nvGrpSpPr>
                <p:grpSpPr>
                  <a:xfrm>
                    <a:off x="4718160" y="2920680"/>
                    <a:ext cx="1087200" cy="9720"/>
                    <a:chOff x="4718160" y="2920680"/>
                    <a:chExt cx="1087200" cy="9720"/>
                  </a:xfrm>
                </p:grpSpPr>
                <p:sp>
                  <p:nvSpPr>
                    <p:cNvPr id="110" name="Oval 64"/>
                    <p:cNvSpPr/>
                    <p:nvPr/>
                  </p:nvSpPr>
                  <p:spPr>
                    <a:xfrm flipV="1">
                      <a:off x="47181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Oval 65"/>
                    <p:cNvSpPr/>
                    <p:nvPr/>
                  </p:nvSpPr>
                  <p:spPr>
                    <a:xfrm flipV="1">
                      <a:off x="4771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Oval 66"/>
                    <p:cNvSpPr/>
                    <p:nvPr/>
                  </p:nvSpPr>
                  <p:spPr>
                    <a:xfrm flipV="1">
                      <a:off x="4825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67"/>
                    <p:cNvSpPr/>
                    <p:nvPr/>
                  </p:nvSpPr>
                  <p:spPr>
                    <a:xfrm flipV="1">
                      <a:off x="4879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Oval 68"/>
                    <p:cNvSpPr/>
                    <p:nvPr/>
                  </p:nvSpPr>
                  <p:spPr>
                    <a:xfrm flipV="1">
                      <a:off x="4933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Oval 69"/>
                    <p:cNvSpPr/>
                    <p:nvPr/>
                  </p:nvSpPr>
                  <p:spPr>
                    <a:xfrm flipV="1">
                      <a:off x="4987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Oval 70"/>
                    <p:cNvSpPr/>
                    <p:nvPr/>
                  </p:nvSpPr>
                  <p:spPr>
                    <a:xfrm flipV="1">
                      <a:off x="5041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71"/>
                    <p:cNvSpPr/>
                    <p:nvPr/>
                  </p:nvSpPr>
                  <p:spPr>
                    <a:xfrm flipV="1">
                      <a:off x="5095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Oval 72"/>
                    <p:cNvSpPr/>
                    <p:nvPr/>
                  </p:nvSpPr>
                  <p:spPr>
                    <a:xfrm flipV="1">
                      <a:off x="5149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Oval 73"/>
                    <p:cNvSpPr/>
                    <p:nvPr/>
                  </p:nvSpPr>
                  <p:spPr>
                    <a:xfrm flipV="1">
                      <a:off x="5203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74"/>
                    <p:cNvSpPr/>
                    <p:nvPr/>
                  </p:nvSpPr>
                  <p:spPr>
                    <a:xfrm flipV="1">
                      <a:off x="5256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Oval 75"/>
                    <p:cNvSpPr/>
                    <p:nvPr/>
                  </p:nvSpPr>
                  <p:spPr>
                    <a:xfrm flipV="1">
                      <a:off x="5310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Oval 76"/>
                    <p:cNvSpPr/>
                    <p:nvPr/>
                  </p:nvSpPr>
                  <p:spPr>
                    <a:xfrm flipV="1">
                      <a:off x="5364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Oval 77"/>
                    <p:cNvSpPr/>
                    <p:nvPr/>
                  </p:nvSpPr>
                  <p:spPr>
                    <a:xfrm flipV="1">
                      <a:off x="5418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78"/>
                    <p:cNvSpPr/>
                    <p:nvPr/>
                  </p:nvSpPr>
                  <p:spPr>
                    <a:xfrm flipV="1">
                      <a:off x="5472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Oval 79"/>
                    <p:cNvSpPr/>
                    <p:nvPr/>
                  </p:nvSpPr>
                  <p:spPr>
                    <a:xfrm flipV="1">
                      <a:off x="5526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Oval 80"/>
                    <p:cNvSpPr/>
                    <p:nvPr/>
                  </p:nvSpPr>
                  <p:spPr>
                    <a:xfrm flipV="1">
                      <a:off x="5580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Oval 81"/>
                    <p:cNvSpPr/>
                    <p:nvPr/>
                  </p:nvSpPr>
                  <p:spPr>
                    <a:xfrm flipV="1">
                      <a:off x="5634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Oval 82"/>
                    <p:cNvSpPr/>
                    <p:nvPr/>
                  </p:nvSpPr>
                  <p:spPr>
                    <a:xfrm flipV="1">
                      <a:off x="5688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83"/>
                    <p:cNvSpPr/>
                    <p:nvPr/>
                  </p:nvSpPr>
                  <p:spPr>
                    <a:xfrm flipV="1">
                      <a:off x="57416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Oval 84"/>
                    <p:cNvSpPr/>
                    <p:nvPr/>
                  </p:nvSpPr>
                  <p:spPr>
                    <a:xfrm flipV="1">
                      <a:off x="57956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Group 85"/>
                  <p:cNvGrpSpPr/>
                  <p:nvPr/>
                </p:nvGrpSpPr>
                <p:grpSpPr>
                  <a:xfrm>
                    <a:off x="4718160" y="3999240"/>
                    <a:ext cx="1087200" cy="9720"/>
                    <a:chOff x="4718160" y="3999240"/>
                    <a:chExt cx="1087200" cy="9720"/>
                  </a:xfrm>
                </p:grpSpPr>
                <p:sp>
                  <p:nvSpPr>
                    <p:cNvPr id="132" name="Oval 86"/>
                    <p:cNvSpPr/>
                    <p:nvPr/>
                  </p:nvSpPr>
                  <p:spPr>
                    <a:xfrm flipV="1">
                      <a:off x="47181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Oval 87"/>
                    <p:cNvSpPr/>
                    <p:nvPr/>
                  </p:nvSpPr>
                  <p:spPr>
                    <a:xfrm flipV="1">
                      <a:off x="4771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Oval 88"/>
                    <p:cNvSpPr/>
                    <p:nvPr/>
                  </p:nvSpPr>
                  <p:spPr>
                    <a:xfrm flipV="1">
                      <a:off x="4825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89"/>
                    <p:cNvSpPr/>
                    <p:nvPr/>
                  </p:nvSpPr>
                  <p:spPr>
                    <a:xfrm flipV="1">
                      <a:off x="4879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Oval 90"/>
                    <p:cNvSpPr/>
                    <p:nvPr/>
                  </p:nvSpPr>
                  <p:spPr>
                    <a:xfrm flipV="1">
                      <a:off x="4933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91"/>
                    <p:cNvSpPr/>
                    <p:nvPr/>
                  </p:nvSpPr>
                  <p:spPr>
                    <a:xfrm flipV="1">
                      <a:off x="4987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Oval 92"/>
                    <p:cNvSpPr/>
                    <p:nvPr/>
                  </p:nvSpPr>
                  <p:spPr>
                    <a:xfrm flipV="1">
                      <a:off x="5041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Oval 93"/>
                    <p:cNvSpPr/>
                    <p:nvPr/>
                  </p:nvSpPr>
                  <p:spPr>
                    <a:xfrm flipV="1">
                      <a:off x="5095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Oval 94"/>
                    <p:cNvSpPr/>
                    <p:nvPr/>
                  </p:nvSpPr>
                  <p:spPr>
                    <a:xfrm flipV="1">
                      <a:off x="5149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Oval 95"/>
                    <p:cNvSpPr/>
                    <p:nvPr/>
                  </p:nvSpPr>
                  <p:spPr>
                    <a:xfrm flipV="1">
                      <a:off x="5203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Oval 96"/>
                    <p:cNvSpPr/>
                    <p:nvPr/>
                  </p:nvSpPr>
                  <p:spPr>
                    <a:xfrm flipV="1">
                      <a:off x="5256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Oval 97"/>
                    <p:cNvSpPr/>
                    <p:nvPr/>
                  </p:nvSpPr>
                  <p:spPr>
                    <a:xfrm flipV="1">
                      <a:off x="5310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Oval 98"/>
                    <p:cNvSpPr/>
                    <p:nvPr/>
                  </p:nvSpPr>
                  <p:spPr>
                    <a:xfrm flipV="1">
                      <a:off x="5364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Oval 99"/>
                    <p:cNvSpPr/>
                    <p:nvPr/>
                  </p:nvSpPr>
                  <p:spPr>
                    <a:xfrm flipV="1">
                      <a:off x="5418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Oval 100"/>
                    <p:cNvSpPr/>
                    <p:nvPr/>
                  </p:nvSpPr>
                  <p:spPr>
                    <a:xfrm flipV="1">
                      <a:off x="5472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Oval 101"/>
                    <p:cNvSpPr/>
                    <p:nvPr/>
                  </p:nvSpPr>
                  <p:spPr>
                    <a:xfrm flipV="1">
                      <a:off x="5526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102"/>
                    <p:cNvSpPr/>
                    <p:nvPr/>
                  </p:nvSpPr>
                  <p:spPr>
                    <a:xfrm flipV="1">
                      <a:off x="5580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Oval 103"/>
                    <p:cNvSpPr/>
                    <p:nvPr/>
                  </p:nvSpPr>
                  <p:spPr>
                    <a:xfrm flipV="1">
                      <a:off x="5634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Oval 104"/>
                    <p:cNvSpPr/>
                    <p:nvPr/>
                  </p:nvSpPr>
                  <p:spPr>
                    <a:xfrm flipV="1">
                      <a:off x="5688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105"/>
                    <p:cNvSpPr/>
                    <p:nvPr/>
                  </p:nvSpPr>
                  <p:spPr>
                    <a:xfrm flipV="1">
                      <a:off x="57416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Oval 106"/>
                    <p:cNvSpPr/>
                    <p:nvPr/>
                  </p:nvSpPr>
                  <p:spPr>
                    <a:xfrm flipV="1">
                      <a:off x="57956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" name="Oval 107"/>
                  <p:cNvSpPr/>
                  <p:nvPr/>
                </p:nvSpPr>
                <p:spPr>
                  <a:xfrm flipV="1" rot="16200000">
                    <a:off x="4717800" y="3998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Oval 108"/>
                  <p:cNvSpPr/>
                  <p:nvPr/>
                </p:nvSpPr>
                <p:spPr>
                  <a:xfrm flipV="1" rot="16200000">
                    <a:off x="4717800" y="3944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Oval 109"/>
                  <p:cNvSpPr/>
                  <p:nvPr/>
                </p:nvSpPr>
                <p:spPr>
                  <a:xfrm flipV="1" rot="16200000">
                    <a:off x="4717800" y="3890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Oval 110"/>
                  <p:cNvSpPr/>
                  <p:nvPr/>
                </p:nvSpPr>
                <p:spPr>
                  <a:xfrm flipV="1" rot="16200000">
                    <a:off x="4717800" y="3836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111"/>
                  <p:cNvSpPr/>
                  <p:nvPr/>
                </p:nvSpPr>
                <p:spPr>
                  <a:xfrm flipV="1" rot="16200000">
                    <a:off x="4717800" y="3782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Oval 112"/>
                  <p:cNvSpPr/>
                  <p:nvPr/>
                </p:nvSpPr>
                <p:spPr>
                  <a:xfrm flipV="1" rot="16200000">
                    <a:off x="4717800" y="3728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113"/>
                  <p:cNvSpPr/>
                  <p:nvPr/>
                </p:nvSpPr>
                <p:spPr>
                  <a:xfrm flipV="1" rot="16200000">
                    <a:off x="4717800" y="3674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Oval 114"/>
                  <p:cNvSpPr/>
                  <p:nvPr/>
                </p:nvSpPr>
                <p:spPr>
                  <a:xfrm flipV="1" rot="16200000">
                    <a:off x="4717800" y="3620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Oval 115"/>
                  <p:cNvSpPr/>
                  <p:nvPr/>
                </p:nvSpPr>
                <p:spPr>
                  <a:xfrm flipV="1" rot="16200000">
                    <a:off x="4717800" y="3566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Oval 116"/>
                  <p:cNvSpPr/>
                  <p:nvPr/>
                </p:nvSpPr>
                <p:spPr>
                  <a:xfrm flipV="1" rot="16200000">
                    <a:off x="4717800" y="351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Oval 117"/>
                  <p:cNvSpPr/>
                  <p:nvPr/>
                </p:nvSpPr>
                <p:spPr>
                  <a:xfrm flipV="1" rot="16200000">
                    <a:off x="4717800" y="3459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118"/>
                  <p:cNvSpPr/>
                  <p:nvPr/>
                </p:nvSpPr>
                <p:spPr>
                  <a:xfrm flipV="1" rot="16200000">
                    <a:off x="4717800" y="3405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19"/>
                  <p:cNvSpPr/>
                  <p:nvPr/>
                </p:nvSpPr>
                <p:spPr>
                  <a:xfrm flipV="1" rot="16200000">
                    <a:off x="4717800" y="3351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Oval 120"/>
                  <p:cNvSpPr/>
                  <p:nvPr/>
                </p:nvSpPr>
                <p:spPr>
                  <a:xfrm flipV="1" rot="16200000">
                    <a:off x="4717800" y="3297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Oval 121"/>
                  <p:cNvSpPr/>
                  <p:nvPr/>
                </p:nvSpPr>
                <p:spPr>
                  <a:xfrm flipV="1" rot="16200000">
                    <a:off x="4717800" y="324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Oval 122"/>
                  <p:cNvSpPr/>
                  <p:nvPr/>
                </p:nvSpPr>
                <p:spPr>
                  <a:xfrm flipV="1" rot="16200000">
                    <a:off x="4717800" y="3189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Oval 123"/>
                  <p:cNvSpPr/>
                  <p:nvPr/>
                </p:nvSpPr>
                <p:spPr>
                  <a:xfrm flipV="1" rot="16200000">
                    <a:off x="4717800" y="3135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Oval 124"/>
                  <p:cNvSpPr/>
                  <p:nvPr/>
                </p:nvSpPr>
                <p:spPr>
                  <a:xfrm flipV="1" rot="16200000">
                    <a:off x="4717800" y="3081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Oval 125"/>
                  <p:cNvSpPr/>
                  <p:nvPr/>
                </p:nvSpPr>
                <p:spPr>
                  <a:xfrm flipV="1" rot="16200000">
                    <a:off x="4717800" y="3027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Oval 126"/>
                  <p:cNvSpPr/>
                  <p:nvPr/>
                </p:nvSpPr>
                <p:spPr>
                  <a:xfrm flipV="1" rot="16200000">
                    <a:off x="4717800" y="2973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Oval 127"/>
                  <p:cNvSpPr/>
                  <p:nvPr/>
                </p:nvSpPr>
                <p:spPr>
                  <a:xfrm flipV="1" rot="16200000">
                    <a:off x="5794920" y="3998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28"/>
                  <p:cNvSpPr/>
                  <p:nvPr/>
                </p:nvSpPr>
                <p:spPr>
                  <a:xfrm flipV="1" rot="16200000">
                    <a:off x="5794920" y="3944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Oval 129"/>
                  <p:cNvSpPr/>
                  <p:nvPr/>
                </p:nvSpPr>
                <p:spPr>
                  <a:xfrm flipV="1" rot="16200000">
                    <a:off x="5794920" y="3890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130"/>
                  <p:cNvSpPr/>
                  <p:nvPr/>
                </p:nvSpPr>
                <p:spPr>
                  <a:xfrm flipV="1" rot="16200000">
                    <a:off x="5794920" y="3836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Oval 131"/>
                  <p:cNvSpPr/>
                  <p:nvPr/>
                </p:nvSpPr>
                <p:spPr>
                  <a:xfrm flipV="1" rot="16200000">
                    <a:off x="5794920" y="3782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132"/>
                  <p:cNvSpPr/>
                  <p:nvPr/>
                </p:nvSpPr>
                <p:spPr>
                  <a:xfrm flipV="1" rot="16200000">
                    <a:off x="5794920" y="3728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133"/>
                  <p:cNvSpPr/>
                  <p:nvPr/>
                </p:nvSpPr>
                <p:spPr>
                  <a:xfrm flipV="1" rot="16200000">
                    <a:off x="5794920" y="3674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Oval 134"/>
                  <p:cNvSpPr/>
                  <p:nvPr/>
                </p:nvSpPr>
                <p:spPr>
                  <a:xfrm flipV="1" rot="16200000">
                    <a:off x="5794920" y="3620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Oval 135"/>
                  <p:cNvSpPr/>
                  <p:nvPr/>
                </p:nvSpPr>
                <p:spPr>
                  <a:xfrm flipV="1" rot="16200000">
                    <a:off x="5794920" y="3566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Oval 136"/>
                  <p:cNvSpPr/>
                  <p:nvPr/>
                </p:nvSpPr>
                <p:spPr>
                  <a:xfrm flipV="1" rot="16200000">
                    <a:off x="5795280" y="351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Oval 137"/>
                  <p:cNvSpPr/>
                  <p:nvPr/>
                </p:nvSpPr>
                <p:spPr>
                  <a:xfrm flipV="1" rot="16200000">
                    <a:off x="5794920" y="3459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38"/>
                  <p:cNvSpPr/>
                  <p:nvPr/>
                </p:nvSpPr>
                <p:spPr>
                  <a:xfrm flipV="1" rot="16200000">
                    <a:off x="5794920" y="3405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Oval 139"/>
                  <p:cNvSpPr/>
                  <p:nvPr/>
                </p:nvSpPr>
                <p:spPr>
                  <a:xfrm flipV="1" rot="16200000">
                    <a:off x="5794920" y="3351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140"/>
                  <p:cNvSpPr/>
                  <p:nvPr/>
                </p:nvSpPr>
                <p:spPr>
                  <a:xfrm flipV="1" rot="16200000">
                    <a:off x="5794920" y="3297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141"/>
                  <p:cNvSpPr/>
                  <p:nvPr/>
                </p:nvSpPr>
                <p:spPr>
                  <a:xfrm flipV="1" rot="16200000">
                    <a:off x="5794920" y="324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Oval 142"/>
                  <p:cNvSpPr/>
                  <p:nvPr/>
                </p:nvSpPr>
                <p:spPr>
                  <a:xfrm flipV="1" rot="16200000">
                    <a:off x="5794920" y="3189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Oval 143"/>
                  <p:cNvSpPr/>
                  <p:nvPr/>
                </p:nvSpPr>
                <p:spPr>
                  <a:xfrm flipV="1" rot="16200000">
                    <a:off x="5794920" y="3135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Oval 144"/>
                  <p:cNvSpPr/>
                  <p:nvPr/>
                </p:nvSpPr>
                <p:spPr>
                  <a:xfrm flipV="1" rot="16200000">
                    <a:off x="5794920" y="3081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Oval 145"/>
                  <p:cNvSpPr/>
                  <p:nvPr/>
                </p:nvSpPr>
                <p:spPr>
                  <a:xfrm flipV="1" rot="16200000">
                    <a:off x="5794920" y="3027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Oval 146"/>
                  <p:cNvSpPr/>
                  <p:nvPr/>
                </p:nvSpPr>
                <p:spPr>
                  <a:xfrm flipV="1" rot="16200000">
                    <a:off x="5794920" y="2973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47"/>
                  <p:cNvSpPr/>
                  <p:nvPr/>
                </p:nvSpPr>
                <p:spPr>
                  <a:xfrm>
                    <a:off x="4727880" y="2925720"/>
                    <a:ext cx="10771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48"/>
                  <p:cNvSpPr/>
                  <p:nvPr/>
                </p:nvSpPr>
                <p:spPr>
                  <a:xfrm>
                    <a:off x="4727880" y="4004280"/>
                    <a:ext cx="10771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49"/>
                  <p:cNvSpPr/>
                  <p:nvPr/>
                </p:nvSpPr>
                <p:spPr>
                  <a:xfrm>
                    <a:off x="5800680" y="2923560"/>
                    <a:ext cx="0" cy="1080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50"/>
                  <p:cNvSpPr/>
                  <p:nvPr/>
                </p:nvSpPr>
                <p:spPr>
                  <a:xfrm>
                    <a:off x="4723920" y="2929320"/>
                    <a:ext cx="0" cy="1080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151"/>
                <p:cNvGrpSpPr/>
                <p:nvPr/>
              </p:nvGrpSpPr>
              <p:grpSpPr>
                <a:xfrm>
                  <a:off x="5437080" y="2924280"/>
                  <a:ext cx="363600" cy="365760"/>
                  <a:chOff x="5437080" y="2924280"/>
                  <a:chExt cx="363600" cy="365760"/>
                </a:xfrm>
              </p:grpSpPr>
              <p:sp>
                <p:nvSpPr>
                  <p:cNvPr id="198" name="Freeform 152"/>
                  <p:cNvSpPr/>
                  <p:nvPr/>
                </p:nvSpPr>
                <p:spPr>
                  <a:xfrm>
                    <a:off x="5440320" y="2924280"/>
                    <a:ext cx="36036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Oval 153"/>
                  <p:cNvSpPr/>
                  <p:nvPr/>
                </p:nvSpPr>
                <p:spPr>
                  <a:xfrm rot="18880800">
                    <a:off x="5749920" y="2964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Oval 154"/>
                  <p:cNvSpPr/>
                  <p:nvPr/>
                </p:nvSpPr>
                <p:spPr>
                  <a:xfrm rot="18880800">
                    <a:off x="5715360" y="2999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Oval 155"/>
                  <p:cNvSpPr/>
                  <p:nvPr/>
                </p:nvSpPr>
                <p:spPr>
                  <a:xfrm rot="18880800">
                    <a:off x="5680800" y="30340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Oval 156"/>
                  <p:cNvSpPr/>
                  <p:nvPr/>
                </p:nvSpPr>
                <p:spPr>
                  <a:xfrm rot="18880800">
                    <a:off x="5646240" y="30690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157"/>
                  <p:cNvSpPr/>
                  <p:nvPr/>
                </p:nvSpPr>
                <p:spPr>
                  <a:xfrm rot="18880800">
                    <a:off x="5611680" y="3103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158"/>
                  <p:cNvSpPr/>
                  <p:nvPr/>
                </p:nvSpPr>
                <p:spPr>
                  <a:xfrm rot="18880800">
                    <a:off x="5577120" y="31384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Oval 159"/>
                  <p:cNvSpPr/>
                  <p:nvPr/>
                </p:nvSpPr>
                <p:spPr>
                  <a:xfrm rot="18880800">
                    <a:off x="5542560" y="31734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Oval 160"/>
                  <p:cNvSpPr/>
                  <p:nvPr/>
                </p:nvSpPr>
                <p:spPr>
                  <a:xfrm rot="18880800">
                    <a:off x="5508000" y="3208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61"/>
                  <p:cNvSpPr/>
                  <p:nvPr/>
                </p:nvSpPr>
                <p:spPr>
                  <a:xfrm rot="18880800">
                    <a:off x="5473800" y="32428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162"/>
                  <p:cNvSpPr/>
                  <p:nvPr/>
                </p:nvSpPr>
                <p:spPr>
                  <a:xfrm rot="18880800">
                    <a:off x="5439240" y="32778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163"/>
                <p:cNvGrpSpPr/>
                <p:nvPr/>
              </p:nvGrpSpPr>
              <p:grpSpPr>
                <a:xfrm>
                  <a:off x="4725720" y="2929320"/>
                  <a:ext cx="365400" cy="363960"/>
                  <a:chOff x="4725720" y="2929320"/>
                  <a:chExt cx="365400" cy="363960"/>
                </a:xfrm>
              </p:grpSpPr>
              <p:sp>
                <p:nvSpPr>
                  <p:cNvPr id="210" name="Freeform 164"/>
                  <p:cNvSpPr/>
                  <p:nvPr/>
                </p:nvSpPr>
                <p:spPr>
                  <a:xfrm rot="16200000">
                    <a:off x="4726080" y="2928960"/>
                    <a:ext cx="36072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165"/>
                  <p:cNvSpPr/>
                  <p:nvPr/>
                </p:nvSpPr>
                <p:spPr>
                  <a:xfrm rot="13480800">
                    <a:off x="4766040" y="29696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166"/>
                  <p:cNvSpPr/>
                  <p:nvPr/>
                </p:nvSpPr>
                <p:spPr>
                  <a:xfrm rot="13480800">
                    <a:off x="4800960" y="3004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Oval 167"/>
                  <p:cNvSpPr/>
                  <p:nvPr/>
                </p:nvSpPr>
                <p:spPr>
                  <a:xfrm rot="13480800">
                    <a:off x="4835880" y="30391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68"/>
                  <p:cNvSpPr/>
                  <p:nvPr/>
                </p:nvSpPr>
                <p:spPr>
                  <a:xfrm rot="13480800">
                    <a:off x="4870440" y="3073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Oval 169"/>
                  <p:cNvSpPr/>
                  <p:nvPr/>
                </p:nvSpPr>
                <p:spPr>
                  <a:xfrm rot="13480800">
                    <a:off x="4905360" y="3108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Oval 170"/>
                  <p:cNvSpPr/>
                  <p:nvPr/>
                </p:nvSpPr>
                <p:spPr>
                  <a:xfrm rot="13480800">
                    <a:off x="4939920" y="31424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71"/>
                  <p:cNvSpPr/>
                  <p:nvPr/>
                </p:nvSpPr>
                <p:spPr>
                  <a:xfrm rot="13480800">
                    <a:off x="4974840" y="31773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Oval 172"/>
                  <p:cNvSpPr/>
                  <p:nvPr/>
                </p:nvSpPr>
                <p:spPr>
                  <a:xfrm rot="13480800">
                    <a:off x="5009760" y="3211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Oval 173"/>
                  <p:cNvSpPr/>
                  <p:nvPr/>
                </p:nvSpPr>
                <p:spPr>
                  <a:xfrm rot="13480800">
                    <a:off x="5044320" y="32461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4"/>
                  <p:cNvSpPr/>
                  <p:nvPr/>
                </p:nvSpPr>
                <p:spPr>
                  <a:xfrm rot="13480800">
                    <a:off x="5079240" y="32806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75"/>
                <p:cNvGrpSpPr/>
                <p:nvPr/>
              </p:nvGrpSpPr>
              <p:grpSpPr>
                <a:xfrm>
                  <a:off x="5433480" y="3637800"/>
                  <a:ext cx="365400" cy="363960"/>
                  <a:chOff x="5433480" y="3637800"/>
                  <a:chExt cx="365400" cy="363960"/>
                </a:xfrm>
              </p:grpSpPr>
              <p:sp>
                <p:nvSpPr>
                  <p:cNvPr id="222" name="Freeform 176"/>
                  <p:cNvSpPr/>
                  <p:nvPr/>
                </p:nvSpPr>
                <p:spPr>
                  <a:xfrm rot="5400000">
                    <a:off x="5437800" y="3640680"/>
                    <a:ext cx="36072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Oval 177"/>
                  <p:cNvSpPr/>
                  <p:nvPr/>
                </p:nvSpPr>
                <p:spPr>
                  <a:xfrm rot="2680800">
                    <a:off x="5748480" y="39506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8"/>
                  <p:cNvSpPr/>
                  <p:nvPr/>
                </p:nvSpPr>
                <p:spPr>
                  <a:xfrm rot="2680800">
                    <a:off x="5713560" y="39157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79"/>
                  <p:cNvSpPr/>
                  <p:nvPr/>
                </p:nvSpPr>
                <p:spPr>
                  <a:xfrm rot="2680800">
                    <a:off x="5678640" y="3881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Oval 180"/>
                  <p:cNvSpPr/>
                  <p:nvPr/>
                </p:nvSpPr>
                <p:spPr>
                  <a:xfrm rot="2680800">
                    <a:off x="5644080" y="38469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Oval 181"/>
                  <p:cNvSpPr/>
                  <p:nvPr/>
                </p:nvSpPr>
                <p:spPr>
                  <a:xfrm rot="2680800">
                    <a:off x="5609160" y="38120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Oval 182"/>
                  <p:cNvSpPr/>
                  <p:nvPr/>
                </p:nvSpPr>
                <p:spPr>
                  <a:xfrm rot="2680800">
                    <a:off x="5574600" y="37778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183"/>
                  <p:cNvSpPr/>
                  <p:nvPr/>
                </p:nvSpPr>
                <p:spPr>
                  <a:xfrm rot="2680800">
                    <a:off x="5539680" y="37429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Oval 184"/>
                  <p:cNvSpPr/>
                  <p:nvPr/>
                </p:nvSpPr>
                <p:spPr>
                  <a:xfrm rot="2680800">
                    <a:off x="5504760" y="37087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185"/>
                  <p:cNvSpPr/>
                  <p:nvPr/>
                </p:nvSpPr>
                <p:spPr>
                  <a:xfrm rot="2680800">
                    <a:off x="5470200" y="3674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Oval 186"/>
                  <p:cNvSpPr/>
                  <p:nvPr/>
                </p:nvSpPr>
                <p:spPr>
                  <a:xfrm rot="2680800">
                    <a:off x="5435280" y="36396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87"/>
                <p:cNvGrpSpPr/>
                <p:nvPr/>
              </p:nvGrpSpPr>
              <p:grpSpPr>
                <a:xfrm>
                  <a:off x="4724640" y="3637800"/>
                  <a:ext cx="363600" cy="366120"/>
                  <a:chOff x="4724640" y="3637800"/>
                  <a:chExt cx="363600" cy="366120"/>
                </a:xfrm>
              </p:grpSpPr>
              <p:sp>
                <p:nvSpPr>
                  <p:cNvPr id="234" name="Freeform 188"/>
                  <p:cNvSpPr/>
                  <p:nvPr/>
                </p:nvSpPr>
                <p:spPr>
                  <a:xfrm rot="10800000">
                    <a:off x="4724640" y="3641760"/>
                    <a:ext cx="360360" cy="3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189"/>
                  <p:cNvSpPr/>
                  <p:nvPr/>
                </p:nvSpPr>
                <p:spPr>
                  <a:xfrm rot="8080800">
                    <a:off x="4765320" y="3953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190"/>
                  <p:cNvSpPr/>
                  <p:nvPr/>
                </p:nvSpPr>
                <p:spPr>
                  <a:xfrm rot="8080800">
                    <a:off x="4799880" y="3918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91"/>
                  <p:cNvSpPr/>
                  <p:nvPr/>
                </p:nvSpPr>
                <p:spPr>
                  <a:xfrm rot="8080800">
                    <a:off x="4834440" y="3883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Oval 192"/>
                  <p:cNvSpPr/>
                  <p:nvPr/>
                </p:nvSpPr>
                <p:spPr>
                  <a:xfrm rot="8080800">
                    <a:off x="4869000" y="38484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Oval 193"/>
                  <p:cNvSpPr/>
                  <p:nvPr/>
                </p:nvSpPr>
                <p:spPr>
                  <a:xfrm rot="8080800">
                    <a:off x="4903560" y="38134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Oval 194"/>
                  <p:cNvSpPr/>
                  <p:nvPr/>
                </p:nvSpPr>
                <p:spPr>
                  <a:xfrm rot="8080800">
                    <a:off x="4938120" y="3778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195"/>
                  <p:cNvSpPr/>
                  <p:nvPr/>
                </p:nvSpPr>
                <p:spPr>
                  <a:xfrm rot="8080800">
                    <a:off x="4972680" y="37440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Oval 196"/>
                  <p:cNvSpPr/>
                  <p:nvPr/>
                </p:nvSpPr>
                <p:spPr>
                  <a:xfrm rot="8080800">
                    <a:off x="5007240" y="37090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Oval 197"/>
                  <p:cNvSpPr/>
                  <p:nvPr/>
                </p:nvSpPr>
                <p:spPr>
                  <a:xfrm rot="8080800">
                    <a:off x="5041440" y="3674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198"/>
                  <p:cNvSpPr/>
                  <p:nvPr/>
                </p:nvSpPr>
                <p:spPr>
                  <a:xfrm rot="8080800">
                    <a:off x="5076000" y="3639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Line 199"/>
              <p:cNvSpPr/>
              <p:nvPr/>
            </p:nvSpPr>
            <p:spPr>
              <a:xfrm>
                <a:off x="5104800" y="3283200"/>
                <a:ext cx="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0"/>
              <p:cNvSpPr/>
              <p:nvPr/>
            </p:nvSpPr>
            <p:spPr>
              <a:xfrm>
                <a:off x="4776120" y="2925000"/>
                <a:ext cx="310680" cy="364680"/>
              </a:xfrm>
              <a:custGeom>
                <a:avLst/>
                <a:gdLst/>
                <a:ahLst/>
                <a:rect l="l" t="t" r="r" b="b"/>
                <a:pathLst>
                  <a:path w="1108" h="1299">
                    <a:moveTo>
                      <a:pt x="1108" y="1299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01"/>
              <p:cNvSpPr/>
              <p:nvPr/>
            </p:nvSpPr>
            <p:spPr>
              <a:xfrm flipH="1" flipV="1">
                <a:off x="4828320" y="2925720"/>
                <a:ext cx="219960" cy="32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02"/>
              <p:cNvSpPr/>
              <p:nvPr/>
            </p:nvSpPr>
            <p:spPr>
              <a:xfrm flipH="1" flipV="1">
                <a:off x="4884480" y="2927880"/>
                <a:ext cx="132120" cy="28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3"/>
              <p:cNvSpPr/>
              <p:nvPr/>
            </p:nvSpPr>
            <p:spPr>
              <a:xfrm>
                <a:off x="4938840" y="2923560"/>
                <a:ext cx="41040" cy="258840"/>
              </a:xfrm>
              <a:custGeom>
                <a:avLst/>
                <a:gdLst/>
                <a:ahLst/>
                <a:rect l="l" t="t" r="r" b="b"/>
                <a:pathLst>
                  <a:path w="147" h="922">
                    <a:moveTo>
                      <a:pt x="147" y="922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4"/>
              <p:cNvSpPr/>
              <p:nvPr/>
            </p:nvSpPr>
            <p:spPr>
              <a:xfrm>
                <a:off x="4945680" y="2925720"/>
                <a:ext cx="46800" cy="219600"/>
              </a:xfrm>
              <a:custGeom>
                <a:avLst/>
                <a:gdLst/>
                <a:ahLst/>
                <a:rect l="l" t="t" r="r" b="b"/>
                <a:pathLst>
                  <a:path w="168" h="783">
                    <a:moveTo>
                      <a:pt x="0" y="783"/>
                    </a:moveTo>
                    <a:lnTo>
                      <a:pt x="16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05"/>
              <p:cNvSpPr/>
              <p:nvPr/>
            </p:nvSpPr>
            <p:spPr>
              <a:xfrm flipV="1">
                <a:off x="4909680" y="2923560"/>
                <a:ext cx="141120" cy="19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206"/>
              <p:cNvSpPr/>
              <p:nvPr/>
            </p:nvSpPr>
            <p:spPr>
              <a:xfrm flipV="1">
                <a:off x="4875840" y="2923560"/>
                <a:ext cx="228960" cy="154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07"/>
              <p:cNvSpPr/>
              <p:nvPr/>
            </p:nvSpPr>
            <p:spPr>
              <a:xfrm flipV="1">
                <a:off x="4842360" y="2925720"/>
                <a:ext cx="311760" cy="11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08"/>
              <p:cNvSpPr/>
              <p:nvPr/>
            </p:nvSpPr>
            <p:spPr>
              <a:xfrm>
                <a:off x="4805640" y="2925720"/>
                <a:ext cx="399960" cy="82800"/>
              </a:xfrm>
              <a:custGeom>
                <a:avLst/>
                <a:gdLst/>
                <a:ahLst/>
                <a:rect l="l" t="t" r="r" b="b"/>
                <a:pathLst>
                  <a:path w="1426" h="296">
                    <a:moveTo>
                      <a:pt x="0" y="296"/>
                    </a:moveTo>
                    <a:lnTo>
                      <a:pt x="142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09"/>
              <p:cNvSpPr/>
              <p:nvPr/>
            </p:nvSpPr>
            <p:spPr>
              <a:xfrm>
                <a:off x="4772160" y="2925720"/>
                <a:ext cx="494280" cy="48600"/>
              </a:xfrm>
              <a:custGeom>
                <a:avLst/>
                <a:gdLst/>
                <a:ahLst/>
                <a:rect l="l" t="t" r="r" b="b"/>
                <a:pathLst>
                  <a:path w="1762" h="173">
                    <a:moveTo>
                      <a:pt x="0" y="173"/>
                    </a:moveTo>
                    <a:lnTo>
                      <a:pt x="17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210"/>
              <p:cNvSpPr/>
              <p:nvPr/>
            </p:nvSpPr>
            <p:spPr>
              <a:xfrm>
                <a:off x="5266440" y="2925720"/>
                <a:ext cx="486720" cy="42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11"/>
              <p:cNvSpPr/>
              <p:nvPr/>
            </p:nvSpPr>
            <p:spPr>
              <a:xfrm>
                <a:off x="5315760" y="2928240"/>
                <a:ext cx="404280" cy="76680"/>
              </a:xfrm>
              <a:custGeom>
                <a:avLst/>
                <a:gdLst/>
                <a:ahLst/>
                <a:rect l="l" t="t" r="r" b="b"/>
                <a:pathLst>
                  <a:path w="1442" h="274">
                    <a:moveTo>
                      <a:pt x="0" y="0"/>
                    </a:moveTo>
                    <a:lnTo>
                      <a:pt x="1442" y="2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12"/>
              <p:cNvSpPr/>
              <p:nvPr/>
            </p:nvSpPr>
            <p:spPr>
              <a:xfrm>
                <a:off x="5367600" y="2925720"/>
                <a:ext cx="316440" cy="11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13"/>
              <p:cNvSpPr/>
              <p:nvPr/>
            </p:nvSpPr>
            <p:spPr>
              <a:xfrm>
                <a:off x="5423760" y="2925720"/>
                <a:ext cx="226800" cy="147240"/>
              </a:xfrm>
              <a:custGeom>
                <a:avLst/>
                <a:gdLst/>
                <a:ahLst/>
                <a:rect l="l" t="t" r="r" b="b"/>
                <a:pathLst>
                  <a:path w="809" h="525">
                    <a:moveTo>
                      <a:pt x="0" y="0"/>
                    </a:moveTo>
                    <a:lnTo>
                      <a:pt x="809" y="5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14"/>
              <p:cNvSpPr/>
              <p:nvPr/>
            </p:nvSpPr>
            <p:spPr>
              <a:xfrm>
                <a:off x="5475240" y="2925720"/>
                <a:ext cx="140040" cy="181440"/>
              </a:xfrm>
              <a:custGeom>
                <a:avLst/>
                <a:gdLst/>
                <a:ahLst/>
                <a:rect l="l" t="t" r="r" b="b"/>
                <a:pathLst>
                  <a:path w="500" h="647">
                    <a:moveTo>
                      <a:pt x="0" y="0"/>
                    </a:moveTo>
                    <a:lnTo>
                      <a:pt x="500" y="64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15"/>
              <p:cNvSpPr/>
              <p:nvPr/>
            </p:nvSpPr>
            <p:spPr>
              <a:xfrm>
                <a:off x="5531400" y="2925720"/>
                <a:ext cx="50400" cy="217800"/>
              </a:xfrm>
              <a:custGeom>
                <a:avLst/>
                <a:gdLst/>
                <a:ahLst/>
                <a:rect l="l" t="t" r="r" b="b"/>
                <a:pathLst>
                  <a:path w="180" h="776">
                    <a:moveTo>
                      <a:pt x="0" y="0"/>
                    </a:moveTo>
                    <a:lnTo>
                      <a:pt x="180" y="77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216"/>
              <p:cNvSpPr/>
              <p:nvPr/>
            </p:nvSpPr>
            <p:spPr>
              <a:xfrm flipH="1">
                <a:off x="5546520" y="2925720"/>
                <a:ext cx="3564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17"/>
              <p:cNvSpPr/>
              <p:nvPr/>
            </p:nvSpPr>
            <p:spPr>
              <a:xfrm flipH="1">
                <a:off x="5513400" y="2925720"/>
                <a:ext cx="123120" cy="28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18"/>
              <p:cNvSpPr/>
              <p:nvPr/>
            </p:nvSpPr>
            <p:spPr>
              <a:xfrm flipH="1">
                <a:off x="5479560" y="2925720"/>
                <a:ext cx="210960" cy="32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19"/>
              <p:cNvSpPr/>
              <p:nvPr/>
            </p:nvSpPr>
            <p:spPr>
              <a:xfrm>
                <a:off x="5441400" y="2925720"/>
                <a:ext cx="306000" cy="359640"/>
              </a:xfrm>
              <a:custGeom>
                <a:avLst/>
                <a:gdLst/>
                <a:ahLst/>
                <a:rect l="l" t="t" r="r" b="b"/>
                <a:pathLst>
                  <a:path w="1091" h="1281">
                    <a:moveTo>
                      <a:pt x="1091" y="0"/>
                    </a:moveTo>
                    <a:lnTo>
                      <a:pt x="0" y="12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20"/>
              <p:cNvSpPr/>
              <p:nvPr/>
            </p:nvSpPr>
            <p:spPr>
              <a:xfrm>
                <a:off x="5442120" y="2980800"/>
                <a:ext cx="358920" cy="303840"/>
              </a:xfrm>
              <a:custGeom>
                <a:avLst/>
                <a:gdLst/>
                <a:ahLst/>
                <a:rect l="l" t="t" r="r" b="b"/>
                <a:pathLst>
                  <a:path w="1280" h="1082">
                    <a:moveTo>
                      <a:pt x="0" y="1082"/>
                    </a:moveTo>
                    <a:lnTo>
                      <a:pt x="128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21"/>
              <p:cNvSpPr/>
              <p:nvPr/>
            </p:nvSpPr>
            <p:spPr>
              <a:xfrm>
                <a:off x="5477400" y="3034440"/>
                <a:ext cx="323640" cy="214920"/>
              </a:xfrm>
              <a:custGeom>
                <a:avLst/>
                <a:gdLst/>
                <a:ahLst/>
                <a:rect l="l" t="t" r="r" b="b"/>
                <a:pathLst>
                  <a:path w="1154" h="766">
                    <a:moveTo>
                      <a:pt x="0" y="766"/>
                    </a:moveTo>
                    <a:lnTo>
                      <a:pt x="115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222"/>
              <p:cNvSpPr/>
              <p:nvPr/>
            </p:nvSpPr>
            <p:spPr>
              <a:xfrm flipV="1">
                <a:off x="5512680" y="3085920"/>
                <a:ext cx="287640" cy="12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23"/>
              <p:cNvSpPr/>
              <p:nvPr/>
            </p:nvSpPr>
            <p:spPr>
              <a:xfrm flipV="1">
                <a:off x="5544720" y="3141720"/>
                <a:ext cx="2574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24"/>
              <p:cNvSpPr/>
              <p:nvPr/>
            </p:nvSpPr>
            <p:spPr>
              <a:xfrm>
                <a:off x="5581800" y="3144960"/>
                <a:ext cx="218520" cy="5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25"/>
              <p:cNvSpPr/>
              <p:nvPr/>
            </p:nvSpPr>
            <p:spPr>
              <a:xfrm>
                <a:off x="5616000" y="3108960"/>
                <a:ext cx="186120" cy="140400"/>
              </a:xfrm>
              <a:custGeom>
                <a:avLst/>
                <a:gdLst/>
                <a:ahLst/>
                <a:rect l="l" t="t" r="r" b="b"/>
                <a:pathLst>
                  <a:path w="664" h="500">
                    <a:moveTo>
                      <a:pt x="0" y="0"/>
                    </a:moveTo>
                    <a:lnTo>
                      <a:pt x="664" y="50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26"/>
              <p:cNvSpPr/>
              <p:nvPr/>
            </p:nvSpPr>
            <p:spPr>
              <a:xfrm>
                <a:off x="5650920" y="3075480"/>
                <a:ext cx="149760" cy="229680"/>
              </a:xfrm>
              <a:custGeom>
                <a:avLst/>
                <a:gdLst/>
                <a:ahLst/>
                <a:rect l="l" t="t" r="r" b="b"/>
                <a:pathLst>
                  <a:path w="534" h="818">
                    <a:moveTo>
                      <a:pt x="0" y="0"/>
                    </a:moveTo>
                    <a:lnTo>
                      <a:pt x="534" y="8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27"/>
              <p:cNvSpPr/>
              <p:nvPr/>
            </p:nvSpPr>
            <p:spPr>
              <a:xfrm>
                <a:off x="5685840" y="3038400"/>
                <a:ext cx="115200" cy="318240"/>
              </a:xfrm>
              <a:custGeom>
                <a:avLst/>
                <a:gdLst/>
                <a:ahLst/>
                <a:rect l="l" t="t" r="r" b="b"/>
                <a:pathLst>
                  <a:path w="412" h="1134">
                    <a:moveTo>
                      <a:pt x="0" y="0"/>
                    </a:moveTo>
                    <a:lnTo>
                      <a:pt x="412" y="11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28"/>
              <p:cNvSpPr/>
              <p:nvPr/>
            </p:nvSpPr>
            <p:spPr>
              <a:xfrm>
                <a:off x="5720400" y="3005280"/>
                <a:ext cx="80280" cy="407520"/>
              </a:xfrm>
              <a:custGeom>
                <a:avLst/>
                <a:gdLst/>
                <a:ahLst/>
                <a:rect l="l" t="t" r="r" b="b"/>
                <a:pathLst>
                  <a:path w="286" h="1452">
                    <a:moveTo>
                      <a:pt x="0" y="0"/>
                    </a:moveTo>
                    <a:lnTo>
                      <a:pt x="286" y="14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9"/>
              <p:cNvSpPr/>
              <p:nvPr/>
            </p:nvSpPr>
            <p:spPr>
              <a:xfrm>
                <a:off x="5755320" y="2967840"/>
                <a:ext cx="45360" cy="50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230"/>
              <p:cNvSpPr/>
              <p:nvPr/>
            </p:nvSpPr>
            <p:spPr>
              <a:xfrm flipH="1">
                <a:off x="5753520" y="3519000"/>
                <a:ext cx="46800" cy="43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1"/>
              <p:cNvSpPr/>
              <p:nvPr/>
            </p:nvSpPr>
            <p:spPr>
              <a:xfrm>
                <a:off x="5717520" y="3573000"/>
                <a:ext cx="82800" cy="347400"/>
              </a:xfrm>
              <a:custGeom>
                <a:avLst/>
                <a:gdLst/>
                <a:ahLst/>
                <a:rect l="l" t="t" r="r" b="b"/>
                <a:pathLst>
                  <a:path w="296" h="1238">
                    <a:moveTo>
                      <a:pt x="296" y="0"/>
                    </a:moveTo>
                    <a:lnTo>
                      <a:pt x="0" y="123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32"/>
              <p:cNvSpPr/>
              <p:nvPr/>
            </p:nvSpPr>
            <p:spPr>
              <a:xfrm flipH="1">
                <a:off x="5684400" y="3627000"/>
                <a:ext cx="11592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33"/>
              <p:cNvSpPr/>
              <p:nvPr/>
            </p:nvSpPr>
            <p:spPr>
              <a:xfrm flipH="1">
                <a:off x="5649120" y="3681000"/>
                <a:ext cx="149760" cy="169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34"/>
              <p:cNvSpPr/>
              <p:nvPr/>
            </p:nvSpPr>
            <p:spPr>
              <a:xfrm flipH="1">
                <a:off x="5615640" y="3735000"/>
                <a:ext cx="18504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35"/>
              <p:cNvSpPr/>
              <p:nvPr/>
            </p:nvSpPr>
            <p:spPr>
              <a:xfrm flipH="1" flipV="1">
                <a:off x="5580000" y="3782160"/>
                <a:ext cx="2203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36"/>
              <p:cNvSpPr/>
              <p:nvPr/>
            </p:nvSpPr>
            <p:spPr>
              <a:xfrm flipH="1" flipV="1">
                <a:off x="5544720" y="3748320"/>
                <a:ext cx="255600" cy="9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37"/>
              <p:cNvSpPr/>
              <p:nvPr/>
            </p:nvSpPr>
            <p:spPr>
              <a:xfrm flipH="1" flipV="1">
                <a:off x="5511240" y="3714840"/>
                <a:ext cx="290880" cy="18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38"/>
              <p:cNvSpPr/>
              <p:nvPr/>
            </p:nvSpPr>
            <p:spPr>
              <a:xfrm>
                <a:off x="5472360" y="3677400"/>
                <a:ext cx="327600" cy="271800"/>
              </a:xfrm>
              <a:custGeom>
                <a:avLst/>
                <a:gdLst/>
                <a:ahLst/>
                <a:rect l="l" t="t" r="r" b="b"/>
                <a:pathLst>
                  <a:path w="1168" h="968">
                    <a:moveTo>
                      <a:pt x="1168" y="96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39"/>
              <p:cNvSpPr/>
              <p:nvPr/>
            </p:nvSpPr>
            <p:spPr>
              <a:xfrm>
                <a:off x="5432400" y="3640320"/>
                <a:ext cx="316440" cy="36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40"/>
              <p:cNvSpPr/>
              <p:nvPr/>
            </p:nvSpPr>
            <p:spPr>
              <a:xfrm>
                <a:off x="5475240" y="3681000"/>
                <a:ext cx="222120" cy="3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41"/>
              <p:cNvSpPr/>
              <p:nvPr/>
            </p:nvSpPr>
            <p:spPr>
              <a:xfrm>
                <a:off x="5511240" y="3714840"/>
                <a:ext cx="127800" cy="29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42"/>
              <p:cNvSpPr/>
              <p:nvPr/>
            </p:nvSpPr>
            <p:spPr>
              <a:xfrm>
                <a:off x="5544720" y="3746160"/>
                <a:ext cx="40320" cy="259200"/>
              </a:xfrm>
              <a:custGeom>
                <a:avLst/>
                <a:gdLst/>
                <a:ahLst/>
                <a:rect l="l" t="t" r="r" b="b"/>
                <a:pathLst>
                  <a:path w="144" h="923">
                    <a:moveTo>
                      <a:pt x="0" y="0"/>
                    </a:moveTo>
                    <a:lnTo>
                      <a:pt x="144" y="9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43"/>
              <p:cNvSpPr/>
              <p:nvPr/>
            </p:nvSpPr>
            <p:spPr>
              <a:xfrm flipH="1">
                <a:off x="5528880" y="3784320"/>
                <a:ext cx="49320" cy="21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44"/>
              <p:cNvSpPr/>
              <p:nvPr/>
            </p:nvSpPr>
            <p:spPr>
              <a:xfrm flipH="1">
                <a:off x="5475240" y="3815640"/>
                <a:ext cx="141120" cy="19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45"/>
              <p:cNvSpPr/>
              <p:nvPr/>
            </p:nvSpPr>
            <p:spPr>
              <a:xfrm flipH="1">
                <a:off x="5423400" y="3849480"/>
                <a:ext cx="226440" cy="154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46"/>
              <p:cNvSpPr/>
              <p:nvPr/>
            </p:nvSpPr>
            <p:spPr>
              <a:xfrm flipH="1">
                <a:off x="5369760" y="3885480"/>
                <a:ext cx="313920" cy="11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47"/>
              <p:cNvSpPr/>
              <p:nvPr/>
            </p:nvSpPr>
            <p:spPr>
              <a:xfrm>
                <a:off x="5317560" y="3918960"/>
                <a:ext cx="402120" cy="84240"/>
              </a:xfrm>
              <a:custGeom>
                <a:avLst/>
                <a:gdLst/>
                <a:ahLst/>
                <a:rect l="l" t="t" r="r" b="b"/>
                <a:pathLst>
                  <a:path w="1434" h="301">
                    <a:moveTo>
                      <a:pt x="1434" y="0"/>
                    </a:moveTo>
                    <a:lnTo>
                      <a:pt x="0" y="30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48"/>
              <p:cNvSpPr/>
              <p:nvPr/>
            </p:nvSpPr>
            <p:spPr>
              <a:xfrm>
                <a:off x="5259600" y="3955680"/>
                <a:ext cx="493560" cy="48600"/>
              </a:xfrm>
              <a:custGeom>
                <a:avLst/>
                <a:gdLst/>
                <a:ahLst/>
                <a:rect l="l" t="t" r="r" b="b"/>
                <a:pathLst>
                  <a:path w="1760" h="174">
                    <a:moveTo>
                      <a:pt x="1760" y="0"/>
                    </a:moveTo>
                    <a:lnTo>
                      <a:pt x="0" y="1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249"/>
              <p:cNvSpPr/>
              <p:nvPr/>
            </p:nvSpPr>
            <p:spPr>
              <a:xfrm flipH="1" flipV="1">
                <a:off x="4767840" y="3957120"/>
                <a:ext cx="493560" cy="49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50"/>
              <p:cNvSpPr/>
              <p:nvPr/>
            </p:nvSpPr>
            <p:spPr>
              <a:xfrm>
                <a:off x="4804200" y="3921840"/>
                <a:ext cx="403920" cy="82440"/>
              </a:xfrm>
              <a:custGeom>
                <a:avLst/>
                <a:gdLst/>
                <a:ahLst/>
                <a:rect l="l" t="t" r="r" b="b"/>
                <a:pathLst>
                  <a:path w="1440" h="294">
                    <a:moveTo>
                      <a:pt x="1440" y="29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51"/>
              <p:cNvSpPr/>
              <p:nvPr/>
            </p:nvSpPr>
            <p:spPr>
              <a:xfrm>
                <a:off x="4839840" y="3887280"/>
                <a:ext cx="311760" cy="117000"/>
              </a:xfrm>
              <a:custGeom>
                <a:avLst/>
                <a:gdLst/>
                <a:ahLst/>
                <a:rect l="l" t="t" r="r" b="b"/>
                <a:pathLst>
                  <a:path w="1112" h="417">
                    <a:moveTo>
                      <a:pt x="1112" y="417"/>
                    </a:moveTo>
                    <a:lnTo>
                      <a:pt x="7" y="0"/>
                    </a:lnTo>
                    <a:lnTo>
                      <a:pt x="0" y="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52"/>
              <p:cNvSpPr/>
              <p:nvPr/>
            </p:nvSpPr>
            <p:spPr>
              <a:xfrm>
                <a:off x="4872960" y="3852720"/>
                <a:ext cx="229320" cy="153720"/>
              </a:xfrm>
              <a:custGeom>
                <a:avLst/>
                <a:gdLst/>
                <a:ahLst/>
                <a:rect l="l" t="t" r="r" b="b"/>
                <a:pathLst>
                  <a:path w="818" h="548">
                    <a:moveTo>
                      <a:pt x="818" y="54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53"/>
              <p:cNvSpPr/>
              <p:nvPr/>
            </p:nvSpPr>
            <p:spPr>
              <a:xfrm flipH="1" flipV="1">
                <a:off x="4907160" y="3822120"/>
                <a:ext cx="141120" cy="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54"/>
              <p:cNvSpPr/>
              <p:nvPr/>
            </p:nvSpPr>
            <p:spPr>
              <a:xfrm>
                <a:off x="4942800" y="3782160"/>
                <a:ext cx="49680" cy="222120"/>
              </a:xfrm>
              <a:custGeom>
                <a:avLst/>
                <a:gdLst/>
                <a:ahLst/>
                <a:rect l="l" t="t" r="r" b="b"/>
                <a:pathLst>
                  <a:path w="177" h="792">
                    <a:moveTo>
                      <a:pt x="177" y="792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55"/>
              <p:cNvSpPr/>
              <p:nvPr/>
            </p:nvSpPr>
            <p:spPr>
              <a:xfrm>
                <a:off x="4938840" y="3749040"/>
                <a:ext cx="39240" cy="257400"/>
              </a:xfrm>
              <a:custGeom>
                <a:avLst/>
                <a:gdLst/>
                <a:ahLst/>
                <a:rect l="l" t="t" r="r" b="b"/>
                <a:pathLst>
                  <a:path w="141" h="917">
                    <a:moveTo>
                      <a:pt x="0" y="917"/>
                    </a:moveTo>
                    <a:lnTo>
                      <a:pt x="14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56"/>
              <p:cNvSpPr/>
              <p:nvPr/>
            </p:nvSpPr>
            <p:spPr>
              <a:xfrm>
                <a:off x="4885920" y="3712320"/>
                <a:ext cx="129240" cy="291240"/>
              </a:xfrm>
              <a:custGeom>
                <a:avLst/>
                <a:gdLst/>
                <a:ahLst/>
                <a:rect l="l" t="t" r="r" b="b"/>
                <a:pathLst>
                  <a:path w="461" h="1037">
                    <a:moveTo>
                      <a:pt x="0" y="1037"/>
                    </a:moveTo>
                    <a:lnTo>
                      <a:pt x="46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57"/>
              <p:cNvSpPr/>
              <p:nvPr/>
            </p:nvSpPr>
            <p:spPr>
              <a:xfrm>
                <a:off x="4831200" y="3678840"/>
                <a:ext cx="217440" cy="324720"/>
              </a:xfrm>
              <a:custGeom>
                <a:avLst/>
                <a:gdLst/>
                <a:ahLst/>
                <a:rect l="l" t="t" r="r" b="b"/>
                <a:pathLst>
                  <a:path w="776" h="1157">
                    <a:moveTo>
                      <a:pt x="0" y="1157"/>
                    </a:moveTo>
                    <a:lnTo>
                      <a:pt x="77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58"/>
              <p:cNvSpPr/>
              <p:nvPr/>
            </p:nvSpPr>
            <p:spPr>
              <a:xfrm flipV="1">
                <a:off x="4777200" y="3642840"/>
                <a:ext cx="304920" cy="36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259"/>
              <p:cNvSpPr/>
              <p:nvPr/>
            </p:nvSpPr>
            <p:spPr>
              <a:xfrm flipH="1">
                <a:off x="4720680" y="3645000"/>
                <a:ext cx="358920" cy="30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60"/>
              <p:cNvSpPr/>
              <p:nvPr/>
            </p:nvSpPr>
            <p:spPr>
              <a:xfrm flipH="1">
                <a:off x="4721040" y="3681000"/>
                <a:ext cx="325440" cy="21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261"/>
              <p:cNvSpPr/>
              <p:nvPr/>
            </p:nvSpPr>
            <p:spPr>
              <a:xfrm flipH="1">
                <a:off x="4718880" y="3710160"/>
                <a:ext cx="293760" cy="132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62"/>
              <p:cNvSpPr/>
              <p:nvPr/>
            </p:nvSpPr>
            <p:spPr>
              <a:xfrm flipH="1">
                <a:off x="4720680" y="3748320"/>
                <a:ext cx="258120" cy="40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263"/>
              <p:cNvSpPr/>
              <p:nvPr/>
            </p:nvSpPr>
            <p:spPr>
              <a:xfrm flipH="1" flipV="1">
                <a:off x="4723200" y="3734640"/>
                <a:ext cx="217440" cy="49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264"/>
              <p:cNvSpPr/>
              <p:nvPr/>
            </p:nvSpPr>
            <p:spPr>
              <a:xfrm flipH="1" flipV="1">
                <a:off x="4722840" y="3678480"/>
                <a:ext cx="186120" cy="14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65"/>
              <p:cNvSpPr/>
              <p:nvPr/>
            </p:nvSpPr>
            <p:spPr>
              <a:xfrm flipH="1" flipV="1">
                <a:off x="4723200" y="3624840"/>
                <a:ext cx="154800" cy="22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66"/>
              <p:cNvSpPr/>
              <p:nvPr/>
            </p:nvSpPr>
            <p:spPr>
              <a:xfrm>
                <a:off x="4722480" y="3571560"/>
                <a:ext cx="115200" cy="313920"/>
              </a:xfrm>
              <a:custGeom>
                <a:avLst/>
                <a:gdLst/>
                <a:ahLst/>
                <a:rect l="l" t="t" r="r" b="b"/>
                <a:pathLst>
                  <a:path w="411" h="1118">
                    <a:moveTo>
                      <a:pt x="411" y="111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267"/>
              <p:cNvSpPr/>
              <p:nvPr/>
            </p:nvSpPr>
            <p:spPr>
              <a:xfrm flipH="1" flipV="1">
                <a:off x="4725720" y="3518640"/>
                <a:ext cx="82800" cy="404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268"/>
              <p:cNvSpPr/>
              <p:nvPr/>
            </p:nvSpPr>
            <p:spPr>
              <a:xfrm flipH="1" flipV="1">
                <a:off x="4722840" y="3462480"/>
                <a:ext cx="49320" cy="49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269"/>
              <p:cNvSpPr/>
              <p:nvPr/>
            </p:nvSpPr>
            <p:spPr>
              <a:xfrm flipV="1">
                <a:off x="4723200" y="2973240"/>
                <a:ext cx="46800" cy="43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270"/>
              <p:cNvSpPr/>
              <p:nvPr/>
            </p:nvSpPr>
            <p:spPr>
              <a:xfrm flipV="1">
                <a:off x="4727880" y="3006360"/>
                <a:ext cx="78480" cy="35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71"/>
              <p:cNvSpPr/>
              <p:nvPr/>
            </p:nvSpPr>
            <p:spPr>
              <a:xfrm>
                <a:off x="4720680" y="3044880"/>
                <a:ext cx="119160" cy="257400"/>
              </a:xfrm>
              <a:custGeom>
                <a:avLst/>
                <a:gdLst/>
                <a:ahLst/>
                <a:rect l="l" t="t" r="r" b="b"/>
                <a:pathLst>
                  <a:path w="425" h="917">
                    <a:moveTo>
                      <a:pt x="0" y="917"/>
                    </a:moveTo>
                    <a:lnTo>
                      <a:pt x="42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72"/>
              <p:cNvSpPr/>
              <p:nvPr/>
            </p:nvSpPr>
            <p:spPr>
              <a:xfrm>
                <a:off x="4720680" y="3078720"/>
                <a:ext cx="152640" cy="16812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54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73"/>
              <p:cNvSpPr/>
              <p:nvPr/>
            </p:nvSpPr>
            <p:spPr>
              <a:xfrm>
                <a:off x="4722480" y="3114720"/>
                <a:ext cx="189360" cy="79200"/>
              </a:xfrm>
              <a:custGeom>
                <a:avLst/>
                <a:gdLst/>
                <a:ahLst/>
                <a:rect l="l" t="t" r="r" b="b"/>
                <a:pathLst>
                  <a:path w="675" h="282">
                    <a:moveTo>
                      <a:pt x="0" y="282"/>
                    </a:moveTo>
                    <a:lnTo>
                      <a:pt x="67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74"/>
              <p:cNvSpPr/>
              <p:nvPr/>
            </p:nvSpPr>
            <p:spPr>
              <a:xfrm>
                <a:off x="4721760" y="3141720"/>
                <a:ext cx="222840" cy="3960"/>
              </a:xfrm>
              <a:custGeom>
                <a:avLst/>
                <a:gdLst/>
                <a:ahLst/>
                <a:rect l="l" t="t" r="r" b="b"/>
                <a:pathLst>
                  <a:path w="795" h="15">
                    <a:moveTo>
                      <a:pt x="0" y="0"/>
                    </a:moveTo>
                    <a:lnTo>
                      <a:pt x="795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75"/>
              <p:cNvSpPr/>
              <p:nvPr/>
            </p:nvSpPr>
            <p:spPr>
              <a:xfrm>
                <a:off x="4723200" y="3087720"/>
                <a:ext cx="260280" cy="9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76"/>
              <p:cNvSpPr/>
              <p:nvPr/>
            </p:nvSpPr>
            <p:spPr>
              <a:xfrm>
                <a:off x="4721760" y="3033000"/>
                <a:ext cx="297720" cy="185040"/>
              </a:xfrm>
              <a:custGeom>
                <a:avLst/>
                <a:gdLst/>
                <a:ahLst/>
                <a:rect l="l" t="t" r="r" b="b"/>
                <a:pathLst>
                  <a:path w="1062" h="659">
                    <a:moveTo>
                      <a:pt x="0" y="0"/>
                    </a:moveTo>
                    <a:lnTo>
                      <a:pt x="1062" y="65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277"/>
            <p:cNvGrpSpPr/>
            <p:nvPr/>
          </p:nvGrpSpPr>
          <p:grpSpPr>
            <a:xfrm>
              <a:off x="6262560" y="3111480"/>
              <a:ext cx="1008360" cy="920880"/>
              <a:chOff x="6262560" y="3111480"/>
              <a:chExt cx="1008360" cy="920880"/>
            </a:xfrm>
          </p:grpSpPr>
          <p:grpSp>
            <p:nvGrpSpPr>
              <p:cNvPr id="324" name="Group 278"/>
              <p:cNvGrpSpPr/>
              <p:nvPr/>
            </p:nvGrpSpPr>
            <p:grpSpPr>
              <a:xfrm>
                <a:off x="6262560" y="3111480"/>
                <a:ext cx="1008360" cy="920880"/>
                <a:chOff x="6262560" y="3111480"/>
                <a:chExt cx="1008360" cy="920880"/>
              </a:xfrm>
            </p:grpSpPr>
            <p:sp>
              <p:nvSpPr>
                <p:cNvPr id="325" name="Oval 279"/>
                <p:cNvSpPr/>
                <p:nvPr/>
              </p:nvSpPr>
              <p:spPr>
                <a:xfrm>
                  <a:off x="6635880" y="311148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280"/>
                <p:cNvSpPr/>
                <p:nvPr/>
              </p:nvSpPr>
              <p:spPr>
                <a:xfrm>
                  <a:off x="6509160" y="333108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281"/>
                <p:cNvSpPr/>
                <p:nvPr/>
              </p:nvSpPr>
              <p:spPr>
                <a:xfrm>
                  <a:off x="6758640" y="333396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282"/>
                <p:cNvSpPr/>
                <p:nvPr/>
              </p:nvSpPr>
              <p:spPr>
                <a:xfrm>
                  <a:off x="6382800" y="3550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283"/>
                <p:cNvSpPr/>
                <p:nvPr/>
              </p:nvSpPr>
              <p:spPr>
                <a:xfrm>
                  <a:off x="6634800" y="3550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284"/>
                <p:cNvSpPr/>
                <p:nvPr/>
              </p:nvSpPr>
              <p:spPr>
                <a:xfrm>
                  <a:off x="6885360" y="35539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285"/>
                <p:cNvSpPr/>
                <p:nvPr/>
              </p:nvSpPr>
              <p:spPr>
                <a:xfrm>
                  <a:off x="6262560" y="37749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286"/>
                <p:cNvSpPr/>
                <p:nvPr/>
              </p:nvSpPr>
              <p:spPr>
                <a:xfrm>
                  <a:off x="6513120" y="37731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287"/>
                <p:cNvSpPr/>
                <p:nvPr/>
              </p:nvSpPr>
              <p:spPr>
                <a:xfrm>
                  <a:off x="6758640" y="37735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288"/>
                <p:cNvSpPr/>
                <p:nvPr/>
              </p:nvSpPr>
              <p:spPr>
                <a:xfrm>
                  <a:off x="7014240" y="3775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a5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289"/>
              <p:cNvGrpSpPr/>
              <p:nvPr/>
            </p:nvGrpSpPr>
            <p:grpSpPr>
              <a:xfrm>
                <a:off x="6391080" y="3234960"/>
                <a:ext cx="759600" cy="699840"/>
                <a:chOff x="6391080" y="3234960"/>
                <a:chExt cx="759600" cy="699840"/>
              </a:xfrm>
            </p:grpSpPr>
            <p:sp>
              <p:nvSpPr>
                <p:cNvPr id="336" name="Oval 290"/>
                <p:cNvSpPr/>
                <p:nvPr/>
              </p:nvSpPr>
              <p:spPr>
                <a:xfrm>
                  <a:off x="6644160" y="323496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291"/>
                <p:cNvSpPr/>
                <p:nvPr/>
              </p:nvSpPr>
              <p:spPr>
                <a:xfrm>
                  <a:off x="6517440" y="345492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292"/>
                <p:cNvSpPr/>
                <p:nvPr/>
              </p:nvSpPr>
              <p:spPr>
                <a:xfrm>
                  <a:off x="6766920" y="345780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293"/>
                <p:cNvSpPr/>
                <p:nvPr/>
              </p:nvSpPr>
              <p:spPr>
                <a:xfrm>
                  <a:off x="6391080" y="367380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294"/>
                <p:cNvSpPr/>
                <p:nvPr/>
              </p:nvSpPr>
              <p:spPr>
                <a:xfrm>
                  <a:off x="6643080" y="367380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95"/>
                <p:cNvSpPr/>
                <p:nvPr/>
              </p:nvSpPr>
              <p:spPr>
                <a:xfrm>
                  <a:off x="6894000" y="36777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a6f9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296"/>
              <p:cNvGrpSpPr/>
              <p:nvPr/>
            </p:nvGrpSpPr>
            <p:grpSpPr>
              <a:xfrm>
                <a:off x="6516000" y="3366720"/>
                <a:ext cx="506160" cy="479520"/>
                <a:chOff x="6516000" y="3366720"/>
                <a:chExt cx="506160" cy="479520"/>
              </a:xfrm>
            </p:grpSpPr>
            <p:sp>
              <p:nvSpPr>
                <p:cNvPr id="343" name="Oval 297"/>
                <p:cNvSpPr/>
                <p:nvPr/>
              </p:nvSpPr>
              <p:spPr>
                <a:xfrm>
                  <a:off x="6645240" y="3366720"/>
                  <a:ext cx="25740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6326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298"/>
                <p:cNvSpPr/>
                <p:nvPr/>
              </p:nvSpPr>
              <p:spPr>
                <a:xfrm>
                  <a:off x="6516000" y="3586680"/>
                  <a:ext cx="25740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6326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299"/>
                <p:cNvSpPr/>
                <p:nvPr/>
              </p:nvSpPr>
              <p:spPr>
                <a:xfrm>
                  <a:off x="6765480" y="3589560"/>
                  <a:ext cx="25668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6326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Oval 300"/>
              <p:cNvSpPr/>
              <p:nvPr/>
            </p:nvSpPr>
            <p:spPr>
              <a:xfrm>
                <a:off x="6644160" y="3487680"/>
                <a:ext cx="257040" cy="257040"/>
              </a:xfrm>
              <a:prstGeom prst="ellipse">
                <a:avLst/>
              </a:prstGeom>
              <a:gradFill rotWithShape="0">
                <a:gsLst>
                  <a:gs pos="0">
                    <a:srgbClr val="eded59"/>
                  </a:gs>
                  <a:gs pos="100000">
                    <a:srgbClr val="9d9d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301"/>
            <p:cNvGrpSpPr/>
            <p:nvPr/>
          </p:nvGrpSpPr>
          <p:grpSpPr>
            <a:xfrm>
              <a:off x="1768320" y="4043160"/>
              <a:ext cx="787680" cy="803520"/>
              <a:chOff x="1768320" y="4043160"/>
              <a:chExt cx="787680" cy="803520"/>
            </a:xfrm>
          </p:grpSpPr>
          <p:sp>
            <p:nvSpPr>
              <p:cNvPr id="348" name="Rectangle 302"/>
              <p:cNvSpPr/>
              <p:nvPr/>
            </p:nvSpPr>
            <p:spPr>
              <a:xfrm>
                <a:off x="1768320" y="4043520"/>
                <a:ext cx="786240" cy="802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303"/>
              <p:cNvSpPr/>
              <p:nvPr/>
            </p:nvSpPr>
            <p:spPr>
              <a:xfrm flipV="1">
                <a:off x="2162880" y="4446720"/>
                <a:ext cx="393120" cy="398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304"/>
              <p:cNvSpPr/>
              <p:nvPr/>
            </p:nvSpPr>
            <p:spPr>
              <a:xfrm>
                <a:off x="1768680" y="4043520"/>
                <a:ext cx="590760" cy="605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305"/>
              <p:cNvSpPr/>
              <p:nvPr/>
            </p:nvSpPr>
            <p:spPr>
              <a:xfrm>
                <a:off x="2359440" y="4242600"/>
                <a:ext cx="0" cy="402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06"/>
              <p:cNvSpPr/>
              <p:nvPr/>
            </p:nvSpPr>
            <p:spPr>
              <a:xfrm flipV="1">
                <a:off x="1768320" y="4043160"/>
                <a:ext cx="783720" cy="802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307"/>
              <p:cNvSpPr/>
              <p:nvPr/>
            </p:nvSpPr>
            <p:spPr>
              <a:xfrm>
                <a:off x="1961640" y="4642920"/>
                <a:ext cx="200880" cy="203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Picture 308" descr=""/>
            <p:cNvPicPr/>
            <p:nvPr/>
          </p:nvPicPr>
          <p:blipFill>
            <a:blip r:embed="rId15"/>
            <a:stretch/>
          </p:blipFill>
          <p:spPr>
            <a:xfrm>
              <a:off x="2881440" y="3554280"/>
              <a:ext cx="1861920" cy="139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Group 309"/>
            <p:cNvGrpSpPr/>
            <p:nvPr/>
          </p:nvGrpSpPr>
          <p:grpSpPr>
            <a:xfrm>
              <a:off x="1557360" y="3127320"/>
              <a:ext cx="2886120" cy="718920"/>
              <a:chOff x="1557360" y="3127320"/>
              <a:chExt cx="2886120" cy="718920"/>
            </a:xfrm>
          </p:grpSpPr>
          <p:sp>
            <p:nvSpPr>
              <p:cNvPr id="356" name="Freeform 310"/>
              <p:cNvSpPr/>
              <p:nvPr/>
            </p:nvSpPr>
            <p:spPr>
              <a:xfrm>
                <a:off x="1566720" y="3127320"/>
                <a:ext cx="2860560" cy="715680"/>
              </a:xfrm>
              <a:custGeom>
                <a:avLst/>
                <a:gdLst/>
                <a:ahLst/>
                <a:rect l="l" t="t" r="r" b="b"/>
                <a:pathLst>
                  <a:path w="4788" h="1682">
                    <a:moveTo>
                      <a:pt x="0" y="7"/>
                    </a:moveTo>
                    <a:cubicBezTo>
                      <a:pt x="13" y="10"/>
                      <a:pt x="41" y="0"/>
                      <a:pt x="80" y="25"/>
                    </a:cubicBezTo>
                    <a:cubicBezTo>
                      <a:pt x="119" y="50"/>
                      <a:pt x="174" y="81"/>
                      <a:pt x="231" y="157"/>
                    </a:cubicBezTo>
                    <a:cubicBezTo>
                      <a:pt x="288" y="233"/>
                      <a:pt x="364" y="368"/>
                      <a:pt x="424" y="481"/>
                    </a:cubicBezTo>
                    <a:cubicBezTo>
                      <a:pt x="484" y="594"/>
                      <a:pt x="533" y="710"/>
                      <a:pt x="591" y="832"/>
                    </a:cubicBezTo>
                    <a:cubicBezTo>
                      <a:pt x="649" y="954"/>
                      <a:pt x="718" y="1109"/>
                      <a:pt x="774" y="1216"/>
                    </a:cubicBezTo>
                    <a:cubicBezTo>
                      <a:pt x="830" y="1323"/>
                      <a:pt x="879" y="1410"/>
                      <a:pt x="927" y="1477"/>
                    </a:cubicBezTo>
                    <a:cubicBezTo>
                      <a:pt x="975" y="1544"/>
                      <a:pt x="1021" y="1588"/>
                      <a:pt x="1065" y="1621"/>
                    </a:cubicBezTo>
                    <a:cubicBezTo>
                      <a:pt x="1109" y="1654"/>
                      <a:pt x="1156" y="1674"/>
                      <a:pt x="1194" y="1678"/>
                    </a:cubicBezTo>
                    <a:cubicBezTo>
                      <a:pt x="1232" y="1682"/>
                      <a:pt x="1258" y="1668"/>
                      <a:pt x="1293" y="1645"/>
                    </a:cubicBezTo>
                    <a:cubicBezTo>
                      <a:pt x="1328" y="1622"/>
                      <a:pt x="1363" y="1594"/>
                      <a:pt x="1407" y="1540"/>
                    </a:cubicBezTo>
                    <a:cubicBezTo>
                      <a:pt x="1451" y="1486"/>
                      <a:pt x="1513" y="1400"/>
                      <a:pt x="1560" y="1321"/>
                    </a:cubicBezTo>
                    <a:cubicBezTo>
                      <a:pt x="1607" y="1242"/>
                      <a:pt x="1649" y="1146"/>
                      <a:pt x="1688" y="1065"/>
                    </a:cubicBezTo>
                    <a:cubicBezTo>
                      <a:pt x="1727" y="984"/>
                      <a:pt x="1745" y="936"/>
                      <a:pt x="1794" y="832"/>
                    </a:cubicBezTo>
                    <a:cubicBezTo>
                      <a:pt x="1843" y="728"/>
                      <a:pt x="1922" y="552"/>
                      <a:pt x="1980" y="444"/>
                    </a:cubicBezTo>
                    <a:cubicBezTo>
                      <a:pt x="2038" y="336"/>
                      <a:pt x="2091" y="248"/>
                      <a:pt x="2142" y="181"/>
                    </a:cubicBezTo>
                    <a:cubicBezTo>
                      <a:pt x="2193" y="114"/>
                      <a:pt x="2248" y="69"/>
                      <a:pt x="2289" y="40"/>
                    </a:cubicBezTo>
                    <a:cubicBezTo>
                      <a:pt x="2330" y="11"/>
                      <a:pt x="2360" y="9"/>
                      <a:pt x="2391" y="7"/>
                    </a:cubicBezTo>
                    <a:cubicBezTo>
                      <a:pt x="2422" y="5"/>
                      <a:pt x="2441" y="10"/>
                      <a:pt x="2474" y="28"/>
                    </a:cubicBezTo>
                    <a:cubicBezTo>
                      <a:pt x="2507" y="46"/>
                      <a:pt x="2546" y="69"/>
                      <a:pt x="2589" y="115"/>
                    </a:cubicBezTo>
                    <a:cubicBezTo>
                      <a:pt x="2632" y="161"/>
                      <a:pt x="2688" y="236"/>
                      <a:pt x="2731" y="306"/>
                    </a:cubicBezTo>
                    <a:cubicBezTo>
                      <a:pt x="2774" y="376"/>
                      <a:pt x="2812" y="461"/>
                      <a:pt x="2850" y="535"/>
                    </a:cubicBezTo>
                    <a:cubicBezTo>
                      <a:pt x="2888" y="609"/>
                      <a:pt x="2934" y="702"/>
                      <a:pt x="2958" y="751"/>
                    </a:cubicBezTo>
                    <a:cubicBezTo>
                      <a:pt x="2982" y="800"/>
                      <a:pt x="2965" y="761"/>
                      <a:pt x="2997" y="829"/>
                    </a:cubicBezTo>
                    <a:cubicBezTo>
                      <a:pt x="3029" y="897"/>
                      <a:pt x="3091" y="1047"/>
                      <a:pt x="3147" y="1156"/>
                    </a:cubicBezTo>
                    <a:cubicBezTo>
                      <a:pt x="3203" y="1265"/>
                      <a:pt x="3274" y="1402"/>
                      <a:pt x="3334" y="1484"/>
                    </a:cubicBezTo>
                    <a:cubicBezTo>
                      <a:pt x="3394" y="1566"/>
                      <a:pt x="3462" y="1617"/>
                      <a:pt x="3506" y="1648"/>
                    </a:cubicBezTo>
                    <a:cubicBezTo>
                      <a:pt x="3550" y="1679"/>
                      <a:pt x="3564" y="1674"/>
                      <a:pt x="3600" y="1672"/>
                    </a:cubicBezTo>
                    <a:cubicBezTo>
                      <a:pt x="3636" y="1670"/>
                      <a:pt x="3679" y="1667"/>
                      <a:pt x="3723" y="1633"/>
                    </a:cubicBezTo>
                    <a:cubicBezTo>
                      <a:pt x="3767" y="1599"/>
                      <a:pt x="3817" y="1539"/>
                      <a:pt x="3865" y="1469"/>
                    </a:cubicBezTo>
                    <a:cubicBezTo>
                      <a:pt x="3913" y="1399"/>
                      <a:pt x="3966" y="1306"/>
                      <a:pt x="4014" y="1215"/>
                    </a:cubicBezTo>
                    <a:cubicBezTo>
                      <a:pt x="4062" y="1124"/>
                      <a:pt x="4125" y="987"/>
                      <a:pt x="4156" y="923"/>
                    </a:cubicBezTo>
                    <a:cubicBezTo>
                      <a:pt x="4187" y="859"/>
                      <a:pt x="4162" y="914"/>
                      <a:pt x="4201" y="833"/>
                    </a:cubicBezTo>
                    <a:cubicBezTo>
                      <a:pt x="4240" y="752"/>
                      <a:pt x="4332" y="546"/>
                      <a:pt x="4388" y="437"/>
                    </a:cubicBezTo>
                    <a:cubicBezTo>
                      <a:pt x="4444" y="328"/>
                      <a:pt x="4488" y="246"/>
                      <a:pt x="4536" y="181"/>
                    </a:cubicBezTo>
                    <a:cubicBezTo>
                      <a:pt x="4584" y="116"/>
                      <a:pt x="4632" y="76"/>
                      <a:pt x="4674" y="46"/>
                    </a:cubicBezTo>
                    <a:cubicBezTo>
                      <a:pt x="4716" y="16"/>
                      <a:pt x="4764" y="13"/>
                      <a:pt x="4788" y="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Group 311"/>
              <p:cNvGrpSpPr/>
              <p:nvPr/>
            </p:nvGrpSpPr>
            <p:grpSpPr>
              <a:xfrm>
                <a:off x="1570320" y="3127320"/>
                <a:ext cx="2855520" cy="718920"/>
                <a:chOff x="1570320" y="3127320"/>
                <a:chExt cx="2855520" cy="718920"/>
              </a:xfrm>
            </p:grpSpPr>
            <p:sp>
              <p:nvSpPr>
                <p:cNvPr id="358" name="Freeform 312"/>
                <p:cNvSpPr/>
                <p:nvPr/>
              </p:nvSpPr>
              <p:spPr>
                <a:xfrm>
                  <a:off x="1570320" y="3128760"/>
                  <a:ext cx="1426320" cy="71748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313"/>
                <p:cNvSpPr/>
                <p:nvPr/>
              </p:nvSpPr>
              <p:spPr>
                <a:xfrm>
                  <a:off x="2999520" y="3127320"/>
                  <a:ext cx="1426320" cy="71748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Freeform 314"/>
              <p:cNvSpPr/>
              <p:nvPr/>
            </p:nvSpPr>
            <p:spPr>
              <a:xfrm>
                <a:off x="1570320" y="3127320"/>
                <a:ext cx="2864160" cy="713160"/>
              </a:xfrm>
              <a:custGeom>
                <a:avLst/>
                <a:gdLst/>
                <a:ahLst/>
                <a:rect l="l" t="t" r="r" b="b"/>
                <a:pathLst>
                  <a:path w="4796" h="1194">
                    <a:moveTo>
                      <a:pt x="0" y="1194"/>
                    </a:moveTo>
                    <a:cubicBezTo>
                      <a:pt x="43" y="1189"/>
                      <a:pt x="184" y="1183"/>
                      <a:pt x="265" y="1166"/>
                    </a:cubicBezTo>
                    <a:cubicBezTo>
                      <a:pt x="346" y="1149"/>
                      <a:pt x="402" y="1129"/>
                      <a:pt x="485" y="1091"/>
                    </a:cubicBezTo>
                    <a:cubicBezTo>
                      <a:pt x="571" y="1053"/>
                      <a:pt x="690" y="991"/>
                      <a:pt x="781" y="935"/>
                    </a:cubicBezTo>
                    <a:cubicBezTo>
                      <a:pt x="872" y="879"/>
                      <a:pt x="955" y="811"/>
                      <a:pt x="1030" y="753"/>
                    </a:cubicBezTo>
                    <a:cubicBezTo>
                      <a:pt x="1104" y="696"/>
                      <a:pt x="1139" y="662"/>
                      <a:pt x="1234" y="588"/>
                    </a:cubicBezTo>
                    <a:cubicBezTo>
                      <a:pt x="1329" y="514"/>
                      <a:pt x="1482" y="389"/>
                      <a:pt x="1596" y="312"/>
                    </a:cubicBezTo>
                    <a:cubicBezTo>
                      <a:pt x="1706" y="235"/>
                      <a:pt x="1809" y="172"/>
                      <a:pt x="1908" y="125"/>
                    </a:cubicBezTo>
                    <a:cubicBezTo>
                      <a:pt x="2007" y="77"/>
                      <a:pt x="2112" y="45"/>
                      <a:pt x="2192" y="24"/>
                    </a:cubicBezTo>
                    <a:cubicBezTo>
                      <a:pt x="2271" y="4"/>
                      <a:pt x="2329" y="2"/>
                      <a:pt x="2390" y="1"/>
                    </a:cubicBezTo>
                    <a:cubicBezTo>
                      <a:pt x="2450" y="0"/>
                      <a:pt x="2487" y="3"/>
                      <a:pt x="2550" y="16"/>
                    </a:cubicBezTo>
                    <a:cubicBezTo>
                      <a:pt x="2614" y="29"/>
                      <a:pt x="2690" y="45"/>
                      <a:pt x="2773" y="78"/>
                    </a:cubicBezTo>
                    <a:cubicBezTo>
                      <a:pt x="2857" y="110"/>
                      <a:pt x="2965" y="164"/>
                      <a:pt x="3047" y="214"/>
                    </a:cubicBezTo>
                    <a:cubicBezTo>
                      <a:pt x="3131" y="263"/>
                      <a:pt x="3203" y="324"/>
                      <a:pt x="3278" y="376"/>
                    </a:cubicBezTo>
                    <a:cubicBezTo>
                      <a:pt x="3353" y="429"/>
                      <a:pt x="3441" y="495"/>
                      <a:pt x="3487" y="530"/>
                    </a:cubicBezTo>
                    <a:cubicBezTo>
                      <a:pt x="3534" y="565"/>
                      <a:pt x="3500" y="537"/>
                      <a:pt x="3562" y="585"/>
                    </a:cubicBezTo>
                    <a:cubicBezTo>
                      <a:pt x="3625" y="634"/>
                      <a:pt x="3745" y="740"/>
                      <a:pt x="3853" y="818"/>
                    </a:cubicBezTo>
                    <a:cubicBezTo>
                      <a:pt x="3961" y="895"/>
                      <a:pt x="4098" y="993"/>
                      <a:pt x="4215" y="1051"/>
                    </a:cubicBezTo>
                    <a:cubicBezTo>
                      <a:pt x="4332" y="1110"/>
                      <a:pt x="4451" y="1146"/>
                      <a:pt x="4548" y="1168"/>
                    </a:cubicBezTo>
                    <a:cubicBezTo>
                      <a:pt x="4645" y="1190"/>
                      <a:pt x="4744" y="1182"/>
                      <a:pt x="4796" y="1186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315"/>
              <p:cNvGrpSpPr/>
              <p:nvPr/>
            </p:nvGrpSpPr>
            <p:grpSpPr>
              <a:xfrm>
                <a:off x="1565280" y="3127320"/>
                <a:ext cx="2863080" cy="714240"/>
                <a:chOff x="1565280" y="3127320"/>
                <a:chExt cx="2863080" cy="714240"/>
              </a:xfrm>
            </p:grpSpPr>
            <p:sp>
              <p:nvSpPr>
                <p:cNvPr id="362" name="Freeform 316"/>
                <p:cNvSpPr/>
                <p:nvPr/>
              </p:nvSpPr>
              <p:spPr>
                <a:xfrm>
                  <a:off x="1565280" y="3128400"/>
                  <a:ext cx="953280" cy="71316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17"/>
                <p:cNvSpPr/>
                <p:nvPr/>
              </p:nvSpPr>
              <p:spPr>
                <a:xfrm>
                  <a:off x="2520000" y="3128400"/>
                  <a:ext cx="953280" cy="71316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18"/>
                <p:cNvSpPr/>
                <p:nvPr/>
              </p:nvSpPr>
              <p:spPr>
                <a:xfrm>
                  <a:off x="3475080" y="3127320"/>
                  <a:ext cx="953280" cy="71280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Line 319"/>
              <p:cNvSpPr/>
              <p:nvPr/>
            </p:nvSpPr>
            <p:spPr>
              <a:xfrm>
                <a:off x="1557360" y="3488040"/>
                <a:ext cx="288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Rectangle 320"/>
            <p:cNvSpPr/>
            <p:nvPr/>
          </p:nvSpPr>
          <p:spPr>
            <a:xfrm>
              <a:off x="3613320" y="2543040"/>
              <a:ext cx="48960" cy="4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Picture 321" descr="The image “file:///C:/windows/TEMP/IncrediMail/COL_M_S_RGB.jpg” cannot be displayed, because it contains errors."/>
            <p:cNvPicPr/>
            <p:nvPr/>
          </p:nvPicPr>
          <p:blipFill>
            <a:blip r:embed="rId16"/>
            <a:stretch/>
          </p:blipFill>
          <p:spPr>
            <a:xfrm>
              <a:off x="6373800" y="1222200"/>
              <a:ext cx="647640" cy="59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Group 322"/>
            <p:cNvGrpSpPr/>
            <p:nvPr/>
          </p:nvGrpSpPr>
          <p:grpSpPr>
            <a:xfrm>
              <a:off x="6172200" y="1870200"/>
              <a:ext cx="1122480" cy="1120680"/>
              <a:chOff x="6172200" y="1870200"/>
              <a:chExt cx="1122480" cy="1120680"/>
            </a:xfrm>
          </p:grpSpPr>
          <p:grpSp>
            <p:nvGrpSpPr>
              <p:cNvPr id="369" name="Group 323"/>
              <p:cNvGrpSpPr/>
              <p:nvPr/>
            </p:nvGrpSpPr>
            <p:grpSpPr>
              <a:xfrm>
                <a:off x="6172200" y="1870200"/>
                <a:ext cx="1122480" cy="1120680"/>
                <a:chOff x="6172200" y="1870200"/>
                <a:chExt cx="1122480" cy="1120680"/>
              </a:xfrm>
            </p:grpSpPr>
            <p:sp>
              <p:nvSpPr>
                <p:cNvPr id="370" name="Freeform 324"/>
                <p:cNvSpPr/>
                <p:nvPr/>
              </p:nvSpPr>
              <p:spPr>
                <a:xfrm>
                  <a:off x="6172200" y="1870200"/>
                  <a:ext cx="1122480" cy="1120680"/>
                </a:xfrm>
                <a:custGeom>
                  <a:avLst/>
                  <a:gdLst/>
                  <a:ahLst/>
                  <a:rect l="l" t="t" r="r" b="b"/>
                  <a:pathLst>
                    <a:path w="17375" h="17375">
                      <a:moveTo>
                        <a:pt x="8688" y="17375"/>
                      </a:moveTo>
                      <a:lnTo>
                        <a:pt x="9134" y="17363"/>
                      </a:lnTo>
                      <a:lnTo>
                        <a:pt x="9577" y="17329"/>
                      </a:lnTo>
                      <a:lnTo>
                        <a:pt x="10010" y="17275"/>
                      </a:lnTo>
                      <a:lnTo>
                        <a:pt x="10439" y="17198"/>
                      </a:lnTo>
                      <a:lnTo>
                        <a:pt x="10858" y="17101"/>
                      </a:lnTo>
                      <a:lnTo>
                        <a:pt x="11271" y="16983"/>
                      </a:lnTo>
                      <a:lnTo>
                        <a:pt x="11675" y="16847"/>
                      </a:lnTo>
                      <a:lnTo>
                        <a:pt x="12070" y="16691"/>
                      </a:lnTo>
                      <a:lnTo>
                        <a:pt x="12455" y="16517"/>
                      </a:lnTo>
                      <a:lnTo>
                        <a:pt x="12829" y="16325"/>
                      </a:lnTo>
                      <a:lnTo>
                        <a:pt x="13192" y="16117"/>
                      </a:lnTo>
                      <a:lnTo>
                        <a:pt x="13546" y="15891"/>
                      </a:lnTo>
                      <a:lnTo>
                        <a:pt x="13886" y="15648"/>
                      </a:lnTo>
                      <a:lnTo>
                        <a:pt x="14214" y="15391"/>
                      </a:lnTo>
                      <a:lnTo>
                        <a:pt x="14529" y="15117"/>
                      </a:lnTo>
                      <a:lnTo>
                        <a:pt x="14831" y="14830"/>
                      </a:lnTo>
                      <a:lnTo>
                        <a:pt x="15119" y="14528"/>
                      </a:lnTo>
                      <a:lnTo>
                        <a:pt x="15392" y="14212"/>
                      </a:lnTo>
                      <a:lnTo>
                        <a:pt x="15650" y="13885"/>
                      </a:lnTo>
                      <a:lnTo>
                        <a:pt x="15892" y="13545"/>
                      </a:lnTo>
                      <a:lnTo>
                        <a:pt x="16118" y="13191"/>
                      </a:lnTo>
                      <a:lnTo>
                        <a:pt x="16327" y="12827"/>
                      </a:lnTo>
                      <a:lnTo>
                        <a:pt x="16519" y="12453"/>
                      </a:lnTo>
                      <a:lnTo>
                        <a:pt x="16693" y="12069"/>
                      </a:lnTo>
                      <a:lnTo>
                        <a:pt x="16849" y="11674"/>
                      </a:lnTo>
                      <a:lnTo>
                        <a:pt x="16985" y="11271"/>
                      </a:lnTo>
                      <a:lnTo>
                        <a:pt x="17103" y="10858"/>
                      </a:lnTo>
                      <a:lnTo>
                        <a:pt x="17200" y="10437"/>
                      </a:lnTo>
                      <a:lnTo>
                        <a:pt x="17275" y="10009"/>
                      </a:lnTo>
                      <a:lnTo>
                        <a:pt x="17330" y="9574"/>
                      </a:lnTo>
                      <a:lnTo>
                        <a:pt x="17365" y="9134"/>
                      </a:lnTo>
                      <a:lnTo>
                        <a:pt x="17375" y="8687"/>
                      </a:lnTo>
                      <a:lnTo>
                        <a:pt x="17365" y="8240"/>
                      </a:lnTo>
                      <a:lnTo>
                        <a:pt x="17330" y="7798"/>
                      </a:lnTo>
                      <a:lnTo>
                        <a:pt x="17275" y="7364"/>
                      </a:lnTo>
                      <a:lnTo>
                        <a:pt x="17200" y="6936"/>
                      </a:lnTo>
                      <a:lnTo>
                        <a:pt x="17103" y="6515"/>
                      </a:lnTo>
                      <a:lnTo>
                        <a:pt x="16985" y="6104"/>
                      </a:lnTo>
                      <a:lnTo>
                        <a:pt x="16849" y="5699"/>
                      </a:lnTo>
                      <a:lnTo>
                        <a:pt x="16693" y="5306"/>
                      </a:lnTo>
                      <a:lnTo>
                        <a:pt x="16519" y="4920"/>
                      </a:lnTo>
                      <a:lnTo>
                        <a:pt x="16327" y="4546"/>
                      </a:lnTo>
                      <a:lnTo>
                        <a:pt x="16118" y="4182"/>
                      </a:lnTo>
                      <a:lnTo>
                        <a:pt x="15892" y="3830"/>
                      </a:lnTo>
                      <a:lnTo>
                        <a:pt x="15650" y="3489"/>
                      </a:lnTo>
                      <a:lnTo>
                        <a:pt x="15392" y="3161"/>
                      </a:lnTo>
                      <a:lnTo>
                        <a:pt x="15119" y="2846"/>
                      </a:lnTo>
                      <a:lnTo>
                        <a:pt x="14831" y="2545"/>
                      </a:lnTo>
                      <a:lnTo>
                        <a:pt x="14529" y="2256"/>
                      </a:lnTo>
                      <a:lnTo>
                        <a:pt x="14214" y="1984"/>
                      </a:lnTo>
                      <a:lnTo>
                        <a:pt x="13886" y="1726"/>
                      </a:lnTo>
                      <a:lnTo>
                        <a:pt x="13546" y="1484"/>
                      </a:lnTo>
                      <a:lnTo>
                        <a:pt x="13192" y="1258"/>
                      </a:lnTo>
                      <a:lnTo>
                        <a:pt x="12829" y="1048"/>
                      </a:lnTo>
                      <a:lnTo>
                        <a:pt x="12455" y="856"/>
                      </a:lnTo>
                      <a:lnTo>
                        <a:pt x="12070" y="682"/>
                      </a:lnTo>
                      <a:lnTo>
                        <a:pt x="11675" y="528"/>
                      </a:lnTo>
                      <a:lnTo>
                        <a:pt x="11271" y="390"/>
                      </a:lnTo>
                      <a:lnTo>
                        <a:pt x="10858" y="272"/>
                      </a:lnTo>
                      <a:lnTo>
                        <a:pt x="10439" y="176"/>
                      </a:lnTo>
                      <a:lnTo>
                        <a:pt x="10010" y="100"/>
                      </a:lnTo>
                      <a:lnTo>
                        <a:pt x="9577" y="45"/>
                      </a:lnTo>
                      <a:lnTo>
                        <a:pt x="9134" y="12"/>
                      </a:lnTo>
                      <a:lnTo>
                        <a:pt x="8688" y="0"/>
                      </a:lnTo>
                      <a:lnTo>
                        <a:pt x="8241" y="12"/>
                      </a:lnTo>
                      <a:lnTo>
                        <a:pt x="7799" y="45"/>
                      </a:lnTo>
                      <a:lnTo>
                        <a:pt x="7366" y="100"/>
                      </a:lnTo>
                      <a:lnTo>
                        <a:pt x="6936" y="176"/>
                      </a:lnTo>
                      <a:lnTo>
                        <a:pt x="6517" y="272"/>
                      </a:lnTo>
                      <a:lnTo>
                        <a:pt x="6104" y="390"/>
                      </a:lnTo>
                      <a:lnTo>
                        <a:pt x="5701" y="528"/>
                      </a:lnTo>
                      <a:lnTo>
                        <a:pt x="5306" y="682"/>
                      </a:lnTo>
                      <a:lnTo>
                        <a:pt x="4922" y="856"/>
                      </a:lnTo>
                      <a:lnTo>
                        <a:pt x="4547" y="1048"/>
                      </a:lnTo>
                      <a:lnTo>
                        <a:pt x="4184" y="1258"/>
                      </a:lnTo>
                      <a:lnTo>
                        <a:pt x="3830" y="1484"/>
                      </a:lnTo>
                      <a:lnTo>
                        <a:pt x="3490" y="1726"/>
                      </a:lnTo>
                      <a:lnTo>
                        <a:pt x="3161" y="1984"/>
                      </a:lnTo>
                      <a:lnTo>
                        <a:pt x="2847" y="2256"/>
                      </a:lnTo>
                      <a:lnTo>
                        <a:pt x="2544" y="2545"/>
                      </a:lnTo>
                      <a:lnTo>
                        <a:pt x="2257" y="2846"/>
                      </a:lnTo>
                      <a:lnTo>
                        <a:pt x="1983" y="3161"/>
                      </a:lnTo>
                      <a:lnTo>
                        <a:pt x="1726" y="3489"/>
                      </a:lnTo>
                      <a:lnTo>
                        <a:pt x="1484" y="3830"/>
                      </a:lnTo>
                      <a:lnTo>
                        <a:pt x="1257" y="4182"/>
                      </a:lnTo>
                      <a:lnTo>
                        <a:pt x="1048" y="4546"/>
                      </a:lnTo>
                      <a:lnTo>
                        <a:pt x="856" y="4920"/>
                      </a:lnTo>
                      <a:lnTo>
                        <a:pt x="682" y="5306"/>
                      </a:lnTo>
                      <a:lnTo>
                        <a:pt x="527" y="5699"/>
                      </a:lnTo>
                      <a:lnTo>
                        <a:pt x="390" y="6104"/>
                      </a:lnTo>
                      <a:lnTo>
                        <a:pt x="274" y="6515"/>
                      </a:lnTo>
                      <a:lnTo>
                        <a:pt x="176" y="6936"/>
                      </a:lnTo>
                      <a:lnTo>
                        <a:pt x="100" y="7364"/>
                      </a:lnTo>
                      <a:lnTo>
                        <a:pt x="45" y="7798"/>
                      </a:lnTo>
                      <a:lnTo>
                        <a:pt x="11" y="8240"/>
                      </a:lnTo>
                      <a:lnTo>
                        <a:pt x="0" y="8687"/>
                      </a:lnTo>
                      <a:lnTo>
                        <a:pt x="11" y="9134"/>
                      </a:lnTo>
                      <a:lnTo>
                        <a:pt x="45" y="9574"/>
                      </a:lnTo>
                      <a:lnTo>
                        <a:pt x="100" y="10009"/>
                      </a:lnTo>
                      <a:lnTo>
                        <a:pt x="176" y="10437"/>
                      </a:lnTo>
                      <a:lnTo>
                        <a:pt x="274" y="10858"/>
                      </a:lnTo>
                      <a:lnTo>
                        <a:pt x="390" y="11271"/>
                      </a:lnTo>
                      <a:lnTo>
                        <a:pt x="527" y="11674"/>
                      </a:lnTo>
                      <a:lnTo>
                        <a:pt x="682" y="12069"/>
                      </a:lnTo>
                      <a:lnTo>
                        <a:pt x="856" y="12453"/>
                      </a:lnTo>
                      <a:lnTo>
                        <a:pt x="1048" y="12827"/>
                      </a:lnTo>
                      <a:lnTo>
                        <a:pt x="1257" y="13191"/>
                      </a:lnTo>
                      <a:lnTo>
                        <a:pt x="1484" y="13545"/>
                      </a:lnTo>
                      <a:lnTo>
                        <a:pt x="1726" y="13885"/>
                      </a:lnTo>
                      <a:lnTo>
                        <a:pt x="1983" y="14212"/>
                      </a:lnTo>
                      <a:lnTo>
                        <a:pt x="2257" y="14528"/>
                      </a:lnTo>
                      <a:lnTo>
                        <a:pt x="2544" y="14830"/>
                      </a:lnTo>
                      <a:lnTo>
                        <a:pt x="2847" y="15117"/>
                      </a:lnTo>
                      <a:lnTo>
                        <a:pt x="3161" y="15391"/>
                      </a:lnTo>
                      <a:lnTo>
                        <a:pt x="3490" y="15648"/>
                      </a:lnTo>
                      <a:lnTo>
                        <a:pt x="3830" y="15891"/>
                      </a:lnTo>
                      <a:lnTo>
                        <a:pt x="4184" y="16117"/>
                      </a:lnTo>
                      <a:lnTo>
                        <a:pt x="4547" y="16325"/>
                      </a:lnTo>
                      <a:lnTo>
                        <a:pt x="4922" y="16517"/>
                      </a:lnTo>
                      <a:lnTo>
                        <a:pt x="5306" y="16691"/>
                      </a:lnTo>
                      <a:lnTo>
                        <a:pt x="5701" y="16847"/>
                      </a:lnTo>
                      <a:lnTo>
                        <a:pt x="6104" y="16983"/>
                      </a:lnTo>
                      <a:lnTo>
                        <a:pt x="6517" y="17101"/>
                      </a:lnTo>
                      <a:lnTo>
                        <a:pt x="6936" y="17198"/>
                      </a:lnTo>
                      <a:lnTo>
                        <a:pt x="7366" y="17275"/>
                      </a:lnTo>
                      <a:lnTo>
                        <a:pt x="7799" y="17329"/>
                      </a:lnTo>
                      <a:lnTo>
                        <a:pt x="8241" y="17363"/>
                      </a:lnTo>
                      <a:lnTo>
                        <a:pt x="8688" y="17375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25"/>
                <p:cNvSpPr/>
                <p:nvPr/>
              </p:nvSpPr>
              <p:spPr>
                <a:xfrm>
                  <a:off x="6238800" y="1926000"/>
                  <a:ext cx="992520" cy="990360"/>
                </a:xfrm>
                <a:custGeom>
                  <a:avLst/>
                  <a:gdLst/>
                  <a:ahLst/>
                  <a:rect l="l" t="t" r="r" b="b"/>
                  <a:pathLst>
                    <a:path w="15359" h="15357">
                      <a:moveTo>
                        <a:pt x="7680" y="15357"/>
                      </a:moveTo>
                      <a:lnTo>
                        <a:pt x="8075" y="15345"/>
                      </a:lnTo>
                      <a:lnTo>
                        <a:pt x="8466" y="15317"/>
                      </a:lnTo>
                      <a:lnTo>
                        <a:pt x="8850" y="15268"/>
                      </a:lnTo>
                      <a:lnTo>
                        <a:pt x="9226" y="15200"/>
                      </a:lnTo>
                      <a:lnTo>
                        <a:pt x="9600" y="15115"/>
                      </a:lnTo>
                      <a:lnTo>
                        <a:pt x="9964" y="15011"/>
                      </a:lnTo>
                      <a:lnTo>
                        <a:pt x="10320" y="14891"/>
                      </a:lnTo>
                      <a:lnTo>
                        <a:pt x="10669" y="14752"/>
                      </a:lnTo>
                      <a:lnTo>
                        <a:pt x="11009" y="14599"/>
                      </a:lnTo>
                      <a:lnTo>
                        <a:pt x="11339" y="14430"/>
                      </a:lnTo>
                      <a:lnTo>
                        <a:pt x="11663" y="14244"/>
                      </a:lnTo>
                      <a:lnTo>
                        <a:pt x="11973" y="14044"/>
                      </a:lnTo>
                      <a:lnTo>
                        <a:pt x="12275" y="13831"/>
                      </a:lnTo>
                      <a:lnTo>
                        <a:pt x="12566" y="13603"/>
                      </a:lnTo>
                      <a:lnTo>
                        <a:pt x="12843" y="13362"/>
                      </a:lnTo>
                      <a:lnTo>
                        <a:pt x="13110" y="13107"/>
                      </a:lnTo>
                      <a:lnTo>
                        <a:pt x="13364" y="12841"/>
                      </a:lnTo>
                      <a:lnTo>
                        <a:pt x="13606" y="12562"/>
                      </a:lnTo>
                      <a:lnTo>
                        <a:pt x="13833" y="12272"/>
                      </a:lnTo>
                      <a:lnTo>
                        <a:pt x="14048" y="11971"/>
                      </a:lnTo>
                      <a:lnTo>
                        <a:pt x="14248" y="11659"/>
                      </a:lnTo>
                      <a:lnTo>
                        <a:pt x="14433" y="11339"/>
                      </a:lnTo>
                      <a:lnTo>
                        <a:pt x="14603" y="11006"/>
                      </a:lnTo>
                      <a:lnTo>
                        <a:pt x="14756" y="10666"/>
                      </a:lnTo>
                      <a:lnTo>
                        <a:pt x="14892" y="10318"/>
                      </a:lnTo>
                      <a:lnTo>
                        <a:pt x="15013" y="9961"/>
                      </a:lnTo>
                      <a:lnTo>
                        <a:pt x="15117" y="9597"/>
                      </a:lnTo>
                      <a:lnTo>
                        <a:pt x="15204" y="9226"/>
                      </a:lnTo>
                      <a:lnTo>
                        <a:pt x="15270" y="8846"/>
                      </a:lnTo>
                      <a:lnTo>
                        <a:pt x="15320" y="8462"/>
                      </a:lnTo>
                      <a:lnTo>
                        <a:pt x="15349" y="8072"/>
                      </a:lnTo>
                      <a:lnTo>
                        <a:pt x="15359" y="7677"/>
                      </a:lnTo>
                      <a:lnTo>
                        <a:pt x="15349" y="7282"/>
                      </a:lnTo>
                      <a:lnTo>
                        <a:pt x="15320" y="6892"/>
                      </a:lnTo>
                      <a:lnTo>
                        <a:pt x="15270" y="6508"/>
                      </a:lnTo>
                      <a:lnTo>
                        <a:pt x="15204" y="6131"/>
                      </a:lnTo>
                      <a:lnTo>
                        <a:pt x="15117" y="5758"/>
                      </a:lnTo>
                      <a:lnTo>
                        <a:pt x="15013" y="5394"/>
                      </a:lnTo>
                      <a:lnTo>
                        <a:pt x="14892" y="5038"/>
                      </a:lnTo>
                      <a:lnTo>
                        <a:pt x="14756" y="4689"/>
                      </a:lnTo>
                      <a:lnTo>
                        <a:pt x="14603" y="4349"/>
                      </a:lnTo>
                      <a:lnTo>
                        <a:pt x="14433" y="4019"/>
                      </a:lnTo>
                      <a:lnTo>
                        <a:pt x="14248" y="3696"/>
                      </a:lnTo>
                      <a:lnTo>
                        <a:pt x="14048" y="3385"/>
                      </a:lnTo>
                      <a:lnTo>
                        <a:pt x="13833" y="3083"/>
                      </a:lnTo>
                      <a:lnTo>
                        <a:pt x="13606" y="2793"/>
                      </a:lnTo>
                      <a:lnTo>
                        <a:pt x="13364" y="2515"/>
                      </a:lnTo>
                      <a:lnTo>
                        <a:pt x="13110" y="2248"/>
                      </a:lnTo>
                      <a:lnTo>
                        <a:pt x="12843" y="1995"/>
                      </a:lnTo>
                      <a:lnTo>
                        <a:pt x="12566" y="1753"/>
                      </a:lnTo>
                      <a:lnTo>
                        <a:pt x="12275" y="1525"/>
                      </a:lnTo>
                      <a:lnTo>
                        <a:pt x="11973" y="1311"/>
                      </a:lnTo>
                      <a:lnTo>
                        <a:pt x="11663" y="1110"/>
                      </a:lnTo>
                      <a:lnTo>
                        <a:pt x="11339" y="926"/>
                      </a:lnTo>
                      <a:lnTo>
                        <a:pt x="11009" y="756"/>
                      </a:lnTo>
                      <a:lnTo>
                        <a:pt x="10669" y="603"/>
                      </a:lnTo>
                      <a:lnTo>
                        <a:pt x="10320" y="466"/>
                      </a:lnTo>
                      <a:lnTo>
                        <a:pt x="9964" y="345"/>
                      </a:lnTo>
                      <a:lnTo>
                        <a:pt x="9600" y="242"/>
                      </a:lnTo>
                      <a:lnTo>
                        <a:pt x="9226" y="154"/>
                      </a:lnTo>
                      <a:lnTo>
                        <a:pt x="8850" y="88"/>
                      </a:lnTo>
                      <a:lnTo>
                        <a:pt x="8466" y="38"/>
                      </a:lnTo>
                      <a:lnTo>
                        <a:pt x="8075" y="9"/>
                      </a:lnTo>
                      <a:lnTo>
                        <a:pt x="7680" y="0"/>
                      </a:lnTo>
                      <a:lnTo>
                        <a:pt x="7286" y="9"/>
                      </a:lnTo>
                      <a:lnTo>
                        <a:pt x="6895" y="38"/>
                      </a:lnTo>
                      <a:lnTo>
                        <a:pt x="6511" y="88"/>
                      </a:lnTo>
                      <a:lnTo>
                        <a:pt x="6132" y="154"/>
                      </a:lnTo>
                      <a:lnTo>
                        <a:pt x="5761" y="242"/>
                      </a:lnTo>
                      <a:lnTo>
                        <a:pt x="5397" y="345"/>
                      </a:lnTo>
                      <a:lnTo>
                        <a:pt x="5040" y="466"/>
                      </a:lnTo>
                      <a:lnTo>
                        <a:pt x="4690" y="603"/>
                      </a:lnTo>
                      <a:lnTo>
                        <a:pt x="4350" y="756"/>
                      </a:lnTo>
                      <a:lnTo>
                        <a:pt x="4019" y="926"/>
                      </a:lnTo>
                      <a:lnTo>
                        <a:pt x="3698" y="1110"/>
                      </a:lnTo>
                      <a:lnTo>
                        <a:pt x="3387" y="1311"/>
                      </a:lnTo>
                      <a:lnTo>
                        <a:pt x="3086" y="1525"/>
                      </a:lnTo>
                      <a:lnTo>
                        <a:pt x="2795" y="1753"/>
                      </a:lnTo>
                      <a:lnTo>
                        <a:pt x="2517" y="1995"/>
                      </a:lnTo>
                      <a:lnTo>
                        <a:pt x="2251" y="2248"/>
                      </a:lnTo>
                      <a:lnTo>
                        <a:pt x="1995" y="2515"/>
                      </a:lnTo>
                      <a:lnTo>
                        <a:pt x="1755" y="2793"/>
                      </a:lnTo>
                      <a:lnTo>
                        <a:pt x="1526" y="3083"/>
                      </a:lnTo>
                      <a:lnTo>
                        <a:pt x="1312" y="3385"/>
                      </a:lnTo>
                      <a:lnTo>
                        <a:pt x="1113" y="3696"/>
                      </a:lnTo>
                      <a:lnTo>
                        <a:pt x="928" y="4019"/>
                      </a:lnTo>
                      <a:lnTo>
                        <a:pt x="758" y="4349"/>
                      </a:lnTo>
                      <a:lnTo>
                        <a:pt x="604" y="4689"/>
                      </a:lnTo>
                      <a:lnTo>
                        <a:pt x="466" y="5038"/>
                      </a:lnTo>
                      <a:lnTo>
                        <a:pt x="345" y="5394"/>
                      </a:lnTo>
                      <a:lnTo>
                        <a:pt x="242" y="5758"/>
                      </a:lnTo>
                      <a:lnTo>
                        <a:pt x="156" y="6131"/>
                      </a:lnTo>
                      <a:lnTo>
                        <a:pt x="89" y="6508"/>
                      </a:lnTo>
                      <a:lnTo>
                        <a:pt x="41" y="6892"/>
                      </a:lnTo>
                      <a:lnTo>
                        <a:pt x="10" y="7282"/>
                      </a:lnTo>
                      <a:lnTo>
                        <a:pt x="0" y="7677"/>
                      </a:lnTo>
                      <a:lnTo>
                        <a:pt x="10" y="8072"/>
                      </a:lnTo>
                      <a:lnTo>
                        <a:pt x="41" y="8462"/>
                      </a:lnTo>
                      <a:lnTo>
                        <a:pt x="89" y="8846"/>
                      </a:lnTo>
                      <a:lnTo>
                        <a:pt x="156" y="9226"/>
                      </a:lnTo>
                      <a:lnTo>
                        <a:pt x="242" y="9597"/>
                      </a:lnTo>
                      <a:lnTo>
                        <a:pt x="345" y="9961"/>
                      </a:lnTo>
                      <a:lnTo>
                        <a:pt x="466" y="10318"/>
                      </a:lnTo>
                      <a:lnTo>
                        <a:pt x="604" y="10666"/>
                      </a:lnTo>
                      <a:lnTo>
                        <a:pt x="758" y="11006"/>
                      </a:lnTo>
                      <a:lnTo>
                        <a:pt x="928" y="11339"/>
                      </a:lnTo>
                      <a:lnTo>
                        <a:pt x="1113" y="11659"/>
                      </a:lnTo>
                      <a:lnTo>
                        <a:pt x="1312" y="11971"/>
                      </a:lnTo>
                      <a:lnTo>
                        <a:pt x="1526" y="12272"/>
                      </a:lnTo>
                      <a:lnTo>
                        <a:pt x="1755" y="12562"/>
                      </a:lnTo>
                      <a:lnTo>
                        <a:pt x="1995" y="12841"/>
                      </a:lnTo>
                      <a:lnTo>
                        <a:pt x="2251" y="13107"/>
                      </a:lnTo>
                      <a:lnTo>
                        <a:pt x="2517" y="13362"/>
                      </a:lnTo>
                      <a:lnTo>
                        <a:pt x="2795" y="13603"/>
                      </a:lnTo>
                      <a:lnTo>
                        <a:pt x="3086" y="13831"/>
                      </a:lnTo>
                      <a:lnTo>
                        <a:pt x="3387" y="14044"/>
                      </a:lnTo>
                      <a:lnTo>
                        <a:pt x="3698" y="14244"/>
                      </a:lnTo>
                      <a:lnTo>
                        <a:pt x="4019" y="14430"/>
                      </a:lnTo>
                      <a:lnTo>
                        <a:pt x="4350" y="14599"/>
                      </a:lnTo>
                      <a:lnTo>
                        <a:pt x="4690" y="14752"/>
                      </a:lnTo>
                      <a:lnTo>
                        <a:pt x="5040" y="14891"/>
                      </a:lnTo>
                      <a:lnTo>
                        <a:pt x="5397" y="15011"/>
                      </a:lnTo>
                      <a:lnTo>
                        <a:pt x="5761" y="15115"/>
                      </a:lnTo>
                      <a:lnTo>
                        <a:pt x="6132" y="15200"/>
                      </a:lnTo>
                      <a:lnTo>
                        <a:pt x="6511" y="15268"/>
                      </a:lnTo>
                      <a:lnTo>
                        <a:pt x="6895" y="15317"/>
                      </a:lnTo>
                      <a:lnTo>
                        <a:pt x="7286" y="15345"/>
                      </a:lnTo>
                      <a:lnTo>
                        <a:pt x="7680" y="153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26"/>
                <p:cNvSpPr/>
                <p:nvPr/>
              </p:nvSpPr>
              <p:spPr>
                <a:xfrm>
                  <a:off x="6719760" y="1991160"/>
                  <a:ext cx="89280" cy="141120"/>
                </a:xfrm>
                <a:custGeom>
                  <a:avLst/>
                  <a:gdLst/>
                  <a:ahLst/>
                  <a:rect l="l" t="t" r="r" b="b"/>
                  <a:pathLst>
                    <a:path w="1384" h="2192">
                      <a:moveTo>
                        <a:pt x="1255" y="318"/>
                      </a:moveTo>
                      <a:lnTo>
                        <a:pt x="1272" y="340"/>
                      </a:lnTo>
                      <a:lnTo>
                        <a:pt x="1289" y="365"/>
                      </a:lnTo>
                      <a:lnTo>
                        <a:pt x="1302" y="390"/>
                      </a:lnTo>
                      <a:lnTo>
                        <a:pt x="1313" y="416"/>
                      </a:lnTo>
                      <a:lnTo>
                        <a:pt x="1325" y="444"/>
                      </a:lnTo>
                      <a:lnTo>
                        <a:pt x="1332" y="472"/>
                      </a:lnTo>
                      <a:lnTo>
                        <a:pt x="1339" y="499"/>
                      </a:lnTo>
                      <a:lnTo>
                        <a:pt x="1345" y="528"/>
                      </a:lnTo>
                      <a:lnTo>
                        <a:pt x="1349" y="557"/>
                      </a:lnTo>
                      <a:lnTo>
                        <a:pt x="1350" y="585"/>
                      </a:lnTo>
                      <a:lnTo>
                        <a:pt x="1352" y="617"/>
                      </a:lnTo>
                      <a:lnTo>
                        <a:pt x="1352" y="646"/>
                      </a:lnTo>
                      <a:lnTo>
                        <a:pt x="1349" y="676"/>
                      </a:lnTo>
                      <a:lnTo>
                        <a:pt x="1345" y="705"/>
                      </a:lnTo>
                      <a:lnTo>
                        <a:pt x="1340" y="735"/>
                      </a:lnTo>
                      <a:lnTo>
                        <a:pt x="1334" y="764"/>
                      </a:lnTo>
                      <a:lnTo>
                        <a:pt x="1311" y="815"/>
                      </a:lnTo>
                      <a:lnTo>
                        <a:pt x="1284" y="862"/>
                      </a:lnTo>
                      <a:lnTo>
                        <a:pt x="1254" y="906"/>
                      </a:lnTo>
                      <a:lnTo>
                        <a:pt x="1219" y="945"/>
                      </a:lnTo>
                      <a:lnTo>
                        <a:pt x="1183" y="981"/>
                      </a:lnTo>
                      <a:lnTo>
                        <a:pt x="1143" y="1015"/>
                      </a:lnTo>
                      <a:lnTo>
                        <a:pt x="1104" y="1047"/>
                      </a:lnTo>
                      <a:lnTo>
                        <a:pt x="1060" y="1077"/>
                      </a:lnTo>
                      <a:lnTo>
                        <a:pt x="1016" y="1104"/>
                      </a:lnTo>
                      <a:lnTo>
                        <a:pt x="969" y="1128"/>
                      </a:lnTo>
                      <a:lnTo>
                        <a:pt x="923" y="1152"/>
                      </a:lnTo>
                      <a:lnTo>
                        <a:pt x="874" y="1175"/>
                      </a:lnTo>
                      <a:lnTo>
                        <a:pt x="777" y="1219"/>
                      </a:lnTo>
                      <a:lnTo>
                        <a:pt x="681" y="1261"/>
                      </a:lnTo>
                      <a:lnTo>
                        <a:pt x="634" y="1284"/>
                      </a:lnTo>
                      <a:lnTo>
                        <a:pt x="587" y="1305"/>
                      </a:lnTo>
                      <a:lnTo>
                        <a:pt x="540" y="1329"/>
                      </a:lnTo>
                      <a:lnTo>
                        <a:pt x="497" y="1354"/>
                      </a:lnTo>
                      <a:lnTo>
                        <a:pt x="454" y="1379"/>
                      </a:lnTo>
                      <a:lnTo>
                        <a:pt x="413" y="1407"/>
                      </a:lnTo>
                      <a:lnTo>
                        <a:pt x="375" y="1437"/>
                      </a:lnTo>
                      <a:lnTo>
                        <a:pt x="339" y="1470"/>
                      </a:lnTo>
                      <a:lnTo>
                        <a:pt x="305" y="1503"/>
                      </a:lnTo>
                      <a:lnTo>
                        <a:pt x="277" y="1542"/>
                      </a:lnTo>
                      <a:lnTo>
                        <a:pt x="248" y="1582"/>
                      </a:lnTo>
                      <a:lnTo>
                        <a:pt x="226" y="1627"/>
                      </a:lnTo>
                      <a:lnTo>
                        <a:pt x="207" y="1674"/>
                      </a:lnTo>
                      <a:lnTo>
                        <a:pt x="191" y="1727"/>
                      </a:lnTo>
                      <a:lnTo>
                        <a:pt x="180" y="1784"/>
                      </a:lnTo>
                      <a:lnTo>
                        <a:pt x="174" y="1845"/>
                      </a:lnTo>
                      <a:lnTo>
                        <a:pt x="218" y="1803"/>
                      </a:lnTo>
                      <a:lnTo>
                        <a:pt x="265" y="1763"/>
                      </a:lnTo>
                      <a:lnTo>
                        <a:pt x="289" y="1744"/>
                      </a:lnTo>
                      <a:lnTo>
                        <a:pt x="315" y="1726"/>
                      </a:lnTo>
                      <a:lnTo>
                        <a:pt x="340" y="1709"/>
                      </a:lnTo>
                      <a:lnTo>
                        <a:pt x="366" y="1692"/>
                      </a:lnTo>
                      <a:lnTo>
                        <a:pt x="393" y="1676"/>
                      </a:lnTo>
                      <a:lnTo>
                        <a:pt x="421" y="1663"/>
                      </a:lnTo>
                      <a:lnTo>
                        <a:pt x="451" y="1650"/>
                      </a:lnTo>
                      <a:lnTo>
                        <a:pt x="479" y="1641"/>
                      </a:lnTo>
                      <a:lnTo>
                        <a:pt x="508" y="1631"/>
                      </a:lnTo>
                      <a:lnTo>
                        <a:pt x="539" y="1626"/>
                      </a:lnTo>
                      <a:lnTo>
                        <a:pt x="570" y="1621"/>
                      </a:lnTo>
                      <a:lnTo>
                        <a:pt x="602" y="1620"/>
                      </a:lnTo>
                      <a:lnTo>
                        <a:pt x="628" y="1617"/>
                      </a:lnTo>
                      <a:lnTo>
                        <a:pt x="653" y="1617"/>
                      </a:lnTo>
                      <a:lnTo>
                        <a:pt x="679" y="1618"/>
                      </a:lnTo>
                      <a:lnTo>
                        <a:pt x="705" y="1623"/>
                      </a:lnTo>
                      <a:lnTo>
                        <a:pt x="731" y="1631"/>
                      </a:lnTo>
                      <a:lnTo>
                        <a:pt x="756" y="1639"/>
                      </a:lnTo>
                      <a:lnTo>
                        <a:pt x="782" y="1650"/>
                      </a:lnTo>
                      <a:lnTo>
                        <a:pt x="806" y="1663"/>
                      </a:lnTo>
                      <a:lnTo>
                        <a:pt x="906" y="1721"/>
                      </a:lnTo>
                      <a:lnTo>
                        <a:pt x="1003" y="1781"/>
                      </a:lnTo>
                      <a:lnTo>
                        <a:pt x="1027" y="1792"/>
                      </a:lnTo>
                      <a:lnTo>
                        <a:pt x="1050" y="1803"/>
                      </a:lnTo>
                      <a:lnTo>
                        <a:pt x="1074" y="1813"/>
                      </a:lnTo>
                      <a:lnTo>
                        <a:pt x="1097" y="1821"/>
                      </a:lnTo>
                      <a:lnTo>
                        <a:pt x="1119" y="1826"/>
                      </a:lnTo>
                      <a:lnTo>
                        <a:pt x="1142" y="1830"/>
                      </a:lnTo>
                      <a:lnTo>
                        <a:pt x="1165" y="1830"/>
                      </a:lnTo>
                      <a:lnTo>
                        <a:pt x="1187" y="1826"/>
                      </a:lnTo>
                      <a:lnTo>
                        <a:pt x="1208" y="1819"/>
                      </a:lnTo>
                      <a:lnTo>
                        <a:pt x="1231" y="1810"/>
                      </a:lnTo>
                      <a:lnTo>
                        <a:pt x="1252" y="1795"/>
                      </a:lnTo>
                      <a:lnTo>
                        <a:pt x="1272" y="1777"/>
                      </a:lnTo>
                      <a:lnTo>
                        <a:pt x="1292" y="1755"/>
                      </a:lnTo>
                      <a:lnTo>
                        <a:pt x="1313" y="1726"/>
                      </a:lnTo>
                      <a:lnTo>
                        <a:pt x="1332" y="1694"/>
                      </a:lnTo>
                      <a:lnTo>
                        <a:pt x="1352" y="1655"/>
                      </a:lnTo>
                      <a:lnTo>
                        <a:pt x="1384" y="1655"/>
                      </a:lnTo>
                      <a:lnTo>
                        <a:pt x="1384" y="1695"/>
                      </a:lnTo>
                      <a:lnTo>
                        <a:pt x="1381" y="1736"/>
                      </a:lnTo>
                      <a:lnTo>
                        <a:pt x="1375" y="1774"/>
                      </a:lnTo>
                      <a:lnTo>
                        <a:pt x="1364" y="1813"/>
                      </a:lnTo>
                      <a:lnTo>
                        <a:pt x="1354" y="1850"/>
                      </a:lnTo>
                      <a:lnTo>
                        <a:pt x="1337" y="1887"/>
                      </a:lnTo>
                      <a:lnTo>
                        <a:pt x="1322" y="1921"/>
                      </a:lnTo>
                      <a:lnTo>
                        <a:pt x="1300" y="1955"/>
                      </a:lnTo>
                      <a:lnTo>
                        <a:pt x="1278" y="1989"/>
                      </a:lnTo>
                      <a:lnTo>
                        <a:pt x="1254" y="2019"/>
                      </a:lnTo>
                      <a:lnTo>
                        <a:pt x="1228" y="2049"/>
                      </a:lnTo>
                      <a:lnTo>
                        <a:pt x="1198" y="2076"/>
                      </a:lnTo>
                      <a:lnTo>
                        <a:pt x="1168" y="2101"/>
                      </a:lnTo>
                      <a:lnTo>
                        <a:pt x="1136" y="2125"/>
                      </a:lnTo>
                      <a:lnTo>
                        <a:pt x="1101" y="2145"/>
                      </a:lnTo>
                      <a:lnTo>
                        <a:pt x="1066" y="2163"/>
                      </a:lnTo>
                      <a:lnTo>
                        <a:pt x="1033" y="2176"/>
                      </a:lnTo>
                      <a:lnTo>
                        <a:pt x="1000" y="2186"/>
                      </a:lnTo>
                      <a:lnTo>
                        <a:pt x="968" y="2190"/>
                      </a:lnTo>
                      <a:lnTo>
                        <a:pt x="936" y="2192"/>
                      </a:lnTo>
                      <a:lnTo>
                        <a:pt x="903" y="2190"/>
                      </a:lnTo>
                      <a:lnTo>
                        <a:pt x="871" y="2187"/>
                      </a:lnTo>
                      <a:lnTo>
                        <a:pt x="839" y="2181"/>
                      </a:lnTo>
                      <a:lnTo>
                        <a:pt x="808" y="2173"/>
                      </a:lnTo>
                      <a:lnTo>
                        <a:pt x="777" y="2161"/>
                      </a:lnTo>
                      <a:lnTo>
                        <a:pt x="747" y="2150"/>
                      </a:lnTo>
                      <a:lnTo>
                        <a:pt x="717" y="2137"/>
                      </a:lnTo>
                      <a:lnTo>
                        <a:pt x="685" y="2125"/>
                      </a:lnTo>
                      <a:lnTo>
                        <a:pt x="626" y="2096"/>
                      </a:lnTo>
                      <a:lnTo>
                        <a:pt x="568" y="2069"/>
                      </a:lnTo>
                      <a:lnTo>
                        <a:pt x="539" y="2057"/>
                      </a:lnTo>
                      <a:lnTo>
                        <a:pt x="510" y="2045"/>
                      </a:lnTo>
                      <a:lnTo>
                        <a:pt x="482" y="2034"/>
                      </a:lnTo>
                      <a:lnTo>
                        <a:pt x="454" y="2026"/>
                      </a:lnTo>
                      <a:lnTo>
                        <a:pt x="426" y="2019"/>
                      </a:lnTo>
                      <a:lnTo>
                        <a:pt x="399" y="2016"/>
                      </a:lnTo>
                      <a:lnTo>
                        <a:pt x="372" y="2015"/>
                      </a:lnTo>
                      <a:lnTo>
                        <a:pt x="345" y="2016"/>
                      </a:lnTo>
                      <a:lnTo>
                        <a:pt x="319" y="2021"/>
                      </a:lnTo>
                      <a:lnTo>
                        <a:pt x="292" y="2030"/>
                      </a:lnTo>
                      <a:lnTo>
                        <a:pt x="266" y="2042"/>
                      </a:lnTo>
                      <a:lnTo>
                        <a:pt x="242" y="2060"/>
                      </a:lnTo>
                      <a:lnTo>
                        <a:pt x="216" y="2081"/>
                      </a:lnTo>
                      <a:lnTo>
                        <a:pt x="192" y="2108"/>
                      </a:lnTo>
                      <a:lnTo>
                        <a:pt x="166" y="2139"/>
                      </a:lnTo>
                      <a:lnTo>
                        <a:pt x="142" y="2176"/>
                      </a:lnTo>
                      <a:lnTo>
                        <a:pt x="136" y="2179"/>
                      </a:lnTo>
                      <a:lnTo>
                        <a:pt x="127" y="2181"/>
                      </a:lnTo>
                      <a:lnTo>
                        <a:pt x="123" y="2182"/>
                      </a:lnTo>
                      <a:lnTo>
                        <a:pt x="116" y="2181"/>
                      </a:lnTo>
                      <a:lnTo>
                        <a:pt x="113" y="2179"/>
                      </a:lnTo>
                      <a:lnTo>
                        <a:pt x="109" y="2176"/>
                      </a:lnTo>
                      <a:lnTo>
                        <a:pt x="106" y="2173"/>
                      </a:lnTo>
                      <a:lnTo>
                        <a:pt x="101" y="2167"/>
                      </a:lnTo>
                      <a:lnTo>
                        <a:pt x="92" y="2149"/>
                      </a:lnTo>
                      <a:lnTo>
                        <a:pt x="80" y="2132"/>
                      </a:lnTo>
                      <a:lnTo>
                        <a:pt x="77" y="2099"/>
                      </a:lnTo>
                      <a:lnTo>
                        <a:pt x="76" y="2065"/>
                      </a:lnTo>
                      <a:lnTo>
                        <a:pt x="76" y="2033"/>
                      </a:lnTo>
                      <a:lnTo>
                        <a:pt x="76" y="1998"/>
                      </a:lnTo>
                      <a:lnTo>
                        <a:pt x="77" y="1966"/>
                      </a:lnTo>
                      <a:lnTo>
                        <a:pt x="80" y="1934"/>
                      </a:lnTo>
                      <a:lnTo>
                        <a:pt x="84" y="1900"/>
                      </a:lnTo>
                      <a:lnTo>
                        <a:pt x="89" y="1868"/>
                      </a:lnTo>
                      <a:lnTo>
                        <a:pt x="95" y="1837"/>
                      </a:lnTo>
                      <a:lnTo>
                        <a:pt x="101" y="1806"/>
                      </a:lnTo>
                      <a:lnTo>
                        <a:pt x="110" y="1773"/>
                      </a:lnTo>
                      <a:lnTo>
                        <a:pt x="120" y="1742"/>
                      </a:lnTo>
                      <a:lnTo>
                        <a:pt x="129" y="1712"/>
                      </a:lnTo>
                      <a:lnTo>
                        <a:pt x="141" y="1680"/>
                      </a:lnTo>
                      <a:lnTo>
                        <a:pt x="153" y="1650"/>
                      </a:lnTo>
                      <a:lnTo>
                        <a:pt x="166" y="1621"/>
                      </a:lnTo>
                      <a:lnTo>
                        <a:pt x="181" y="1592"/>
                      </a:lnTo>
                      <a:lnTo>
                        <a:pt x="195" y="1564"/>
                      </a:lnTo>
                      <a:lnTo>
                        <a:pt x="212" y="1535"/>
                      </a:lnTo>
                      <a:lnTo>
                        <a:pt x="230" y="1508"/>
                      </a:lnTo>
                      <a:lnTo>
                        <a:pt x="247" y="1481"/>
                      </a:lnTo>
                      <a:lnTo>
                        <a:pt x="266" y="1453"/>
                      </a:lnTo>
                      <a:lnTo>
                        <a:pt x="286" y="1428"/>
                      </a:lnTo>
                      <a:lnTo>
                        <a:pt x="307" y="1402"/>
                      </a:lnTo>
                      <a:lnTo>
                        <a:pt x="330" y="1378"/>
                      </a:lnTo>
                      <a:lnTo>
                        <a:pt x="352" y="1354"/>
                      </a:lnTo>
                      <a:lnTo>
                        <a:pt x="376" y="1329"/>
                      </a:lnTo>
                      <a:lnTo>
                        <a:pt x="401" y="1307"/>
                      </a:lnTo>
                      <a:lnTo>
                        <a:pt x="426" y="1284"/>
                      </a:lnTo>
                      <a:lnTo>
                        <a:pt x="454" y="1263"/>
                      </a:lnTo>
                      <a:lnTo>
                        <a:pt x="481" y="1242"/>
                      </a:lnTo>
                      <a:lnTo>
                        <a:pt x="510" y="1223"/>
                      </a:lnTo>
                      <a:lnTo>
                        <a:pt x="549" y="1204"/>
                      </a:lnTo>
                      <a:lnTo>
                        <a:pt x="587" y="1181"/>
                      </a:lnTo>
                      <a:lnTo>
                        <a:pt x="625" y="1157"/>
                      </a:lnTo>
                      <a:lnTo>
                        <a:pt x="660" y="1130"/>
                      </a:lnTo>
                      <a:lnTo>
                        <a:pt x="692" y="1101"/>
                      </a:lnTo>
                      <a:lnTo>
                        <a:pt x="724" y="1071"/>
                      </a:lnTo>
                      <a:lnTo>
                        <a:pt x="753" y="1039"/>
                      </a:lnTo>
                      <a:lnTo>
                        <a:pt x="781" y="1006"/>
                      </a:lnTo>
                      <a:lnTo>
                        <a:pt x="805" y="970"/>
                      </a:lnTo>
                      <a:lnTo>
                        <a:pt x="827" y="933"/>
                      </a:lnTo>
                      <a:lnTo>
                        <a:pt x="848" y="894"/>
                      </a:lnTo>
                      <a:lnTo>
                        <a:pt x="867" y="856"/>
                      </a:lnTo>
                      <a:lnTo>
                        <a:pt x="880" y="814"/>
                      </a:lnTo>
                      <a:lnTo>
                        <a:pt x="892" y="771"/>
                      </a:lnTo>
                      <a:lnTo>
                        <a:pt x="900" y="729"/>
                      </a:lnTo>
                      <a:lnTo>
                        <a:pt x="906" y="684"/>
                      </a:lnTo>
                      <a:lnTo>
                        <a:pt x="905" y="596"/>
                      </a:lnTo>
                      <a:lnTo>
                        <a:pt x="905" y="505"/>
                      </a:lnTo>
                      <a:lnTo>
                        <a:pt x="905" y="460"/>
                      </a:lnTo>
                      <a:lnTo>
                        <a:pt x="905" y="415"/>
                      </a:lnTo>
                      <a:lnTo>
                        <a:pt x="902" y="370"/>
                      </a:lnTo>
                      <a:lnTo>
                        <a:pt x="898" y="328"/>
                      </a:lnTo>
                      <a:lnTo>
                        <a:pt x="894" y="307"/>
                      </a:lnTo>
                      <a:lnTo>
                        <a:pt x="891" y="286"/>
                      </a:lnTo>
                      <a:lnTo>
                        <a:pt x="886" y="265"/>
                      </a:lnTo>
                      <a:lnTo>
                        <a:pt x="880" y="245"/>
                      </a:lnTo>
                      <a:lnTo>
                        <a:pt x="873" y="227"/>
                      </a:lnTo>
                      <a:lnTo>
                        <a:pt x="867" y="209"/>
                      </a:lnTo>
                      <a:lnTo>
                        <a:pt x="856" y="191"/>
                      </a:lnTo>
                      <a:lnTo>
                        <a:pt x="847" y="173"/>
                      </a:lnTo>
                      <a:lnTo>
                        <a:pt x="836" y="157"/>
                      </a:lnTo>
                      <a:lnTo>
                        <a:pt x="823" y="141"/>
                      </a:lnTo>
                      <a:lnTo>
                        <a:pt x="809" y="127"/>
                      </a:lnTo>
                      <a:lnTo>
                        <a:pt x="794" y="113"/>
                      </a:lnTo>
                      <a:lnTo>
                        <a:pt x="777" y="100"/>
                      </a:lnTo>
                      <a:lnTo>
                        <a:pt x="758" y="88"/>
                      </a:lnTo>
                      <a:lnTo>
                        <a:pt x="739" y="76"/>
                      </a:lnTo>
                      <a:lnTo>
                        <a:pt x="717" y="67"/>
                      </a:lnTo>
                      <a:lnTo>
                        <a:pt x="663" y="68"/>
                      </a:lnTo>
                      <a:lnTo>
                        <a:pt x="610" y="71"/>
                      </a:lnTo>
                      <a:lnTo>
                        <a:pt x="584" y="76"/>
                      </a:lnTo>
                      <a:lnTo>
                        <a:pt x="558" y="81"/>
                      </a:lnTo>
                      <a:lnTo>
                        <a:pt x="532" y="88"/>
                      </a:lnTo>
                      <a:lnTo>
                        <a:pt x="508" y="94"/>
                      </a:lnTo>
                      <a:lnTo>
                        <a:pt x="486" y="104"/>
                      </a:lnTo>
                      <a:lnTo>
                        <a:pt x="463" y="115"/>
                      </a:lnTo>
                      <a:lnTo>
                        <a:pt x="442" y="128"/>
                      </a:lnTo>
                      <a:lnTo>
                        <a:pt x="423" y="142"/>
                      </a:lnTo>
                      <a:lnTo>
                        <a:pt x="405" y="160"/>
                      </a:lnTo>
                      <a:lnTo>
                        <a:pt x="389" y="180"/>
                      </a:lnTo>
                      <a:lnTo>
                        <a:pt x="376" y="201"/>
                      </a:lnTo>
                      <a:lnTo>
                        <a:pt x="363" y="225"/>
                      </a:lnTo>
                      <a:lnTo>
                        <a:pt x="354" y="249"/>
                      </a:lnTo>
                      <a:lnTo>
                        <a:pt x="345" y="272"/>
                      </a:lnTo>
                      <a:lnTo>
                        <a:pt x="340" y="298"/>
                      </a:lnTo>
                      <a:lnTo>
                        <a:pt x="336" y="322"/>
                      </a:lnTo>
                      <a:lnTo>
                        <a:pt x="334" y="348"/>
                      </a:lnTo>
                      <a:lnTo>
                        <a:pt x="333" y="373"/>
                      </a:lnTo>
                      <a:lnTo>
                        <a:pt x="334" y="399"/>
                      </a:lnTo>
                      <a:lnTo>
                        <a:pt x="337" y="426"/>
                      </a:lnTo>
                      <a:lnTo>
                        <a:pt x="340" y="452"/>
                      </a:lnTo>
                      <a:lnTo>
                        <a:pt x="345" y="478"/>
                      </a:lnTo>
                      <a:lnTo>
                        <a:pt x="352" y="504"/>
                      </a:lnTo>
                      <a:lnTo>
                        <a:pt x="360" y="529"/>
                      </a:lnTo>
                      <a:lnTo>
                        <a:pt x="368" y="554"/>
                      </a:lnTo>
                      <a:lnTo>
                        <a:pt x="378" y="578"/>
                      </a:lnTo>
                      <a:lnTo>
                        <a:pt x="387" y="600"/>
                      </a:lnTo>
                      <a:lnTo>
                        <a:pt x="399" y="623"/>
                      </a:lnTo>
                      <a:lnTo>
                        <a:pt x="572" y="715"/>
                      </a:lnTo>
                      <a:lnTo>
                        <a:pt x="558" y="735"/>
                      </a:lnTo>
                      <a:lnTo>
                        <a:pt x="544" y="752"/>
                      </a:lnTo>
                      <a:lnTo>
                        <a:pt x="529" y="767"/>
                      </a:lnTo>
                      <a:lnTo>
                        <a:pt x="511" y="781"/>
                      </a:lnTo>
                      <a:lnTo>
                        <a:pt x="493" y="792"/>
                      </a:lnTo>
                      <a:lnTo>
                        <a:pt x="475" y="803"/>
                      </a:lnTo>
                      <a:lnTo>
                        <a:pt x="454" y="812"/>
                      </a:lnTo>
                      <a:lnTo>
                        <a:pt x="433" y="818"/>
                      </a:lnTo>
                      <a:lnTo>
                        <a:pt x="410" y="823"/>
                      </a:lnTo>
                      <a:lnTo>
                        <a:pt x="387" y="827"/>
                      </a:lnTo>
                      <a:lnTo>
                        <a:pt x="365" y="829"/>
                      </a:lnTo>
                      <a:lnTo>
                        <a:pt x="342" y="829"/>
                      </a:lnTo>
                      <a:lnTo>
                        <a:pt x="319" y="827"/>
                      </a:lnTo>
                      <a:lnTo>
                        <a:pt x="297" y="824"/>
                      </a:lnTo>
                      <a:lnTo>
                        <a:pt x="274" y="820"/>
                      </a:lnTo>
                      <a:lnTo>
                        <a:pt x="254" y="812"/>
                      </a:lnTo>
                      <a:lnTo>
                        <a:pt x="218" y="796"/>
                      </a:lnTo>
                      <a:lnTo>
                        <a:pt x="183" y="778"/>
                      </a:lnTo>
                      <a:lnTo>
                        <a:pt x="147" y="756"/>
                      </a:lnTo>
                      <a:lnTo>
                        <a:pt x="115" y="732"/>
                      </a:lnTo>
                      <a:lnTo>
                        <a:pt x="98" y="718"/>
                      </a:lnTo>
                      <a:lnTo>
                        <a:pt x="83" y="705"/>
                      </a:lnTo>
                      <a:lnTo>
                        <a:pt x="70" y="691"/>
                      </a:lnTo>
                      <a:lnTo>
                        <a:pt x="55" y="675"/>
                      </a:lnTo>
                      <a:lnTo>
                        <a:pt x="44" y="658"/>
                      </a:lnTo>
                      <a:lnTo>
                        <a:pt x="33" y="641"/>
                      </a:lnTo>
                      <a:lnTo>
                        <a:pt x="23" y="623"/>
                      </a:lnTo>
                      <a:lnTo>
                        <a:pt x="15" y="605"/>
                      </a:lnTo>
                      <a:lnTo>
                        <a:pt x="10" y="575"/>
                      </a:lnTo>
                      <a:lnTo>
                        <a:pt x="6" y="544"/>
                      </a:lnTo>
                      <a:lnTo>
                        <a:pt x="3" y="513"/>
                      </a:lnTo>
                      <a:lnTo>
                        <a:pt x="0" y="481"/>
                      </a:lnTo>
                      <a:lnTo>
                        <a:pt x="0" y="451"/>
                      </a:lnTo>
                      <a:lnTo>
                        <a:pt x="0" y="420"/>
                      </a:lnTo>
                      <a:lnTo>
                        <a:pt x="2" y="387"/>
                      </a:lnTo>
                      <a:lnTo>
                        <a:pt x="5" y="357"/>
                      </a:lnTo>
                      <a:lnTo>
                        <a:pt x="10" y="328"/>
                      </a:lnTo>
                      <a:lnTo>
                        <a:pt x="18" y="298"/>
                      </a:lnTo>
                      <a:lnTo>
                        <a:pt x="27" y="269"/>
                      </a:lnTo>
                      <a:lnTo>
                        <a:pt x="39" y="242"/>
                      </a:lnTo>
                      <a:lnTo>
                        <a:pt x="53" y="215"/>
                      </a:lnTo>
                      <a:lnTo>
                        <a:pt x="70" y="191"/>
                      </a:lnTo>
                      <a:lnTo>
                        <a:pt x="79" y="180"/>
                      </a:lnTo>
                      <a:lnTo>
                        <a:pt x="89" y="168"/>
                      </a:lnTo>
                      <a:lnTo>
                        <a:pt x="100" y="157"/>
                      </a:lnTo>
                      <a:lnTo>
                        <a:pt x="112" y="145"/>
                      </a:lnTo>
                      <a:lnTo>
                        <a:pt x="131" y="131"/>
                      </a:lnTo>
                      <a:lnTo>
                        <a:pt x="150" y="118"/>
                      </a:lnTo>
                      <a:lnTo>
                        <a:pt x="169" y="106"/>
                      </a:lnTo>
                      <a:lnTo>
                        <a:pt x="189" y="92"/>
                      </a:lnTo>
                      <a:lnTo>
                        <a:pt x="210" y="81"/>
                      </a:lnTo>
                      <a:lnTo>
                        <a:pt x="231" y="71"/>
                      </a:lnTo>
                      <a:lnTo>
                        <a:pt x="252" y="62"/>
                      </a:lnTo>
                      <a:lnTo>
                        <a:pt x="272" y="53"/>
                      </a:lnTo>
                      <a:lnTo>
                        <a:pt x="318" y="38"/>
                      </a:lnTo>
                      <a:lnTo>
                        <a:pt x="363" y="24"/>
                      </a:lnTo>
                      <a:lnTo>
                        <a:pt x="410" y="15"/>
                      </a:lnTo>
                      <a:lnTo>
                        <a:pt x="458" y="7"/>
                      </a:lnTo>
                      <a:lnTo>
                        <a:pt x="507" y="2"/>
                      </a:lnTo>
                      <a:lnTo>
                        <a:pt x="555" y="0"/>
                      </a:lnTo>
                      <a:lnTo>
                        <a:pt x="603" y="0"/>
                      </a:lnTo>
                      <a:lnTo>
                        <a:pt x="652" y="2"/>
                      </a:lnTo>
                      <a:lnTo>
                        <a:pt x="700" y="7"/>
                      </a:lnTo>
                      <a:lnTo>
                        <a:pt x="747" y="14"/>
                      </a:lnTo>
                      <a:lnTo>
                        <a:pt x="794" y="21"/>
                      </a:lnTo>
                      <a:lnTo>
                        <a:pt x="841" y="32"/>
                      </a:lnTo>
                      <a:lnTo>
                        <a:pt x="870" y="41"/>
                      </a:lnTo>
                      <a:lnTo>
                        <a:pt x="900" y="50"/>
                      </a:lnTo>
                      <a:lnTo>
                        <a:pt x="929" y="62"/>
                      </a:lnTo>
                      <a:lnTo>
                        <a:pt x="960" y="74"/>
                      </a:lnTo>
                      <a:lnTo>
                        <a:pt x="989" y="89"/>
                      </a:lnTo>
                      <a:lnTo>
                        <a:pt x="1016" y="104"/>
                      </a:lnTo>
                      <a:lnTo>
                        <a:pt x="1045" y="120"/>
                      </a:lnTo>
                      <a:lnTo>
                        <a:pt x="1072" y="138"/>
                      </a:lnTo>
                      <a:lnTo>
                        <a:pt x="1100" y="157"/>
                      </a:lnTo>
                      <a:lnTo>
                        <a:pt x="1125" y="177"/>
                      </a:lnTo>
                      <a:lnTo>
                        <a:pt x="1150" y="197"/>
                      </a:lnTo>
                      <a:lnTo>
                        <a:pt x="1174" y="219"/>
                      </a:lnTo>
                      <a:lnTo>
                        <a:pt x="1197" y="242"/>
                      </a:lnTo>
                      <a:lnTo>
                        <a:pt x="1218" y="266"/>
                      </a:lnTo>
                      <a:lnTo>
                        <a:pt x="1237" y="292"/>
                      </a:lnTo>
                      <a:lnTo>
                        <a:pt x="1255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27"/>
                <p:cNvSpPr/>
                <p:nvPr/>
              </p:nvSpPr>
              <p:spPr>
                <a:xfrm>
                  <a:off x="6673320" y="1996560"/>
                  <a:ext cx="42840" cy="135000"/>
                </a:xfrm>
                <a:custGeom>
                  <a:avLst/>
                  <a:gdLst/>
                  <a:ahLst/>
                  <a:rect l="l" t="t" r="r" b="b"/>
                  <a:pathLst>
                    <a:path w="667" h="2099">
                      <a:moveTo>
                        <a:pt x="490" y="48"/>
                      </a:moveTo>
                      <a:lnTo>
                        <a:pt x="508" y="1875"/>
                      </a:lnTo>
                      <a:lnTo>
                        <a:pt x="517" y="1888"/>
                      </a:lnTo>
                      <a:lnTo>
                        <a:pt x="525" y="1901"/>
                      </a:lnTo>
                      <a:lnTo>
                        <a:pt x="534" y="1915"/>
                      </a:lnTo>
                      <a:lnTo>
                        <a:pt x="542" y="1930"/>
                      </a:lnTo>
                      <a:lnTo>
                        <a:pt x="555" y="1959"/>
                      </a:lnTo>
                      <a:lnTo>
                        <a:pt x="569" y="1989"/>
                      </a:lnTo>
                      <a:lnTo>
                        <a:pt x="578" y="2003"/>
                      </a:lnTo>
                      <a:lnTo>
                        <a:pt x="587" y="2015"/>
                      </a:lnTo>
                      <a:lnTo>
                        <a:pt x="596" y="2028"/>
                      </a:lnTo>
                      <a:lnTo>
                        <a:pt x="606" y="2039"/>
                      </a:lnTo>
                      <a:lnTo>
                        <a:pt x="619" y="2049"/>
                      </a:lnTo>
                      <a:lnTo>
                        <a:pt x="634" y="2056"/>
                      </a:lnTo>
                      <a:lnTo>
                        <a:pt x="650" y="2062"/>
                      </a:lnTo>
                      <a:lnTo>
                        <a:pt x="667" y="2065"/>
                      </a:lnTo>
                      <a:lnTo>
                        <a:pt x="631" y="2075"/>
                      </a:lnTo>
                      <a:lnTo>
                        <a:pt x="593" y="2083"/>
                      </a:lnTo>
                      <a:lnTo>
                        <a:pt x="555" y="2089"/>
                      </a:lnTo>
                      <a:lnTo>
                        <a:pt x="516" y="2093"/>
                      </a:lnTo>
                      <a:lnTo>
                        <a:pt x="475" y="2096"/>
                      </a:lnTo>
                      <a:lnTo>
                        <a:pt x="437" y="2098"/>
                      </a:lnTo>
                      <a:lnTo>
                        <a:pt x="396" y="2099"/>
                      </a:lnTo>
                      <a:lnTo>
                        <a:pt x="356" y="2099"/>
                      </a:lnTo>
                      <a:lnTo>
                        <a:pt x="274" y="2098"/>
                      </a:lnTo>
                      <a:lnTo>
                        <a:pt x="194" y="2096"/>
                      </a:lnTo>
                      <a:lnTo>
                        <a:pt x="111" y="2095"/>
                      </a:lnTo>
                      <a:lnTo>
                        <a:pt x="32" y="2096"/>
                      </a:lnTo>
                      <a:lnTo>
                        <a:pt x="30" y="2084"/>
                      </a:lnTo>
                      <a:lnTo>
                        <a:pt x="32" y="2075"/>
                      </a:lnTo>
                      <a:lnTo>
                        <a:pt x="35" y="2065"/>
                      </a:lnTo>
                      <a:lnTo>
                        <a:pt x="42" y="2056"/>
                      </a:lnTo>
                      <a:lnTo>
                        <a:pt x="48" y="2049"/>
                      </a:lnTo>
                      <a:lnTo>
                        <a:pt x="56" y="2042"/>
                      </a:lnTo>
                      <a:lnTo>
                        <a:pt x="65" y="2034"/>
                      </a:lnTo>
                      <a:lnTo>
                        <a:pt x="77" y="2028"/>
                      </a:lnTo>
                      <a:lnTo>
                        <a:pt x="98" y="2013"/>
                      </a:lnTo>
                      <a:lnTo>
                        <a:pt x="118" y="1998"/>
                      </a:lnTo>
                      <a:lnTo>
                        <a:pt x="126" y="1989"/>
                      </a:lnTo>
                      <a:lnTo>
                        <a:pt x="132" y="1978"/>
                      </a:lnTo>
                      <a:lnTo>
                        <a:pt x="138" y="1967"/>
                      </a:lnTo>
                      <a:lnTo>
                        <a:pt x="142" y="1956"/>
                      </a:lnTo>
                      <a:lnTo>
                        <a:pt x="124" y="189"/>
                      </a:lnTo>
                      <a:lnTo>
                        <a:pt x="119" y="177"/>
                      </a:lnTo>
                      <a:lnTo>
                        <a:pt x="115" y="164"/>
                      </a:lnTo>
                      <a:lnTo>
                        <a:pt x="106" y="154"/>
                      </a:lnTo>
                      <a:lnTo>
                        <a:pt x="97" y="145"/>
                      </a:lnTo>
                      <a:lnTo>
                        <a:pt x="77" y="129"/>
                      </a:lnTo>
                      <a:lnTo>
                        <a:pt x="56" y="114"/>
                      </a:lnTo>
                      <a:lnTo>
                        <a:pt x="45" y="106"/>
                      </a:lnTo>
                      <a:lnTo>
                        <a:pt x="35" y="98"/>
                      </a:lnTo>
                      <a:lnTo>
                        <a:pt x="26" y="90"/>
                      </a:lnTo>
                      <a:lnTo>
                        <a:pt x="18" y="80"/>
                      </a:lnTo>
                      <a:lnTo>
                        <a:pt x="11" y="71"/>
                      </a:lnTo>
                      <a:lnTo>
                        <a:pt x="5" y="59"/>
                      </a:lnTo>
                      <a:lnTo>
                        <a:pt x="2" y="44"/>
                      </a:lnTo>
                      <a:lnTo>
                        <a:pt x="0" y="30"/>
                      </a:lnTo>
                      <a:lnTo>
                        <a:pt x="27" y="26"/>
                      </a:lnTo>
                      <a:lnTo>
                        <a:pt x="55" y="20"/>
                      </a:lnTo>
                      <a:lnTo>
                        <a:pt x="82" y="17"/>
                      </a:lnTo>
                      <a:lnTo>
                        <a:pt x="111" y="15"/>
                      </a:lnTo>
                      <a:lnTo>
                        <a:pt x="169" y="14"/>
                      </a:lnTo>
                      <a:lnTo>
                        <a:pt x="229" y="15"/>
                      </a:lnTo>
                      <a:lnTo>
                        <a:pt x="287" y="15"/>
                      </a:lnTo>
                      <a:lnTo>
                        <a:pt x="346" y="14"/>
                      </a:lnTo>
                      <a:lnTo>
                        <a:pt x="375" y="12"/>
                      </a:lnTo>
                      <a:lnTo>
                        <a:pt x="403" y="9"/>
                      </a:lnTo>
                      <a:lnTo>
                        <a:pt x="432" y="6"/>
                      </a:lnTo>
                      <a:lnTo>
                        <a:pt x="460" y="0"/>
                      </a:lnTo>
                      <a:lnTo>
                        <a:pt x="49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28"/>
                <p:cNvSpPr/>
                <p:nvPr/>
              </p:nvSpPr>
              <p:spPr>
                <a:xfrm>
                  <a:off x="6921720" y="2051640"/>
                  <a:ext cx="45000" cy="131040"/>
                </a:xfrm>
                <a:custGeom>
                  <a:avLst/>
                  <a:gdLst/>
                  <a:ahLst/>
                  <a:rect l="l" t="t" r="r" b="b"/>
                  <a:pathLst>
                    <a:path w="697" h="2032">
                      <a:moveTo>
                        <a:pt x="564" y="9"/>
                      </a:moveTo>
                      <a:lnTo>
                        <a:pt x="554" y="1842"/>
                      </a:lnTo>
                      <a:lnTo>
                        <a:pt x="560" y="1858"/>
                      </a:lnTo>
                      <a:lnTo>
                        <a:pt x="568" y="1871"/>
                      </a:lnTo>
                      <a:lnTo>
                        <a:pt x="576" y="1883"/>
                      </a:lnTo>
                      <a:lnTo>
                        <a:pt x="587" y="1897"/>
                      </a:lnTo>
                      <a:lnTo>
                        <a:pt x="610" y="1918"/>
                      </a:lnTo>
                      <a:lnTo>
                        <a:pt x="636" y="1939"/>
                      </a:lnTo>
                      <a:lnTo>
                        <a:pt x="647" y="1948"/>
                      </a:lnTo>
                      <a:lnTo>
                        <a:pt x="658" y="1959"/>
                      </a:lnTo>
                      <a:lnTo>
                        <a:pt x="669" y="1969"/>
                      </a:lnTo>
                      <a:lnTo>
                        <a:pt x="678" y="1980"/>
                      </a:lnTo>
                      <a:lnTo>
                        <a:pt x="685" y="1992"/>
                      </a:lnTo>
                      <a:lnTo>
                        <a:pt x="692" y="2004"/>
                      </a:lnTo>
                      <a:lnTo>
                        <a:pt x="696" y="2018"/>
                      </a:lnTo>
                      <a:lnTo>
                        <a:pt x="697" y="2032"/>
                      </a:lnTo>
                      <a:lnTo>
                        <a:pt x="0" y="2032"/>
                      </a:lnTo>
                      <a:lnTo>
                        <a:pt x="171" y="1859"/>
                      </a:lnTo>
                      <a:lnTo>
                        <a:pt x="158" y="192"/>
                      </a:lnTo>
                      <a:lnTo>
                        <a:pt x="31" y="15"/>
                      </a:lnTo>
                      <a:lnTo>
                        <a:pt x="106" y="13"/>
                      </a:lnTo>
                      <a:lnTo>
                        <a:pt x="180" y="9"/>
                      </a:lnTo>
                      <a:lnTo>
                        <a:pt x="253" y="5"/>
                      </a:lnTo>
                      <a:lnTo>
                        <a:pt x="324" y="3"/>
                      </a:lnTo>
                      <a:lnTo>
                        <a:pt x="390" y="0"/>
                      </a:lnTo>
                      <a:lnTo>
                        <a:pt x="454" y="2"/>
                      </a:lnTo>
                      <a:lnTo>
                        <a:pt x="484" y="2"/>
                      </a:lnTo>
                      <a:lnTo>
                        <a:pt x="511" y="3"/>
                      </a:lnTo>
                      <a:lnTo>
                        <a:pt x="539" y="6"/>
                      </a:lnTo>
                      <a:lnTo>
                        <a:pt x="564" y="9"/>
                      </a:lnTo>
                      <a:close/>
                    </a:path>
                  </a:pathLst>
                </a:custGeom>
                <a:solidFill>
                  <a:srgbClr val="eb8a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29"/>
                <p:cNvSpPr/>
                <p:nvPr/>
              </p:nvSpPr>
              <p:spPr>
                <a:xfrm>
                  <a:off x="6504480" y="2055600"/>
                  <a:ext cx="40680" cy="131040"/>
                </a:xfrm>
                <a:custGeom>
                  <a:avLst/>
                  <a:gdLst/>
                  <a:ahLst/>
                  <a:rect l="l" t="t" r="r" b="b"/>
                  <a:pathLst>
                    <a:path w="633" h="2036">
                      <a:moveTo>
                        <a:pt x="487" y="1878"/>
                      </a:moveTo>
                      <a:lnTo>
                        <a:pt x="633" y="2018"/>
                      </a:lnTo>
                      <a:lnTo>
                        <a:pt x="11" y="2036"/>
                      </a:lnTo>
                      <a:lnTo>
                        <a:pt x="139" y="1829"/>
                      </a:lnTo>
                      <a:lnTo>
                        <a:pt x="137" y="1723"/>
                      </a:lnTo>
                      <a:lnTo>
                        <a:pt x="135" y="1617"/>
                      </a:lnTo>
                      <a:lnTo>
                        <a:pt x="137" y="1511"/>
                      </a:lnTo>
                      <a:lnTo>
                        <a:pt x="137" y="1402"/>
                      </a:lnTo>
                      <a:lnTo>
                        <a:pt x="139" y="1293"/>
                      </a:lnTo>
                      <a:lnTo>
                        <a:pt x="140" y="1185"/>
                      </a:lnTo>
                      <a:lnTo>
                        <a:pt x="140" y="1075"/>
                      </a:lnTo>
                      <a:lnTo>
                        <a:pt x="140" y="965"/>
                      </a:lnTo>
                      <a:lnTo>
                        <a:pt x="140" y="856"/>
                      </a:lnTo>
                      <a:lnTo>
                        <a:pt x="139" y="747"/>
                      </a:lnTo>
                      <a:lnTo>
                        <a:pt x="135" y="638"/>
                      </a:lnTo>
                      <a:lnTo>
                        <a:pt x="130" y="531"/>
                      </a:lnTo>
                      <a:lnTo>
                        <a:pt x="124" y="424"/>
                      </a:lnTo>
                      <a:lnTo>
                        <a:pt x="116" y="319"/>
                      </a:lnTo>
                      <a:lnTo>
                        <a:pt x="104" y="214"/>
                      </a:lnTo>
                      <a:lnTo>
                        <a:pt x="90" y="112"/>
                      </a:lnTo>
                      <a:lnTo>
                        <a:pt x="86" y="103"/>
                      </a:lnTo>
                      <a:lnTo>
                        <a:pt x="80" y="94"/>
                      </a:lnTo>
                      <a:lnTo>
                        <a:pt x="72" y="86"/>
                      </a:lnTo>
                      <a:lnTo>
                        <a:pt x="64" y="80"/>
                      </a:lnTo>
                      <a:lnTo>
                        <a:pt x="45" y="70"/>
                      </a:lnTo>
                      <a:lnTo>
                        <a:pt x="27" y="59"/>
                      </a:lnTo>
                      <a:lnTo>
                        <a:pt x="19" y="54"/>
                      </a:lnTo>
                      <a:lnTo>
                        <a:pt x="11" y="50"/>
                      </a:lnTo>
                      <a:lnTo>
                        <a:pt x="6" y="43"/>
                      </a:lnTo>
                      <a:lnTo>
                        <a:pt x="1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4" y="12"/>
                      </a:lnTo>
                      <a:lnTo>
                        <a:pt x="11" y="0"/>
                      </a:lnTo>
                      <a:lnTo>
                        <a:pt x="474" y="18"/>
                      </a:lnTo>
                      <a:lnTo>
                        <a:pt x="487" y="1878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30"/>
                <p:cNvSpPr/>
                <p:nvPr/>
              </p:nvSpPr>
              <p:spPr>
                <a:xfrm>
                  <a:off x="6557400" y="2055600"/>
                  <a:ext cx="36360" cy="130320"/>
                </a:xfrm>
                <a:custGeom>
                  <a:avLst/>
                  <a:gdLst/>
                  <a:ahLst/>
                  <a:rect l="l" t="t" r="r" b="b"/>
                  <a:pathLst>
                    <a:path w="569" h="2020">
                      <a:moveTo>
                        <a:pt x="447" y="1846"/>
                      </a:moveTo>
                      <a:lnTo>
                        <a:pt x="451" y="1857"/>
                      </a:lnTo>
                      <a:lnTo>
                        <a:pt x="457" y="1867"/>
                      </a:lnTo>
                      <a:lnTo>
                        <a:pt x="465" y="1877"/>
                      </a:lnTo>
                      <a:lnTo>
                        <a:pt x="471" y="1886"/>
                      </a:lnTo>
                      <a:lnTo>
                        <a:pt x="489" y="1906"/>
                      </a:lnTo>
                      <a:lnTo>
                        <a:pt x="507" y="1925"/>
                      </a:lnTo>
                      <a:lnTo>
                        <a:pt x="526" y="1942"/>
                      </a:lnTo>
                      <a:lnTo>
                        <a:pt x="542" y="1962"/>
                      </a:lnTo>
                      <a:lnTo>
                        <a:pt x="551" y="1974"/>
                      </a:lnTo>
                      <a:lnTo>
                        <a:pt x="558" y="1983"/>
                      </a:lnTo>
                      <a:lnTo>
                        <a:pt x="565" y="1994"/>
                      </a:lnTo>
                      <a:lnTo>
                        <a:pt x="569" y="2006"/>
                      </a:lnTo>
                      <a:lnTo>
                        <a:pt x="536" y="2010"/>
                      </a:lnTo>
                      <a:lnTo>
                        <a:pt x="500" y="2013"/>
                      </a:lnTo>
                      <a:lnTo>
                        <a:pt x="465" y="2016"/>
                      </a:lnTo>
                      <a:lnTo>
                        <a:pt x="430" y="2018"/>
                      </a:lnTo>
                      <a:lnTo>
                        <a:pt x="354" y="2020"/>
                      </a:lnTo>
                      <a:lnTo>
                        <a:pt x="280" y="2020"/>
                      </a:lnTo>
                      <a:lnTo>
                        <a:pt x="206" y="2020"/>
                      </a:lnTo>
                      <a:lnTo>
                        <a:pt x="135" y="2018"/>
                      </a:lnTo>
                      <a:lnTo>
                        <a:pt x="67" y="2018"/>
                      </a:lnTo>
                      <a:lnTo>
                        <a:pt x="0" y="2018"/>
                      </a:lnTo>
                      <a:lnTo>
                        <a:pt x="111" y="1829"/>
                      </a:lnTo>
                      <a:lnTo>
                        <a:pt x="111" y="209"/>
                      </a:lnTo>
                      <a:lnTo>
                        <a:pt x="108" y="191"/>
                      </a:lnTo>
                      <a:lnTo>
                        <a:pt x="105" y="177"/>
                      </a:lnTo>
                      <a:lnTo>
                        <a:pt x="99" y="161"/>
                      </a:lnTo>
                      <a:lnTo>
                        <a:pt x="91" y="146"/>
                      </a:lnTo>
                      <a:lnTo>
                        <a:pt x="71" y="120"/>
                      </a:lnTo>
                      <a:lnTo>
                        <a:pt x="50" y="94"/>
                      </a:lnTo>
                      <a:lnTo>
                        <a:pt x="31" y="72"/>
                      </a:lnTo>
                      <a:lnTo>
                        <a:pt x="13" y="50"/>
                      </a:lnTo>
                      <a:lnTo>
                        <a:pt x="6" y="36"/>
                      </a:lnTo>
                      <a:lnTo>
                        <a:pt x="3" y="26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447" y="18"/>
                      </a:lnTo>
                      <a:lnTo>
                        <a:pt x="447" y="1846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31"/>
                <p:cNvSpPr/>
                <p:nvPr/>
              </p:nvSpPr>
              <p:spPr>
                <a:xfrm>
                  <a:off x="7020000" y="2182680"/>
                  <a:ext cx="97200" cy="139320"/>
                </a:xfrm>
                <a:custGeom>
                  <a:avLst/>
                  <a:gdLst/>
                  <a:ahLst/>
                  <a:rect l="l" t="t" r="r" b="b"/>
                  <a:pathLst>
                    <a:path w="1502" h="2160">
                      <a:moveTo>
                        <a:pt x="1375" y="434"/>
                      </a:moveTo>
                      <a:lnTo>
                        <a:pt x="1381" y="499"/>
                      </a:lnTo>
                      <a:lnTo>
                        <a:pt x="1387" y="567"/>
                      </a:lnTo>
                      <a:lnTo>
                        <a:pt x="1391" y="600"/>
                      </a:lnTo>
                      <a:lnTo>
                        <a:pt x="1391" y="634"/>
                      </a:lnTo>
                      <a:lnTo>
                        <a:pt x="1391" y="668"/>
                      </a:lnTo>
                      <a:lnTo>
                        <a:pt x="1389" y="702"/>
                      </a:lnTo>
                      <a:lnTo>
                        <a:pt x="1386" y="736"/>
                      </a:lnTo>
                      <a:lnTo>
                        <a:pt x="1380" y="768"/>
                      </a:lnTo>
                      <a:lnTo>
                        <a:pt x="1372" y="800"/>
                      </a:lnTo>
                      <a:lnTo>
                        <a:pt x="1362" y="830"/>
                      </a:lnTo>
                      <a:lnTo>
                        <a:pt x="1349" y="860"/>
                      </a:lnTo>
                      <a:lnTo>
                        <a:pt x="1334" y="889"/>
                      </a:lnTo>
                      <a:lnTo>
                        <a:pt x="1327" y="903"/>
                      </a:lnTo>
                      <a:lnTo>
                        <a:pt x="1316" y="916"/>
                      </a:lnTo>
                      <a:lnTo>
                        <a:pt x="1305" y="930"/>
                      </a:lnTo>
                      <a:lnTo>
                        <a:pt x="1295" y="942"/>
                      </a:lnTo>
                      <a:lnTo>
                        <a:pt x="1263" y="974"/>
                      </a:lnTo>
                      <a:lnTo>
                        <a:pt x="1231" y="1004"/>
                      </a:lnTo>
                      <a:lnTo>
                        <a:pt x="1198" y="1031"/>
                      </a:lnTo>
                      <a:lnTo>
                        <a:pt x="1162" y="1057"/>
                      </a:lnTo>
                      <a:lnTo>
                        <a:pt x="1125" y="1080"/>
                      </a:lnTo>
                      <a:lnTo>
                        <a:pt x="1088" y="1102"/>
                      </a:lnTo>
                      <a:lnTo>
                        <a:pt x="1051" y="1122"/>
                      </a:lnTo>
                      <a:lnTo>
                        <a:pt x="1010" y="1142"/>
                      </a:lnTo>
                      <a:lnTo>
                        <a:pt x="932" y="1178"/>
                      </a:lnTo>
                      <a:lnTo>
                        <a:pt x="850" y="1210"/>
                      </a:lnTo>
                      <a:lnTo>
                        <a:pt x="770" y="1240"/>
                      </a:lnTo>
                      <a:lnTo>
                        <a:pt x="690" y="1273"/>
                      </a:lnTo>
                      <a:lnTo>
                        <a:pt x="649" y="1289"/>
                      </a:lnTo>
                      <a:lnTo>
                        <a:pt x="610" y="1305"/>
                      </a:lnTo>
                      <a:lnTo>
                        <a:pt x="572" y="1323"/>
                      </a:lnTo>
                      <a:lnTo>
                        <a:pt x="534" y="1340"/>
                      </a:lnTo>
                      <a:lnTo>
                        <a:pt x="498" y="1360"/>
                      </a:lnTo>
                      <a:lnTo>
                        <a:pt x="462" y="1381"/>
                      </a:lnTo>
                      <a:lnTo>
                        <a:pt x="428" y="1403"/>
                      </a:lnTo>
                      <a:lnTo>
                        <a:pt x="395" y="1428"/>
                      </a:lnTo>
                      <a:lnTo>
                        <a:pt x="363" y="1453"/>
                      </a:lnTo>
                      <a:lnTo>
                        <a:pt x="333" y="1481"/>
                      </a:lnTo>
                      <a:lnTo>
                        <a:pt x="306" y="1511"/>
                      </a:lnTo>
                      <a:lnTo>
                        <a:pt x="278" y="1544"/>
                      </a:lnTo>
                      <a:lnTo>
                        <a:pt x="254" y="1579"/>
                      </a:lnTo>
                      <a:lnTo>
                        <a:pt x="233" y="1617"/>
                      </a:lnTo>
                      <a:lnTo>
                        <a:pt x="212" y="1658"/>
                      </a:lnTo>
                      <a:lnTo>
                        <a:pt x="196" y="1701"/>
                      </a:lnTo>
                      <a:lnTo>
                        <a:pt x="206" y="1701"/>
                      </a:lnTo>
                      <a:lnTo>
                        <a:pt x="215" y="1701"/>
                      </a:lnTo>
                      <a:lnTo>
                        <a:pt x="225" y="1701"/>
                      </a:lnTo>
                      <a:lnTo>
                        <a:pt x="233" y="1700"/>
                      </a:lnTo>
                      <a:lnTo>
                        <a:pt x="253" y="1694"/>
                      </a:lnTo>
                      <a:lnTo>
                        <a:pt x="270" y="1686"/>
                      </a:lnTo>
                      <a:lnTo>
                        <a:pt x="288" y="1676"/>
                      </a:lnTo>
                      <a:lnTo>
                        <a:pt x="306" y="1663"/>
                      </a:lnTo>
                      <a:lnTo>
                        <a:pt x="322" y="1650"/>
                      </a:lnTo>
                      <a:lnTo>
                        <a:pt x="339" y="1636"/>
                      </a:lnTo>
                      <a:lnTo>
                        <a:pt x="374" y="1606"/>
                      </a:lnTo>
                      <a:lnTo>
                        <a:pt x="407" y="1580"/>
                      </a:lnTo>
                      <a:lnTo>
                        <a:pt x="425" y="1570"/>
                      </a:lnTo>
                      <a:lnTo>
                        <a:pt x="445" y="1559"/>
                      </a:lnTo>
                      <a:lnTo>
                        <a:pt x="462" y="1552"/>
                      </a:lnTo>
                      <a:lnTo>
                        <a:pt x="483" y="1547"/>
                      </a:lnTo>
                      <a:lnTo>
                        <a:pt x="507" y="1541"/>
                      </a:lnTo>
                      <a:lnTo>
                        <a:pt x="533" y="1535"/>
                      </a:lnTo>
                      <a:lnTo>
                        <a:pt x="557" y="1532"/>
                      </a:lnTo>
                      <a:lnTo>
                        <a:pt x="581" y="1531"/>
                      </a:lnTo>
                      <a:lnTo>
                        <a:pt x="605" y="1529"/>
                      </a:lnTo>
                      <a:lnTo>
                        <a:pt x="628" y="1529"/>
                      </a:lnTo>
                      <a:lnTo>
                        <a:pt x="652" y="1531"/>
                      </a:lnTo>
                      <a:lnTo>
                        <a:pt x="675" y="1534"/>
                      </a:lnTo>
                      <a:lnTo>
                        <a:pt x="697" y="1537"/>
                      </a:lnTo>
                      <a:lnTo>
                        <a:pt x="720" y="1541"/>
                      </a:lnTo>
                      <a:lnTo>
                        <a:pt x="743" y="1545"/>
                      </a:lnTo>
                      <a:lnTo>
                        <a:pt x="765" y="1552"/>
                      </a:lnTo>
                      <a:lnTo>
                        <a:pt x="809" y="1567"/>
                      </a:lnTo>
                      <a:lnTo>
                        <a:pt x="850" y="1582"/>
                      </a:lnTo>
                      <a:lnTo>
                        <a:pt x="893" y="1602"/>
                      </a:lnTo>
                      <a:lnTo>
                        <a:pt x="935" y="1624"/>
                      </a:lnTo>
                      <a:lnTo>
                        <a:pt x="974" y="1648"/>
                      </a:lnTo>
                      <a:lnTo>
                        <a:pt x="1014" y="1673"/>
                      </a:lnTo>
                      <a:lnTo>
                        <a:pt x="1091" y="1726"/>
                      </a:lnTo>
                      <a:lnTo>
                        <a:pt x="1167" y="1780"/>
                      </a:lnTo>
                      <a:lnTo>
                        <a:pt x="1185" y="1787"/>
                      </a:lnTo>
                      <a:lnTo>
                        <a:pt x="1201" y="1792"/>
                      </a:lnTo>
                      <a:lnTo>
                        <a:pt x="1215" y="1794"/>
                      </a:lnTo>
                      <a:lnTo>
                        <a:pt x="1230" y="1795"/>
                      </a:lnTo>
                      <a:lnTo>
                        <a:pt x="1242" y="1795"/>
                      </a:lnTo>
                      <a:lnTo>
                        <a:pt x="1256" y="1794"/>
                      </a:lnTo>
                      <a:lnTo>
                        <a:pt x="1266" y="1792"/>
                      </a:lnTo>
                      <a:lnTo>
                        <a:pt x="1278" y="1787"/>
                      </a:lnTo>
                      <a:lnTo>
                        <a:pt x="1287" y="1783"/>
                      </a:lnTo>
                      <a:lnTo>
                        <a:pt x="1299" y="1777"/>
                      </a:lnTo>
                      <a:lnTo>
                        <a:pt x="1307" y="1771"/>
                      </a:lnTo>
                      <a:lnTo>
                        <a:pt x="1316" y="1763"/>
                      </a:lnTo>
                      <a:lnTo>
                        <a:pt x="1333" y="1747"/>
                      </a:lnTo>
                      <a:lnTo>
                        <a:pt x="1349" y="1727"/>
                      </a:lnTo>
                      <a:lnTo>
                        <a:pt x="1380" y="1689"/>
                      </a:lnTo>
                      <a:lnTo>
                        <a:pt x="1413" y="1652"/>
                      </a:lnTo>
                      <a:lnTo>
                        <a:pt x="1422" y="1644"/>
                      </a:lnTo>
                      <a:lnTo>
                        <a:pt x="1431" y="1636"/>
                      </a:lnTo>
                      <a:lnTo>
                        <a:pt x="1441" y="1629"/>
                      </a:lnTo>
                      <a:lnTo>
                        <a:pt x="1452" y="1623"/>
                      </a:lnTo>
                      <a:lnTo>
                        <a:pt x="1464" y="1618"/>
                      </a:lnTo>
                      <a:lnTo>
                        <a:pt x="1476" y="1613"/>
                      </a:lnTo>
                      <a:lnTo>
                        <a:pt x="1488" y="1612"/>
                      </a:lnTo>
                      <a:lnTo>
                        <a:pt x="1502" y="1608"/>
                      </a:lnTo>
                      <a:lnTo>
                        <a:pt x="1496" y="1650"/>
                      </a:lnTo>
                      <a:lnTo>
                        <a:pt x="1488" y="1691"/>
                      </a:lnTo>
                      <a:lnTo>
                        <a:pt x="1476" y="1733"/>
                      </a:lnTo>
                      <a:lnTo>
                        <a:pt x="1464" y="1773"/>
                      </a:lnTo>
                      <a:lnTo>
                        <a:pt x="1448" y="1815"/>
                      </a:lnTo>
                      <a:lnTo>
                        <a:pt x="1430" y="1853"/>
                      </a:lnTo>
                      <a:lnTo>
                        <a:pt x="1408" y="1892"/>
                      </a:lnTo>
                      <a:lnTo>
                        <a:pt x="1386" y="1930"/>
                      </a:lnTo>
                      <a:lnTo>
                        <a:pt x="1360" y="1965"/>
                      </a:lnTo>
                      <a:lnTo>
                        <a:pt x="1333" y="1998"/>
                      </a:lnTo>
                      <a:lnTo>
                        <a:pt x="1319" y="2013"/>
                      </a:lnTo>
                      <a:lnTo>
                        <a:pt x="1304" y="2029"/>
                      </a:lnTo>
                      <a:lnTo>
                        <a:pt x="1287" y="2043"/>
                      </a:lnTo>
                      <a:lnTo>
                        <a:pt x="1272" y="2057"/>
                      </a:lnTo>
                      <a:lnTo>
                        <a:pt x="1254" y="2069"/>
                      </a:lnTo>
                      <a:lnTo>
                        <a:pt x="1236" y="2081"/>
                      </a:lnTo>
                      <a:lnTo>
                        <a:pt x="1218" y="2092"/>
                      </a:lnTo>
                      <a:lnTo>
                        <a:pt x="1199" y="2104"/>
                      </a:lnTo>
                      <a:lnTo>
                        <a:pt x="1180" y="2111"/>
                      </a:lnTo>
                      <a:lnTo>
                        <a:pt x="1160" y="2121"/>
                      </a:lnTo>
                      <a:lnTo>
                        <a:pt x="1139" y="2128"/>
                      </a:lnTo>
                      <a:lnTo>
                        <a:pt x="1118" y="2134"/>
                      </a:lnTo>
                      <a:lnTo>
                        <a:pt x="1083" y="2147"/>
                      </a:lnTo>
                      <a:lnTo>
                        <a:pt x="1047" y="2155"/>
                      </a:lnTo>
                      <a:lnTo>
                        <a:pt x="1012" y="2160"/>
                      </a:lnTo>
                      <a:lnTo>
                        <a:pt x="976" y="2160"/>
                      </a:lnTo>
                      <a:lnTo>
                        <a:pt x="941" y="2157"/>
                      </a:lnTo>
                      <a:lnTo>
                        <a:pt x="906" y="2150"/>
                      </a:lnTo>
                      <a:lnTo>
                        <a:pt x="870" y="2140"/>
                      </a:lnTo>
                      <a:lnTo>
                        <a:pt x="836" y="2129"/>
                      </a:lnTo>
                      <a:lnTo>
                        <a:pt x="800" y="2116"/>
                      </a:lnTo>
                      <a:lnTo>
                        <a:pt x="767" y="2102"/>
                      </a:lnTo>
                      <a:lnTo>
                        <a:pt x="731" y="2086"/>
                      </a:lnTo>
                      <a:lnTo>
                        <a:pt x="697" y="2067"/>
                      </a:lnTo>
                      <a:lnTo>
                        <a:pt x="631" y="2034"/>
                      </a:lnTo>
                      <a:lnTo>
                        <a:pt x="566" y="2001"/>
                      </a:lnTo>
                      <a:lnTo>
                        <a:pt x="533" y="1986"/>
                      </a:lnTo>
                      <a:lnTo>
                        <a:pt x="502" y="1971"/>
                      </a:lnTo>
                      <a:lnTo>
                        <a:pt x="470" y="1960"/>
                      </a:lnTo>
                      <a:lnTo>
                        <a:pt x="439" y="1950"/>
                      </a:lnTo>
                      <a:lnTo>
                        <a:pt x="409" y="1942"/>
                      </a:lnTo>
                      <a:lnTo>
                        <a:pt x="380" y="1939"/>
                      </a:lnTo>
                      <a:lnTo>
                        <a:pt x="351" y="1937"/>
                      </a:lnTo>
                      <a:lnTo>
                        <a:pt x="322" y="1940"/>
                      </a:lnTo>
                      <a:lnTo>
                        <a:pt x="292" y="1948"/>
                      </a:lnTo>
                      <a:lnTo>
                        <a:pt x="265" y="1960"/>
                      </a:lnTo>
                      <a:lnTo>
                        <a:pt x="239" y="1978"/>
                      </a:lnTo>
                      <a:lnTo>
                        <a:pt x="214" y="1998"/>
                      </a:lnTo>
                      <a:lnTo>
                        <a:pt x="188" y="2026"/>
                      </a:lnTo>
                      <a:lnTo>
                        <a:pt x="164" y="2060"/>
                      </a:lnTo>
                      <a:lnTo>
                        <a:pt x="139" y="2100"/>
                      </a:lnTo>
                      <a:lnTo>
                        <a:pt x="115" y="2147"/>
                      </a:lnTo>
                      <a:lnTo>
                        <a:pt x="71" y="2147"/>
                      </a:lnTo>
                      <a:lnTo>
                        <a:pt x="68" y="2096"/>
                      </a:lnTo>
                      <a:lnTo>
                        <a:pt x="65" y="2045"/>
                      </a:lnTo>
                      <a:lnTo>
                        <a:pt x="65" y="1992"/>
                      </a:lnTo>
                      <a:lnTo>
                        <a:pt x="67" y="1939"/>
                      </a:lnTo>
                      <a:lnTo>
                        <a:pt x="68" y="1887"/>
                      </a:lnTo>
                      <a:lnTo>
                        <a:pt x="75" y="1836"/>
                      </a:lnTo>
                      <a:lnTo>
                        <a:pt x="83" y="1784"/>
                      </a:lnTo>
                      <a:lnTo>
                        <a:pt x="93" y="1733"/>
                      </a:lnTo>
                      <a:lnTo>
                        <a:pt x="99" y="1709"/>
                      </a:lnTo>
                      <a:lnTo>
                        <a:pt x="107" y="1683"/>
                      </a:lnTo>
                      <a:lnTo>
                        <a:pt x="115" y="1660"/>
                      </a:lnTo>
                      <a:lnTo>
                        <a:pt x="123" y="1636"/>
                      </a:lnTo>
                      <a:lnTo>
                        <a:pt x="135" y="1613"/>
                      </a:lnTo>
                      <a:lnTo>
                        <a:pt x="144" y="1591"/>
                      </a:lnTo>
                      <a:lnTo>
                        <a:pt x="157" y="1568"/>
                      </a:lnTo>
                      <a:lnTo>
                        <a:pt x="168" y="1547"/>
                      </a:lnTo>
                      <a:lnTo>
                        <a:pt x="183" y="1526"/>
                      </a:lnTo>
                      <a:lnTo>
                        <a:pt x="197" y="1506"/>
                      </a:lnTo>
                      <a:lnTo>
                        <a:pt x="214" y="1487"/>
                      </a:lnTo>
                      <a:lnTo>
                        <a:pt x="230" y="1468"/>
                      </a:lnTo>
                      <a:lnTo>
                        <a:pt x="250" y="1450"/>
                      </a:lnTo>
                      <a:lnTo>
                        <a:pt x="268" y="1432"/>
                      </a:lnTo>
                      <a:lnTo>
                        <a:pt x="288" y="1417"/>
                      </a:lnTo>
                      <a:lnTo>
                        <a:pt x="310" y="1402"/>
                      </a:lnTo>
                      <a:lnTo>
                        <a:pt x="371" y="1363"/>
                      </a:lnTo>
                      <a:lnTo>
                        <a:pt x="428" y="1325"/>
                      </a:lnTo>
                      <a:lnTo>
                        <a:pt x="487" y="1284"/>
                      </a:lnTo>
                      <a:lnTo>
                        <a:pt x="546" y="1242"/>
                      </a:lnTo>
                      <a:lnTo>
                        <a:pt x="604" y="1199"/>
                      </a:lnTo>
                      <a:lnTo>
                        <a:pt x="658" y="1154"/>
                      </a:lnTo>
                      <a:lnTo>
                        <a:pt x="684" y="1131"/>
                      </a:lnTo>
                      <a:lnTo>
                        <a:pt x="711" y="1107"/>
                      </a:lnTo>
                      <a:lnTo>
                        <a:pt x="735" y="1083"/>
                      </a:lnTo>
                      <a:lnTo>
                        <a:pt x="759" y="1058"/>
                      </a:lnTo>
                      <a:lnTo>
                        <a:pt x="781" y="1033"/>
                      </a:lnTo>
                      <a:lnTo>
                        <a:pt x="804" y="1005"/>
                      </a:lnTo>
                      <a:lnTo>
                        <a:pt x="823" y="980"/>
                      </a:lnTo>
                      <a:lnTo>
                        <a:pt x="843" y="950"/>
                      </a:lnTo>
                      <a:lnTo>
                        <a:pt x="861" y="921"/>
                      </a:lnTo>
                      <a:lnTo>
                        <a:pt x="876" y="892"/>
                      </a:lnTo>
                      <a:lnTo>
                        <a:pt x="893" y="862"/>
                      </a:lnTo>
                      <a:lnTo>
                        <a:pt x="906" y="830"/>
                      </a:lnTo>
                      <a:lnTo>
                        <a:pt x="917" y="798"/>
                      </a:lnTo>
                      <a:lnTo>
                        <a:pt x="926" y="767"/>
                      </a:lnTo>
                      <a:lnTo>
                        <a:pt x="935" y="731"/>
                      </a:lnTo>
                      <a:lnTo>
                        <a:pt x="941" y="697"/>
                      </a:lnTo>
                      <a:lnTo>
                        <a:pt x="946" y="660"/>
                      </a:lnTo>
                      <a:lnTo>
                        <a:pt x="947" y="623"/>
                      </a:lnTo>
                      <a:lnTo>
                        <a:pt x="947" y="584"/>
                      </a:lnTo>
                      <a:lnTo>
                        <a:pt x="946" y="546"/>
                      </a:lnTo>
                      <a:lnTo>
                        <a:pt x="935" y="475"/>
                      </a:lnTo>
                      <a:lnTo>
                        <a:pt x="923" y="402"/>
                      </a:lnTo>
                      <a:lnTo>
                        <a:pt x="917" y="366"/>
                      </a:lnTo>
                      <a:lnTo>
                        <a:pt x="909" y="330"/>
                      </a:lnTo>
                      <a:lnTo>
                        <a:pt x="899" y="293"/>
                      </a:lnTo>
                      <a:lnTo>
                        <a:pt x="890" y="260"/>
                      </a:lnTo>
                      <a:lnTo>
                        <a:pt x="876" y="228"/>
                      </a:lnTo>
                      <a:lnTo>
                        <a:pt x="861" y="197"/>
                      </a:lnTo>
                      <a:lnTo>
                        <a:pt x="852" y="183"/>
                      </a:lnTo>
                      <a:lnTo>
                        <a:pt x="843" y="168"/>
                      </a:lnTo>
                      <a:lnTo>
                        <a:pt x="832" y="154"/>
                      </a:lnTo>
                      <a:lnTo>
                        <a:pt x="820" y="142"/>
                      </a:lnTo>
                      <a:lnTo>
                        <a:pt x="808" y="130"/>
                      </a:lnTo>
                      <a:lnTo>
                        <a:pt x="794" y="118"/>
                      </a:lnTo>
                      <a:lnTo>
                        <a:pt x="779" y="107"/>
                      </a:lnTo>
                      <a:lnTo>
                        <a:pt x="764" y="97"/>
                      </a:lnTo>
                      <a:lnTo>
                        <a:pt x="747" y="89"/>
                      </a:lnTo>
                      <a:lnTo>
                        <a:pt x="729" y="81"/>
                      </a:lnTo>
                      <a:lnTo>
                        <a:pt x="711" y="74"/>
                      </a:lnTo>
                      <a:lnTo>
                        <a:pt x="690" y="68"/>
                      </a:lnTo>
                      <a:lnTo>
                        <a:pt x="666" y="70"/>
                      </a:lnTo>
                      <a:lnTo>
                        <a:pt x="643" y="73"/>
                      </a:lnTo>
                      <a:lnTo>
                        <a:pt x="619" y="78"/>
                      </a:lnTo>
                      <a:lnTo>
                        <a:pt x="596" y="84"/>
                      </a:lnTo>
                      <a:lnTo>
                        <a:pt x="573" y="92"/>
                      </a:lnTo>
                      <a:lnTo>
                        <a:pt x="552" y="101"/>
                      </a:lnTo>
                      <a:lnTo>
                        <a:pt x="531" y="115"/>
                      </a:lnTo>
                      <a:lnTo>
                        <a:pt x="512" y="128"/>
                      </a:lnTo>
                      <a:lnTo>
                        <a:pt x="493" y="142"/>
                      </a:lnTo>
                      <a:lnTo>
                        <a:pt x="475" y="159"/>
                      </a:lnTo>
                      <a:lnTo>
                        <a:pt x="457" y="174"/>
                      </a:lnTo>
                      <a:lnTo>
                        <a:pt x="441" y="192"/>
                      </a:lnTo>
                      <a:lnTo>
                        <a:pt x="427" y="212"/>
                      </a:lnTo>
                      <a:lnTo>
                        <a:pt x="412" y="233"/>
                      </a:lnTo>
                      <a:lnTo>
                        <a:pt x="401" y="254"/>
                      </a:lnTo>
                      <a:lnTo>
                        <a:pt x="389" y="276"/>
                      </a:lnTo>
                      <a:lnTo>
                        <a:pt x="380" y="295"/>
                      </a:lnTo>
                      <a:lnTo>
                        <a:pt x="374" y="318"/>
                      </a:lnTo>
                      <a:lnTo>
                        <a:pt x="366" y="340"/>
                      </a:lnTo>
                      <a:lnTo>
                        <a:pt x="362" y="363"/>
                      </a:lnTo>
                      <a:lnTo>
                        <a:pt x="359" y="387"/>
                      </a:lnTo>
                      <a:lnTo>
                        <a:pt x="356" y="411"/>
                      </a:lnTo>
                      <a:lnTo>
                        <a:pt x="354" y="436"/>
                      </a:lnTo>
                      <a:lnTo>
                        <a:pt x="354" y="460"/>
                      </a:lnTo>
                      <a:lnTo>
                        <a:pt x="356" y="511"/>
                      </a:lnTo>
                      <a:lnTo>
                        <a:pt x="360" y="560"/>
                      </a:lnTo>
                      <a:lnTo>
                        <a:pt x="365" y="610"/>
                      </a:lnTo>
                      <a:lnTo>
                        <a:pt x="372" y="655"/>
                      </a:lnTo>
                      <a:lnTo>
                        <a:pt x="419" y="702"/>
                      </a:lnTo>
                      <a:lnTo>
                        <a:pt x="469" y="749"/>
                      </a:lnTo>
                      <a:lnTo>
                        <a:pt x="493" y="774"/>
                      </a:lnTo>
                      <a:lnTo>
                        <a:pt x="513" y="800"/>
                      </a:lnTo>
                      <a:lnTo>
                        <a:pt x="523" y="815"/>
                      </a:lnTo>
                      <a:lnTo>
                        <a:pt x="533" y="829"/>
                      </a:lnTo>
                      <a:lnTo>
                        <a:pt x="541" y="845"/>
                      </a:lnTo>
                      <a:lnTo>
                        <a:pt x="549" y="863"/>
                      </a:lnTo>
                      <a:lnTo>
                        <a:pt x="486" y="871"/>
                      </a:lnTo>
                      <a:lnTo>
                        <a:pt x="422" y="876"/>
                      </a:lnTo>
                      <a:lnTo>
                        <a:pt x="389" y="877"/>
                      </a:lnTo>
                      <a:lnTo>
                        <a:pt x="356" y="877"/>
                      </a:lnTo>
                      <a:lnTo>
                        <a:pt x="324" y="876"/>
                      </a:lnTo>
                      <a:lnTo>
                        <a:pt x="292" y="874"/>
                      </a:lnTo>
                      <a:lnTo>
                        <a:pt x="260" y="870"/>
                      </a:lnTo>
                      <a:lnTo>
                        <a:pt x="230" y="863"/>
                      </a:lnTo>
                      <a:lnTo>
                        <a:pt x="201" y="853"/>
                      </a:lnTo>
                      <a:lnTo>
                        <a:pt x="171" y="842"/>
                      </a:lnTo>
                      <a:lnTo>
                        <a:pt x="157" y="835"/>
                      </a:lnTo>
                      <a:lnTo>
                        <a:pt x="144" y="827"/>
                      </a:lnTo>
                      <a:lnTo>
                        <a:pt x="132" y="820"/>
                      </a:lnTo>
                      <a:lnTo>
                        <a:pt x="118" y="810"/>
                      </a:lnTo>
                      <a:lnTo>
                        <a:pt x="106" y="800"/>
                      </a:lnTo>
                      <a:lnTo>
                        <a:pt x="94" y="789"/>
                      </a:lnTo>
                      <a:lnTo>
                        <a:pt x="83" y="777"/>
                      </a:lnTo>
                      <a:lnTo>
                        <a:pt x="71" y="767"/>
                      </a:lnTo>
                      <a:lnTo>
                        <a:pt x="62" y="755"/>
                      </a:lnTo>
                      <a:lnTo>
                        <a:pt x="52" y="744"/>
                      </a:lnTo>
                      <a:lnTo>
                        <a:pt x="44" y="732"/>
                      </a:lnTo>
                      <a:lnTo>
                        <a:pt x="38" y="721"/>
                      </a:lnTo>
                      <a:lnTo>
                        <a:pt x="25" y="697"/>
                      </a:lnTo>
                      <a:lnTo>
                        <a:pt x="15" y="673"/>
                      </a:lnTo>
                      <a:lnTo>
                        <a:pt x="9" y="649"/>
                      </a:lnTo>
                      <a:lnTo>
                        <a:pt x="5" y="623"/>
                      </a:lnTo>
                      <a:lnTo>
                        <a:pt x="2" y="597"/>
                      </a:lnTo>
                      <a:lnTo>
                        <a:pt x="0" y="570"/>
                      </a:lnTo>
                      <a:lnTo>
                        <a:pt x="2" y="544"/>
                      </a:lnTo>
                      <a:lnTo>
                        <a:pt x="5" y="517"/>
                      </a:lnTo>
                      <a:lnTo>
                        <a:pt x="6" y="490"/>
                      </a:lnTo>
                      <a:lnTo>
                        <a:pt x="11" y="463"/>
                      </a:lnTo>
                      <a:lnTo>
                        <a:pt x="17" y="408"/>
                      </a:lnTo>
                      <a:lnTo>
                        <a:pt x="23" y="355"/>
                      </a:lnTo>
                      <a:lnTo>
                        <a:pt x="40" y="328"/>
                      </a:lnTo>
                      <a:lnTo>
                        <a:pt x="58" y="302"/>
                      </a:lnTo>
                      <a:lnTo>
                        <a:pt x="75" y="278"/>
                      </a:lnTo>
                      <a:lnTo>
                        <a:pt x="94" y="254"/>
                      </a:lnTo>
                      <a:lnTo>
                        <a:pt x="114" y="231"/>
                      </a:lnTo>
                      <a:lnTo>
                        <a:pt x="133" y="209"/>
                      </a:lnTo>
                      <a:lnTo>
                        <a:pt x="154" y="187"/>
                      </a:lnTo>
                      <a:lnTo>
                        <a:pt x="175" y="168"/>
                      </a:lnTo>
                      <a:lnTo>
                        <a:pt x="197" y="148"/>
                      </a:lnTo>
                      <a:lnTo>
                        <a:pt x="218" y="131"/>
                      </a:lnTo>
                      <a:lnTo>
                        <a:pt x="242" y="115"/>
                      </a:lnTo>
                      <a:lnTo>
                        <a:pt x="265" y="98"/>
                      </a:lnTo>
                      <a:lnTo>
                        <a:pt x="289" y="84"/>
                      </a:lnTo>
                      <a:lnTo>
                        <a:pt x="315" y="70"/>
                      </a:lnTo>
                      <a:lnTo>
                        <a:pt x="339" y="59"/>
                      </a:lnTo>
                      <a:lnTo>
                        <a:pt x="365" y="47"/>
                      </a:lnTo>
                      <a:lnTo>
                        <a:pt x="392" y="36"/>
                      </a:lnTo>
                      <a:lnTo>
                        <a:pt x="419" y="27"/>
                      </a:lnTo>
                      <a:lnTo>
                        <a:pt x="446" y="20"/>
                      </a:lnTo>
                      <a:lnTo>
                        <a:pt x="474" y="13"/>
                      </a:lnTo>
                      <a:lnTo>
                        <a:pt x="501" y="9"/>
                      </a:lnTo>
                      <a:lnTo>
                        <a:pt x="530" y="3"/>
                      </a:lnTo>
                      <a:lnTo>
                        <a:pt x="558" y="2"/>
                      </a:lnTo>
                      <a:lnTo>
                        <a:pt x="587" y="0"/>
                      </a:lnTo>
                      <a:lnTo>
                        <a:pt x="617" y="0"/>
                      </a:lnTo>
                      <a:lnTo>
                        <a:pt x="646" y="0"/>
                      </a:lnTo>
                      <a:lnTo>
                        <a:pt x="676" y="3"/>
                      </a:lnTo>
                      <a:lnTo>
                        <a:pt x="707" y="7"/>
                      </a:lnTo>
                      <a:lnTo>
                        <a:pt x="738" y="13"/>
                      </a:lnTo>
                      <a:lnTo>
                        <a:pt x="769" y="20"/>
                      </a:lnTo>
                      <a:lnTo>
                        <a:pt x="799" y="27"/>
                      </a:lnTo>
                      <a:lnTo>
                        <a:pt x="832" y="38"/>
                      </a:lnTo>
                      <a:lnTo>
                        <a:pt x="870" y="48"/>
                      </a:lnTo>
                      <a:lnTo>
                        <a:pt x="911" y="62"/>
                      </a:lnTo>
                      <a:lnTo>
                        <a:pt x="950" y="76"/>
                      </a:lnTo>
                      <a:lnTo>
                        <a:pt x="991" y="92"/>
                      </a:lnTo>
                      <a:lnTo>
                        <a:pt x="1032" y="109"/>
                      </a:lnTo>
                      <a:lnTo>
                        <a:pt x="1071" y="128"/>
                      </a:lnTo>
                      <a:lnTo>
                        <a:pt x="1110" y="147"/>
                      </a:lnTo>
                      <a:lnTo>
                        <a:pt x="1149" y="169"/>
                      </a:lnTo>
                      <a:lnTo>
                        <a:pt x="1186" y="194"/>
                      </a:lnTo>
                      <a:lnTo>
                        <a:pt x="1221" y="219"/>
                      </a:lnTo>
                      <a:lnTo>
                        <a:pt x="1236" y="234"/>
                      </a:lnTo>
                      <a:lnTo>
                        <a:pt x="1252" y="249"/>
                      </a:lnTo>
                      <a:lnTo>
                        <a:pt x="1269" y="265"/>
                      </a:lnTo>
                      <a:lnTo>
                        <a:pt x="1283" y="281"/>
                      </a:lnTo>
                      <a:lnTo>
                        <a:pt x="1298" y="298"/>
                      </a:lnTo>
                      <a:lnTo>
                        <a:pt x="1310" y="315"/>
                      </a:lnTo>
                      <a:lnTo>
                        <a:pt x="1324" y="333"/>
                      </a:lnTo>
                      <a:lnTo>
                        <a:pt x="1334" y="352"/>
                      </a:lnTo>
                      <a:lnTo>
                        <a:pt x="1346" y="372"/>
                      </a:lnTo>
                      <a:lnTo>
                        <a:pt x="1357" y="392"/>
                      </a:lnTo>
                      <a:lnTo>
                        <a:pt x="1365" y="413"/>
                      </a:lnTo>
                      <a:lnTo>
                        <a:pt x="1375" y="434"/>
                      </a:lnTo>
                      <a:close/>
                    </a:path>
                  </a:pathLst>
                </a:custGeom>
                <a:solidFill>
                  <a:srgbClr val="538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332"/>
                <p:cNvSpPr/>
                <p:nvPr/>
              </p:nvSpPr>
              <p:spPr>
                <a:xfrm>
                  <a:off x="6360840" y="2191680"/>
                  <a:ext cx="37800" cy="131760"/>
                </a:xfrm>
                <a:custGeom>
                  <a:avLst/>
                  <a:gdLst/>
                  <a:ahLst/>
                  <a:rect l="l" t="t" r="r" b="b"/>
                  <a:pathLst>
                    <a:path w="591" h="2042">
                      <a:moveTo>
                        <a:pt x="449" y="25"/>
                      </a:moveTo>
                      <a:lnTo>
                        <a:pt x="461" y="138"/>
                      </a:lnTo>
                      <a:lnTo>
                        <a:pt x="467" y="250"/>
                      </a:lnTo>
                      <a:lnTo>
                        <a:pt x="473" y="365"/>
                      </a:lnTo>
                      <a:lnTo>
                        <a:pt x="479" y="481"/>
                      </a:lnTo>
                      <a:lnTo>
                        <a:pt x="482" y="598"/>
                      </a:lnTo>
                      <a:lnTo>
                        <a:pt x="484" y="713"/>
                      </a:lnTo>
                      <a:lnTo>
                        <a:pt x="484" y="829"/>
                      </a:lnTo>
                      <a:lnTo>
                        <a:pt x="484" y="947"/>
                      </a:lnTo>
                      <a:lnTo>
                        <a:pt x="484" y="1064"/>
                      </a:lnTo>
                      <a:lnTo>
                        <a:pt x="484" y="1180"/>
                      </a:lnTo>
                      <a:lnTo>
                        <a:pt x="482" y="1298"/>
                      </a:lnTo>
                      <a:lnTo>
                        <a:pt x="481" y="1416"/>
                      </a:lnTo>
                      <a:lnTo>
                        <a:pt x="481" y="1533"/>
                      </a:lnTo>
                      <a:lnTo>
                        <a:pt x="481" y="1650"/>
                      </a:lnTo>
                      <a:lnTo>
                        <a:pt x="481" y="1767"/>
                      </a:lnTo>
                      <a:lnTo>
                        <a:pt x="482" y="1882"/>
                      </a:lnTo>
                      <a:lnTo>
                        <a:pt x="487" y="1894"/>
                      </a:lnTo>
                      <a:lnTo>
                        <a:pt x="493" y="1905"/>
                      </a:lnTo>
                      <a:lnTo>
                        <a:pt x="499" y="1915"/>
                      </a:lnTo>
                      <a:lnTo>
                        <a:pt x="508" y="1924"/>
                      </a:lnTo>
                      <a:lnTo>
                        <a:pt x="525" y="1942"/>
                      </a:lnTo>
                      <a:lnTo>
                        <a:pt x="544" y="1959"/>
                      </a:lnTo>
                      <a:lnTo>
                        <a:pt x="562" y="1977"/>
                      </a:lnTo>
                      <a:lnTo>
                        <a:pt x="577" y="1997"/>
                      </a:lnTo>
                      <a:lnTo>
                        <a:pt x="584" y="2006"/>
                      </a:lnTo>
                      <a:lnTo>
                        <a:pt x="588" y="2018"/>
                      </a:lnTo>
                      <a:lnTo>
                        <a:pt x="590" y="2029"/>
                      </a:lnTo>
                      <a:lnTo>
                        <a:pt x="591" y="2042"/>
                      </a:lnTo>
                      <a:lnTo>
                        <a:pt x="22" y="2042"/>
                      </a:lnTo>
                      <a:lnTo>
                        <a:pt x="150" y="1852"/>
                      </a:lnTo>
                      <a:lnTo>
                        <a:pt x="101" y="200"/>
                      </a:lnTo>
                      <a:lnTo>
                        <a:pt x="74" y="173"/>
                      </a:lnTo>
                      <a:lnTo>
                        <a:pt x="50" y="147"/>
                      </a:lnTo>
                      <a:lnTo>
                        <a:pt x="32" y="125"/>
                      </a:lnTo>
                      <a:lnTo>
                        <a:pt x="18" y="103"/>
                      </a:lnTo>
                      <a:lnTo>
                        <a:pt x="7" y="85"/>
                      </a:lnTo>
                      <a:lnTo>
                        <a:pt x="1" y="70"/>
                      </a:lnTo>
                      <a:lnTo>
                        <a:pt x="0" y="55"/>
                      </a:lnTo>
                      <a:lnTo>
                        <a:pt x="1" y="43"/>
                      </a:lnTo>
                      <a:lnTo>
                        <a:pt x="6" y="32"/>
                      </a:lnTo>
                      <a:lnTo>
                        <a:pt x="14" y="23"/>
                      </a:lnTo>
                      <a:lnTo>
                        <a:pt x="25" y="17"/>
                      </a:lnTo>
                      <a:lnTo>
                        <a:pt x="38" y="11"/>
                      </a:lnTo>
                      <a:lnTo>
                        <a:pt x="53" y="7"/>
                      </a:lnTo>
                      <a:lnTo>
                        <a:pt x="71" y="4"/>
                      </a:lnTo>
                      <a:lnTo>
                        <a:pt x="90" y="2"/>
                      </a:lnTo>
                      <a:lnTo>
                        <a:pt x="110" y="0"/>
                      </a:lnTo>
                      <a:lnTo>
                        <a:pt x="156" y="0"/>
                      </a:lnTo>
                      <a:lnTo>
                        <a:pt x="204" y="4"/>
                      </a:lnTo>
                      <a:lnTo>
                        <a:pt x="254" y="8"/>
                      </a:lnTo>
                      <a:lnTo>
                        <a:pt x="304" y="14"/>
                      </a:lnTo>
                      <a:lnTo>
                        <a:pt x="349" y="20"/>
                      </a:lnTo>
                      <a:lnTo>
                        <a:pt x="391" y="23"/>
                      </a:lnTo>
                      <a:lnTo>
                        <a:pt x="425" y="25"/>
                      </a:lnTo>
                      <a:lnTo>
                        <a:pt x="449" y="25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333"/>
                <p:cNvSpPr/>
                <p:nvPr/>
              </p:nvSpPr>
              <p:spPr>
                <a:xfrm>
                  <a:off x="6402600" y="2192760"/>
                  <a:ext cx="87840" cy="132120"/>
                </a:xfrm>
                <a:custGeom>
                  <a:avLst/>
                  <a:gdLst/>
                  <a:ahLst/>
                  <a:rect l="l" t="t" r="r" b="b"/>
                  <a:pathLst>
                    <a:path w="1366" h="2053">
                      <a:moveTo>
                        <a:pt x="1096" y="198"/>
                      </a:moveTo>
                      <a:lnTo>
                        <a:pt x="1122" y="232"/>
                      </a:lnTo>
                      <a:lnTo>
                        <a:pt x="1146" y="268"/>
                      </a:lnTo>
                      <a:lnTo>
                        <a:pt x="1169" y="303"/>
                      </a:lnTo>
                      <a:lnTo>
                        <a:pt x="1190" y="340"/>
                      </a:lnTo>
                      <a:lnTo>
                        <a:pt x="1211" y="378"/>
                      </a:lnTo>
                      <a:lnTo>
                        <a:pt x="1231" y="418"/>
                      </a:lnTo>
                      <a:lnTo>
                        <a:pt x="1249" y="458"/>
                      </a:lnTo>
                      <a:lnTo>
                        <a:pt x="1264" y="498"/>
                      </a:lnTo>
                      <a:lnTo>
                        <a:pt x="1281" y="539"/>
                      </a:lnTo>
                      <a:lnTo>
                        <a:pt x="1293" y="581"/>
                      </a:lnTo>
                      <a:lnTo>
                        <a:pt x="1306" y="623"/>
                      </a:lnTo>
                      <a:lnTo>
                        <a:pt x="1317" y="666"/>
                      </a:lnTo>
                      <a:lnTo>
                        <a:pt x="1329" y="709"/>
                      </a:lnTo>
                      <a:lnTo>
                        <a:pt x="1337" y="753"/>
                      </a:lnTo>
                      <a:lnTo>
                        <a:pt x="1345" y="796"/>
                      </a:lnTo>
                      <a:lnTo>
                        <a:pt x="1352" y="841"/>
                      </a:lnTo>
                      <a:lnTo>
                        <a:pt x="1356" y="887"/>
                      </a:lnTo>
                      <a:lnTo>
                        <a:pt x="1361" y="930"/>
                      </a:lnTo>
                      <a:lnTo>
                        <a:pt x="1364" y="976"/>
                      </a:lnTo>
                      <a:lnTo>
                        <a:pt x="1366" y="1021"/>
                      </a:lnTo>
                      <a:lnTo>
                        <a:pt x="1366" y="1066"/>
                      </a:lnTo>
                      <a:lnTo>
                        <a:pt x="1364" y="1110"/>
                      </a:lnTo>
                      <a:lnTo>
                        <a:pt x="1362" y="1156"/>
                      </a:lnTo>
                      <a:lnTo>
                        <a:pt x="1359" y="1200"/>
                      </a:lnTo>
                      <a:lnTo>
                        <a:pt x="1355" y="1245"/>
                      </a:lnTo>
                      <a:lnTo>
                        <a:pt x="1349" y="1289"/>
                      </a:lnTo>
                      <a:lnTo>
                        <a:pt x="1340" y="1331"/>
                      </a:lnTo>
                      <a:lnTo>
                        <a:pt x="1332" y="1375"/>
                      </a:lnTo>
                      <a:lnTo>
                        <a:pt x="1323" y="1419"/>
                      </a:lnTo>
                      <a:lnTo>
                        <a:pt x="1311" y="1461"/>
                      </a:lnTo>
                      <a:lnTo>
                        <a:pt x="1300" y="1503"/>
                      </a:lnTo>
                      <a:lnTo>
                        <a:pt x="1287" y="1544"/>
                      </a:lnTo>
                      <a:lnTo>
                        <a:pt x="1249" y="1616"/>
                      </a:lnTo>
                      <a:lnTo>
                        <a:pt x="1205" y="1688"/>
                      </a:lnTo>
                      <a:lnTo>
                        <a:pt x="1182" y="1724"/>
                      </a:lnTo>
                      <a:lnTo>
                        <a:pt x="1157" y="1761"/>
                      </a:lnTo>
                      <a:lnTo>
                        <a:pt x="1132" y="1797"/>
                      </a:lnTo>
                      <a:lnTo>
                        <a:pt x="1105" y="1830"/>
                      </a:lnTo>
                      <a:lnTo>
                        <a:pt x="1076" y="1862"/>
                      </a:lnTo>
                      <a:lnTo>
                        <a:pt x="1046" y="1895"/>
                      </a:lnTo>
                      <a:lnTo>
                        <a:pt x="1016" y="1924"/>
                      </a:lnTo>
                      <a:lnTo>
                        <a:pt x="984" y="1953"/>
                      </a:lnTo>
                      <a:lnTo>
                        <a:pt x="950" y="1978"/>
                      </a:lnTo>
                      <a:lnTo>
                        <a:pt x="915" y="2001"/>
                      </a:lnTo>
                      <a:lnTo>
                        <a:pt x="897" y="2012"/>
                      </a:lnTo>
                      <a:lnTo>
                        <a:pt x="879" y="2022"/>
                      </a:lnTo>
                      <a:lnTo>
                        <a:pt x="860" y="2030"/>
                      </a:lnTo>
                      <a:lnTo>
                        <a:pt x="840" y="2039"/>
                      </a:lnTo>
                      <a:lnTo>
                        <a:pt x="801" y="2045"/>
                      </a:lnTo>
                      <a:lnTo>
                        <a:pt x="763" y="2048"/>
                      </a:lnTo>
                      <a:lnTo>
                        <a:pt x="727" y="2051"/>
                      </a:lnTo>
                      <a:lnTo>
                        <a:pt x="692" y="2053"/>
                      </a:lnTo>
                      <a:lnTo>
                        <a:pt x="659" y="2053"/>
                      </a:lnTo>
                      <a:lnTo>
                        <a:pt x="627" y="2051"/>
                      </a:lnTo>
                      <a:lnTo>
                        <a:pt x="595" y="2049"/>
                      </a:lnTo>
                      <a:lnTo>
                        <a:pt x="567" y="2045"/>
                      </a:lnTo>
                      <a:lnTo>
                        <a:pt x="537" y="2040"/>
                      </a:lnTo>
                      <a:lnTo>
                        <a:pt x="508" y="2031"/>
                      </a:lnTo>
                      <a:lnTo>
                        <a:pt x="481" y="2024"/>
                      </a:lnTo>
                      <a:lnTo>
                        <a:pt x="453" y="2013"/>
                      </a:lnTo>
                      <a:lnTo>
                        <a:pt x="426" y="2003"/>
                      </a:lnTo>
                      <a:lnTo>
                        <a:pt x="399" y="1990"/>
                      </a:lnTo>
                      <a:lnTo>
                        <a:pt x="373" y="1975"/>
                      </a:lnTo>
                      <a:lnTo>
                        <a:pt x="346" y="1959"/>
                      </a:lnTo>
                      <a:lnTo>
                        <a:pt x="305" y="1930"/>
                      </a:lnTo>
                      <a:lnTo>
                        <a:pt x="267" y="1898"/>
                      </a:lnTo>
                      <a:lnTo>
                        <a:pt x="232" y="1865"/>
                      </a:lnTo>
                      <a:lnTo>
                        <a:pt x="202" y="1830"/>
                      </a:lnTo>
                      <a:lnTo>
                        <a:pt x="172" y="1794"/>
                      </a:lnTo>
                      <a:lnTo>
                        <a:pt x="146" y="1759"/>
                      </a:lnTo>
                      <a:lnTo>
                        <a:pt x="122" y="1720"/>
                      </a:lnTo>
                      <a:lnTo>
                        <a:pt x="101" y="1682"/>
                      </a:lnTo>
                      <a:lnTo>
                        <a:pt x="84" y="1641"/>
                      </a:lnTo>
                      <a:lnTo>
                        <a:pt x="68" y="1602"/>
                      </a:lnTo>
                      <a:lnTo>
                        <a:pt x="53" y="1559"/>
                      </a:lnTo>
                      <a:lnTo>
                        <a:pt x="42" y="1517"/>
                      </a:lnTo>
                      <a:lnTo>
                        <a:pt x="31" y="1473"/>
                      </a:lnTo>
                      <a:lnTo>
                        <a:pt x="22" y="1431"/>
                      </a:lnTo>
                      <a:lnTo>
                        <a:pt x="16" y="1385"/>
                      </a:lnTo>
                      <a:lnTo>
                        <a:pt x="10" y="1340"/>
                      </a:lnTo>
                      <a:lnTo>
                        <a:pt x="4" y="1295"/>
                      </a:lnTo>
                      <a:lnTo>
                        <a:pt x="3" y="1249"/>
                      </a:lnTo>
                      <a:lnTo>
                        <a:pt x="0" y="1203"/>
                      </a:lnTo>
                      <a:lnTo>
                        <a:pt x="0" y="1156"/>
                      </a:lnTo>
                      <a:lnTo>
                        <a:pt x="0" y="1062"/>
                      </a:lnTo>
                      <a:lnTo>
                        <a:pt x="3" y="968"/>
                      </a:lnTo>
                      <a:lnTo>
                        <a:pt x="7" y="874"/>
                      </a:lnTo>
                      <a:lnTo>
                        <a:pt x="10" y="779"/>
                      </a:lnTo>
                      <a:lnTo>
                        <a:pt x="13" y="687"/>
                      </a:lnTo>
                      <a:lnTo>
                        <a:pt x="15" y="595"/>
                      </a:lnTo>
                      <a:lnTo>
                        <a:pt x="25" y="546"/>
                      </a:lnTo>
                      <a:lnTo>
                        <a:pt x="39" y="499"/>
                      </a:lnTo>
                      <a:lnTo>
                        <a:pt x="55" y="451"/>
                      </a:lnTo>
                      <a:lnTo>
                        <a:pt x="74" y="403"/>
                      </a:lnTo>
                      <a:lnTo>
                        <a:pt x="97" y="356"/>
                      </a:lnTo>
                      <a:lnTo>
                        <a:pt x="121" y="311"/>
                      </a:lnTo>
                      <a:lnTo>
                        <a:pt x="146" y="268"/>
                      </a:lnTo>
                      <a:lnTo>
                        <a:pt x="178" y="226"/>
                      </a:lnTo>
                      <a:lnTo>
                        <a:pt x="192" y="206"/>
                      </a:lnTo>
                      <a:lnTo>
                        <a:pt x="208" y="186"/>
                      </a:lnTo>
                      <a:lnTo>
                        <a:pt x="226" y="168"/>
                      </a:lnTo>
                      <a:lnTo>
                        <a:pt x="243" y="150"/>
                      </a:lnTo>
                      <a:lnTo>
                        <a:pt x="261" y="132"/>
                      </a:lnTo>
                      <a:lnTo>
                        <a:pt x="279" y="116"/>
                      </a:lnTo>
                      <a:lnTo>
                        <a:pt x="299" y="100"/>
                      </a:lnTo>
                      <a:lnTo>
                        <a:pt x="317" y="85"/>
                      </a:lnTo>
                      <a:lnTo>
                        <a:pt x="337" y="73"/>
                      </a:lnTo>
                      <a:lnTo>
                        <a:pt x="358" y="59"/>
                      </a:lnTo>
                      <a:lnTo>
                        <a:pt x="379" y="47"/>
                      </a:lnTo>
                      <a:lnTo>
                        <a:pt x="402" y="35"/>
                      </a:lnTo>
                      <a:lnTo>
                        <a:pt x="423" y="26"/>
                      </a:lnTo>
                      <a:lnTo>
                        <a:pt x="446" y="17"/>
                      </a:lnTo>
                      <a:lnTo>
                        <a:pt x="468" y="9"/>
                      </a:lnTo>
                      <a:lnTo>
                        <a:pt x="492" y="5"/>
                      </a:lnTo>
                      <a:lnTo>
                        <a:pt x="535" y="2"/>
                      </a:lnTo>
                      <a:lnTo>
                        <a:pt x="579" y="0"/>
                      </a:lnTo>
                      <a:lnTo>
                        <a:pt x="623" y="0"/>
                      </a:lnTo>
                      <a:lnTo>
                        <a:pt x="665" y="2"/>
                      </a:lnTo>
                      <a:lnTo>
                        <a:pt x="706" y="5"/>
                      </a:lnTo>
                      <a:lnTo>
                        <a:pt x="748" y="9"/>
                      </a:lnTo>
                      <a:lnTo>
                        <a:pt x="789" y="17"/>
                      </a:lnTo>
                      <a:lnTo>
                        <a:pt x="829" y="27"/>
                      </a:lnTo>
                      <a:lnTo>
                        <a:pt x="868" y="38"/>
                      </a:lnTo>
                      <a:lnTo>
                        <a:pt x="904" y="53"/>
                      </a:lnTo>
                      <a:lnTo>
                        <a:pt x="940" y="70"/>
                      </a:lnTo>
                      <a:lnTo>
                        <a:pt x="975" y="88"/>
                      </a:lnTo>
                      <a:lnTo>
                        <a:pt x="992" y="100"/>
                      </a:lnTo>
                      <a:lnTo>
                        <a:pt x="1008" y="111"/>
                      </a:lnTo>
                      <a:lnTo>
                        <a:pt x="1024" y="124"/>
                      </a:lnTo>
                      <a:lnTo>
                        <a:pt x="1039" y="136"/>
                      </a:lnTo>
                      <a:lnTo>
                        <a:pt x="1055" y="151"/>
                      </a:lnTo>
                      <a:lnTo>
                        <a:pt x="1069" y="166"/>
                      </a:lnTo>
                      <a:lnTo>
                        <a:pt x="1082" y="182"/>
                      </a:lnTo>
                      <a:lnTo>
                        <a:pt x="1096" y="198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334"/>
                <p:cNvSpPr/>
                <p:nvPr/>
              </p:nvSpPr>
              <p:spPr>
                <a:xfrm>
                  <a:off x="6428520" y="2196000"/>
                  <a:ext cx="30240" cy="124920"/>
                </a:xfrm>
                <a:custGeom>
                  <a:avLst/>
                  <a:gdLst/>
                  <a:ahLst/>
                  <a:rect l="l" t="t" r="r" b="b"/>
                  <a:pathLst>
                    <a:path w="471" h="1939">
                      <a:moveTo>
                        <a:pt x="471" y="158"/>
                      </a:moveTo>
                      <a:lnTo>
                        <a:pt x="458" y="1827"/>
                      </a:lnTo>
                      <a:lnTo>
                        <a:pt x="445" y="1847"/>
                      </a:lnTo>
                      <a:lnTo>
                        <a:pt x="430" y="1862"/>
                      </a:lnTo>
                      <a:lnTo>
                        <a:pt x="416" y="1879"/>
                      </a:lnTo>
                      <a:lnTo>
                        <a:pt x="400" y="1892"/>
                      </a:lnTo>
                      <a:lnTo>
                        <a:pt x="384" y="1903"/>
                      </a:lnTo>
                      <a:lnTo>
                        <a:pt x="366" y="1915"/>
                      </a:lnTo>
                      <a:lnTo>
                        <a:pt x="348" y="1922"/>
                      </a:lnTo>
                      <a:lnTo>
                        <a:pt x="329" y="1929"/>
                      </a:lnTo>
                      <a:lnTo>
                        <a:pt x="309" y="1933"/>
                      </a:lnTo>
                      <a:lnTo>
                        <a:pt x="291" y="1937"/>
                      </a:lnTo>
                      <a:lnTo>
                        <a:pt x="271" y="1939"/>
                      </a:lnTo>
                      <a:lnTo>
                        <a:pt x="251" y="1939"/>
                      </a:lnTo>
                      <a:lnTo>
                        <a:pt x="230" y="1937"/>
                      </a:lnTo>
                      <a:lnTo>
                        <a:pt x="211" y="1935"/>
                      </a:lnTo>
                      <a:lnTo>
                        <a:pt x="191" y="1930"/>
                      </a:lnTo>
                      <a:lnTo>
                        <a:pt x="171" y="1924"/>
                      </a:lnTo>
                      <a:lnTo>
                        <a:pt x="149" y="1898"/>
                      </a:lnTo>
                      <a:lnTo>
                        <a:pt x="129" y="1872"/>
                      </a:lnTo>
                      <a:lnTo>
                        <a:pt x="111" y="1845"/>
                      </a:lnTo>
                      <a:lnTo>
                        <a:pt x="95" y="1816"/>
                      </a:lnTo>
                      <a:lnTo>
                        <a:pt x="81" y="1786"/>
                      </a:lnTo>
                      <a:lnTo>
                        <a:pt x="68" y="1758"/>
                      </a:lnTo>
                      <a:lnTo>
                        <a:pt x="56" y="1727"/>
                      </a:lnTo>
                      <a:lnTo>
                        <a:pt x="47" y="1695"/>
                      </a:lnTo>
                      <a:lnTo>
                        <a:pt x="38" y="1662"/>
                      </a:lnTo>
                      <a:lnTo>
                        <a:pt x="32" y="1630"/>
                      </a:lnTo>
                      <a:lnTo>
                        <a:pt x="26" y="1597"/>
                      </a:lnTo>
                      <a:lnTo>
                        <a:pt x="21" y="1563"/>
                      </a:lnTo>
                      <a:lnTo>
                        <a:pt x="17" y="1527"/>
                      </a:lnTo>
                      <a:lnTo>
                        <a:pt x="14" y="1493"/>
                      </a:lnTo>
                      <a:lnTo>
                        <a:pt x="13" y="1458"/>
                      </a:lnTo>
                      <a:lnTo>
                        <a:pt x="13" y="1420"/>
                      </a:lnTo>
                      <a:lnTo>
                        <a:pt x="11" y="1349"/>
                      </a:lnTo>
                      <a:lnTo>
                        <a:pt x="13" y="1275"/>
                      </a:lnTo>
                      <a:lnTo>
                        <a:pt x="14" y="1203"/>
                      </a:lnTo>
                      <a:lnTo>
                        <a:pt x="17" y="1129"/>
                      </a:lnTo>
                      <a:lnTo>
                        <a:pt x="20" y="1056"/>
                      </a:lnTo>
                      <a:lnTo>
                        <a:pt x="20" y="983"/>
                      </a:lnTo>
                      <a:lnTo>
                        <a:pt x="17" y="912"/>
                      </a:lnTo>
                      <a:lnTo>
                        <a:pt x="13" y="842"/>
                      </a:lnTo>
                      <a:lnTo>
                        <a:pt x="14" y="814"/>
                      </a:lnTo>
                      <a:lnTo>
                        <a:pt x="14" y="785"/>
                      </a:lnTo>
                      <a:lnTo>
                        <a:pt x="16" y="755"/>
                      </a:lnTo>
                      <a:lnTo>
                        <a:pt x="14" y="724"/>
                      </a:lnTo>
                      <a:lnTo>
                        <a:pt x="13" y="663"/>
                      </a:lnTo>
                      <a:lnTo>
                        <a:pt x="8" y="600"/>
                      </a:lnTo>
                      <a:lnTo>
                        <a:pt x="5" y="539"/>
                      </a:lnTo>
                      <a:lnTo>
                        <a:pt x="2" y="475"/>
                      </a:lnTo>
                      <a:lnTo>
                        <a:pt x="0" y="414"/>
                      </a:lnTo>
                      <a:lnTo>
                        <a:pt x="2" y="355"/>
                      </a:lnTo>
                      <a:lnTo>
                        <a:pt x="3" y="324"/>
                      </a:lnTo>
                      <a:lnTo>
                        <a:pt x="6" y="297"/>
                      </a:lnTo>
                      <a:lnTo>
                        <a:pt x="11" y="268"/>
                      </a:lnTo>
                      <a:lnTo>
                        <a:pt x="16" y="240"/>
                      </a:lnTo>
                      <a:lnTo>
                        <a:pt x="24" y="215"/>
                      </a:lnTo>
                      <a:lnTo>
                        <a:pt x="32" y="189"/>
                      </a:lnTo>
                      <a:lnTo>
                        <a:pt x="44" y="165"/>
                      </a:lnTo>
                      <a:lnTo>
                        <a:pt x="55" y="141"/>
                      </a:lnTo>
                      <a:lnTo>
                        <a:pt x="70" y="118"/>
                      </a:lnTo>
                      <a:lnTo>
                        <a:pt x="85" y="97"/>
                      </a:lnTo>
                      <a:lnTo>
                        <a:pt x="103" y="77"/>
                      </a:lnTo>
                      <a:lnTo>
                        <a:pt x="124" y="58"/>
                      </a:lnTo>
                      <a:lnTo>
                        <a:pt x="147" y="42"/>
                      </a:lnTo>
                      <a:lnTo>
                        <a:pt x="173" y="26"/>
                      </a:lnTo>
                      <a:lnTo>
                        <a:pt x="202" y="11"/>
                      </a:lnTo>
                      <a:lnTo>
                        <a:pt x="232" y="0"/>
                      </a:lnTo>
                      <a:lnTo>
                        <a:pt x="253" y="0"/>
                      </a:lnTo>
                      <a:lnTo>
                        <a:pt x="273" y="2"/>
                      </a:lnTo>
                      <a:lnTo>
                        <a:pt x="292" y="5"/>
                      </a:lnTo>
                      <a:lnTo>
                        <a:pt x="312" y="8"/>
                      </a:lnTo>
                      <a:lnTo>
                        <a:pt x="330" y="15"/>
                      </a:lnTo>
                      <a:lnTo>
                        <a:pt x="348" y="21"/>
                      </a:lnTo>
                      <a:lnTo>
                        <a:pt x="366" y="29"/>
                      </a:lnTo>
                      <a:lnTo>
                        <a:pt x="384" y="37"/>
                      </a:lnTo>
                      <a:lnTo>
                        <a:pt x="400" y="48"/>
                      </a:lnTo>
                      <a:lnTo>
                        <a:pt x="415" y="59"/>
                      </a:lnTo>
                      <a:lnTo>
                        <a:pt x="427" y="73"/>
                      </a:lnTo>
                      <a:lnTo>
                        <a:pt x="440" y="88"/>
                      </a:lnTo>
                      <a:lnTo>
                        <a:pt x="450" y="103"/>
                      </a:lnTo>
                      <a:lnTo>
                        <a:pt x="460" y="120"/>
                      </a:lnTo>
                      <a:lnTo>
                        <a:pt x="466" y="139"/>
                      </a:lnTo>
                      <a:lnTo>
                        <a:pt x="47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335"/>
                <p:cNvSpPr/>
                <p:nvPr/>
              </p:nvSpPr>
              <p:spPr>
                <a:xfrm>
                  <a:off x="7061400" y="2352240"/>
                  <a:ext cx="102600" cy="148320"/>
                </a:xfrm>
                <a:custGeom>
                  <a:avLst/>
                  <a:gdLst/>
                  <a:ahLst/>
                  <a:rect l="l" t="t" r="r" b="b"/>
                  <a:pathLst>
                    <a:path w="1588" h="2303">
                      <a:moveTo>
                        <a:pt x="1494" y="345"/>
                      </a:moveTo>
                      <a:lnTo>
                        <a:pt x="1503" y="366"/>
                      </a:lnTo>
                      <a:lnTo>
                        <a:pt x="1509" y="387"/>
                      </a:lnTo>
                      <a:lnTo>
                        <a:pt x="1514" y="407"/>
                      </a:lnTo>
                      <a:lnTo>
                        <a:pt x="1517" y="426"/>
                      </a:lnTo>
                      <a:lnTo>
                        <a:pt x="1520" y="446"/>
                      </a:lnTo>
                      <a:lnTo>
                        <a:pt x="1520" y="463"/>
                      </a:lnTo>
                      <a:lnTo>
                        <a:pt x="1520" y="481"/>
                      </a:lnTo>
                      <a:lnTo>
                        <a:pt x="1519" y="499"/>
                      </a:lnTo>
                      <a:lnTo>
                        <a:pt x="1516" y="516"/>
                      </a:lnTo>
                      <a:lnTo>
                        <a:pt x="1512" y="532"/>
                      </a:lnTo>
                      <a:lnTo>
                        <a:pt x="1508" y="549"/>
                      </a:lnTo>
                      <a:lnTo>
                        <a:pt x="1502" y="564"/>
                      </a:lnTo>
                      <a:lnTo>
                        <a:pt x="1494" y="581"/>
                      </a:lnTo>
                      <a:lnTo>
                        <a:pt x="1487" y="596"/>
                      </a:lnTo>
                      <a:lnTo>
                        <a:pt x="1479" y="611"/>
                      </a:lnTo>
                      <a:lnTo>
                        <a:pt x="1470" y="626"/>
                      </a:lnTo>
                      <a:lnTo>
                        <a:pt x="1449" y="653"/>
                      </a:lnTo>
                      <a:lnTo>
                        <a:pt x="1427" y="681"/>
                      </a:lnTo>
                      <a:lnTo>
                        <a:pt x="1402" y="706"/>
                      </a:lnTo>
                      <a:lnTo>
                        <a:pt x="1377" y="731"/>
                      </a:lnTo>
                      <a:lnTo>
                        <a:pt x="1324" y="777"/>
                      </a:lnTo>
                      <a:lnTo>
                        <a:pt x="1269" y="823"/>
                      </a:lnTo>
                      <a:lnTo>
                        <a:pt x="1193" y="852"/>
                      </a:lnTo>
                      <a:lnTo>
                        <a:pt x="1133" y="874"/>
                      </a:lnTo>
                      <a:lnTo>
                        <a:pt x="1107" y="888"/>
                      </a:lnTo>
                      <a:lnTo>
                        <a:pt x="1082" y="900"/>
                      </a:lnTo>
                      <a:lnTo>
                        <a:pt x="1057" y="916"/>
                      </a:lnTo>
                      <a:lnTo>
                        <a:pt x="1032" y="938"/>
                      </a:lnTo>
                      <a:lnTo>
                        <a:pt x="1035" y="947"/>
                      </a:lnTo>
                      <a:lnTo>
                        <a:pt x="1040" y="956"/>
                      </a:lnTo>
                      <a:lnTo>
                        <a:pt x="1045" y="963"/>
                      </a:lnTo>
                      <a:lnTo>
                        <a:pt x="1051" y="969"/>
                      </a:lnTo>
                      <a:lnTo>
                        <a:pt x="1062" y="981"/>
                      </a:lnTo>
                      <a:lnTo>
                        <a:pt x="1077" y="991"/>
                      </a:lnTo>
                      <a:lnTo>
                        <a:pt x="1093" y="997"/>
                      </a:lnTo>
                      <a:lnTo>
                        <a:pt x="1109" y="1001"/>
                      </a:lnTo>
                      <a:lnTo>
                        <a:pt x="1127" y="1007"/>
                      </a:lnTo>
                      <a:lnTo>
                        <a:pt x="1146" y="1009"/>
                      </a:lnTo>
                      <a:lnTo>
                        <a:pt x="1183" y="1013"/>
                      </a:lnTo>
                      <a:lnTo>
                        <a:pt x="1221" y="1019"/>
                      </a:lnTo>
                      <a:lnTo>
                        <a:pt x="1240" y="1024"/>
                      </a:lnTo>
                      <a:lnTo>
                        <a:pt x="1256" y="1030"/>
                      </a:lnTo>
                      <a:lnTo>
                        <a:pt x="1272" y="1037"/>
                      </a:lnTo>
                      <a:lnTo>
                        <a:pt x="1287" y="1047"/>
                      </a:lnTo>
                      <a:lnTo>
                        <a:pt x="1307" y="1059"/>
                      </a:lnTo>
                      <a:lnTo>
                        <a:pt x="1325" y="1069"/>
                      </a:lnTo>
                      <a:lnTo>
                        <a:pt x="1343" y="1081"/>
                      </a:lnTo>
                      <a:lnTo>
                        <a:pt x="1360" y="1092"/>
                      </a:lnTo>
                      <a:lnTo>
                        <a:pt x="1391" y="1118"/>
                      </a:lnTo>
                      <a:lnTo>
                        <a:pt x="1422" y="1145"/>
                      </a:lnTo>
                      <a:lnTo>
                        <a:pt x="1449" y="1175"/>
                      </a:lnTo>
                      <a:lnTo>
                        <a:pt x="1473" y="1207"/>
                      </a:lnTo>
                      <a:lnTo>
                        <a:pt x="1496" y="1239"/>
                      </a:lnTo>
                      <a:lnTo>
                        <a:pt x="1516" y="1275"/>
                      </a:lnTo>
                      <a:lnTo>
                        <a:pt x="1532" y="1310"/>
                      </a:lnTo>
                      <a:lnTo>
                        <a:pt x="1547" y="1347"/>
                      </a:lnTo>
                      <a:lnTo>
                        <a:pt x="1559" y="1385"/>
                      </a:lnTo>
                      <a:lnTo>
                        <a:pt x="1570" y="1425"/>
                      </a:lnTo>
                      <a:lnTo>
                        <a:pt x="1577" y="1463"/>
                      </a:lnTo>
                      <a:lnTo>
                        <a:pt x="1584" y="1503"/>
                      </a:lnTo>
                      <a:lnTo>
                        <a:pt x="1587" y="1546"/>
                      </a:lnTo>
                      <a:lnTo>
                        <a:pt x="1588" y="1585"/>
                      </a:lnTo>
                      <a:lnTo>
                        <a:pt x="1588" y="1608"/>
                      </a:lnTo>
                      <a:lnTo>
                        <a:pt x="1587" y="1630"/>
                      </a:lnTo>
                      <a:lnTo>
                        <a:pt x="1585" y="1653"/>
                      </a:lnTo>
                      <a:lnTo>
                        <a:pt x="1582" y="1674"/>
                      </a:lnTo>
                      <a:lnTo>
                        <a:pt x="1579" y="1697"/>
                      </a:lnTo>
                      <a:lnTo>
                        <a:pt x="1573" y="1718"/>
                      </a:lnTo>
                      <a:lnTo>
                        <a:pt x="1569" y="1739"/>
                      </a:lnTo>
                      <a:lnTo>
                        <a:pt x="1561" y="1760"/>
                      </a:lnTo>
                      <a:lnTo>
                        <a:pt x="1555" y="1779"/>
                      </a:lnTo>
                      <a:lnTo>
                        <a:pt x="1546" y="1800"/>
                      </a:lnTo>
                      <a:lnTo>
                        <a:pt x="1537" y="1819"/>
                      </a:lnTo>
                      <a:lnTo>
                        <a:pt x="1527" y="1839"/>
                      </a:lnTo>
                      <a:lnTo>
                        <a:pt x="1506" y="1876"/>
                      </a:lnTo>
                      <a:lnTo>
                        <a:pt x="1484" y="1913"/>
                      </a:lnTo>
                      <a:lnTo>
                        <a:pt x="1458" y="1948"/>
                      </a:lnTo>
                      <a:lnTo>
                        <a:pt x="1429" y="1983"/>
                      </a:lnTo>
                      <a:lnTo>
                        <a:pt x="1399" y="2015"/>
                      </a:lnTo>
                      <a:lnTo>
                        <a:pt x="1369" y="2046"/>
                      </a:lnTo>
                      <a:lnTo>
                        <a:pt x="1337" y="2078"/>
                      </a:lnTo>
                      <a:lnTo>
                        <a:pt x="1304" y="2107"/>
                      </a:lnTo>
                      <a:lnTo>
                        <a:pt x="1272" y="2134"/>
                      </a:lnTo>
                      <a:lnTo>
                        <a:pt x="1239" y="2160"/>
                      </a:lnTo>
                      <a:lnTo>
                        <a:pt x="1217" y="2175"/>
                      </a:lnTo>
                      <a:lnTo>
                        <a:pt x="1195" y="2185"/>
                      </a:lnTo>
                      <a:lnTo>
                        <a:pt x="1171" y="2199"/>
                      </a:lnTo>
                      <a:lnTo>
                        <a:pt x="1148" y="2210"/>
                      </a:lnTo>
                      <a:lnTo>
                        <a:pt x="1098" y="2231"/>
                      </a:lnTo>
                      <a:lnTo>
                        <a:pt x="1047" y="2250"/>
                      </a:lnTo>
                      <a:lnTo>
                        <a:pt x="995" y="2266"/>
                      </a:lnTo>
                      <a:lnTo>
                        <a:pt x="939" y="2279"/>
                      </a:lnTo>
                      <a:lnTo>
                        <a:pt x="885" y="2290"/>
                      </a:lnTo>
                      <a:lnTo>
                        <a:pt x="829" y="2297"/>
                      </a:lnTo>
                      <a:lnTo>
                        <a:pt x="773" y="2302"/>
                      </a:lnTo>
                      <a:lnTo>
                        <a:pt x="716" y="2303"/>
                      </a:lnTo>
                      <a:lnTo>
                        <a:pt x="688" y="2303"/>
                      </a:lnTo>
                      <a:lnTo>
                        <a:pt x="661" y="2302"/>
                      </a:lnTo>
                      <a:lnTo>
                        <a:pt x="632" y="2299"/>
                      </a:lnTo>
                      <a:lnTo>
                        <a:pt x="605" y="2297"/>
                      </a:lnTo>
                      <a:lnTo>
                        <a:pt x="578" y="2291"/>
                      </a:lnTo>
                      <a:lnTo>
                        <a:pt x="551" y="2287"/>
                      </a:lnTo>
                      <a:lnTo>
                        <a:pt x="524" y="2282"/>
                      </a:lnTo>
                      <a:lnTo>
                        <a:pt x="496" y="2276"/>
                      </a:lnTo>
                      <a:lnTo>
                        <a:pt x="470" y="2267"/>
                      </a:lnTo>
                      <a:lnTo>
                        <a:pt x="445" y="2260"/>
                      </a:lnTo>
                      <a:lnTo>
                        <a:pt x="421" y="2250"/>
                      </a:lnTo>
                      <a:lnTo>
                        <a:pt x="396" y="2238"/>
                      </a:lnTo>
                      <a:lnTo>
                        <a:pt x="339" y="2210"/>
                      </a:lnTo>
                      <a:lnTo>
                        <a:pt x="282" y="2181"/>
                      </a:lnTo>
                      <a:lnTo>
                        <a:pt x="254" y="2164"/>
                      </a:lnTo>
                      <a:lnTo>
                        <a:pt x="227" y="2150"/>
                      </a:lnTo>
                      <a:lnTo>
                        <a:pt x="200" y="2134"/>
                      </a:lnTo>
                      <a:lnTo>
                        <a:pt x="174" y="2117"/>
                      </a:lnTo>
                      <a:lnTo>
                        <a:pt x="150" y="2098"/>
                      </a:lnTo>
                      <a:lnTo>
                        <a:pt x="126" y="2079"/>
                      </a:lnTo>
                      <a:lnTo>
                        <a:pt x="103" y="2058"/>
                      </a:lnTo>
                      <a:lnTo>
                        <a:pt x="82" y="2036"/>
                      </a:lnTo>
                      <a:lnTo>
                        <a:pt x="62" y="2011"/>
                      </a:lnTo>
                      <a:lnTo>
                        <a:pt x="45" y="1984"/>
                      </a:lnTo>
                      <a:lnTo>
                        <a:pt x="29" y="1955"/>
                      </a:lnTo>
                      <a:lnTo>
                        <a:pt x="15" y="1921"/>
                      </a:lnTo>
                      <a:lnTo>
                        <a:pt x="9" y="1894"/>
                      </a:lnTo>
                      <a:lnTo>
                        <a:pt x="5" y="1865"/>
                      </a:lnTo>
                      <a:lnTo>
                        <a:pt x="1" y="1837"/>
                      </a:lnTo>
                      <a:lnTo>
                        <a:pt x="0" y="1809"/>
                      </a:lnTo>
                      <a:lnTo>
                        <a:pt x="0" y="1780"/>
                      </a:lnTo>
                      <a:lnTo>
                        <a:pt x="1" y="1753"/>
                      </a:lnTo>
                      <a:lnTo>
                        <a:pt x="5" y="1726"/>
                      </a:lnTo>
                      <a:lnTo>
                        <a:pt x="9" y="1698"/>
                      </a:lnTo>
                      <a:lnTo>
                        <a:pt x="14" y="1671"/>
                      </a:lnTo>
                      <a:lnTo>
                        <a:pt x="21" y="1644"/>
                      </a:lnTo>
                      <a:lnTo>
                        <a:pt x="29" y="1618"/>
                      </a:lnTo>
                      <a:lnTo>
                        <a:pt x="36" y="1592"/>
                      </a:lnTo>
                      <a:lnTo>
                        <a:pt x="47" y="1567"/>
                      </a:lnTo>
                      <a:lnTo>
                        <a:pt x="56" y="1542"/>
                      </a:lnTo>
                      <a:lnTo>
                        <a:pt x="65" y="1517"/>
                      </a:lnTo>
                      <a:lnTo>
                        <a:pt x="77" y="1494"/>
                      </a:lnTo>
                      <a:lnTo>
                        <a:pt x="101" y="1471"/>
                      </a:lnTo>
                      <a:lnTo>
                        <a:pt x="126" y="1452"/>
                      </a:lnTo>
                      <a:lnTo>
                        <a:pt x="153" y="1434"/>
                      </a:lnTo>
                      <a:lnTo>
                        <a:pt x="180" y="1417"/>
                      </a:lnTo>
                      <a:lnTo>
                        <a:pt x="209" y="1403"/>
                      </a:lnTo>
                      <a:lnTo>
                        <a:pt x="239" y="1392"/>
                      </a:lnTo>
                      <a:lnTo>
                        <a:pt x="269" y="1382"/>
                      </a:lnTo>
                      <a:lnTo>
                        <a:pt x="300" y="1375"/>
                      </a:lnTo>
                      <a:lnTo>
                        <a:pt x="330" y="1370"/>
                      </a:lnTo>
                      <a:lnTo>
                        <a:pt x="363" y="1364"/>
                      </a:lnTo>
                      <a:lnTo>
                        <a:pt x="393" y="1363"/>
                      </a:lnTo>
                      <a:lnTo>
                        <a:pt x="424" y="1363"/>
                      </a:lnTo>
                      <a:lnTo>
                        <a:pt x="454" y="1364"/>
                      </a:lnTo>
                      <a:lnTo>
                        <a:pt x="485" y="1367"/>
                      </a:lnTo>
                      <a:lnTo>
                        <a:pt x="514" y="1373"/>
                      </a:lnTo>
                      <a:lnTo>
                        <a:pt x="542" y="1379"/>
                      </a:lnTo>
                      <a:lnTo>
                        <a:pt x="525" y="1396"/>
                      </a:lnTo>
                      <a:lnTo>
                        <a:pt x="511" y="1411"/>
                      </a:lnTo>
                      <a:lnTo>
                        <a:pt x="496" y="1428"/>
                      </a:lnTo>
                      <a:lnTo>
                        <a:pt x="484" y="1446"/>
                      </a:lnTo>
                      <a:lnTo>
                        <a:pt x="470" y="1463"/>
                      </a:lnTo>
                      <a:lnTo>
                        <a:pt x="458" y="1482"/>
                      </a:lnTo>
                      <a:lnTo>
                        <a:pt x="446" y="1500"/>
                      </a:lnTo>
                      <a:lnTo>
                        <a:pt x="437" y="1520"/>
                      </a:lnTo>
                      <a:lnTo>
                        <a:pt x="417" y="1559"/>
                      </a:lnTo>
                      <a:lnTo>
                        <a:pt x="403" y="1600"/>
                      </a:lnTo>
                      <a:lnTo>
                        <a:pt x="389" y="1642"/>
                      </a:lnTo>
                      <a:lnTo>
                        <a:pt x="378" y="1684"/>
                      </a:lnTo>
                      <a:lnTo>
                        <a:pt x="372" y="1727"/>
                      </a:lnTo>
                      <a:lnTo>
                        <a:pt x="367" y="1771"/>
                      </a:lnTo>
                      <a:lnTo>
                        <a:pt x="366" y="1815"/>
                      </a:lnTo>
                      <a:lnTo>
                        <a:pt x="366" y="1859"/>
                      </a:lnTo>
                      <a:lnTo>
                        <a:pt x="369" y="1903"/>
                      </a:lnTo>
                      <a:lnTo>
                        <a:pt x="375" y="1947"/>
                      </a:lnTo>
                      <a:lnTo>
                        <a:pt x="386" y="1989"/>
                      </a:lnTo>
                      <a:lnTo>
                        <a:pt x="396" y="2033"/>
                      </a:lnTo>
                      <a:lnTo>
                        <a:pt x="399" y="2046"/>
                      </a:lnTo>
                      <a:lnTo>
                        <a:pt x="404" y="2060"/>
                      </a:lnTo>
                      <a:lnTo>
                        <a:pt x="410" y="2072"/>
                      </a:lnTo>
                      <a:lnTo>
                        <a:pt x="416" y="2084"/>
                      </a:lnTo>
                      <a:lnTo>
                        <a:pt x="422" y="2093"/>
                      </a:lnTo>
                      <a:lnTo>
                        <a:pt x="430" y="2104"/>
                      </a:lnTo>
                      <a:lnTo>
                        <a:pt x="439" y="2113"/>
                      </a:lnTo>
                      <a:lnTo>
                        <a:pt x="446" y="2121"/>
                      </a:lnTo>
                      <a:lnTo>
                        <a:pt x="464" y="2134"/>
                      </a:lnTo>
                      <a:lnTo>
                        <a:pt x="485" y="2146"/>
                      </a:lnTo>
                      <a:lnTo>
                        <a:pt x="506" y="2155"/>
                      </a:lnTo>
                      <a:lnTo>
                        <a:pt x="529" y="2163"/>
                      </a:lnTo>
                      <a:lnTo>
                        <a:pt x="575" y="2176"/>
                      </a:lnTo>
                      <a:lnTo>
                        <a:pt x="622" y="2185"/>
                      </a:lnTo>
                      <a:lnTo>
                        <a:pt x="646" y="2190"/>
                      </a:lnTo>
                      <a:lnTo>
                        <a:pt x="669" y="2195"/>
                      </a:lnTo>
                      <a:lnTo>
                        <a:pt x="691" y="2202"/>
                      </a:lnTo>
                      <a:lnTo>
                        <a:pt x="714" y="2208"/>
                      </a:lnTo>
                      <a:lnTo>
                        <a:pt x="738" y="2208"/>
                      </a:lnTo>
                      <a:lnTo>
                        <a:pt x="764" y="2207"/>
                      </a:lnTo>
                      <a:lnTo>
                        <a:pt x="790" y="2203"/>
                      </a:lnTo>
                      <a:lnTo>
                        <a:pt x="814" y="2199"/>
                      </a:lnTo>
                      <a:lnTo>
                        <a:pt x="838" y="2193"/>
                      </a:lnTo>
                      <a:lnTo>
                        <a:pt x="861" y="2187"/>
                      </a:lnTo>
                      <a:lnTo>
                        <a:pt x="883" y="2178"/>
                      </a:lnTo>
                      <a:lnTo>
                        <a:pt x="906" y="2167"/>
                      </a:lnTo>
                      <a:lnTo>
                        <a:pt x="927" y="2157"/>
                      </a:lnTo>
                      <a:lnTo>
                        <a:pt x="948" y="2143"/>
                      </a:lnTo>
                      <a:lnTo>
                        <a:pt x="968" y="2129"/>
                      </a:lnTo>
                      <a:lnTo>
                        <a:pt x="986" y="2113"/>
                      </a:lnTo>
                      <a:lnTo>
                        <a:pt x="1003" y="2095"/>
                      </a:lnTo>
                      <a:lnTo>
                        <a:pt x="1021" y="2076"/>
                      </a:lnTo>
                      <a:lnTo>
                        <a:pt x="1035" y="2055"/>
                      </a:lnTo>
                      <a:lnTo>
                        <a:pt x="1050" y="2033"/>
                      </a:lnTo>
                      <a:lnTo>
                        <a:pt x="1066" y="1908"/>
                      </a:lnTo>
                      <a:lnTo>
                        <a:pt x="1085" y="1773"/>
                      </a:lnTo>
                      <a:lnTo>
                        <a:pt x="1095" y="1703"/>
                      </a:lnTo>
                      <a:lnTo>
                        <a:pt x="1101" y="1632"/>
                      </a:lnTo>
                      <a:lnTo>
                        <a:pt x="1104" y="1595"/>
                      </a:lnTo>
                      <a:lnTo>
                        <a:pt x="1106" y="1559"/>
                      </a:lnTo>
                      <a:lnTo>
                        <a:pt x="1106" y="1524"/>
                      </a:lnTo>
                      <a:lnTo>
                        <a:pt x="1107" y="1490"/>
                      </a:lnTo>
                      <a:lnTo>
                        <a:pt x="1106" y="1455"/>
                      </a:lnTo>
                      <a:lnTo>
                        <a:pt x="1104" y="1421"/>
                      </a:lnTo>
                      <a:lnTo>
                        <a:pt x="1101" y="1385"/>
                      </a:lnTo>
                      <a:lnTo>
                        <a:pt x="1096" y="1353"/>
                      </a:lnTo>
                      <a:lnTo>
                        <a:pt x="1090" y="1319"/>
                      </a:lnTo>
                      <a:lnTo>
                        <a:pt x="1083" y="1289"/>
                      </a:lnTo>
                      <a:lnTo>
                        <a:pt x="1074" y="1257"/>
                      </a:lnTo>
                      <a:lnTo>
                        <a:pt x="1062" y="1228"/>
                      </a:lnTo>
                      <a:lnTo>
                        <a:pt x="1051" y="1198"/>
                      </a:lnTo>
                      <a:lnTo>
                        <a:pt x="1036" y="1169"/>
                      </a:lnTo>
                      <a:lnTo>
                        <a:pt x="1019" y="1143"/>
                      </a:lnTo>
                      <a:lnTo>
                        <a:pt x="1001" y="1118"/>
                      </a:lnTo>
                      <a:lnTo>
                        <a:pt x="980" y="1094"/>
                      </a:lnTo>
                      <a:lnTo>
                        <a:pt x="957" y="1071"/>
                      </a:lnTo>
                      <a:lnTo>
                        <a:pt x="932" y="1050"/>
                      </a:lnTo>
                      <a:lnTo>
                        <a:pt x="903" y="1030"/>
                      </a:lnTo>
                      <a:lnTo>
                        <a:pt x="867" y="1027"/>
                      </a:lnTo>
                      <a:lnTo>
                        <a:pt x="832" y="1026"/>
                      </a:lnTo>
                      <a:lnTo>
                        <a:pt x="798" y="1024"/>
                      </a:lnTo>
                      <a:lnTo>
                        <a:pt x="762" y="1024"/>
                      </a:lnTo>
                      <a:lnTo>
                        <a:pt x="727" y="1024"/>
                      </a:lnTo>
                      <a:lnTo>
                        <a:pt x="690" y="1024"/>
                      </a:lnTo>
                      <a:lnTo>
                        <a:pt x="653" y="1026"/>
                      </a:lnTo>
                      <a:lnTo>
                        <a:pt x="613" y="1026"/>
                      </a:lnTo>
                      <a:lnTo>
                        <a:pt x="620" y="1010"/>
                      </a:lnTo>
                      <a:lnTo>
                        <a:pt x="631" y="997"/>
                      </a:lnTo>
                      <a:lnTo>
                        <a:pt x="641" y="983"/>
                      </a:lnTo>
                      <a:lnTo>
                        <a:pt x="655" y="969"/>
                      </a:lnTo>
                      <a:lnTo>
                        <a:pt x="667" y="957"/>
                      </a:lnTo>
                      <a:lnTo>
                        <a:pt x="681" y="945"/>
                      </a:lnTo>
                      <a:lnTo>
                        <a:pt x="694" y="934"/>
                      </a:lnTo>
                      <a:lnTo>
                        <a:pt x="709" y="923"/>
                      </a:lnTo>
                      <a:lnTo>
                        <a:pt x="774" y="884"/>
                      </a:lnTo>
                      <a:lnTo>
                        <a:pt x="841" y="845"/>
                      </a:lnTo>
                      <a:lnTo>
                        <a:pt x="874" y="826"/>
                      </a:lnTo>
                      <a:lnTo>
                        <a:pt x="906" y="805"/>
                      </a:lnTo>
                      <a:lnTo>
                        <a:pt x="936" y="782"/>
                      </a:lnTo>
                      <a:lnTo>
                        <a:pt x="962" y="758"/>
                      </a:lnTo>
                      <a:lnTo>
                        <a:pt x="976" y="746"/>
                      </a:lnTo>
                      <a:lnTo>
                        <a:pt x="986" y="732"/>
                      </a:lnTo>
                      <a:lnTo>
                        <a:pt x="998" y="718"/>
                      </a:lnTo>
                      <a:lnTo>
                        <a:pt x="1006" y="702"/>
                      </a:lnTo>
                      <a:lnTo>
                        <a:pt x="1014" y="685"/>
                      </a:lnTo>
                      <a:lnTo>
                        <a:pt x="1022" y="670"/>
                      </a:lnTo>
                      <a:lnTo>
                        <a:pt x="1027" y="652"/>
                      </a:lnTo>
                      <a:lnTo>
                        <a:pt x="1032" y="632"/>
                      </a:lnTo>
                      <a:lnTo>
                        <a:pt x="1040" y="561"/>
                      </a:lnTo>
                      <a:lnTo>
                        <a:pt x="1050" y="487"/>
                      </a:lnTo>
                      <a:lnTo>
                        <a:pt x="1053" y="451"/>
                      </a:lnTo>
                      <a:lnTo>
                        <a:pt x="1054" y="415"/>
                      </a:lnTo>
                      <a:lnTo>
                        <a:pt x="1054" y="378"/>
                      </a:lnTo>
                      <a:lnTo>
                        <a:pt x="1051" y="342"/>
                      </a:lnTo>
                      <a:lnTo>
                        <a:pt x="1047" y="307"/>
                      </a:lnTo>
                      <a:lnTo>
                        <a:pt x="1038" y="272"/>
                      </a:lnTo>
                      <a:lnTo>
                        <a:pt x="1033" y="257"/>
                      </a:lnTo>
                      <a:lnTo>
                        <a:pt x="1027" y="240"/>
                      </a:lnTo>
                      <a:lnTo>
                        <a:pt x="1021" y="224"/>
                      </a:lnTo>
                      <a:lnTo>
                        <a:pt x="1012" y="210"/>
                      </a:lnTo>
                      <a:lnTo>
                        <a:pt x="1003" y="195"/>
                      </a:lnTo>
                      <a:lnTo>
                        <a:pt x="994" y="181"/>
                      </a:lnTo>
                      <a:lnTo>
                        <a:pt x="980" y="168"/>
                      </a:lnTo>
                      <a:lnTo>
                        <a:pt x="968" y="154"/>
                      </a:lnTo>
                      <a:lnTo>
                        <a:pt x="954" y="142"/>
                      </a:lnTo>
                      <a:lnTo>
                        <a:pt x="938" y="130"/>
                      </a:lnTo>
                      <a:lnTo>
                        <a:pt x="922" y="118"/>
                      </a:lnTo>
                      <a:lnTo>
                        <a:pt x="903" y="107"/>
                      </a:lnTo>
                      <a:lnTo>
                        <a:pt x="880" y="102"/>
                      </a:lnTo>
                      <a:lnTo>
                        <a:pt x="858" y="98"/>
                      </a:lnTo>
                      <a:lnTo>
                        <a:pt x="835" y="95"/>
                      </a:lnTo>
                      <a:lnTo>
                        <a:pt x="811" y="94"/>
                      </a:lnTo>
                      <a:lnTo>
                        <a:pt x="787" y="94"/>
                      </a:lnTo>
                      <a:lnTo>
                        <a:pt x="764" y="94"/>
                      </a:lnTo>
                      <a:lnTo>
                        <a:pt x="740" y="97"/>
                      </a:lnTo>
                      <a:lnTo>
                        <a:pt x="717" y="100"/>
                      </a:lnTo>
                      <a:lnTo>
                        <a:pt x="694" y="107"/>
                      </a:lnTo>
                      <a:lnTo>
                        <a:pt x="672" y="113"/>
                      </a:lnTo>
                      <a:lnTo>
                        <a:pt x="652" y="121"/>
                      </a:lnTo>
                      <a:lnTo>
                        <a:pt x="631" y="131"/>
                      </a:lnTo>
                      <a:lnTo>
                        <a:pt x="609" y="142"/>
                      </a:lnTo>
                      <a:lnTo>
                        <a:pt x="590" y="156"/>
                      </a:lnTo>
                      <a:lnTo>
                        <a:pt x="572" y="169"/>
                      </a:lnTo>
                      <a:lnTo>
                        <a:pt x="555" y="187"/>
                      </a:lnTo>
                      <a:lnTo>
                        <a:pt x="543" y="205"/>
                      </a:lnTo>
                      <a:lnTo>
                        <a:pt x="534" y="224"/>
                      </a:lnTo>
                      <a:lnTo>
                        <a:pt x="524" y="245"/>
                      </a:lnTo>
                      <a:lnTo>
                        <a:pt x="517" y="266"/>
                      </a:lnTo>
                      <a:lnTo>
                        <a:pt x="513" y="289"/>
                      </a:lnTo>
                      <a:lnTo>
                        <a:pt x="508" y="313"/>
                      </a:lnTo>
                      <a:lnTo>
                        <a:pt x="506" y="336"/>
                      </a:lnTo>
                      <a:lnTo>
                        <a:pt x="505" y="360"/>
                      </a:lnTo>
                      <a:lnTo>
                        <a:pt x="505" y="384"/>
                      </a:lnTo>
                      <a:lnTo>
                        <a:pt x="506" y="408"/>
                      </a:lnTo>
                      <a:lnTo>
                        <a:pt x="510" y="433"/>
                      </a:lnTo>
                      <a:lnTo>
                        <a:pt x="514" y="455"/>
                      </a:lnTo>
                      <a:lnTo>
                        <a:pt x="519" y="478"/>
                      </a:lnTo>
                      <a:lnTo>
                        <a:pt x="525" y="500"/>
                      </a:lnTo>
                      <a:lnTo>
                        <a:pt x="532" y="520"/>
                      </a:lnTo>
                      <a:lnTo>
                        <a:pt x="542" y="540"/>
                      </a:lnTo>
                      <a:lnTo>
                        <a:pt x="548" y="550"/>
                      </a:lnTo>
                      <a:lnTo>
                        <a:pt x="556" y="560"/>
                      </a:lnTo>
                      <a:lnTo>
                        <a:pt x="566" y="570"/>
                      </a:lnTo>
                      <a:lnTo>
                        <a:pt x="575" y="578"/>
                      </a:lnTo>
                      <a:lnTo>
                        <a:pt x="596" y="591"/>
                      </a:lnTo>
                      <a:lnTo>
                        <a:pt x="616" y="603"/>
                      </a:lnTo>
                      <a:lnTo>
                        <a:pt x="626" y="611"/>
                      </a:lnTo>
                      <a:lnTo>
                        <a:pt x="635" y="618"/>
                      </a:lnTo>
                      <a:lnTo>
                        <a:pt x="643" y="626"/>
                      </a:lnTo>
                      <a:lnTo>
                        <a:pt x="652" y="634"/>
                      </a:lnTo>
                      <a:lnTo>
                        <a:pt x="656" y="644"/>
                      </a:lnTo>
                      <a:lnTo>
                        <a:pt x="661" y="655"/>
                      </a:lnTo>
                      <a:lnTo>
                        <a:pt x="664" y="668"/>
                      </a:lnTo>
                      <a:lnTo>
                        <a:pt x="664" y="681"/>
                      </a:lnTo>
                      <a:lnTo>
                        <a:pt x="648" y="691"/>
                      </a:lnTo>
                      <a:lnTo>
                        <a:pt x="631" y="699"/>
                      </a:lnTo>
                      <a:lnTo>
                        <a:pt x="611" y="705"/>
                      </a:lnTo>
                      <a:lnTo>
                        <a:pt x="591" y="714"/>
                      </a:lnTo>
                      <a:lnTo>
                        <a:pt x="570" y="718"/>
                      </a:lnTo>
                      <a:lnTo>
                        <a:pt x="549" y="723"/>
                      </a:lnTo>
                      <a:lnTo>
                        <a:pt x="529" y="728"/>
                      </a:lnTo>
                      <a:lnTo>
                        <a:pt x="508" y="729"/>
                      </a:lnTo>
                      <a:lnTo>
                        <a:pt x="487" y="731"/>
                      </a:lnTo>
                      <a:lnTo>
                        <a:pt x="466" y="731"/>
                      </a:lnTo>
                      <a:lnTo>
                        <a:pt x="445" y="731"/>
                      </a:lnTo>
                      <a:lnTo>
                        <a:pt x="424" y="728"/>
                      </a:lnTo>
                      <a:lnTo>
                        <a:pt x="403" y="723"/>
                      </a:lnTo>
                      <a:lnTo>
                        <a:pt x="384" y="717"/>
                      </a:lnTo>
                      <a:lnTo>
                        <a:pt x="364" y="708"/>
                      </a:lnTo>
                      <a:lnTo>
                        <a:pt x="346" y="699"/>
                      </a:lnTo>
                      <a:lnTo>
                        <a:pt x="333" y="694"/>
                      </a:lnTo>
                      <a:lnTo>
                        <a:pt x="319" y="687"/>
                      </a:lnTo>
                      <a:lnTo>
                        <a:pt x="306" y="679"/>
                      </a:lnTo>
                      <a:lnTo>
                        <a:pt x="293" y="673"/>
                      </a:lnTo>
                      <a:lnTo>
                        <a:pt x="271" y="655"/>
                      </a:lnTo>
                      <a:lnTo>
                        <a:pt x="250" y="635"/>
                      </a:lnTo>
                      <a:lnTo>
                        <a:pt x="232" y="614"/>
                      </a:lnTo>
                      <a:lnTo>
                        <a:pt x="216" y="593"/>
                      </a:lnTo>
                      <a:lnTo>
                        <a:pt x="203" y="568"/>
                      </a:lnTo>
                      <a:lnTo>
                        <a:pt x="192" y="543"/>
                      </a:lnTo>
                      <a:lnTo>
                        <a:pt x="182" y="514"/>
                      </a:lnTo>
                      <a:lnTo>
                        <a:pt x="177" y="487"/>
                      </a:lnTo>
                      <a:lnTo>
                        <a:pt x="172" y="458"/>
                      </a:lnTo>
                      <a:lnTo>
                        <a:pt x="171" y="431"/>
                      </a:lnTo>
                      <a:lnTo>
                        <a:pt x="172" y="402"/>
                      </a:lnTo>
                      <a:lnTo>
                        <a:pt x="175" y="373"/>
                      </a:lnTo>
                      <a:lnTo>
                        <a:pt x="180" y="343"/>
                      </a:lnTo>
                      <a:lnTo>
                        <a:pt x="189" y="315"/>
                      </a:lnTo>
                      <a:lnTo>
                        <a:pt x="193" y="299"/>
                      </a:lnTo>
                      <a:lnTo>
                        <a:pt x="198" y="283"/>
                      </a:lnTo>
                      <a:lnTo>
                        <a:pt x="204" y="268"/>
                      </a:lnTo>
                      <a:lnTo>
                        <a:pt x="210" y="252"/>
                      </a:lnTo>
                      <a:lnTo>
                        <a:pt x="219" y="237"/>
                      </a:lnTo>
                      <a:lnTo>
                        <a:pt x="227" y="224"/>
                      </a:lnTo>
                      <a:lnTo>
                        <a:pt x="237" y="212"/>
                      </a:lnTo>
                      <a:lnTo>
                        <a:pt x="247" y="197"/>
                      </a:lnTo>
                      <a:lnTo>
                        <a:pt x="268" y="173"/>
                      </a:lnTo>
                      <a:lnTo>
                        <a:pt x="292" y="150"/>
                      </a:lnTo>
                      <a:lnTo>
                        <a:pt x="318" y="130"/>
                      </a:lnTo>
                      <a:lnTo>
                        <a:pt x="343" y="110"/>
                      </a:lnTo>
                      <a:lnTo>
                        <a:pt x="372" y="92"/>
                      </a:lnTo>
                      <a:lnTo>
                        <a:pt x="401" y="76"/>
                      </a:lnTo>
                      <a:lnTo>
                        <a:pt x="432" y="63"/>
                      </a:lnTo>
                      <a:lnTo>
                        <a:pt x="463" y="50"/>
                      </a:lnTo>
                      <a:lnTo>
                        <a:pt x="493" y="39"/>
                      </a:lnTo>
                      <a:lnTo>
                        <a:pt x="524" y="29"/>
                      </a:lnTo>
                      <a:lnTo>
                        <a:pt x="555" y="21"/>
                      </a:lnTo>
                      <a:lnTo>
                        <a:pt x="585" y="15"/>
                      </a:lnTo>
                      <a:lnTo>
                        <a:pt x="620" y="10"/>
                      </a:lnTo>
                      <a:lnTo>
                        <a:pt x="655" y="7"/>
                      </a:lnTo>
                      <a:lnTo>
                        <a:pt x="688" y="3"/>
                      </a:lnTo>
                      <a:lnTo>
                        <a:pt x="722" y="2"/>
                      </a:lnTo>
                      <a:lnTo>
                        <a:pt x="756" y="0"/>
                      </a:lnTo>
                      <a:lnTo>
                        <a:pt x="790" y="0"/>
                      </a:lnTo>
                      <a:lnTo>
                        <a:pt x="823" y="2"/>
                      </a:lnTo>
                      <a:lnTo>
                        <a:pt x="856" y="3"/>
                      </a:lnTo>
                      <a:lnTo>
                        <a:pt x="888" y="7"/>
                      </a:lnTo>
                      <a:lnTo>
                        <a:pt x="921" y="10"/>
                      </a:lnTo>
                      <a:lnTo>
                        <a:pt x="951" y="15"/>
                      </a:lnTo>
                      <a:lnTo>
                        <a:pt x="982" y="21"/>
                      </a:lnTo>
                      <a:lnTo>
                        <a:pt x="1014" y="27"/>
                      </a:lnTo>
                      <a:lnTo>
                        <a:pt x="1043" y="35"/>
                      </a:lnTo>
                      <a:lnTo>
                        <a:pt x="1074" y="44"/>
                      </a:lnTo>
                      <a:lnTo>
                        <a:pt x="1103" y="53"/>
                      </a:lnTo>
                      <a:lnTo>
                        <a:pt x="1132" y="63"/>
                      </a:lnTo>
                      <a:lnTo>
                        <a:pt x="1161" y="74"/>
                      </a:lnTo>
                      <a:lnTo>
                        <a:pt x="1189" y="88"/>
                      </a:lnTo>
                      <a:lnTo>
                        <a:pt x="1216" y="100"/>
                      </a:lnTo>
                      <a:lnTo>
                        <a:pt x="1243" y="115"/>
                      </a:lnTo>
                      <a:lnTo>
                        <a:pt x="1269" y="131"/>
                      </a:lnTo>
                      <a:lnTo>
                        <a:pt x="1295" y="147"/>
                      </a:lnTo>
                      <a:lnTo>
                        <a:pt x="1319" y="165"/>
                      </a:lnTo>
                      <a:lnTo>
                        <a:pt x="1343" y="184"/>
                      </a:lnTo>
                      <a:lnTo>
                        <a:pt x="1367" y="204"/>
                      </a:lnTo>
                      <a:lnTo>
                        <a:pt x="1390" y="224"/>
                      </a:lnTo>
                      <a:lnTo>
                        <a:pt x="1413" y="247"/>
                      </a:lnTo>
                      <a:lnTo>
                        <a:pt x="1435" y="269"/>
                      </a:lnTo>
                      <a:lnTo>
                        <a:pt x="1456" y="294"/>
                      </a:lnTo>
                      <a:lnTo>
                        <a:pt x="1475" y="319"/>
                      </a:lnTo>
                      <a:lnTo>
                        <a:pt x="1494" y="34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336"/>
                <p:cNvSpPr/>
                <p:nvPr/>
              </p:nvSpPr>
              <p:spPr>
                <a:xfrm>
                  <a:off x="6299640" y="2360880"/>
                  <a:ext cx="96480" cy="144720"/>
                </a:xfrm>
                <a:custGeom>
                  <a:avLst/>
                  <a:gdLst/>
                  <a:ahLst/>
                  <a:rect l="l" t="t" r="r" b="b"/>
                  <a:pathLst>
                    <a:path w="1498" h="2244">
                      <a:moveTo>
                        <a:pt x="1213" y="225"/>
                      </a:moveTo>
                      <a:lnTo>
                        <a:pt x="1239" y="257"/>
                      </a:lnTo>
                      <a:lnTo>
                        <a:pt x="1263" y="291"/>
                      </a:lnTo>
                      <a:lnTo>
                        <a:pt x="1287" y="326"/>
                      </a:lnTo>
                      <a:lnTo>
                        <a:pt x="1310" y="361"/>
                      </a:lnTo>
                      <a:lnTo>
                        <a:pt x="1330" y="397"/>
                      </a:lnTo>
                      <a:lnTo>
                        <a:pt x="1350" y="435"/>
                      </a:lnTo>
                      <a:lnTo>
                        <a:pt x="1368" y="472"/>
                      </a:lnTo>
                      <a:lnTo>
                        <a:pt x="1386" y="509"/>
                      </a:lnTo>
                      <a:lnTo>
                        <a:pt x="1401" y="547"/>
                      </a:lnTo>
                      <a:lnTo>
                        <a:pt x="1416" y="586"/>
                      </a:lnTo>
                      <a:lnTo>
                        <a:pt x="1428" y="627"/>
                      </a:lnTo>
                      <a:lnTo>
                        <a:pt x="1440" y="667"/>
                      </a:lnTo>
                      <a:lnTo>
                        <a:pt x="1451" y="707"/>
                      </a:lnTo>
                      <a:lnTo>
                        <a:pt x="1461" y="750"/>
                      </a:lnTo>
                      <a:lnTo>
                        <a:pt x="1469" y="789"/>
                      </a:lnTo>
                      <a:lnTo>
                        <a:pt x="1477" y="831"/>
                      </a:lnTo>
                      <a:lnTo>
                        <a:pt x="1484" y="874"/>
                      </a:lnTo>
                      <a:lnTo>
                        <a:pt x="1489" y="917"/>
                      </a:lnTo>
                      <a:lnTo>
                        <a:pt x="1493" y="959"/>
                      </a:lnTo>
                      <a:lnTo>
                        <a:pt x="1495" y="1001"/>
                      </a:lnTo>
                      <a:lnTo>
                        <a:pt x="1498" y="1045"/>
                      </a:lnTo>
                      <a:lnTo>
                        <a:pt x="1498" y="1088"/>
                      </a:lnTo>
                      <a:lnTo>
                        <a:pt x="1498" y="1130"/>
                      </a:lnTo>
                      <a:lnTo>
                        <a:pt x="1496" y="1173"/>
                      </a:lnTo>
                      <a:lnTo>
                        <a:pt x="1495" y="1217"/>
                      </a:lnTo>
                      <a:lnTo>
                        <a:pt x="1492" y="1259"/>
                      </a:lnTo>
                      <a:lnTo>
                        <a:pt x="1487" y="1302"/>
                      </a:lnTo>
                      <a:lnTo>
                        <a:pt x="1482" y="1344"/>
                      </a:lnTo>
                      <a:lnTo>
                        <a:pt x="1475" y="1388"/>
                      </a:lnTo>
                      <a:lnTo>
                        <a:pt x="1468" y="1430"/>
                      </a:lnTo>
                      <a:lnTo>
                        <a:pt x="1460" y="1471"/>
                      </a:lnTo>
                      <a:lnTo>
                        <a:pt x="1451" y="1514"/>
                      </a:lnTo>
                      <a:lnTo>
                        <a:pt x="1428" y="1574"/>
                      </a:lnTo>
                      <a:lnTo>
                        <a:pt x="1403" y="1631"/>
                      </a:lnTo>
                      <a:lnTo>
                        <a:pt x="1375" y="1691"/>
                      </a:lnTo>
                      <a:lnTo>
                        <a:pt x="1343" y="1749"/>
                      </a:lnTo>
                      <a:lnTo>
                        <a:pt x="1310" y="1805"/>
                      </a:lnTo>
                      <a:lnTo>
                        <a:pt x="1272" y="1862"/>
                      </a:lnTo>
                      <a:lnTo>
                        <a:pt x="1253" y="1890"/>
                      </a:lnTo>
                      <a:lnTo>
                        <a:pt x="1232" y="1917"/>
                      </a:lnTo>
                      <a:lnTo>
                        <a:pt x="1212" y="1943"/>
                      </a:lnTo>
                      <a:lnTo>
                        <a:pt x="1189" y="1969"/>
                      </a:lnTo>
                      <a:lnTo>
                        <a:pt x="1166" y="1993"/>
                      </a:lnTo>
                      <a:lnTo>
                        <a:pt x="1144" y="2017"/>
                      </a:lnTo>
                      <a:lnTo>
                        <a:pt x="1120" y="2041"/>
                      </a:lnTo>
                      <a:lnTo>
                        <a:pt x="1095" y="2062"/>
                      </a:lnTo>
                      <a:lnTo>
                        <a:pt x="1070" y="2085"/>
                      </a:lnTo>
                      <a:lnTo>
                        <a:pt x="1044" y="2105"/>
                      </a:lnTo>
                      <a:lnTo>
                        <a:pt x="1018" y="2125"/>
                      </a:lnTo>
                      <a:lnTo>
                        <a:pt x="990" y="2143"/>
                      </a:lnTo>
                      <a:lnTo>
                        <a:pt x="963" y="2161"/>
                      </a:lnTo>
                      <a:lnTo>
                        <a:pt x="934" y="2176"/>
                      </a:lnTo>
                      <a:lnTo>
                        <a:pt x="905" y="2191"/>
                      </a:lnTo>
                      <a:lnTo>
                        <a:pt x="874" y="2203"/>
                      </a:lnTo>
                      <a:lnTo>
                        <a:pt x="843" y="2215"/>
                      </a:lnTo>
                      <a:lnTo>
                        <a:pt x="813" y="2226"/>
                      </a:lnTo>
                      <a:lnTo>
                        <a:pt x="781" y="2235"/>
                      </a:lnTo>
                      <a:lnTo>
                        <a:pt x="748" y="2243"/>
                      </a:lnTo>
                      <a:lnTo>
                        <a:pt x="698" y="2244"/>
                      </a:lnTo>
                      <a:lnTo>
                        <a:pt x="648" y="2244"/>
                      </a:lnTo>
                      <a:lnTo>
                        <a:pt x="600" y="2243"/>
                      </a:lnTo>
                      <a:lnTo>
                        <a:pt x="553" y="2238"/>
                      </a:lnTo>
                      <a:lnTo>
                        <a:pt x="508" y="2232"/>
                      </a:lnTo>
                      <a:lnTo>
                        <a:pt x="463" y="2223"/>
                      </a:lnTo>
                      <a:lnTo>
                        <a:pt x="419" y="2212"/>
                      </a:lnTo>
                      <a:lnTo>
                        <a:pt x="377" y="2197"/>
                      </a:lnTo>
                      <a:lnTo>
                        <a:pt x="356" y="2190"/>
                      </a:lnTo>
                      <a:lnTo>
                        <a:pt x="338" y="2182"/>
                      </a:lnTo>
                      <a:lnTo>
                        <a:pt x="318" y="2171"/>
                      </a:lnTo>
                      <a:lnTo>
                        <a:pt x="298" y="2161"/>
                      </a:lnTo>
                      <a:lnTo>
                        <a:pt x="279" y="2150"/>
                      </a:lnTo>
                      <a:lnTo>
                        <a:pt x="259" y="2138"/>
                      </a:lnTo>
                      <a:lnTo>
                        <a:pt x="242" y="2126"/>
                      </a:lnTo>
                      <a:lnTo>
                        <a:pt x="224" y="2112"/>
                      </a:lnTo>
                      <a:lnTo>
                        <a:pt x="208" y="2097"/>
                      </a:lnTo>
                      <a:lnTo>
                        <a:pt x="191" y="2082"/>
                      </a:lnTo>
                      <a:lnTo>
                        <a:pt x="174" y="2067"/>
                      </a:lnTo>
                      <a:lnTo>
                        <a:pt x="158" y="2051"/>
                      </a:lnTo>
                      <a:lnTo>
                        <a:pt x="144" y="2033"/>
                      </a:lnTo>
                      <a:lnTo>
                        <a:pt x="129" y="2014"/>
                      </a:lnTo>
                      <a:lnTo>
                        <a:pt x="114" y="1994"/>
                      </a:lnTo>
                      <a:lnTo>
                        <a:pt x="100" y="1973"/>
                      </a:lnTo>
                      <a:lnTo>
                        <a:pt x="91" y="1954"/>
                      </a:lnTo>
                      <a:lnTo>
                        <a:pt x="84" y="1934"/>
                      </a:lnTo>
                      <a:lnTo>
                        <a:pt x="78" y="1912"/>
                      </a:lnTo>
                      <a:lnTo>
                        <a:pt x="73" y="1891"/>
                      </a:lnTo>
                      <a:lnTo>
                        <a:pt x="67" y="1867"/>
                      </a:lnTo>
                      <a:lnTo>
                        <a:pt x="66" y="1845"/>
                      </a:lnTo>
                      <a:lnTo>
                        <a:pt x="64" y="1820"/>
                      </a:lnTo>
                      <a:lnTo>
                        <a:pt x="63" y="1796"/>
                      </a:lnTo>
                      <a:lnTo>
                        <a:pt x="64" y="1772"/>
                      </a:lnTo>
                      <a:lnTo>
                        <a:pt x="67" y="1748"/>
                      </a:lnTo>
                      <a:lnTo>
                        <a:pt x="71" y="1725"/>
                      </a:lnTo>
                      <a:lnTo>
                        <a:pt x="76" y="1702"/>
                      </a:lnTo>
                      <a:lnTo>
                        <a:pt x="84" y="1681"/>
                      </a:lnTo>
                      <a:lnTo>
                        <a:pt x="91" y="1660"/>
                      </a:lnTo>
                      <a:lnTo>
                        <a:pt x="102" y="1642"/>
                      </a:lnTo>
                      <a:lnTo>
                        <a:pt x="113" y="1625"/>
                      </a:lnTo>
                      <a:lnTo>
                        <a:pt x="129" y="1603"/>
                      </a:lnTo>
                      <a:lnTo>
                        <a:pt x="149" y="1583"/>
                      </a:lnTo>
                      <a:lnTo>
                        <a:pt x="168" y="1565"/>
                      </a:lnTo>
                      <a:lnTo>
                        <a:pt x="187" y="1553"/>
                      </a:lnTo>
                      <a:lnTo>
                        <a:pt x="209" y="1539"/>
                      </a:lnTo>
                      <a:lnTo>
                        <a:pt x="232" y="1532"/>
                      </a:lnTo>
                      <a:lnTo>
                        <a:pt x="256" y="1524"/>
                      </a:lnTo>
                      <a:lnTo>
                        <a:pt x="280" y="1518"/>
                      </a:lnTo>
                      <a:lnTo>
                        <a:pt x="305" y="1515"/>
                      </a:lnTo>
                      <a:lnTo>
                        <a:pt x="329" y="1514"/>
                      </a:lnTo>
                      <a:lnTo>
                        <a:pt x="355" y="1512"/>
                      </a:lnTo>
                      <a:lnTo>
                        <a:pt x="380" y="1514"/>
                      </a:lnTo>
                      <a:lnTo>
                        <a:pt x="404" y="1515"/>
                      </a:lnTo>
                      <a:lnTo>
                        <a:pt x="430" y="1518"/>
                      </a:lnTo>
                      <a:lnTo>
                        <a:pt x="454" y="1524"/>
                      </a:lnTo>
                      <a:lnTo>
                        <a:pt x="479" y="1528"/>
                      </a:lnTo>
                      <a:lnTo>
                        <a:pt x="489" y="1536"/>
                      </a:lnTo>
                      <a:lnTo>
                        <a:pt x="495" y="1544"/>
                      </a:lnTo>
                      <a:lnTo>
                        <a:pt x="501" y="1553"/>
                      </a:lnTo>
                      <a:lnTo>
                        <a:pt x="507" y="1560"/>
                      </a:lnTo>
                      <a:lnTo>
                        <a:pt x="508" y="1568"/>
                      </a:lnTo>
                      <a:lnTo>
                        <a:pt x="512" y="1577"/>
                      </a:lnTo>
                      <a:lnTo>
                        <a:pt x="512" y="1585"/>
                      </a:lnTo>
                      <a:lnTo>
                        <a:pt x="512" y="1592"/>
                      </a:lnTo>
                      <a:lnTo>
                        <a:pt x="508" y="1607"/>
                      </a:lnTo>
                      <a:lnTo>
                        <a:pt x="501" y="1622"/>
                      </a:lnTo>
                      <a:lnTo>
                        <a:pt x="492" y="1636"/>
                      </a:lnTo>
                      <a:lnTo>
                        <a:pt x="480" y="1651"/>
                      </a:lnTo>
                      <a:lnTo>
                        <a:pt x="456" y="1678"/>
                      </a:lnTo>
                      <a:lnTo>
                        <a:pt x="430" y="1707"/>
                      </a:lnTo>
                      <a:lnTo>
                        <a:pt x="419" y="1721"/>
                      </a:lnTo>
                      <a:lnTo>
                        <a:pt x="410" y="1736"/>
                      </a:lnTo>
                      <a:lnTo>
                        <a:pt x="403" y="1751"/>
                      </a:lnTo>
                      <a:lnTo>
                        <a:pt x="400" y="1765"/>
                      </a:lnTo>
                      <a:lnTo>
                        <a:pt x="395" y="1795"/>
                      </a:lnTo>
                      <a:lnTo>
                        <a:pt x="392" y="1823"/>
                      </a:lnTo>
                      <a:lnTo>
                        <a:pt x="392" y="1852"/>
                      </a:lnTo>
                      <a:lnTo>
                        <a:pt x="394" y="1881"/>
                      </a:lnTo>
                      <a:lnTo>
                        <a:pt x="398" y="1908"/>
                      </a:lnTo>
                      <a:lnTo>
                        <a:pt x="404" y="1938"/>
                      </a:lnTo>
                      <a:lnTo>
                        <a:pt x="415" y="1966"/>
                      </a:lnTo>
                      <a:lnTo>
                        <a:pt x="426" y="1991"/>
                      </a:lnTo>
                      <a:lnTo>
                        <a:pt x="439" y="2017"/>
                      </a:lnTo>
                      <a:lnTo>
                        <a:pt x="454" y="2041"/>
                      </a:lnTo>
                      <a:lnTo>
                        <a:pt x="472" y="2064"/>
                      </a:lnTo>
                      <a:lnTo>
                        <a:pt x="492" y="2085"/>
                      </a:lnTo>
                      <a:lnTo>
                        <a:pt x="515" y="2104"/>
                      </a:lnTo>
                      <a:lnTo>
                        <a:pt x="537" y="2122"/>
                      </a:lnTo>
                      <a:lnTo>
                        <a:pt x="563" y="2138"/>
                      </a:lnTo>
                      <a:lnTo>
                        <a:pt x="590" y="2150"/>
                      </a:lnTo>
                      <a:lnTo>
                        <a:pt x="607" y="2158"/>
                      </a:lnTo>
                      <a:lnTo>
                        <a:pt x="621" y="2162"/>
                      </a:lnTo>
                      <a:lnTo>
                        <a:pt x="637" y="2167"/>
                      </a:lnTo>
                      <a:lnTo>
                        <a:pt x="651" y="2170"/>
                      </a:lnTo>
                      <a:lnTo>
                        <a:pt x="666" y="2171"/>
                      </a:lnTo>
                      <a:lnTo>
                        <a:pt x="682" y="2173"/>
                      </a:lnTo>
                      <a:lnTo>
                        <a:pt x="696" y="2173"/>
                      </a:lnTo>
                      <a:lnTo>
                        <a:pt x="711" y="2171"/>
                      </a:lnTo>
                      <a:lnTo>
                        <a:pt x="726" y="2170"/>
                      </a:lnTo>
                      <a:lnTo>
                        <a:pt x="739" y="2167"/>
                      </a:lnTo>
                      <a:lnTo>
                        <a:pt x="753" y="2164"/>
                      </a:lnTo>
                      <a:lnTo>
                        <a:pt x="766" y="2159"/>
                      </a:lnTo>
                      <a:lnTo>
                        <a:pt x="793" y="2147"/>
                      </a:lnTo>
                      <a:lnTo>
                        <a:pt x="817" y="2133"/>
                      </a:lnTo>
                      <a:lnTo>
                        <a:pt x="843" y="2115"/>
                      </a:lnTo>
                      <a:lnTo>
                        <a:pt x="866" y="2096"/>
                      </a:lnTo>
                      <a:lnTo>
                        <a:pt x="887" y="2075"/>
                      </a:lnTo>
                      <a:lnTo>
                        <a:pt x="908" y="2054"/>
                      </a:lnTo>
                      <a:lnTo>
                        <a:pt x="928" y="2029"/>
                      </a:lnTo>
                      <a:lnTo>
                        <a:pt x="944" y="2005"/>
                      </a:lnTo>
                      <a:lnTo>
                        <a:pt x="959" y="1981"/>
                      </a:lnTo>
                      <a:lnTo>
                        <a:pt x="974" y="1955"/>
                      </a:lnTo>
                      <a:lnTo>
                        <a:pt x="987" y="1914"/>
                      </a:lnTo>
                      <a:lnTo>
                        <a:pt x="999" y="1870"/>
                      </a:lnTo>
                      <a:lnTo>
                        <a:pt x="1008" y="1827"/>
                      </a:lnTo>
                      <a:lnTo>
                        <a:pt x="1014" y="1781"/>
                      </a:lnTo>
                      <a:lnTo>
                        <a:pt x="1021" y="1736"/>
                      </a:lnTo>
                      <a:lnTo>
                        <a:pt x="1024" y="1689"/>
                      </a:lnTo>
                      <a:lnTo>
                        <a:pt x="1027" y="1642"/>
                      </a:lnTo>
                      <a:lnTo>
                        <a:pt x="1030" y="1595"/>
                      </a:lnTo>
                      <a:lnTo>
                        <a:pt x="1035" y="1503"/>
                      </a:lnTo>
                      <a:lnTo>
                        <a:pt x="1042" y="1409"/>
                      </a:lnTo>
                      <a:lnTo>
                        <a:pt x="1045" y="1362"/>
                      </a:lnTo>
                      <a:lnTo>
                        <a:pt x="1052" y="1317"/>
                      </a:lnTo>
                      <a:lnTo>
                        <a:pt x="1058" y="1272"/>
                      </a:lnTo>
                      <a:lnTo>
                        <a:pt x="1067" y="1228"/>
                      </a:lnTo>
                      <a:lnTo>
                        <a:pt x="1017" y="1262"/>
                      </a:lnTo>
                      <a:lnTo>
                        <a:pt x="966" y="1294"/>
                      </a:lnTo>
                      <a:lnTo>
                        <a:pt x="940" y="1309"/>
                      </a:lnTo>
                      <a:lnTo>
                        <a:pt x="911" y="1322"/>
                      </a:lnTo>
                      <a:lnTo>
                        <a:pt x="897" y="1326"/>
                      </a:lnTo>
                      <a:lnTo>
                        <a:pt x="881" y="1332"/>
                      </a:lnTo>
                      <a:lnTo>
                        <a:pt x="864" y="1335"/>
                      </a:lnTo>
                      <a:lnTo>
                        <a:pt x="847" y="1338"/>
                      </a:lnTo>
                      <a:lnTo>
                        <a:pt x="829" y="1344"/>
                      </a:lnTo>
                      <a:lnTo>
                        <a:pt x="813" y="1350"/>
                      </a:lnTo>
                      <a:lnTo>
                        <a:pt x="796" y="1356"/>
                      </a:lnTo>
                      <a:lnTo>
                        <a:pt x="779" y="1361"/>
                      </a:lnTo>
                      <a:lnTo>
                        <a:pt x="746" y="1367"/>
                      </a:lnTo>
                      <a:lnTo>
                        <a:pt x="713" y="1370"/>
                      </a:lnTo>
                      <a:lnTo>
                        <a:pt x="679" y="1370"/>
                      </a:lnTo>
                      <a:lnTo>
                        <a:pt x="646" y="1368"/>
                      </a:lnTo>
                      <a:lnTo>
                        <a:pt x="613" y="1364"/>
                      </a:lnTo>
                      <a:lnTo>
                        <a:pt x="581" y="1359"/>
                      </a:lnTo>
                      <a:lnTo>
                        <a:pt x="515" y="1343"/>
                      </a:lnTo>
                      <a:lnTo>
                        <a:pt x="448" y="1325"/>
                      </a:lnTo>
                      <a:lnTo>
                        <a:pt x="383" y="1306"/>
                      </a:lnTo>
                      <a:lnTo>
                        <a:pt x="321" y="1290"/>
                      </a:lnTo>
                      <a:lnTo>
                        <a:pt x="282" y="1267"/>
                      </a:lnTo>
                      <a:lnTo>
                        <a:pt x="248" y="1244"/>
                      </a:lnTo>
                      <a:lnTo>
                        <a:pt x="220" y="1222"/>
                      </a:lnTo>
                      <a:lnTo>
                        <a:pt x="194" y="1199"/>
                      </a:lnTo>
                      <a:lnTo>
                        <a:pt x="171" y="1175"/>
                      </a:lnTo>
                      <a:lnTo>
                        <a:pt x="150" y="1149"/>
                      </a:lnTo>
                      <a:lnTo>
                        <a:pt x="134" y="1125"/>
                      </a:lnTo>
                      <a:lnTo>
                        <a:pt x="118" y="1099"/>
                      </a:lnTo>
                      <a:lnTo>
                        <a:pt x="105" y="1073"/>
                      </a:lnTo>
                      <a:lnTo>
                        <a:pt x="94" y="1046"/>
                      </a:lnTo>
                      <a:lnTo>
                        <a:pt x="81" y="1019"/>
                      </a:lnTo>
                      <a:lnTo>
                        <a:pt x="71" y="992"/>
                      </a:lnTo>
                      <a:lnTo>
                        <a:pt x="47" y="936"/>
                      </a:lnTo>
                      <a:lnTo>
                        <a:pt x="21" y="878"/>
                      </a:lnTo>
                      <a:lnTo>
                        <a:pt x="11" y="836"/>
                      </a:lnTo>
                      <a:lnTo>
                        <a:pt x="3" y="795"/>
                      </a:lnTo>
                      <a:lnTo>
                        <a:pt x="0" y="753"/>
                      </a:lnTo>
                      <a:lnTo>
                        <a:pt x="0" y="712"/>
                      </a:lnTo>
                      <a:lnTo>
                        <a:pt x="2" y="672"/>
                      </a:lnTo>
                      <a:lnTo>
                        <a:pt x="6" y="632"/>
                      </a:lnTo>
                      <a:lnTo>
                        <a:pt x="14" y="593"/>
                      </a:lnTo>
                      <a:lnTo>
                        <a:pt x="23" y="554"/>
                      </a:lnTo>
                      <a:lnTo>
                        <a:pt x="35" y="517"/>
                      </a:lnTo>
                      <a:lnTo>
                        <a:pt x="49" y="480"/>
                      </a:lnTo>
                      <a:lnTo>
                        <a:pt x="64" y="444"/>
                      </a:lnTo>
                      <a:lnTo>
                        <a:pt x="81" y="409"/>
                      </a:lnTo>
                      <a:lnTo>
                        <a:pt x="99" y="373"/>
                      </a:lnTo>
                      <a:lnTo>
                        <a:pt x="120" y="340"/>
                      </a:lnTo>
                      <a:lnTo>
                        <a:pt x="140" y="308"/>
                      </a:lnTo>
                      <a:lnTo>
                        <a:pt x="161" y="273"/>
                      </a:lnTo>
                      <a:lnTo>
                        <a:pt x="187" y="245"/>
                      </a:lnTo>
                      <a:lnTo>
                        <a:pt x="212" y="216"/>
                      </a:lnTo>
                      <a:lnTo>
                        <a:pt x="242" y="190"/>
                      </a:lnTo>
                      <a:lnTo>
                        <a:pt x="271" y="164"/>
                      </a:lnTo>
                      <a:lnTo>
                        <a:pt x="300" y="142"/>
                      </a:lnTo>
                      <a:lnTo>
                        <a:pt x="332" y="119"/>
                      </a:lnTo>
                      <a:lnTo>
                        <a:pt x="365" y="99"/>
                      </a:lnTo>
                      <a:lnTo>
                        <a:pt x="397" y="81"/>
                      </a:lnTo>
                      <a:lnTo>
                        <a:pt x="430" y="66"/>
                      </a:lnTo>
                      <a:lnTo>
                        <a:pt x="466" y="51"/>
                      </a:lnTo>
                      <a:lnTo>
                        <a:pt x="501" y="39"/>
                      </a:lnTo>
                      <a:lnTo>
                        <a:pt x="537" y="27"/>
                      </a:lnTo>
                      <a:lnTo>
                        <a:pt x="572" y="18"/>
                      </a:lnTo>
                      <a:lnTo>
                        <a:pt x="610" y="10"/>
                      </a:lnTo>
                      <a:lnTo>
                        <a:pt x="645" y="4"/>
                      </a:lnTo>
                      <a:lnTo>
                        <a:pt x="682" y="1"/>
                      </a:lnTo>
                      <a:lnTo>
                        <a:pt x="719" y="0"/>
                      </a:lnTo>
                      <a:lnTo>
                        <a:pt x="755" y="1"/>
                      </a:lnTo>
                      <a:lnTo>
                        <a:pt x="792" y="3"/>
                      </a:lnTo>
                      <a:lnTo>
                        <a:pt x="829" y="7"/>
                      </a:lnTo>
                      <a:lnTo>
                        <a:pt x="864" y="13"/>
                      </a:lnTo>
                      <a:lnTo>
                        <a:pt x="900" y="22"/>
                      </a:lnTo>
                      <a:lnTo>
                        <a:pt x="935" y="33"/>
                      </a:lnTo>
                      <a:lnTo>
                        <a:pt x="970" y="46"/>
                      </a:lnTo>
                      <a:lnTo>
                        <a:pt x="1003" y="60"/>
                      </a:lnTo>
                      <a:lnTo>
                        <a:pt x="1035" y="77"/>
                      </a:lnTo>
                      <a:lnTo>
                        <a:pt x="1068" y="96"/>
                      </a:lnTo>
                      <a:lnTo>
                        <a:pt x="1100" y="117"/>
                      </a:lnTo>
                      <a:lnTo>
                        <a:pt x="1129" y="142"/>
                      </a:lnTo>
                      <a:lnTo>
                        <a:pt x="1158" y="167"/>
                      </a:lnTo>
                      <a:lnTo>
                        <a:pt x="1185" y="195"/>
                      </a:lnTo>
                      <a:lnTo>
                        <a:pt x="1213" y="22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337"/>
                <p:cNvSpPr/>
                <p:nvPr/>
              </p:nvSpPr>
              <p:spPr>
                <a:xfrm>
                  <a:off x="6328080" y="2364840"/>
                  <a:ext cx="39600" cy="76680"/>
                </a:xfrm>
                <a:custGeom>
                  <a:avLst/>
                  <a:gdLst/>
                  <a:ahLst/>
                  <a:rect l="l" t="t" r="r" b="b"/>
                  <a:pathLst>
                    <a:path w="614" h="1193">
                      <a:moveTo>
                        <a:pt x="499" y="105"/>
                      </a:moveTo>
                      <a:lnTo>
                        <a:pt x="518" y="143"/>
                      </a:lnTo>
                      <a:lnTo>
                        <a:pt x="536" y="182"/>
                      </a:lnTo>
                      <a:lnTo>
                        <a:pt x="550" y="219"/>
                      </a:lnTo>
                      <a:lnTo>
                        <a:pt x="564" y="255"/>
                      </a:lnTo>
                      <a:lnTo>
                        <a:pt x="576" y="292"/>
                      </a:lnTo>
                      <a:lnTo>
                        <a:pt x="585" y="328"/>
                      </a:lnTo>
                      <a:lnTo>
                        <a:pt x="593" y="366"/>
                      </a:lnTo>
                      <a:lnTo>
                        <a:pt x="602" y="405"/>
                      </a:lnTo>
                      <a:lnTo>
                        <a:pt x="607" y="447"/>
                      </a:lnTo>
                      <a:lnTo>
                        <a:pt x="611" y="492"/>
                      </a:lnTo>
                      <a:lnTo>
                        <a:pt x="613" y="541"/>
                      </a:lnTo>
                      <a:lnTo>
                        <a:pt x="614" y="592"/>
                      </a:lnTo>
                      <a:lnTo>
                        <a:pt x="614" y="648"/>
                      </a:lnTo>
                      <a:lnTo>
                        <a:pt x="614" y="709"/>
                      </a:lnTo>
                      <a:lnTo>
                        <a:pt x="611" y="777"/>
                      </a:lnTo>
                      <a:lnTo>
                        <a:pt x="608" y="850"/>
                      </a:lnTo>
                      <a:lnTo>
                        <a:pt x="589" y="910"/>
                      </a:lnTo>
                      <a:lnTo>
                        <a:pt x="569" y="966"/>
                      </a:lnTo>
                      <a:lnTo>
                        <a:pt x="558" y="993"/>
                      </a:lnTo>
                      <a:lnTo>
                        <a:pt x="546" y="1021"/>
                      </a:lnTo>
                      <a:lnTo>
                        <a:pt x="532" y="1046"/>
                      </a:lnTo>
                      <a:lnTo>
                        <a:pt x="518" y="1071"/>
                      </a:lnTo>
                      <a:lnTo>
                        <a:pt x="499" y="1095"/>
                      </a:lnTo>
                      <a:lnTo>
                        <a:pt x="478" y="1116"/>
                      </a:lnTo>
                      <a:lnTo>
                        <a:pt x="466" y="1126"/>
                      </a:lnTo>
                      <a:lnTo>
                        <a:pt x="455" y="1135"/>
                      </a:lnTo>
                      <a:lnTo>
                        <a:pt x="440" y="1143"/>
                      </a:lnTo>
                      <a:lnTo>
                        <a:pt x="428" y="1152"/>
                      </a:lnTo>
                      <a:lnTo>
                        <a:pt x="411" y="1160"/>
                      </a:lnTo>
                      <a:lnTo>
                        <a:pt x="395" y="1166"/>
                      </a:lnTo>
                      <a:lnTo>
                        <a:pt x="380" y="1173"/>
                      </a:lnTo>
                      <a:lnTo>
                        <a:pt x="360" y="1178"/>
                      </a:lnTo>
                      <a:lnTo>
                        <a:pt x="340" y="1182"/>
                      </a:lnTo>
                      <a:lnTo>
                        <a:pt x="319" y="1187"/>
                      </a:lnTo>
                      <a:lnTo>
                        <a:pt x="298" y="1190"/>
                      </a:lnTo>
                      <a:lnTo>
                        <a:pt x="276" y="1193"/>
                      </a:lnTo>
                      <a:lnTo>
                        <a:pt x="237" y="1181"/>
                      </a:lnTo>
                      <a:lnTo>
                        <a:pt x="203" y="1166"/>
                      </a:lnTo>
                      <a:lnTo>
                        <a:pt x="173" y="1150"/>
                      </a:lnTo>
                      <a:lnTo>
                        <a:pt x="145" y="1131"/>
                      </a:lnTo>
                      <a:lnTo>
                        <a:pt x="121" y="1111"/>
                      </a:lnTo>
                      <a:lnTo>
                        <a:pt x="98" y="1089"/>
                      </a:lnTo>
                      <a:lnTo>
                        <a:pt x="79" y="1064"/>
                      </a:lnTo>
                      <a:lnTo>
                        <a:pt x="63" y="1039"/>
                      </a:lnTo>
                      <a:lnTo>
                        <a:pt x="49" y="1013"/>
                      </a:lnTo>
                      <a:lnTo>
                        <a:pt x="35" y="984"/>
                      </a:lnTo>
                      <a:lnTo>
                        <a:pt x="26" y="955"/>
                      </a:lnTo>
                      <a:lnTo>
                        <a:pt x="18" y="924"/>
                      </a:lnTo>
                      <a:lnTo>
                        <a:pt x="9" y="893"/>
                      </a:lnTo>
                      <a:lnTo>
                        <a:pt x="6" y="862"/>
                      </a:lnTo>
                      <a:lnTo>
                        <a:pt x="2" y="827"/>
                      </a:lnTo>
                      <a:lnTo>
                        <a:pt x="0" y="794"/>
                      </a:lnTo>
                      <a:lnTo>
                        <a:pt x="0" y="760"/>
                      </a:lnTo>
                      <a:lnTo>
                        <a:pt x="0" y="724"/>
                      </a:lnTo>
                      <a:lnTo>
                        <a:pt x="2" y="689"/>
                      </a:lnTo>
                      <a:lnTo>
                        <a:pt x="5" y="653"/>
                      </a:lnTo>
                      <a:lnTo>
                        <a:pt x="11" y="582"/>
                      </a:lnTo>
                      <a:lnTo>
                        <a:pt x="21" y="511"/>
                      </a:lnTo>
                      <a:lnTo>
                        <a:pt x="29" y="440"/>
                      </a:lnTo>
                      <a:lnTo>
                        <a:pt x="39" y="373"/>
                      </a:lnTo>
                      <a:lnTo>
                        <a:pt x="47" y="308"/>
                      </a:lnTo>
                      <a:lnTo>
                        <a:pt x="52" y="245"/>
                      </a:lnTo>
                      <a:lnTo>
                        <a:pt x="56" y="226"/>
                      </a:lnTo>
                      <a:lnTo>
                        <a:pt x="62" y="208"/>
                      </a:lnTo>
                      <a:lnTo>
                        <a:pt x="67" y="189"/>
                      </a:lnTo>
                      <a:lnTo>
                        <a:pt x="74" y="172"/>
                      </a:lnTo>
                      <a:lnTo>
                        <a:pt x="80" y="155"/>
                      </a:lnTo>
                      <a:lnTo>
                        <a:pt x="91" y="139"/>
                      </a:lnTo>
                      <a:lnTo>
                        <a:pt x="100" y="124"/>
                      </a:lnTo>
                      <a:lnTo>
                        <a:pt x="110" y="108"/>
                      </a:lnTo>
                      <a:lnTo>
                        <a:pt x="121" y="93"/>
                      </a:lnTo>
                      <a:lnTo>
                        <a:pt x="133" y="81"/>
                      </a:lnTo>
                      <a:lnTo>
                        <a:pt x="147" y="66"/>
                      </a:lnTo>
                      <a:lnTo>
                        <a:pt x="162" y="54"/>
                      </a:lnTo>
                      <a:lnTo>
                        <a:pt x="176" y="42"/>
                      </a:lnTo>
                      <a:lnTo>
                        <a:pt x="191" y="31"/>
                      </a:lnTo>
                      <a:lnTo>
                        <a:pt x="209" y="18"/>
                      </a:lnTo>
                      <a:lnTo>
                        <a:pt x="224" y="8"/>
                      </a:lnTo>
                      <a:lnTo>
                        <a:pt x="247" y="1"/>
                      </a:lnTo>
                      <a:lnTo>
                        <a:pt x="266" y="0"/>
                      </a:lnTo>
                      <a:lnTo>
                        <a:pt x="287" y="0"/>
                      </a:lnTo>
                      <a:lnTo>
                        <a:pt x="305" y="1"/>
                      </a:lnTo>
                      <a:lnTo>
                        <a:pt x="322" y="5"/>
                      </a:lnTo>
                      <a:lnTo>
                        <a:pt x="340" y="12"/>
                      </a:lnTo>
                      <a:lnTo>
                        <a:pt x="357" y="18"/>
                      </a:lnTo>
                      <a:lnTo>
                        <a:pt x="372" y="25"/>
                      </a:lnTo>
                      <a:lnTo>
                        <a:pt x="405" y="45"/>
                      </a:lnTo>
                      <a:lnTo>
                        <a:pt x="436" y="66"/>
                      </a:lnTo>
                      <a:lnTo>
                        <a:pt x="466" y="87"/>
                      </a:lnTo>
                      <a:lnTo>
                        <a:pt x="499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38"/>
                <p:cNvSpPr/>
                <p:nvPr/>
              </p:nvSpPr>
              <p:spPr>
                <a:xfrm>
                  <a:off x="6989760" y="2529720"/>
                  <a:ext cx="105480" cy="138960"/>
                </a:xfrm>
                <a:custGeom>
                  <a:avLst/>
                  <a:gdLst/>
                  <a:ahLst/>
                  <a:rect l="l" t="t" r="r" b="b"/>
                  <a:pathLst>
                    <a:path w="1639" h="2158">
                      <a:moveTo>
                        <a:pt x="1210" y="104"/>
                      </a:moveTo>
                      <a:lnTo>
                        <a:pt x="1210" y="245"/>
                      </a:lnTo>
                      <a:lnTo>
                        <a:pt x="1210" y="389"/>
                      </a:lnTo>
                      <a:lnTo>
                        <a:pt x="1210" y="533"/>
                      </a:lnTo>
                      <a:lnTo>
                        <a:pt x="1210" y="676"/>
                      </a:lnTo>
                      <a:lnTo>
                        <a:pt x="1210" y="818"/>
                      </a:lnTo>
                      <a:lnTo>
                        <a:pt x="1210" y="960"/>
                      </a:lnTo>
                      <a:lnTo>
                        <a:pt x="1210" y="1097"/>
                      </a:lnTo>
                      <a:lnTo>
                        <a:pt x="1210" y="1233"/>
                      </a:lnTo>
                      <a:lnTo>
                        <a:pt x="1248" y="1239"/>
                      </a:lnTo>
                      <a:lnTo>
                        <a:pt x="1280" y="1242"/>
                      </a:lnTo>
                      <a:lnTo>
                        <a:pt x="1307" y="1245"/>
                      </a:lnTo>
                      <a:lnTo>
                        <a:pt x="1331" y="1242"/>
                      </a:lnTo>
                      <a:lnTo>
                        <a:pt x="1354" y="1239"/>
                      </a:lnTo>
                      <a:lnTo>
                        <a:pt x="1374" y="1234"/>
                      </a:lnTo>
                      <a:lnTo>
                        <a:pt x="1395" y="1227"/>
                      </a:lnTo>
                      <a:lnTo>
                        <a:pt x="1418" y="1216"/>
                      </a:lnTo>
                      <a:lnTo>
                        <a:pt x="1437" y="1205"/>
                      </a:lnTo>
                      <a:lnTo>
                        <a:pt x="1455" y="1194"/>
                      </a:lnTo>
                      <a:lnTo>
                        <a:pt x="1471" y="1181"/>
                      </a:lnTo>
                      <a:lnTo>
                        <a:pt x="1487" y="1166"/>
                      </a:lnTo>
                      <a:lnTo>
                        <a:pt x="1501" y="1151"/>
                      </a:lnTo>
                      <a:lnTo>
                        <a:pt x="1513" y="1134"/>
                      </a:lnTo>
                      <a:lnTo>
                        <a:pt x="1525" y="1118"/>
                      </a:lnTo>
                      <a:lnTo>
                        <a:pt x="1534" y="1101"/>
                      </a:lnTo>
                      <a:lnTo>
                        <a:pt x="1554" y="1063"/>
                      </a:lnTo>
                      <a:lnTo>
                        <a:pt x="1572" y="1028"/>
                      </a:lnTo>
                      <a:lnTo>
                        <a:pt x="1589" y="994"/>
                      </a:lnTo>
                      <a:lnTo>
                        <a:pt x="1608" y="963"/>
                      </a:lnTo>
                      <a:lnTo>
                        <a:pt x="1639" y="1009"/>
                      </a:lnTo>
                      <a:lnTo>
                        <a:pt x="1621" y="1662"/>
                      </a:lnTo>
                      <a:lnTo>
                        <a:pt x="1605" y="1644"/>
                      </a:lnTo>
                      <a:lnTo>
                        <a:pt x="1587" y="1623"/>
                      </a:lnTo>
                      <a:lnTo>
                        <a:pt x="1569" y="1597"/>
                      </a:lnTo>
                      <a:lnTo>
                        <a:pt x="1552" y="1571"/>
                      </a:lnTo>
                      <a:lnTo>
                        <a:pt x="1532" y="1543"/>
                      </a:lnTo>
                      <a:lnTo>
                        <a:pt x="1513" y="1515"/>
                      </a:lnTo>
                      <a:lnTo>
                        <a:pt x="1492" y="1486"/>
                      </a:lnTo>
                      <a:lnTo>
                        <a:pt x="1471" y="1458"/>
                      </a:lnTo>
                      <a:lnTo>
                        <a:pt x="1448" y="1432"/>
                      </a:lnTo>
                      <a:lnTo>
                        <a:pt x="1422" y="1410"/>
                      </a:lnTo>
                      <a:lnTo>
                        <a:pt x="1411" y="1401"/>
                      </a:lnTo>
                      <a:lnTo>
                        <a:pt x="1397" y="1391"/>
                      </a:lnTo>
                      <a:lnTo>
                        <a:pt x="1384" y="1383"/>
                      </a:lnTo>
                      <a:lnTo>
                        <a:pt x="1369" y="1376"/>
                      </a:lnTo>
                      <a:lnTo>
                        <a:pt x="1355" y="1370"/>
                      </a:lnTo>
                      <a:lnTo>
                        <a:pt x="1340" y="1367"/>
                      </a:lnTo>
                      <a:lnTo>
                        <a:pt x="1325" y="1363"/>
                      </a:lnTo>
                      <a:lnTo>
                        <a:pt x="1310" y="1361"/>
                      </a:lnTo>
                      <a:lnTo>
                        <a:pt x="1294" y="1361"/>
                      </a:lnTo>
                      <a:lnTo>
                        <a:pt x="1276" y="1365"/>
                      </a:lnTo>
                      <a:lnTo>
                        <a:pt x="1260" y="1369"/>
                      </a:lnTo>
                      <a:lnTo>
                        <a:pt x="1242" y="1375"/>
                      </a:lnTo>
                      <a:lnTo>
                        <a:pt x="1209" y="1373"/>
                      </a:lnTo>
                      <a:lnTo>
                        <a:pt x="1216" y="1393"/>
                      </a:lnTo>
                      <a:lnTo>
                        <a:pt x="1221" y="1415"/>
                      </a:lnTo>
                      <a:lnTo>
                        <a:pt x="1224" y="1440"/>
                      </a:lnTo>
                      <a:lnTo>
                        <a:pt x="1227" y="1464"/>
                      </a:lnTo>
                      <a:lnTo>
                        <a:pt x="1229" y="1490"/>
                      </a:lnTo>
                      <a:lnTo>
                        <a:pt x="1229" y="1515"/>
                      </a:lnTo>
                      <a:lnTo>
                        <a:pt x="1227" y="1543"/>
                      </a:lnTo>
                      <a:lnTo>
                        <a:pt x="1227" y="1571"/>
                      </a:lnTo>
                      <a:lnTo>
                        <a:pt x="1218" y="1688"/>
                      </a:lnTo>
                      <a:lnTo>
                        <a:pt x="1210" y="1802"/>
                      </a:lnTo>
                      <a:lnTo>
                        <a:pt x="1210" y="1831"/>
                      </a:lnTo>
                      <a:lnTo>
                        <a:pt x="1212" y="1857"/>
                      </a:lnTo>
                      <a:lnTo>
                        <a:pt x="1213" y="1884"/>
                      </a:lnTo>
                      <a:lnTo>
                        <a:pt x="1216" y="1909"/>
                      </a:lnTo>
                      <a:lnTo>
                        <a:pt x="1223" y="1933"/>
                      </a:lnTo>
                      <a:lnTo>
                        <a:pt x="1229" y="1957"/>
                      </a:lnTo>
                      <a:lnTo>
                        <a:pt x="1237" y="1978"/>
                      </a:lnTo>
                      <a:lnTo>
                        <a:pt x="1248" y="1998"/>
                      </a:lnTo>
                      <a:lnTo>
                        <a:pt x="1262" y="2016"/>
                      </a:lnTo>
                      <a:lnTo>
                        <a:pt x="1277" y="2034"/>
                      </a:lnTo>
                      <a:lnTo>
                        <a:pt x="1295" y="2049"/>
                      </a:lnTo>
                      <a:lnTo>
                        <a:pt x="1316" y="2062"/>
                      </a:lnTo>
                      <a:lnTo>
                        <a:pt x="1340" y="2071"/>
                      </a:lnTo>
                      <a:lnTo>
                        <a:pt x="1366" y="2081"/>
                      </a:lnTo>
                      <a:lnTo>
                        <a:pt x="1397" y="2086"/>
                      </a:lnTo>
                      <a:lnTo>
                        <a:pt x="1431" y="2089"/>
                      </a:lnTo>
                      <a:lnTo>
                        <a:pt x="1433" y="2099"/>
                      </a:lnTo>
                      <a:lnTo>
                        <a:pt x="1431" y="2108"/>
                      </a:lnTo>
                      <a:lnTo>
                        <a:pt x="1429" y="2116"/>
                      </a:lnTo>
                      <a:lnTo>
                        <a:pt x="1426" y="2125"/>
                      </a:lnTo>
                      <a:lnTo>
                        <a:pt x="1422" y="2131"/>
                      </a:lnTo>
                      <a:lnTo>
                        <a:pt x="1418" y="2136"/>
                      </a:lnTo>
                      <a:lnTo>
                        <a:pt x="1411" y="2142"/>
                      </a:lnTo>
                      <a:lnTo>
                        <a:pt x="1405" y="2146"/>
                      </a:lnTo>
                      <a:lnTo>
                        <a:pt x="1397" y="2151"/>
                      </a:lnTo>
                      <a:lnTo>
                        <a:pt x="1389" y="2154"/>
                      </a:lnTo>
                      <a:lnTo>
                        <a:pt x="1381" y="2155"/>
                      </a:lnTo>
                      <a:lnTo>
                        <a:pt x="1372" y="2157"/>
                      </a:lnTo>
                      <a:lnTo>
                        <a:pt x="1355" y="2158"/>
                      </a:lnTo>
                      <a:lnTo>
                        <a:pt x="1339" y="2157"/>
                      </a:lnTo>
                      <a:lnTo>
                        <a:pt x="1250" y="2157"/>
                      </a:lnTo>
                      <a:lnTo>
                        <a:pt x="1163" y="2157"/>
                      </a:lnTo>
                      <a:lnTo>
                        <a:pt x="1076" y="2157"/>
                      </a:lnTo>
                      <a:lnTo>
                        <a:pt x="988" y="2157"/>
                      </a:lnTo>
                      <a:lnTo>
                        <a:pt x="900" y="2157"/>
                      </a:lnTo>
                      <a:lnTo>
                        <a:pt x="811" y="2157"/>
                      </a:lnTo>
                      <a:lnTo>
                        <a:pt x="725" y="2157"/>
                      </a:lnTo>
                      <a:lnTo>
                        <a:pt x="637" y="2157"/>
                      </a:lnTo>
                      <a:lnTo>
                        <a:pt x="639" y="2146"/>
                      </a:lnTo>
                      <a:lnTo>
                        <a:pt x="640" y="2136"/>
                      </a:lnTo>
                      <a:lnTo>
                        <a:pt x="645" y="2126"/>
                      </a:lnTo>
                      <a:lnTo>
                        <a:pt x="649" y="2116"/>
                      </a:lnTo>
                      <a:lnTo>
                        <a:pt x="660" y="2101"/>
                      </a:lnTo>
                      <a:lnTo>
                        <a:pt x="675" y="2084"/>
                      </a:lnTo>
                      <a:lnTo>
                        <a:pt x="707" y="2055"/>
                      </a:lnTo>
                      <a:lnTo>
                        <a:pt x="742" y="2028"/>
                      </a:lnTo>
                      <a:lnTo>
                        <a:pt x="758" y="2013"/>
                      </a:lnTo>
                      <a:lnTo>
                        <a:pt x="776" y="1998"/>
                      </a:lnTo>
                      <a:lnTo>
                        <a:pt x="790" y="1983"/>
                      </a:lnTo>
                      <a:lnTo>
                        <a:pt x="803" y="1966"/>
                      </a:lnTo>
                      <a:lnTo>
                        <a:pt x="810" y="1959"/>
                      </a:lnTo>
                      <a:lnTo>
                        <a:pt x="814" y="1948"/>
                      </a:lnTo>
                      <a:lnTo>
                        <a:pt x="820" y="1939"/>
                      </a:lnTo>
                      <a:lnTo>
                        <a:pt x="823" y="1930"/>
                      </a:lnTo>
                      <a:lnTo>
                        <a:pt x="825" y="1918"/>
                      </a:lnTo>
                      <a:lnTo>
                        <a:pt x="826" y="1907"/>
                      </a:lnTo>
                      <a:lnTo>
                        <a:pt x="828" y="1895"/>
                      </a:lnTo>
                      <a:lnTo>
                        <a:pt x="826" y="1883"/>
                      </a:lnTo>
                      <a:lnTo>
                        <a:pt x="825" y="1850"/>
                      </a:lnTo>
                      <a:lnTo>
                        <a:pt x="825" y="1817"/>
                      </a:lnTo>
                      <a:lnTo>
                        <a:pt x="825" y="1783"/>
                      </a:lnTo>
                      <a:lnTo>
                        <a:pt x="826" y="1749"/>
                      </a:lnTo>
                      <a:lnTo>
                        <a:pt x="829" y="1681"/>
                      </a:lnTo>
                      <a:lnTo>
                        <a:pt x="831" y="1612"/>
                      </a:lnTo>
                      <a:lnTo>
                        <a:pt x="831" y="1578"/>
                      </a:lnTo>
                      <a:lnTo>
                        <a:pt x="829" y="1546"/>
                      </a:lnTo>
                      <a:lnTo>
                        <a:pt x="828" y="1511"/>
                      </a:lnTo>
                      <a:lnTo>
                        <a:pt x="823" y="1479"/>
                      </a:lnTo>
                      <a:lnTo>
                        <a:pt x="817" y="1449"/>
                      </a:lnTo>
                      <a:lnTo>
                        <a:pt x="808" y="1419"/>
                      </a:lnTo>
                      <a:lnTo>
                        <a:pt x="797" y="1389"/>
                      </a:lnTo>
                      <a:lnTo>
                        <a:pt x="782" y="1361"/>
                      </a:lnTo>
                      <a:lnTo>
                        <a:pt x="32" y="1361"/>
                      </a:lnTo>
                      <a:lnTo>
                        <a:pt x="0" y="1313"/>
                      </a:lnTo>
                      <a:lnTo>
                        <a:pt x="55" y="1233"/>
                      </a:lnTo>
                      <a:lnTo>
                        <a:pt x="109" y="1154"/>
                      </a:lnTo>
                      <a:lnTo>
                        <a:pt x="164" y="1073"/>
                      </a:lnTo>
                      <a:lnTo>
                        <a:pt x="217" y="992"/>
                      </a:lnTo>
                      <a:lnTo>
                        <a:pt x="270" y="912"/>
                      </a:lnTo>
                      <a:lnTo>
                        <a:pt x="323" y="832"/>
                      </a:lnTo>
                      <a:lnTo>
                        <a:pt x="376" y="749"/>
                      </a:lnTo>
                      <a:lnTo>
                        <a:pt x="430" y="668"/>
                      </a:lnTo>
                      <a:lnTo>
                        <a:pt x="484" y="590"/>
                      </a:lnTo>
                      <a:lnTo>
                        <a:pt x="537" y="508"/>
                      </a:lnTo>
                      <a:lnTo>
                        <a:pt x="592" y="430"/>
                      </a:lnTo>
                      <a:lnTo>
                        <a:pt x="647" y="351"/>
                      </a:lnTo>
                      <a:lnTo>
                        <a:pt x="704" y="272"/>
                      </a:lnTo>
                      <a:lnTo>
                        <a:pt x="760" y="194"/>
                      </a:lnTo>
                      <a:lnTo>
                        <a:pt x="817" y="117"/>
                      </a:lnTo>
                      <a:lnTo>
                        <a:pt x="874" y="41"/>
                      </a:lnTo>
                      <a:lnTo>
                        <a:pt x="917" y="30"/>
                      </a:lnTo>
                      <a:lnTo>
                        <a:pt x="967" y="17"/>
                      </a:lnTo>
                      <a:lnTo>
                        <a:pt x="995" y="12"/>
                      </a:lnTo>
                      <a:lnTo>
                        <a:pt x="1023" y="7"/>
                      </a:lnTo>
                      <a:lnTo>
                        <a:pt x="1052" y="2"/>
                      </a:lnTo>
                      <a:lnTo>
                        <a:pt x="1079" y="0"/>
                      </a:lnTo>
                      <a:lnTo>
                        <a:pt x="1105" y="2"/>
                      </a:lnTo>
                      <a:lnTo>
                        <a:pt x="1130" y="6"/>
                      </a:lnTo>
                      <a:lnTo>
                        <a:pt x="1142" y="7"/>
                      </a:lnTo>
                      <a:lnTo>
                        <a:pt x="1153" y="12"/>
                      </a:lnTo>
                      <a:lnTo>
                        <a:pt x="1163" y="15"/>
                      </a:lnTo>
                      <a:lnTo>
                        <a:pt x="1173" y="21"/>
                      </a:lnTo>
                      <a:lnTo>
                        <a:pt x="1180" y="29"/>
                      </a:lnTo>
                      <a:lnTo>
                        <a:pt x="1189" y="35"/>
                      </a:lnTo>
                      <a:lnTo>
                        <a:pt x="1195" y="42"/>
                      </a:lnTo>
                      <a:lnTo>
                        <a:pt x="1201" y="53"/>
                      </a:lnTo>
                      <a:lnTo>
                        <a:pt x="1206" y="64"/>
                      </a:lnTo>
                      <a:lnTo>
                        <a:pt x="1209" y="74"/>
                      </a:lnTo>
                      <a:lnTo>
                        <a:pt x="1210" y="89"/>
                      </a:lnTo>
                      <a:lnTo>
                        <a:pt x="1210" y="104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339"/>
                <p:cNvSpPr/>
                <p:nvPr/>
              </p:nvSpPr>
              <p:spPr>
                <a:xfrm>
                  <a:off x="6363360" y="2535840"/>
                  <a:ext cx="98280" cy="141120"/>
                </a:xfrm>
                <a:custGeom>
                  <a:avLst/>
                  <a:gdLst/>
                  <a:ahLst/>
                  <a:rect l="l" t="t" r="r" b="b"/>
                  <a:pathLst>
                    <a:path w="1527" h="2195">
                      <a:moveTo>
                        <a:pt x="1400" y="333"/>
                      </a:moveTo>
                      <a:lnTo>
                        <a:pt x="1406" y="354"/>
                      </a:lnTo>
                      <a:lnTo>
                        <a:pt x="1412" y="373"/>
                      </a:lnTo>
                      <a:lnTo>
                        <a:pt x="1416" y="394"/>
                      </a:lnTo>
                      <a:lnTo>
                        <a:pt x="1420" y="413"/>
                      </a:lnTo>
                      <a:lnTo>
                        <a:pt x="1423" y="433"/>
                      </a:lnTo>
                      <a:lnTo>
                        <a:pt x="1424" y="452"/>
                      </a:lnTo>
                      <a:lnTo>
                        <a:pt x="1424" y="471"/>
                      </a:lnTo>
                      <a:lnTo>
                        <a:pt x="1423" y="489"/>
                      </a:lnTo>
                      <a:lnTo>
                        <a:pt x="1421" y="508"/>
                      </a:lnTo>
                      <a:lnTo>
                        <a:pt x="1418" y="526"/>
                      </a:lnTo>
                      <a:lnTo>
                        <a:pt x="1414" y="545"/>
                      </a:lnTo>
                      <a:lnTo>
                        <a:pt x="1409" y="563"/>
                      </a:lnTo>
                      <a:lnTo>
                        <a:pt x="1398" y="598"/>
                      </a:lnTo>
                      <a:lnTo>
                        <a:pt x="1384" y="633"/>
                      </a:lnTo>
                      <a:lnTo>
                        <a:pt x="1366" y="664"/>
                      </a:lnTo>
                      <a:lnTo>
                        <a:pt x="1347" y="697"/>
                      </a:lnTo>
                      <a:lnTo>
                        <a:pt x="1324" y="729"/>
                      </a:lnTo>
                      <a:lnTo>
                        <a:pt x="1302" y="760"/>
                      </a:lnTo>
                      <a:lnTo>
                        <a:pt x="1276" y="791"/>
                      </a:lnTo>
                      <a:lnTo>
                        <a:pt x="1249" y="820"/>
                      </a:lnTo>
                      <a:lnTo>
                        <a:pt x="1220" y="847"/>
                      </a:lnTo>
                      <a:lnTo>
                        <a:pt x="1192" y="874"/>
                      </a:lnTo>
                      <a:lnTo>
                        <a:pt x="1192" y="920"/>
                      </a:lnTo>
                      <a:lnTo>
                        <a:pt x="1214" y="931"/>
                      </a:lnTo>
                      <a:lnTo>
                        <a:pt x="1235" y="944"/>
                      </a:lnTo>
                      <a:lnTo>
                        <a:pt x="1255" y="956"/>
                      </a:lnTo>
                      <a:lnTo>
                        <a:pt x="1274" y="970"/>
                      </a:lnTo>
                      <a:lnTo>
                        <a:pt x="1291" y="984"/>
                      </a:lnTo>
                      <a:lnTo>
                        <a:pt x="1309" y="999"/>
                      </a:lnTo>
                      <a:lnTo>
                        <a:pt x="1326" y="1013"/>
                      </a:lnTo>
                      <a:lnTo>
                        <a:pt x="1340" y="1029"/>
                      </a:lnTo>
                      <a:lnTo>
                        <a:pt x="1356" y="1047"/>
                      </a:lnTo>
                      <a:lnTo>
                        <a:pt x="1370" y="1063"/>
                      </a:lnTo>
                      <a:lnTo>
                        <a:pt x="1382" y="1080"/>
                      </a:lnTo>
                      <a:lnTo>
                        <a:pt x="1395" y="1098"/>
                      </a:lnTo>
                      <a:lnTo>
                        <a:pt x="1418" y="1136"/>
                      </a:lnTo>
                      <a:lnTo>
                        <a:pt x="1438" y="1174"/>
                      </a:lnTo>
                      <a:lnTo>
                        <a:pt x="1455" y="1213"/>
                      </a:lnTo>
                      <a:lnTo>
                        <a:pt x="1471" y="1255"/>
                      </a:lnTo>
                      <a:lnTo>
                        <a:pt x="1483" y="1295"/>
                      </a:lnTo>
                      <a:lnTo>
                        <a:pt x="1495" y="1339"/>
                      </a:lnTo>
                      <a:lnTo>
                        <a:pt x="1506" y="1381"/>
                      </a:lnTo>
                      <a:lnTo>
                        <a:pt x="1515" y="1425"/>
                      </a:lnTo>
                      <a:lnTo>
                        <a:pt x="1521" y="1468"/>
                      </a:lnTo>
                      <a:lnTo>
                        <a:pt x="1527" y="1511"/>
                      </a:lnTo>
                      <a:lnTo>
                        <a:pt x="1526" y="1542"/>
                      </a:lnTo>
                      <a:lnTo>
                        <a:pt x="1521" y="1575"/>
                      </a:lnTo>
                      <a:lnTo>
                        <a:pt x="1515" y="1603"/>
                      </a:lnTo>
                      <a:lnTo>
                        <a:pt x="1508" y="1634"/>
                      </a:lnTo>
                      <a:lnTo>
                        <a:pt x="1498" y="1663"/>
                      </a:lnTo>
                      <a:lnTo>
                        <a:pt x="1489" y="1692"/>
                      </a:lnTo>
                      <a:lnTo>
                        <a:pt x="1477" y="1720"/>
                      </a:lnTo>
                      <a:lnTo>
                        <a:pt x="1465" y="1747"/>
                      </a:lnTo>
                      <a:lnTo>
                        <a:pt x="1450" y="1774"/>
                      </a:lnTo>
                      <a:lnTo>
                        <a:pt x="1435" y="1800"/>
                      </a:lnTo>
                      <a:lnTo>
                        <a:pt x="1420" y="1826"/>
                      </a:lnTo>
                      <a:lnTo>
                        <a:pt x="1402" y="1852"/>
                      </a:lnTo>
                      <a:lnTo>
                        <a:pt x="1384" y="1876"/>
                      </a:lnTo>
                      <a:lnTo>
                        <a:pt x="1364" y="1898"/>
                      </a:lnTo>
                      <a:lnTo>
                        <a:pt x="1344" y="1921"/>
                      </a:lnTo>
                      <a:lnTo>
                        <a:pt x="1323" y="1944"/>
                      </a:lnTo>
                      <a:lnTo>
                        <a:pt x="1302" y="1965"/>
                      </a:lnTo>
                      <a:lnTo>
                        <a:pt x="1279" y="1986"/>
                      </a:lnTo>
                      <a:lnTo>
                        <a:pt x="1255" y="2004"/>
                      </a:lnTo>
                      <a:lnTo>
                        <a:pt x="1232" y="2024"/>
                      </a:lnTo>
                      <a:lnTo>
                        <a:pt x="1206" y="2044"/>
                      </a:lnTo>
                      <a:lnTo>
                        <a:pt x="1182" y="2060"/>
                      </a:lnTo>
                      <a:lnTo>
                        <a:pt x="1157" y="2077"/>
                      </a:lnTo>
                      <a:lnTo>
                        <a:pt x="1131" y="2094"/>
                      </a:lnTo>
                      <a:lnTo>
                        <a:pt x="1103" y="2108"/>
                      </a:lnTo>
                      <a:lnTo>
                        <a:pt x="1076" y="2122"/>
                      </a:lnTo>
                      <a:lnTo>
                        <a:pt x="1048" y="2136"/>
                      </a:lnTo>
                      <a:lnTo>
                        <a:pt x="1021" y="2148"/>
                      </a:lnTo>
                      <a:lnTo>
                        <a:pt x="993" y="2161"/>
                      </a:lnTo>
                      <a:lnTo>
                        <a:pt x="966" y="2171"/>
                      </a:lnTo>
                      <a:lnTo>
                        <a:pt x="939" y="2183"/>
                      </a:lnTo>
                      <a:lnTo>
                        <a:pt x="910" y="2190"/>
                      </a:lnTo>
                      <a:lnTo>
                        <a:pt x="810" y="2193"/>
                      </a:lnTo>
                      <a:lnTo>
                        <a:pt x="709" y="2195"/>
                      </a:lnTo>
                      <a:lnTo>
                        <a:pt x="659" y="2193"/>
                      </a:lnTo>
                      <a:lnTo>
                        <a:pt x="611" y="2190"/>
                      </a:lnTo>
                      <a:lnTo>
                        <a:pt x="562" y="2187"/>
                      </a:lnTo>
                      <a:lnTo>
                        <a:pt x="514" y="2181"/>
                      </a:lnTo>
                      <a:lnTo>
                        <a:pt x="470" y="2172"/>
                      </a:lnTo>
                      <a:lnTo>
                        <a:pt x="423" y="2161"/>
                      </a:lnTo>
                      <a:lnTo>
                        <a:pt x="379" y="2148"/>
                      </a:lnTo>
                      <a:lnTo>
                        <a:pt x="335" y="2133"/>
                      </a:lnTo>
                      <a:lnTo>
                        <a:pt x="314" y="2122"/>
                      </a:lnTo>
                      <a:lnTo>
                        <a:pt x="293" y="2113"/>
                      </a:lnTo>
                      <a:lnTo>
                        <a:pt x="273" y="2101"/>
                      </a:lnTo>
                      <a:lnTo>
                        <a:pt x="254" y="2090"/>
                      </a:lnTo>
                      <a:lnTo>
                        <a:pt x="234" y="2077"/>
                      </a:lnTo>
                      <a:lnTo>
                        <a:pt x="214" y="2063"/>
                      </a:lnTo>
                      <a:lnTo>
                        <a:pt x="195" y="2048"/>
                      </a:lnTo>
                      <a:lnTo>
                        <a:pt x="178" y="2033"/>
                      </a:lnTo>
                      <a:lnTo>
                        <a:pt x="150" y="2006"/>
                      </a:lnTo>
                      <a:lnTo>
                        <a:pt x="124" y="1979"/>
                      </a:lnTo>
                      <a:lnTo>
                        <a:pt x="101" y="1951"/>
                      </a:lnTo>
                      <a:lnTo>
                        <a:pt x="81" y="1923"/>
                      </a:lnTo>
                      <a:lnTo>
                        <a:pt x="63" y="1892"/>
                      </a:lnTo>
                      <a:lnTo>
                        <a:pt x="47" y="1862"/>
                      </a:lnTo>
                      <a:lnTo>
                        <a:pt x="33" y="1829"/>
                      </a:lnTo>
                      <a:lnTo>
                        <a:pt x="21" y="1797"/>
                      </a:lnTo>
                      <a:lnTo>
                        <a:pt x="13" y="1763"/>
                      </a:lnTo>
                      <a:lnTo>
                        <a:pt x="4" y="1728"/>
                      </a:lnTo>
                      <a:lnTo>
                        <a:pt x="1" y="1694"/>
                      </a:lnTo>
                      <a:lnTo>
                        <a:pt x="0" y="1658"/>
                      </a:lnTo>
                      <a:lnTo>
                        <a:pt x="0" y="1621"/>
                      </a:lnTo>
                      <a:lnTo>
                        <a:pt x="3" y="1585"/>
                      </a:lnTo>
                      <a:lnTo>
                        <a:pt x="10" y="1549"/>
                      </a:lnTo>
                      <a:lnTo>
                        <a:pt x="18" y="1511"/>
                      </a:lnTo>
                      <a:lnTo>
                        <a:pt x="27" y="1481"/>
                      </a:lnTo>
                      <a:lnTo>
                        <a:pt x="39" y="1451"/>
                      </a:lnTo>
                      <a:lnTo>
                        <a:pt x="50" y="1422"/>
                      </a:lnTo>
                      <a:lnTo>
                        <a:pt x="65" y="1397"/>
                      </a:lnTo>
                      <a:lnTo>
                        <a:pt x="81" y="1371"/>
                      </a:lnTo>
                      <a:lnTo>
                        <a:pt x="97" y="1345"/>
                      </a:lnTo>
                      <a:lnTo>
                        <a:pt x="116" y="1322"/>
                      </a:lnTo>
                      <a:lnTo>
                        <a:pt x="136" y="1298"/>
                      </a:lnTo>
                      <a:lnTo>
                        <a:pt x="155" y="1276"/>
                      </a:lnTo>
                      <a:lnTo>
                        <a:pt x="176" y="1255"/>
                      </a:lnTo>
                      <a:lnTo>
                        <a:pt x="198" y="1233"/>
                      </a:lnTo>
                      <a:lnTo>
                        <a:pt x="221" y="1212"/>
                      </a:lnTo>
                      <a:lnTo>
                        <a:pt x="269" y="1169"/>
                      </a:lnTo>
                      <a:lnTo>
                        <a:pt x="317" y="1127"/>
                      </a:lnTo>
                      <a:lnTo>
                        <a:pt x="282" y="1094"/>
                      </a:lnTo>
                      <a:lnTo>
                        <a:pt x="250" y="1059"/>
                      </a:lnTo>
                      <a:lnTo>
                        <a:pt x="219" y="1021"/>
                      </a:lnTo>
                      <a:lnTo>
                        <a:pt x="192" y="981"/>
                      </a:lnTo>
                      <a:lnTo>
                        <a:pt x="166" y="941"/>
                      </a:lnTo>
                      <a:lnTo>
                        <a:pt x="143" y="899"/>
                      </a:lnTo>
                      <a:lnTo>
                        <a:pt x="134" y="876"/>
                      </a:lnTo>
                      <a:lnTo>
                        <a:pt x="124" y="855"/>
                      </a:lnTo>
                      <a:lnTo>
                        <a:pt x="116" y="832"/>
                      </a:lnTo>
                      <a:lnTo>
                        <a:pt x="108" y="808"/>
                      </a:lnTo>
                      <a:lnTo>
                        <a:pt x="101" y="785"/>
                      </a:lnTo>
                      <a:lnTo>
                        <a:pt x="95" y="763"/>
                      </a:lnTo>
                      <a:lnTo>
                        <a:pt x="90" y="739"/>
                      </a:lnTo>
                      <a:lnTo>
                        <a:pt x="86" y="714"/>
                      </a:lnTo>
                      <a:lnTo>
                        <a:pt x="81" y="690"/>
                      </a:lnTo>
                      <a:lnTo>
                        <a:pt x="77" y="666"/>
                      </a:lnTo>
                      <a:lnTo>
                        <a:pt x="75" y="642"/>
                      </a:lnTo>
                      <a:lnTo>
                        <a:pt x="74" y="616"/>
                      </a:lnTo>
                      <a:lnTo>
                        <a:pt x="74" y="592"/>
                      </a:lnTo>
                      <a:lnTo>
                        <a:pt x="74" y="566"/>
                      </a:lnTo>
                      <a:lnTo>
                        <a:pt x="75" y="540"/>
                      </a:lnTo>
                      <a:lnTo>
                        <a:pt x="80" y="515"/>
                      </a:lnTo>
                      <a:lnTo>
                        <a:pt x="83" y="489"/>
                      </a:lnTo>
                      <a:lnTo>
                        <a:pt x="86" y="463"/>
                      </a:lnTo>
                      <a:lnTo>
                        <a:pt x="92" y="437"/>
                      </a:lnTo>
                      <a:lnTo>
                        <a:pt x="97" y="412"/>
                      </a:lnTo>
                      <a:lnTo>
                        <a:pt x="111" y="381"/>
                      </a:lnTo>
                      <a:lnTo>
                        <a:pt x="125" y="350"/>
                      </a:lnTo>
                      <a:lnTo>
                        <a:pt x="142" y="323"/>
                      </a:lnTo>
                      <a:lnTo>
                        <a:pt x="161" y="295"/>
                      </a:lnTo>
                      <a:lnTo>
                        <a:pt x="179" y="271"/>
                      </a:lnTo>
                      <a:lnTo>
                        <a:pt x="199" y="247"/>
                      </a:lnTo>
                      <a:lnTo>
                        <a:pt x="222" y="224"/>
                      </a:lnTo>
                      <a:lnTo>
                        <a:pt x="245" y="202"/>
                      </a:lnTo>
                      <a:lnTo>
                        <a:pt x="267" y="183"/>
                      </a:lnTo>
                      <a:lnTo>
                        <a:pt x="293" y="164"/>
                      </a:lnTo>
                      <a:lnTo>
                        <a:pt x="319" y="146"/>
                      </a:lnTo>
                      <a:lnTo>
                        <a:pt x="346" y="129"/>
                      </a:lnTo>
                      <a:lnTo>
                        <a:pt x="373" y="114"/>
                      </a:lnTo>
                      <a:lnTo>
                        <a:pt x="402" y="99"/>
                      </a:lnTo>
                      <a:lnTo>
                        <a:pt x="431" y="86"/>
                      </a:lnTo>
                      <a:lnTo>
                        <a:pt x="459" y="74"/>
                      </a:lnTo>
                      <a:lnTo>
                        <a:pt x="490" y="64"/>
                      </a:lnTo>
                      <a:lnTo>
                        <a:pt x="521" y="53"/>
                      </a:lnTo>
                      <a:lnTo>
                        <a:pt x="552" y="44"/>
                      </a:lnTo>
                      <a:lnTo>
                        <a:pt x="584" y="36"/>
                      </a:lnTo>
                      <a:lnTo>
                        <a:pt x="616" y="28"/>
                      </a:lnTo>
                      <a:lnTo>
                        <a:pt x="648" y="21"/>
                      </a:lnTo>
                      <a:lnTo>
                        <a:pt x="680" y="17"/>
                      </a:lnTo>
                      <a:lnTo>
                        <a:pt x="713" y="12"/>
                      </a:lnTo>
                      <a:lnTo>
                        <a:pt x="777" y="5"/>
                      </a:lnTo>
                      <a:lnTo>
                        <a:pt x="844" y="0"/>
                      </a:lnTo>
                      <a:lnTo>
                        <a:pt x="908" y="0"/>
                      </a:lnTo>
                      <a:lnTo>
                        <a:pt x="971" y="2"/>
                      </a:lnTo>
                      <a:lnTo>
                        <a:pt x="1007" y="8"/>
                      </a:lnTo>
                      <a:lnTo>
                        <a:pt x="1040" y="18"/>
                      </a:lnTo>
                      <a:lnTo>
                        <a:pt x="1072" y="29"/>
                      </a:lnTo>
                      <a:lnTo>
                        <a:pt x="1105" y="43"/>
                      </a:lnTo>
                      <a:lnTo>
                        <a:pt x="1135" y="58"/>
                      </a:lnTo>
                      <a:lnTo>
                        <a:pt x="1164" y="74"/>
                      </a:lnTo>
                      <a:lnTo>
                        <a:pt x="1193" y="94"/>
                      </a:lnTo>
                      <a:lnTo>
                        <a:pt x="1223" y="114"/>
                      </a:lnTo>
                      <a:lnTo>
                        <a:pt x="1249" y="136"/>
                      </a:lnTo>
                      <a:lnTo>
                        <a:pt x="1274" y="160"/>
                      </a:lnTo>
                      <a:lnTo>
                        <a:pt x="1299" y="185"/>
                      </a:lnTo>
                      <a:lnTo>
                        <a:pt x="1321" y="212"/>
                      </a:lnTo>
                      <a:lnTo>
                        <a:pt x="1344" y="239"/>
                      </a:lnTo>
                      <a:lnTo>
                        <a:pt x="1362" y="268"/>
                      </a:lnTo>
                      <a:lnTo>
                        <a:pt x="1382" y="300"/>
                      </a:lnTo>
                      <a:lnTo>
                        <a:pt x="1400" y="333"/>
                      </a:lnTo>
                      <a:close/>
                    </a:path>
                  </a:pathLst>
                </a:custGeom>
                <a:solidFill>
                  <a:srgbClr val="538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340"/>
                <p:cNvSpPr/>
                <p:nvPr/>
              </p:nvSpPr>
              <p:spPr>
                <a:xfrm>
                  <a:off x="6387840" y="2541240"/>
                  <a:ext cx="56880" cy="49320"/>
                </a:xfrm>
                <a:custGeom>
                  <a:avLst/>
                  <a:gdLst/>
                  <a:ahLst/>
                  <a:rect l="l" t="t" r="r" b="b"/>
                  <a:pathLst>
                    <a:path w="881" h="770">
                      <a:moveTo>
                        <a:pt x="810" y="151"/>
                      </a:moveTo>
                      <a:lnTo>
                        <a:pt x="821" y="159"/>
                      </a:lnTo>
                      <a:lnTo>
                        <a:pt x="829" y="169"/>
                      </a:lnTo>
                      <a:lnTo>
                        <a:pt x="838" y="177"/>
                      </a:lnTo>
                      <a:lnTo>
                        <a:pt x="846" y="186"/>
                      </a:lnTo>
                      <a:lnTo>
                        <a:pt x="852" y="198"/>
                      </a:lnTo>
                      <a:lnTo>
                        <a:pt x="858" y="207"/>
                      </a:lnTo>
                      <a:lnTo>
                        <a:pt x="864" y="219"/>
                      </a:lnTo>
                      <a:lnTo>
                        <a:pt x="868" y="230"/>
                      </a:lnTo>
                      <a:lnTo>
                        <a:pt x="874" y="254"/>
                      </a:lnTo>
                      <a:lnTo>
                        <a:pt x="877" y="278"/>
                      </a:lnTo>
                      <a:lnTo>
                        <a:pt x="881" y="304"/>
                      </a:lnTo>
                      <a:lnTo>
                        <a:pt x="881" y="330"/>
                      </a:lnTo>
                      <a:lnTo>
                        <a:pt x="877" y="383"/>
                      </a:lnTo>
                      <a:lnTo>
                        <a:pt x="871" y="435"/>
                      </a:lnTo>
                      <a:lnTo>
                        <a:pt x="865" y="485"/>
                      </a:lnTo>
                      <a:lnTo>
                        <a:pt x="858" y="531"/>
                      </a:lnTo>
                      <a:lnTo>
                        <a:pt x="853" y="548"/>
                      </a:lnTo>
                      <a:lnTo>
                        <a:pt x="849" y="566"/>
                      </a:lnTo>
                      <a:lnTo>
                        <a:pt x="841" y="582"/>
                      </a:lnTo>
                      <a:lnTo>
                        <a:pt x="832" y="598"/>
                      </a:lnTo>
                      <a:lnTo>
                        <a:pt x="814" y="628"/>
                      </a:lnTo>
                      <a:lnTo>
                        <a:pt x="793" y="659"/>
                      </a:lnTo>
                      <a:lnTo>
                        <a:pt x="768" y="688"/>
                      </a:lnTo>
                      <a:lnTo>
                        <a:pt x="743" y="715"/>
                      </a:lnTo>
                      <a:lnTo>
                        <a:pt x="714" y="743"/>
                      </a:lnTo>
                      <a:lnTo>
                        <a:pt x="687" y="770"/>
                      </a:lnTo>
                      <a:lnTo>
                        <a:pt x="642" y="755"/>
                      </a:lnTo>
                      <a:lnTo>
                        <a:pt x="595" y="741"/>
                      </a:lnTo>
                      <a:lnTo>
                        <a:pt x="546" y="730"/>
                      </a:lnTo>
                      <a:lnTo>
                        <a:pt x="499" y="719"/>
                      </a:lnTo>
                      <a:lnTo>
                        <a:pt x="451" y="709"/>
                      </a:lnTo>
                      <a:lnTo>
                        <a:pt x="402" y="697"/>
                      </a:lnTo>
                      <a:lnTo>
                        <a:pt x="354" y="687"/>
                      </a:lnTo>
                      <a:lnTo>
                        <a:pt x="307" y="673"/>
                      </a:lnTo>
                      <a:lnTo>
                        <a:pt x="284" y="666"/>
                      </a:lnTo>
                      <a:lnTo>
                        <a:pt x="260" y="658"/>
                      </a:lnTo>
                      <a:lnTo>
                        <a:pt x="239" y="649"/>
                      </a:lnTo>
                      <a:lnTo>
                        <a:pt x="216" y="640"/>
                      </a:lnTo>
                      <a:lnTo>
                        <a:pt x="195" y="628"/>
                      </a:lnTo>
                      <a:lnTo>
                        <a:pt x="174" y="617"/>
                      </a:lnTo>
                      <a:lnTo>
                        <a:pt x="155" y="604"/>
                      </a:lnTo>
                      <a:lnTo>
                        <a:pt x="136" y="591"/>
                      </a:lnTo>
                      <a:lnTo>
                        <a:pt x="118" y="576"/>
                      </a:lnTo>
                      <a:lnTo>
                        <a:pt x="100" y="561"/>
                      </a:lnTo>
                      <a:lnTo>
                        <a:pt x="84" y="543"/>
                      </a:lnTo>
                      <a:lnTo>
                        <a:pt x="68" y="525"/>
                      </a:lnTo>
                      <a:lnTo>
                        <a:pt x="53" y="504"/>
                      </a:lnTo>
                      <a:lnTo>
                        <a:pt x="39" y="484"/>
                      </a:lnTo>
                      <a:lnTo>
                        <a:pt x="28" y="460"/>
                      </a:lnTo>
                      <a:lnTo>
                        <a:pt x="17" y="435"/>
                      </a:lnTo>
                      <a:lnTo>
                        <a:pt x="8" y="398"/>
                      </a:lnTo>
                      <a:lnTo>
                        <a:pt x="3" y="357"/>
                      </a:lnTo>
                      <a:lnTo>
                        <a:pt x="2" y="339"/>
                      </a:lnTo>
                      <a:lnTo>
                        <a:pt x="0" y="317"/>
                      </a:lnTo>
                      <a:lnTo>
                        <a:pt x="0" y="296"/>
                      </a:lnTo>
                      <a:lnTo>
                        <a:pt x="0" y="275"/>
                      </a:lnTo>
                      <a:lnTo>
                        <a:pt x="2" y="256"/>
                      </a:lnTo>
                      <a:lnTo>
                        <a:pt x="5" y="235"/>
                      </a:lnTo>
                      <a:lnTo>
                        <a:pt x="10" y="216"/>
                      </a:lnTo>
                      <a:lnTo>
                        <a:pt x="17" y="198"/>
                      </a:lnTo>
                      <a:lnTo>
                        <a:pt x="26" y="180"/>
                      </a:lnTo>
                      <a:lnTo>
                        <a:pt x="35" y="164"/>
                      </a:lnTo>
                      <a:lnTo>
                        <a:pt x="49" y="148"/>
                      </a:lnTo>
                      <a:lnTo>
                        <a:pt x="65" y="133"/>
                      </a:lnTo>
                      <a:lnTo>
                        <a:pt x="82" y="115"/>
                      </a:lnTo>
                      <a:lnTo>
                        <a:pt x="100" y="98"/>
                      </a:lnTo>
                      <a:lnTo>
                        <a:pt x="120" y="82"/>
                      </a:lnTo>
                      <a:lnTo>
                        <a:pt x="141" y="68"/>
                      </a:lnTo>
                      <a:lnTo>
                        <a:pt x="163" y="56"/>
                      </a:lnTo>
                      <a:lnTo>
                        <a:pt x="186" y="43"/>
                      </a:lnTo>
                      <a:lnTo>
                        <a:pt x="209" y="33"/>
                      </a:lnTo>
                      <a:lnTo>
                        <a:pt x="233" y="26"/>
                      </a:lnTo>
                      <a:lnTo>
                        <a:pt x="257" y="17"/>
                      </a:lnTo>
                      <a:lnTo>
                        <a:pt x="283" y="11"/>
                      </a:lnTo>
                      <a:lnTo>
                        <a:pt x="307" y="6"/>
                      </a:lnTo>
                      <a:lnTo>
                        <a:pt x="333" y="3"/>
                      </a:lnTo>
                      <a:lnTo>
                        <a:pt x="360" y="1"/>
                      </a:lnTo>
                      <a:lnTo>
                        <a:pt x="386" y="0"/>
                      </a:lnTo>
                      <a:lnTo>
                        <a:pt x="412" y="0"/>
                      </a:lnTo>
                      <a:lnTo>
                        <a:pt x="439" y="1"/>
                      </a:lnTo>
                      <a:lnTo>
                        <a:pt x="465" y="3"/>
                      </a:lnTo>
                      <a:lnTo>
                        <a:pt x="492" y="6"/>
                      </a:lnTo>
                      <a:lnTo>
                        <a:pt x="518" y="11"/>
                      </a:lnTo>
                      <a:lnTo>
                        <a:pt x="543" y="15"/>
                      </a:lnTo>
                      <a:lnTo>
                        <a:pt x="569" y="22"/>
                      </a:lnTo>
                      <a:lnTo>
                        <a:pt x="595" y="30"/>
                      </a:lnTo>
                      <a:lnTo>
                        <a:pt x="619" y="38"/>
                      </a:lnTo>
                      <a:lnTo>
                        <a:pt x="646" y="47"/>
                      </a:lnTo>
                      <a:lnTo>
                        <a:pt x="667" y="58"/>
                      </a:lnTo>
                      <a:lnTo>
                        <a:pt x="692" y="68"/>
                      </a:lnTo>
                      <a:lnTo>
                        <a:pt x="713" y="80"/>
                      </a:lnTo>
                      <a:lnTo>
                        <a:pt x="735" y="94"/>
                      </a:lnTo>
                      <a:lnTo>
                        <a:pt x="755" y="106"/>
                      </a:lnTo>
                      <a:lnTo>
                        <a:pt x="775" y="121"/>
                      </a:lnTo>
                      <a:lnTo>
                        <a:pt x="794" y="136"/>
                      </a:lnTo>
                      <a:lnTo>
                        <a:pt x="810" y="1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341"/>
                <p:cNvSpPr/>
                <p:nvPr/>
              </p:nvSpPr>
              <p:spPr>
                <a:xfrm>
                  <a:off x="6999480" y="2548800"/>
                  <a:ext cx="43200" cy="62640"/>
                </a:xfrm>
                <a:custGeom>
                  <a:avLst/>
                  <a:gdLst/>
                  <a:ahLst/>
                  <a:rect l="l" t="t" r="r" b="b"/>
                  <a:pathLst>
                    <a:path w="667" h="973">
                      <a:moveTo>
                        <a:pt x="667" y="910"/>
                      </a:moveTo>
                      <a:lnTo>
                        <a:pt x="637" y="973"/>
                      </a:lnTo>
                      <a:lnTo>
                        <a:pt x="555" y="971"/>
                      </a:lnTo>
                      <a:lnTo>
                        <a:pt x="474" y="971"/>
                      </a:lnTo>
                      <a:lnTo>
                        <a:pt x="392" y="973"/>
                      </a:lnTo>
                      <a:lnTo>
                        <a:pt x="309" y="973"/>
                      </a:lnTo>
                      <a:lnTo>
                        <a:pt x="227" y="973"/>
                      </a:lnTo>
                      <a:lnTo>
                        <a:pt x="148" y="970"/>
                      </a:lnTo>
                      <a:lnTo>
                        <a:pt x="111" y="968"/>
                      </a:lnTo>
                      <a:lnTo>
                        <a:pt x="71" y="965"/>
                      </a:lnTo>
                      <a:lnTo>
                        <a:pt x="36" y="960"/>
                      </a:lnTo>
                      <a:lnTo>
                        <a:pt x="0" y="956"/>
                      </a:lnTo>
                      <a:lnTo>
                        <a:pt x="36" y="892"/>
                      </a:lnTo>
                      <a:lnTo>
                        <a:pt x="73" y="832"/>
                      </a:lnTo>
                      <a:lnTo>
                        <a:pt x="111" y="770"/>
                      </a:lnTo>
                      <a:lnTo>
                        <a:pt x="150" y="708"/>
                      </a:lnTo>
                      <a:lnTo>
                        <a:pt x="230" y="588"/>
                      </a:lnTo>
                      <a:lnTo>
                        <a:pt x="312" y="469"/>
                      </a:lnTo>
                      <a:lnTo>
                        <a:pt x="398" y="349"/>
                      </a:lnTo>
                      <a:lnTo>
                        <a:pt x="483" y="233"/>
                      </a:lnTo>
                      <a:lnTo>
                        <a:pt x="569" y="117"/>
                      </a:lnTo>
                      <a:lnTo>
                        <a:pt x="654" y="0"/>
                      </a:lnTo>
                      <a:lnTo>
                        <a:pt x="667" y="9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342"/>
                <p:cNvSpPr/>
                <p:nvPr/>
              </p:nvSpPr>
              <p:spPr>
                <a:xfrm>
                  <a:off x="6372360" y="2610360"/>
                  <a:ext cx="65880" cy="61560"/>
                </a:xfrm>
                <a:custGeom>
                  <a:avLst/>
                  <a:gdLst/>
                  <a:ahLst/>
                  <a:rect l="l" t="t" r="r" b="b"/>
                  <a:pathLst>
                    <a:path w="1022" h="957">
                      <a:moveTo>
                        <a:pt x="986" y="369"/>
                      </a:moveTo>
                      <a:lnTo>
                        <a:pt x="994" y="387"/>
                      </a:lnTo>
                      <a:lnTo>
                        <a:pt x="1001" y="408"/>
                      </a:lnTo>
                      <a:lnTo>
                        <a:pt x="1008" y="431"/>
                      </a:lnTo>
                      <a:lnTo>
                        <a:pt x="1013" y="454"/>
                      </a:lnTo>
                      <a:lnTo>
                        <a:pt x="1016" y="478"/>
                      </a:lnTo>
                      <a:lnTo>
                        <a:pt x="1019" y="502"/>
                      </a:lnTo>
                      <a:lnTo>
                        <a:pt x="1021" y="526"/>
                      </a:lnTo>
                      <a:lnTo>
                        <a:pt x="1022" y="550"/>
                      </a:lnTo>
                      <a:lnTo>
                        <a:pt x="1021" y="576"/>
                      </a:lnTo>
                      <a:lnTo>
                        <a:pt x="1019" y="600"/>
                      </a:lnTo>
                      <a:lnTo>
                        <a:pt x="1016" y="625"/>
                      </a:lnTo>
                      <a:lnTo>
                        <a:pt x="1013" y="649"/>
                      </a:lnTo>
                      <a:lnTo>
                        <a:pt x="1008" y="671"/>
                      </a:lnTo>
                      <a:lnTo>
                        <a:pt x="1001" y="694"/>
                      </a:lnTo>
                      <a:lnTo>
                        <a:pt x="994" y="715"/>
                      </a:lnTo>
                      <a:lnTo>
                        <a:pt x="986" y="735"/>
                      </a:lnTo>
                      <a:lnTo>
                        <a:pt x="966" y="765"/>
                      </a:lnTo>
                      <a:lnTo>
                        <a:pt x="945" y="792"/>
                      </a:lnTo>
                      <a:lnTo>
                        <a:pt x="924" y="818"/>
                      </a:lnTo>
                      <a:lnTo>
                        <a:pt x="901" y="841"/>
                      </a:lnTo>
                      <a:lnTo>
                        <a:pt x="876" y="863"/>
                      </a:lnTo>
                      <a:lnTo>
                        <a:pt x="850" y="881"/>
                      </a:lnTo>
                      <a:lnTo>
                        <a:pt x="824" y="898"/>
                      </a:lnTo>
                      <a:lnTo>
                        <a:pt x="795" y="913"/>
                      </a:lnTo>
                      <a:lnTo>
                        <a:pt x="766" y="925"/>
                      </a:lnTo>
                      <a:lnTo>
                        <a:pt x="738" y="936"/>
                      </a:lnTo>
                      <a:lnTo>
                        <a:pt x="705" y="944"/>
                      </a:lnTo>
                      <a:lnTo>
                        <a:pt x="674" y="951"/>
                      </a:lnTo>
                      <a:lnTo>
                        <a:pt x="642" y="954"/>
                      </a:lnTo>
                      <a:lnTo>
                        <a:pt x="608" y="957"/>
                      </a:lnTo>
                      <a:lnTo>
                        <a:pt x="574" y="957"/>
                      </a:lnTo>
                      <a:lnTo>
                        <a:pt x="538" y="956"/>
                      </a:lnTo>
                      <a:lnTo>
                        <a:pt x="500" y="954"/>
                      </a:lnTo>
                      <a:lnTo>
                        <a:pt x="461" y="947"/>
                      </a:lnTo>
                      <a:lnTo>
                        <a:pt x="423" y="939"/>
                      </a:lnTo>
                      <a:lnTo>
                        <a:pt x="384" y="930"/>
                      </a:lnTo>
                      <a:lnTo>
                        <a:pt x="347" y="916"/>
                      </a:lnTo>
                      <a:lnTo>
                        <a:pt x="311" y="901"/>
                      </a:lnTo>
                      <a:lnTo>
                        <a:pt x="276" y="883"/>
                      </a:lnTo>
                      <a:lnTo>
                        <a:pt x="242" y="862"/>
                      </a:lnTo>
                      <a:lnTo>
                        <a:pt x="210" y="841"/>
                      </a:lnTo>
                      <a:lnTo>
                        <a:pt x="180" y="817"/>
                      </a:lnTo>
                      <a:lnTo>
                        <a:pt x="150" y="791"/>
                      </a:lnTo>
                      <a:lnTo>
                        <a:pt x="122" y="764"/>
                      </a:lnTo>
                      <a:lnTo>
                        <a:pt x="97" y="733"/>
                      </a:lnTo>
                      <a:lnTo>
                        <a:pt x="72" y="702"/>
                      </a:lnTo>
                      <a:lnTo>
                        <a:pt x="51" y="671"/>
                      </a:lnTo>
                      <a:lnTo>
                        <a:pt x="33" y="638"/>
                      </a:lnTo>
                      <a:lnTo>
                        <a:pt x="19" y="614"/>
                      </a:lnTo>
                      <a:lnTo>
                        <a:pt x="12" y="590"/>
                      </a:lnTo>
                      <a:lnTo>
                        <a:pt x="5" y="564"/>
                      </a:lnTo>
                      <a:lnTo>
                        <a:pt x="1" y="540"/>
                      </a:lnTo>
                      <a:lnTo>
                        <a:pt x="0" y="514"/>
                      </a:lnTo>
                      <a:lnTo>
                        <a:pt x="0" y="488"/>
                      </a:lnTo>
                      <a:lnTo>
                        <a:pt x="1" y="461"/>
                      </a:lnTo>
                      <a:lnTo>
                        <a:pt x="5" y="436"/>
                      </a:lnTo>
                      <a:lnTo>
                        <a:pt x="13" y="383"/>
                      </a:lnTo>
                      <a:lnTo>
                        <a:pt x="23" y="331"/>
                      </a:lnTo>
                      <a:lnTo>
                        <a:pt x="26" y="304"/>
                      </a:lnTo>
                      <a:lnTo>
                        <a:pt x="29" y="278"/>
                      </a:lnTo>
                      <a:lnTo>
                        <a:pt x="31" y="252"/>
                      </a:lnTo>
                      <a:lnTo>
                        <a:pt x="33" y="227"/>
                      </a:lnTo>
                      <a:lnTo>
                        <a:pt x="48" y="189"/>
                      </a:lnTo>
                      <a:lnTo>
                        <a:pt x="66" y="156"/>
                      </a:lnTo>
                      <a:lnTo>
                        <a:pt x="84" y="125"/>
                      </a:lnTo>
                      <a:lnTo>
                        <a:pt x="104" y="99"/>
                      </a:lnTo>
                      <a:lnTo>
                        <a:pt x="124" y="75"/>
                      </a:lnTo>
                      <a:lnTo>
                        <a:pt x="145" y="56"/>
                      </a:lnTo>
                      <a:lnTo>
                        <a:pt x="168" y="39"/>
                      </a:lnTo>
                      <a:lnTo>
                        <a:pt x="190" y="27"/>
                      </a:lnTo>
                      <a:lnTo>
                        <a:pt x="213" y="17"/>
                      </a:lnTo>
                      <a:lnTo>
                        <a:pt x="237" y="9"/>
                      </a:lnTo>
                      <a:lnTo>
                        <a:pt x="261" y="4"/>
                      </a:lnTo>
                      <a:lnTo>
                        <a:pt x="287" y="1"/>
                      </a:lnTo>
                      <a:lnTo>
                        <a:pt x="313" y="0"/>
                      </a:lnTo>
                      <a:lnTo>
                        <a:pt x="337" y="1"/>
                      </a:lnTo>
                      <a:lnTo>
                        <a:pt x="364" y="4"/>
                      </a:lnTo>
                      <a:lnTo>
                        <a:pt x="390" y="9"/>
                      </a:lnTo>
                      <a:lnTo>
                        <a:pt x="416" y="15"/>
                      </a:lnTo>
                      <a:lnTo>
                        <a:pt x="442" y="21"/>
                      </a:lnTo>
                      <a:lnTo>
                        <a:pt x="470" y="30"/>
                      </a:lnTo>
                      <a:lnTo>
                        <a:pt x="496" y="39"/>
                      </a:lnTo>
                      <a:lnTo>
                        <a:pt x="547" y="60"/>
                      </a:lnTo>
                      <a:lnTo>
                        <a:pt x="597" y="83"/>
                      </a:lnTo>
                      <a:lnTo>
                        <a:pt x="647" y="106"/>
                      </a:lnTo>
                      <a:lnTo>
                        <a:pt x="694" y="127"/>
                      </a:lnTo>
                      <a:lnTo>
                        <a:pt x="738" y="146"/>
                      </a:lnTo>
                      <a:lnTo>
                        <a:pt x="777" y="160"/>
                      </a:lnTo>
                      <a:lnTo>
                        <a:pt x="986" y="3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343"/>
                <p:cNvSpPr/>
                <p:nvPr/>
              </p:nvSpPr>
              <p:spPr>
                <a:xfrm>
                  <a:off x="6516000" y="2676600"/>
                  <a:ext cx="87120" cy="138240"/>
                </a:xfrm>
                <a:custGeom>
                  <a:avLst/>
                  <a:gdLst/>
                  <a:ahLst/>
                  <a:rect l="l" t="t" r="r" b="b"/>
                  <a:pathLst>
                    <a:path w="1348" h="2143">
                      <a:moveTo>
                        <a:pt x="1285" y="41"/>
                      </a:moveTo>
                      <a:lnTo>
                        <a:pt x="1334" y="41"/>
                      </a:lnTo>
                      <a:lnTo>
                        <a:pt x="1343" y="106"/>
                      </a:lnTo>
                      <a:lnTo>
                        <a:pt x="1348" y="166"/>
                      </a:lnTo>
                      <a:lnTo>
                        <a:pt x="1346" y="223"/>
                      </a:lnTo>
                      <a:lnTo>
                        <a:pt x="1340" y="277"/>
                      </a:lnTo>
                      <a:lnTo>
                        <a:pt x="1328" y="327"/>
                      </a:lnTo>
                      <a:lnTo>
                        <a:pt x="1313" y="375"/>
                      </a:lnTo>
                      <a:lnTo>
                        <a:pt x="1292" y="422"/>
                      </a:lnTo>
                      <a:lnTo>
                        <a:pt x="1269" y="468"/>
                      </a:lnTo>
                      <a:lnTo>
                        <a:pt x="1242" y="510"/>
                      </a:lnTo>
                      <a:lnTo>
                        <a:pt x="1211" y="549"/>
                      </a:lnTo>
                      <a:lnTo>
                        <a:pt x="1178" y="590"/>
                      </a:lnTo>
                      <a:lnTo>
                        <a:pt x="1145" y="629"/>
                      </a:lnTo>
                      <a:lnTo>
                        <a:pt x="1107" y="666"/>
                      </a:lnTo>
                      <a:lnTo>
                        <a:pt x="1069" y="702"/>
                      </a:lnTo>
                      <a:lnTo>
                        <a:pt x="1030" y="738"/>
                      </a:lnTo>
                      <a:lnTo>
                        <a:pt x="992" y="774"/>
                      </a:lnTo>
                      <a:lnTo>
                        <a:pt x="911" y="847"/>
                      </a:lnTo>
                      <a:lnTo>
                        <a:pt x="833" y="921"/>
                      </a:lnTo>
                      <a:lnTo>
                        <a:pt x="794" y="958"/>
                      </a:lnTo>
                      <a:lnTo>
                        <a:pt x="759" y="998"/>
                      </a:lnTo>
                      <a:lnTo>
                        <a:pt x="726" y="1038"/>
                      </a:lnTo>
                      <a:lnTo>
                        <a:pt x="693" y="1080"/>
                      </a:lnTo>
                      <a:lnTo>
                        <a:pt x="664" y="1124"/>
                      </a:lnTo>
                      <a:lnTo>
                        <a:pt x="638" y="1171"/>
                      </a:lnTo>
                      <a:lnTo>
                        <a:pt x="616" y="1219"/>
                      </a:lnTo>
                      <a:lnTo>
                        <a:pt x="598" y="1271"/>
                      </a:lnTo>
                      <a:lnTo>
                        <a:pt x="584" y="1324"/>
                      </a:lnTo>
                      <a:lnTo>
                        <a:pt x="574" y="1380"/>
                      </a:lnTo>
                      <a:lnTo>
                        <a:pt x="569" y="1440"/>
                      </a:lnTo>
                      <a:lnTo>
                        <a:pt x="569" y="1502"/>
                      </a:lnTo>
                      <a:lnTo>
                        <a:pt x="590" y="1531"/>
                      </a:lnTo>
                      <a:lnTo>
                        <a:pt x="611" y="1558"/>
                      </a:lnTo>
                      <a:lnTo>
                        <a:pt x="634" y="1582"/>
                      </a:lnTo>
                      <a:lnTo>
                        <a:pt x="655" y="1606"/>
                      </a:lnTo>
                      <a:lnTo>
                        <a:pt x="679" y="1627"/>
                      </a:lnTo>
                      <a:lnTo>
                        <a:pt x="705" y="1646"/>
                      </a:lnTo>
                      <a:lnTo>
                        <a:pt x="717" y="1655"/>
                      </a:lnTo>
                      <a:lnTo>
                        <a:pt x="732" y="1662"/>
                      </a:lnTo>
                      <a:lnTo>
                        <a:pt x="749" y="1669"/>
                      </a:lnTo>
                      <a:lnTo>
                        <a:pt x="764" y="1676"/>
                      </a:lnTo>
                      <a:lnTo>
                        <a:pt x="779" y="1676"/>
                      </a:lnTo>
                      <a:lnTo>
                        <a:pt x="793" y="1676"/>
                      </a:lnTo>
                      <a:lnTo>
                        <a:pt x="809" y="1674"/>
                      </a:lnTo>
                      <a:lnTo>
                        <a:pt x="824" y="1672"/>
                      </a:lnTo>
                      <a:lnTo>
                        <a:pt x="837" y="1669"/>
                      </a:lnTo>
                      <a:lnTo>
                        <a:pt x="851" y="1664"/>
                      </a:lnTo>
                      <a:lnTo>
                        <a:pt x="865" y="1659"/>
                      </a:lnTo>
                      <a:lnTo>
                        <a:pt x="879" y="1655"/>
                      </a:lnTo>
                      <a:lnTo>
                        <a:pt x="906" y="1641"/>
                      </a:lnTo>
                      <a:lnTo>
                        <a:pt x="932" y="1626"/>
                      </a:lnTo>
                      <a:lnTo>
                        <a:pt x="956" y="1608"/>
                      </a:lnTo>
                      <a:lnTo>
                        <a:pt x="979" y="1587"/>
                      </a:lnTo>
                      <a:lnTo>
                        <a:pt x="1001" y="1566"/>
                      </a:lnTo>
                      <a:lnTo>
                        <a:pt x="1024" y="1543"/>
                      </a:lnTo>
                      <a:lnTo>
                        <a:pt x="1044" y="1520"/>
                      </a:lnTo>
                      <a:lnTo>
                        <a:pt x="1062" y="1496"/>
                      </a:lnTo>
                      <a:lnTo>
                        <a:pt x="1097" y="1449"/>
                      </a:lnTo>
                      <a:lnTo>
                        <a:pt x="1125" y="1407"/>
                      </a:lnTo>
                      <a:lnTo>
                        <a:pt x="1143" y="1428"/>
                      </a:lnTo>
                      <a:lnTo>
                        <a:pt x="1157" y="1452"/>
                      </a:lnTo>
                      <a:lnTo>
                        <a:pt x="1171" y="1479"/>
                      </a:lnTo>
                      <a:lnTo>
                        <a:pt x="1180" y="1505"/>
                      </a:lnTo>
                      <a:lnTo>
                        <a:pt x="1189" y="1532"/>
                      </a:lnTo>
                      <a:lnTo>
                        <a:pt x="1193" y="1561"/>
                      </a:lnTo>
                      <a:lnTo>
                        <a:pt x="1196" y="1591"/>
                      </a:lnTo>
                      <a:lnTo>
                        <a:pt x="1198" y="1620"/>
                      </a:lnTo>
                      <a:lnTo>
                        <a:pt x="1196" y="1652"/>
                      </a:lnTo>
                      <a:lnTo>
                        <a:pt x="1193" y="1680"/>
                      </a:lnTo>
                      <a:lnTo>
                        <a:pt x="1189" y="1711"/>
                      </a:lnTo>
                      <a:lnTo>
                        <a:pt x="1183" y="1740"/>
                      </a:lnTo>
                      <a:lnTo>
                        <a:pt x="1175" y="1769"/>
                      </a:lnTo>
                      <a:lnTo>
                        <a:pt x="1166" y="1798"/>
                      </a:lnTo>
                      <a:lnTo>
                        <a:pt x="1154" y="1826"/>
                      </a:lnTo>
                      <a:lnTo>
                        <a:pt x="1143" y="1851"/>
                      </a:lnTo>
                      <a:lnTo>
                        <a:pt x="1127" y="1880"/>
                      </a:lnTo>
                      <a:lnTo>
                        <a:pt x="1109" y="1907"/>
                      </a:lnTo>
                      <a:lnTo>
                        <a:pt x="1090" y="1933"/>
                      </a:lnTo>
                      <a:lnTo>
                        <a:pt x="1069" y="1957"/>
                      </a:lnTo>
                      <a:lnTo>
                        <a:pt x="1047" y="1980"/>
                      </a:lnTo>
                      <a:lnTo>
                        <a:pt x="1024" y="2001"/>
                      </a:lnTo>
                      <a:lnTo>
                        <a:pt x="998" y="2021"/>
                      </a:lnTo>
                      <a:lnTo>
                        <a:pt x="972" y="2039"/>
                      </a:lnTo>
                      <a:lnTo>
                        <a:pt x="947" y="2054"/>
                      </a:lnTo>
                      <a:lnTo>
                        <a:pt x="919" y="2071"/>
                      </a:lnTo>
                      <a:lnTo>
                        <a:pt x="890" y="2085"/>
                      </a:lnTo>
                      <a:lnTo>
                        <a:pt x="862" y="2098"/>
                      </a:lnTo>
                      <a:lnTo>
                        <a:pt x="833" y="2109"/>
                      </a:lnTo>
                      <a:lnTo>
                        <a:pt x="805" y="2121"/>
                      </a:lnTo>
                      <a:lnTo>
                        <a:pt x="776" y="2130"/>
                      </a:lnTo>
                      <a:lnTo>
                        <a:pt x="746" y="2139"/>
                      </a:lnTo>
                      <a:lnTo>
                        <a:pt x="717" y="2142"/>
                      </a:lnTo>
                      <a:lnTo>
                        <a:pt x="688" y="2143"/>
                      </a:lnTo>
                      <a:lnTo>
                        <a:pt x="659" y="2143"/>
                      </a:lnTo>
                      <a:lnTo>
                        <a:pt x="634" y="2142"/>
                      </a:lnTo>
                      <a:lnTo>
                        <a:pt x="606" y="2139"/>
                      </a:lnTo>
                      <a:lnTo>
                        <a:pt x="581" y="2136"/>
                      </a:lnTo>
                      <a:lnTo>
                        <a:pt x="557" y="2128"/>
                      </a:lnTo>
                      <a:lnTo>
                        <a:pt x="531" y="2122"/>
                      </a:lnTo>
                      <a:lnTo>
                        <a:pt x="507" y="2114"/>
                      </a:lnTo>
                      <a:lnTo>
                        <a:pt x="484" y="2104"/>
                      </a:lnTo>
                      <a:lnTo>
                        <a:pt x="460" y="2093"/>
                      </a:lnTo>
                      <a:lnTo>
                        <a:pt x="437" y="2082"/>
                      </a:lnTo>
                      <a:lnTo>
                        <a:pt x="392" y="2057"/>
                      </a:lnTo>
                      <a:lnTo>
                        <a:pt x="348" y="2028"/>
                      </a:lnTo>
                      <a:lnTo>
                        <a:pt x="328" y="2012"/>
                      </a:lnTo>
                      <a:lnTo>
                        <a:pt x="311" y="1995"/>
                      </a:lnTo>
                      <a:lnTo>
                        <a:pt x="295" y="1977"/>
                      </a:lnTo>
                      <a:lnTo>
                        <a:pt x="279" y="1957"/>
                      </a:lnTo>
                      <a:lnTo>
                        <a:pt x="265" y="1938"/>
                      </a:lnTo>
                      <a:lnTo>
                        <a:pt x="251" y="1918"/>
                      </a:lnTo>
                      <a:lnTo>
                        <a:pt x="240" y="1897"/>
                      </a:lnTo>
                      <a:lnTo>
                        <a:pt x="229" y="1876"/>
                      </a:lnTo>
                      <a:lnTo>
                        <a:pt x="219" y="1854"/>
                      </a:lnTo>
                      <a:lnTo>
                        <a:pt x="209" y="1832"/>
                      </a:lnTo>
                      <a:lnTo>
                        <a:pt x="201" y="1809"/>
                      </a:lnTo>
                      <a:lnTo>
                        <a:pt x="195" y="1785"/>
                      </a:lnTo>
                      <a:lnTo>
                        <a:pt x="190" y="1762"/>
                      </a:lnTo>
                      <a:lnTo>
                        <a:pt x="183" y="1738"/>
                      </a:lnTo>
                      <a:lnTo>
                        <a:pt x="180" y="1714"/>
                      </a:lnTo>
                      <a:lnTo>
                        <a:pt x="177" y="1690"/>
                      </a:lnTo>
                      <a:lnTo>
                        <a:pt x="174" y="1641"/>
                      </a:lnTo>
                      <a:lnTo>
                        <a:pt x="172" y="1593"/>
                      </a:lnTo>
                      <a:lnTo>
                        <a:pt x="174" y="1545"/>
                      </a:lnTo>
                      <a:lnTo>
                        <a:pt x="179" y="1496"/>
                      </a:lnTo>
                      <a:lnTo>
                        <a:pt x="186" y="1448"/>
                      </a:lnTo>
                      <a:lnTo>
                        <a:pt x="197" y="1401"/>
                      </a:lnTo>
                      <a:lnTo>
                        <a:pt x="207" y="1356"/>
                      </a:lnTo>
                      <a:lnTo>
                        <a:pt x="221" y="1313"/>
                      </a:lnTo>
                      <a:lnTo>
                        <a:pt x="243" y="1275"/>
                      </a:lnTo>
                      <a:lnTo>
                        <a:pt x="269" y="1239"/>
                      </a:lnTo>
                      <a:lnTo>
                        <a:pt x="295" y="1204"/>
                      </a:lnTo>
                      <a:lnTo>
                        <a:pt x="322" y="1171"/>
                      </a:lnTo>
                      <a:lnTo>
                        <a:pt x="351" y="1140"/>
                      </a:lnTo>
                      <a:lnTo>
                        <a:pt x="380" y="1109"/>
                      </a:lnTo>
                      <a:lnTo>
                        <a:pt x="411" y="1082"/>
                      </a:lnTo>
                      <a:lnTo>
                        <a:pt x="443" y="1054"/>
                      </a:lnTo>
                      <a:lnTo>
                        <a:pt x="475" y="1027"/>
                      </a:lnTo>
                      <a:lnTo>
                        <a:pt x="510" y="1003"/>
                      </a:lnTo>
                      <a:lnTo>
                        <a:pt x="543" y="977"/>
                      </a:lnTo>
                      <a:lnTo>
                        <a:pt x="578" y="955"/>
                      </a:lnTo>
                      <a:lnTo>
                        <a:pt x="648" y="908"/>
                      </a:lnTo>
                      <a:lnTo>
                        <a:pt x="717" y="862"/>
                      </a:lnTo>
                      <a:lnTo>
                        <a:pt x="788" y="817"/>
                      </a:lnTo>
                      <a:lnTo>
                        <a:pt x="858" y="773"/>
                      </a:lnTo>
                      <a:lnTo>
                        <a:pt x="891" y="749"/>
                      </a:lnTo>
                      <a:lnTo>
                        <a:pt x="926" y="723"/>
                      </a:lnTo>
                      <a:lnTo>
                        <a:pt x="958" y="700"/>
                      </a:lnTo>
                      <a:lnTo>
                        <a:pt x="989" y="674"/>
                      </a:lnTo>
                      <a:lnTo>
                        <a:pt x="1021" y="646"/>
                      </a:lnTo>
                      <a:lnTo>
                        <a:pt x="1051" y="619"/>
                      </a:lnTo>
                      <a:lnTo>
                        <a:pt x="1080" y="590"/>
                      </a:lnTo>
                      <a:lnTo>
                        <a:pt x="1107" y="560"/>
                      </a:lnTo>
                      <a:lnTo>
                        <a:pt x="1135" y="527"/>
                      </a:lnTo>
                      <a:lnTo>
                        <a:pt x="1159" y="493"/>
                      </a:lnTo>
                      <a:lnTo>
                        <a:pt x="1183" y="460"/>
                      </a:lnTo>
                      <a:lnTo>
                        <a:pt x="1204" y="422"/>
                      </a:lnTo>
                      <a:lnTo>
                        <a:pt x="1196" y="419"/>
                      </a:lnTo>
                      <a:lnTo>
                        <a:pt x="1189" y="419"/>
                      </a:lnTo>
                      <a:lnTo>
                        <a:pt x="1180" y="419"/>
                      </a:lnTo>
                      <a:lnTo>
                        <a:pt x="1172" y="419"/>
                      </a:lnTo>
                      <a:lnTo>
                        <a:pt x="1156" y="424"/>
                      </a:lnTo>
                      <a:lnTo>
                        <a:pt x="1140" y="430"/>
                      </a:lnTo>
                      <a:lnTo>
                        <a:pt x="1125" y="440"/>
                      </a:lnTo>
                      <a:lnTo>
                        <a:pt x="1110" y="453"/>
                      </a:lnTo>
                      <a:lnTo>
                        <a:pt x="1097" y="466"/>
                      </a:lnTo>
                      <a:lnTo>
                        <a:pt x="1080" y="478"/>
                      </a:lnTo>
                      <a:lnTo>
                        <a:pt x="1051" y="508"/>
                      </a:lnTo>
                      <a:lnTo>
                        <a:pt x="1021" y="534"/>
                      </a:lnTo>
                      <a:lnTo>
                        <a:pt x="1004" y="545"/>
                      </a:lnTo>
                      <a:lnTo>
                        <a:pt x="988" y="554"/>
                      </a:lnTo>
                      <a:lnTo>
                        <a:pt x="971" y="560"/>
                      </a:lnTo>
                      <a:lnTo>
                        <a:pt x="953" y="563"/>
                      </a:lnTo>
                      <a:lnTo>
                        <a:pt x="921" y="575"/>
                      </a:lnTo>
                      <a:lnTo>
                        <a:pt x="888" y="584"/>
                      </a:lnTo>
                      <a:lnTo>
                        <a:pt x="855" y="590"/>
                      </a:lnTo>
                      <a:lnTo>
                        <a:pt x="823" y="592"/>
                      </a:lnTo>
                      <a:lnTo>
                        <a:pt x="788" y="593"/>
                      </a:lnTo>
                      <a:lnTo>
                        <a:pt x="755" y="592"/>
                      </a:lnTo>
                      <a:lnTo>
                        <a:pt x="723" y="589"/>
                      </a:lnTo>
                      <a:lnTo>
                        <a:pt x="688" y="584"/>
                      </a:lnTo>
                      <a:lnTo>
                        <a:pt x="656" y="577"/>
                      </a:lnTo>
                      <a:lnTo>
                        <a:pt x="623" y="569"/>
                      </a:lnTo>
                      <a:lnTo>
                        <a:pt x="590" y="561"/>
                      </a:lnTo>
                      <a:lnTo>
                        <a:pt x="558" y="551"/>
                      </a:lnTo>
                      <a:lnTo>
                        <a:pt x="493" y="534"/>
                      </a:lnTo>
                      <a:lnTo>
                        <a:pt x="430" y="514"/>
                      </a:lnTo>
                      <a:lnTo>
                        <a:pt x="399" y="507"/>
                      </a:lnTo>
                      <a:lnTo>
                        <a:pt x="369" y="500"/>
                      </a:lnTo>
                      <a:lnTo>
                        <a:pt x="339" y="493"/>
                      </a:lnTo>
                      <a:lnTo>
                        <a:pt x="310" y="489"/>
                      </a:lnTo>
                      <a:lnTo>
                        <a:pt x="279" y="486"/>
                      </a:lnTo>
                      <a:lnTo>
                        <a:pt x="251" y="486"/>
                      </a:lnTo>
                      <a:lnTo>
                        <a:pt x="222" y="487"/>
                      </a:lnTo>
                      <a:lnTo>
                        <a:pt x="195" y="490"/>
                      </a:lnTo>
                      <a:lnTo>
                        <a:pt x="168" y="496"/>
                      </a:lnTo>
                      <a:lnTo>
                        <a:pt x="142" y="507"/>
                      </a:lnTo>
                      <a:lnTo>
                        <a:pt x="116" y="519"/>
                      </a:lnTo>
                      <a:lnTo>
                        <a:pt x="92" y="536"/>
                      </a:lnTo>
                      <a:lnTo>
                        <a:pt x="68" y="557"/>
                      </a:lnTo>
                      <a:lnTo>
                        <a:pt x="44" y="581"/>
                      </a:lnTo>
                      <a:lnTo>
                        <a:pt x="21" y="610"/>
                      </a:lnTo>
                      <a:lnTo>
                        <a:pt x="0" y="642"/>
                      </a:lnTo>
                      <a:lnTo>
                        <a:pt x="11" y="575"/>
                      </a:lnTo>
                      <a:lnTo>
                        <a:pt x="23" y="504"/>
                      </a:lnTo>
                      <a:lnTo>
                        <a:pt x="33" y="428"/>
                      </a:lnTo>
                      <a:lnTo>
                        <a:pt x="42" y="350"/>
                      </a:lnTo>
                      <a:lnTo>
                        <a:pt x="44" y="312"/>
                      </a:lnTo>
                      <a:lnTo>
                        <a:pt x="45" y="271"/>
                      </a:lnTo>
                      <a:lnTo>
                        <a:pt x="45" y="232"/>
                      </a:lnTo>
                      <a:lnTo>
                        <a:pt x="44" y="192"/>
                      </a:lnTo>
                      <a:lnTo>
                        <a:pt x="38" y="153"/>
                      </a:lnTo>
                      <a:lnTo>
                        <a:pt x="32" y="116"/>
                      </a:lnTo>
                      <a:lnTo>
                        <a:pt x="24" y="79"/>
                      </a:lnTo>
                      <a:lnTo>
                        <a:pt x="12" y="41"/>
                      </a:lnTo>
                      <a:lnTo>
                        <a:pt x="27" y="53"/>
                      </a:lnTo>
                      <a:lnTo>
                        <a:pt x="40" y="62"/>
                      </a:lnTo>
                      <a:lnTo>
                        <a:pt x="53" y="71"/>
                      </a:lnTo>
                      <a:lnTo>
                        <a:pt x="65" y="77"/>
                      </a:lnTo>
                      <a:lnTo>
                        <a:pt x="79" y="84"/>
                      </a:lnTo>
                      <a:lnTo>
                        <a:pt x="92" y="87"/>
                      </a:lnTo>
                      <a:lnTo>
                        <a:pt x="105" y="88"/>
                      </a:lnTo>
                      <a:lnTo>
                        <a:pt x="116" y="90"/>
                      </a:lnTo>
                      <a:lnTo>
                        <a:pt x="129" y="90"/>
                      </a:lnTo>
                      <a:lnTo>
                        <a:pt x="142" y="90"/>
                      </a:lnTo>
                      <a:lnTo>
                        <a:pt x="154" y="88"/>
                      </a:lnTo>
                      <a:lnTo>
                        <a:pt x="168" y="85"/>
                      </a:lnTo>
                      <a:lnTo>
                        <a:pt x="192" y="79"/>
                      </a:lnTo>
                      <a:lnTo>
                        <a:pt x="218" y="70"/>
                      </a:lnTo>
                      <a:lnTo>
                        <a:pt x="268" y="47"/>
                      </a:lnTo>
                      <a:lnTo>
                        <a:pt x="319" y="26"/>
                      </a:lnTo>
                      <a:lnTo>
                        <a:pt x="346" y="16"/>
                      </a:lnTo>
                      <a:lnTo>
                        <a:pt x="372" y="9"/>
                      </a:lnTo>
                      <a:lnTo>
                        <a:pt x="387" y="8"/>
                      </a:lnTo>
                      <a:lnTo>
                        <a:pt x="399" y="6"/>
                      </a:lnTo>
                      <a:lnTo>
                        <a:pt x="414" y="6"/>
                      </a:lnTo>
                      <a:lnTo>
                        <a:pt x="428" y="6"/>
                      </a:lnTo>
                      <a:lnTo>
                        <a:pt x="458" y="2"/>
                      </a:lnTo>
                      <a:lnTo>
                        <a:pt x="489" y="0"/>
                      </a:lnTo>
                      <a:lnTo>
                        <a:pt x="517" y="0"/>
                      </a:lnTo>
                      <a:lnTo>
                        <a:pt x="548" y="3"/>
                      </a:lnTo>
                      <a:lnTo>
                        <a:pt x="578" y="8"/>
                      </a:lnTo>
                      <a:lnTo>
                        <a:pt x="606" y="14"/>
                      </a:lnTo>
                      <a:lnTo>
                        <a:pt x="635" y="23"/>
                      </a:lnTo>
                      <a:lnTo>
                        <a:pt x="663" y="32"/>
                      </a:lnTo>
                      <a:lnTo>
                        <a:pt x="719" y="56"/>
                      </a:lnTo>
                      <a:lnTo>
                        <a:pt x="776" y="80"/>
                      </a:lnTo>
                      <a:lnTo>
                        <a:pt x="830" y="108"/>
                      </a:lnTo>
                      <a:lnTo>
                        <a:pt x="885" y="132"/>
                      </a:lnTo>
                      <a:lnTo>
                        <a:pt x="911" y="144"/>
                      </a:lnTo>
                      <a:lnTo>
                        <a:pt x="938" y="153"/>
                      </a:lnTo>
                      <a:lnTo>
                        <a:pt x="964" y="162"/>
                      </a:lnTo>
                      <a:lnTo>
                        <a:pt x="989" y="170"/>
                      </a:lnTo>
                      <a:lnTo>
                        <a:pt x="1016" y="174"/>
                      </a:lnTo>
                      <a:lnTo>
                        <a:pt x="1042" y="177"/>
                      </a:lnTo>
                      <a:lnTo>
                        <a:pt x="1068" y="179"/>
                      </a:lnTo>
                      <a:lnTo>
                        <a:pt x="1092" y="177"/>
                      </a:lnTo>
                      <a:lnTo>
                        <a:pt x="1118" y="173"/>
                      </a:lnTo>
                      <a:lnTo>
                        <a:pt x="1142" y="166"/>
                      </a:lnTo>
                      <a:lnTo>
                        <a:pt x="1166" y="155"/>
                      </a:lnTo>
                      <a:lnTo>
                        <a:pt x="1190" y="141"/>
                      </a:lnTo>
                      <a:lnTo>
                        <a:pt x="1214" y="123"/>
                      </a:lnTo>
                      <a:lnTo>
                        <a:pt x="1239" y="100"/>
                      </a:lnTo>
                      <a:lnTo>
                        <a:pt x="1261" y="73"/>
                      </a:lnTo>
                      <a:lnTo>
                        <a:pt x="1285" y="41"/>
                      </a:lnTo>
                      <a:close/>
                    </a:path>
                  </a:pathLst>
                </a:custGeom>
                <a:solidFill>
                  <a:srgbClr val="eb8a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344"/>
                <p:cNvSpPr/>
                <p:nvPr/>
              </p:nvSpPr>
              <p:spPr>
                <a:xfrm>
                  <a:off x="6681240" y="2711880"/>
                  <a:ext cx="100080" cy="144720"/>
                </a:xfrm>
                <a:custGeom>
                  <a:avLst/>
                  <a:gdLst/>
                  <a:ahLst/>
                  <a:rect l="l" t="t" r="r" b="b"/>
                  <a:pathLst>
                    <a:path w="1558" h="2249">
                      <a:moveTo>
                        <a:pt x="1276" y="129"/>
                      </a:moveTo>
                      <a:lnTo>
                        <a:pt x="1306" y="167"/>
                      </a:lnTo>
                      <a:lnTo>
                        <a:pt x="1336" y="209"/>
                      </a:lnTo>
                      <a:lnTo>
                        <a:pt x="1350" y="230"/>
                      </a:lnTo>
                      <a:lnTo>
                        <a:pt x="1363" y="251"/>
                      </a:lnTo>
                      <a:lnTo>
                        <a:pt x="1374" y="271"/>
                      </a:lnTo>
                      <a:lnTo>
                        <a:pt x="1386" y="294"/>
                      </a:lnTo>
                      <a:lnTo>
                        <a:pt x="1394" y="317"/>
                      </a:lnTo>
                      <a:lnTo>
                        <a:pt x="1401" y="341"/>
                      </a:lnTo>
                      <a:lnTo>
                        <a:pt x="1407" y="365"/>
                      </a:lnTo>
                      <a:lnTo>
                        <a:pt x="1408" y="389"/>
                      </a:lnTo>
                      <a:lnTo>
                        <a:pt x="1408" y="413"/>
                      </a:lnTo>
                      <a:lnTo>
                        <a:pt x="1407" y="439"/>
                      </a:lnTo>
                      <a:lnTo>
                        <a:pt x="1400" y="463"/>
                      </a:lnTo>
                      <a:lnTo>
                        <a:pt x="1392" y="492"/>
                      </a:lnTo>
                      <a:lnTo>
                        <a:pt x="1372" y="522"/>
                      </a:lnTo>
                      <a:lnTo>
                        <a:pt x="1353" y="552"/>
                      </a:lnTo>
                      <a:lnTo>
                        <a:pt x="1334" y="584"/>
                      </a:lnTo>
                      <a:lnTo>
                        <a:pt x="1313" y="614"/>
                      </a:lnTo>
                      <a:lnTo>
                        <a:pt x="1300" y="628"/>
                      </a:lnTo>
                      <a:lnTo>
                        <a:pt x="1289" y="641"/>
                      </a:lnTo>
                      <a:lnTo>
                        <a:pt x="1276" y="654"/>
                      </a:lnTo>
                      <a:lnTo>
                        <a:pt x="1262" y="666"/>
                      </a:lnTo>
                      <a:lnTo>
                        <a:pt x="1247" y="676"/>
                      </a:lnTo>
                      <a:lnTo>
                        <a:pt x="1230" y="684"/>
                      </a:lnTo>
                      <a:lnTo>
                        <a:pt x="1215" y="693"/>
                      </a:lnTo>
                      <a:lnTo>
                        <a:pt x="1197" y="697"/>
                      </a:lnTo>
                      <a:lnTo>
                        <a:pt x="1176" y="701"/>
                      </a:lnTo>
                      <a:lnTo>
                        <a:pt x="1153" y="702"/>
                      </a:lnTo>
                      <a:lnTo>
                        <a:pt x="1132" y="702"/>
                      </a:lnTo>
                      <a:lnTo>
                        <a:pt x="1111" y="702"/>
                      </a:lnTo>
                      <a:lnTo>
                        <a:pt x="1091" y="701"/>
                      </a:lnTo>
                      <a:lnTo>
                        <a:pt x="1070" y="697"/>
                      </a:lnTo>
                      <a:lnTo>
                        <a:pt x="1050" y="694"/>
                      </a:lnTo>
                      <a:lnTo>
                        <a:pt x="1031" y="690"/>
                      </a:lnTo>
                      <a:lnTo>
                        <a:pt x="1011" y="684"/>
                      </a:lnTo>
                      <a:lnTo>
                        <a:pt x="991" y="678"/>
                      </a:lnTo>
                      <a:lnTo>
                        <a:pt x="974" y="670"/>
                      </a:lnTo>
                      <a:lnTo>
                        <a:pt x="958" y="662"/>
                      </a:lnTo>
                      <a:lnTo>
                        <a:pt x="940" y="652"/>
                      </a:lnTo>
                      <a:lnTo>
                        <a:pt x="926" y="641"/>
                      </a:lnTo>
                      <a:lnTo>
                        <a:pt x="910" y="631"/>
                      </a:lnTo>
                      <a:lnTo>
                        <a:pt x="897" y="619"/>
                      </a:lnTo>
                      <a:lnTo>
                        <a:pt x="897" y="570"/>
                      </a:lnTo>
                      <a:lnTo>
                        <a:pt x="917" y="557"/>
                      </a:lnTo>
                      <a:lnTo>
                        <a:pt x="938" y="545"/>
                      </a:lnTo>
                      <a:lnTo>
                        <a:pt x="960" y="531"/>
                      </a:lnTo>
                      <a:lnTo>
                        <a:pt x="979" y="516"/>
                      </a:lnTo>
                      <a:lnTo>
                        <a:pt x="999" y="499"/>
                      </a:lnTo>
                      <a:lnTo>
                        <a:pt x="1018" y="481"/>
                      </a:lnTo>
                      <a:lnTo>
                        <a:pt x="1035" y="463"/>
                      </a:lnTo>
                      <a:lnTo>
                        <a:pt x="1052" y="445"/>
                      </a:lnTo>
                      <a:lnTo>
                        <a:pt x="1067" y="424"/>
                      </a:lnTo>
                      <a:lnTo>
                        <a:pt x="1079" y="402"/>
                      </a:lnTo>
                      <a:lnTo>
                        <a:pt x="1091" y="380"/>
                      </a:lnTo>
                      <a:lnTo>
                        <a:pt x="1099" y="357"/>
                      </a:lnTo>
                      <a:lnTo>
                        <a:pt x="1105" y="331"/>
                      </a:lnTo>
                      <a:lnTo>
                        <a:pt x="1108" y="307"/>
                      </a:lnTo>
                      <a:lnTo>
                        <a:pt x="1108" y="280"/>
                      </a:lnTo>
                      <a:lnTo>
                        <a:pt x="1105" y="253"/>
                      </a:lnTo>
                      <a:lnTo>
                        <a:pt x="1095" y="233"/>
                      </a:lnTo>
                      <a:lnTo>
                        <a:pt x="1084" y="214"/>
                      </a:lnTo>
                      <a:lnTo>
                        <a:pt x="1073" y="196"/>
                      </a:lnTo>
                      <a:lnTo>
                        <a:pt x="1058" y="182"/>
                      </a:lnTo>
                      <a:lnTo>
                        <a:pt x="1044" y="165"/>
                      </a:lnTo>
                      <a:lnTo>
                        <a:pt x="1029" y="153"/>
                      </a:lnTo>
                      <a:lnTo>
                        <a:pt x="1011" y="139"/>
                      </a:lnTo>
                      <a:lnTo>
                        <a:pt x="996" y="129"/>
                      </a:lnTo>
                      <a:lnTo>
                        <a:pt x="958" y="106"/>
                      </a:lnTo>
                      <a:lnTo>
                        <a:pt x="921" y="86"/>
                      </a:lnTo>
                      <a:lnTo>
                        <a:pt x="884" y="67"/>
                      </a:lnTo>
                      <a:lnTo>
                        <a:pt x="849" y="49"/>
                      </a:lnTo>
                      <a:lnTo>
                        <a:pt x="813" y="59"/>
                      </a:lnTo>
                      <a:lnTo>
                        <a:pt x="779" y="70"/>
                      </a:lnTo>
                      <a:lnTo>
                        <a:pt x="748" y="83"/>
                      </a:lnTo>
                      <a:lnTo>
                        <a:pt x="721" y="99"/>
                      </a:lnTo>
                      <a:lnTo>
                        <a:pt x="696" y="115"/>
                      </a:lnTo>
                      <a:lnTo>
                        <a:pt x="674" y="135"/>
                      </a:lnTo>
                      <a:lnTo>
                        <a:pt x="654" y="156"/>
                      </a:lnTo>
                      <a:lnTo>
                        <a:pt x="634" y="179"/>
                      </a:lnTo>
                      <a:lnTo>
                        <a:pt x="618" y="201"/>
                      </a:lnTo>
                      <a:lnTo>
                        <a:pt x="604" y="227"/>
                      </a:lnTo>
                      <a:lnTo>
                        <a:pt x="590" y="253"/>
                      </a:lnTo>
                      <a:lnTo>
                        <a:pt x="580" y="280"/>
                      </a:lnTo>
                      <a:lnTo>
                        <a:pt x="569" y="307"/>
                      </a:lnTo>
                      <a:lnTo>
                        <a:pt x="562" y="338"/>
                      </a:lnTo>
                      <a:lnTo>
                        <a:pt x="554" y="366"/>
                      </a:lnTo>
                      <a:lnTo>
                        <a:pt x="548" y="399"/>
                      </a:lnTo>
                      <a:lnTo>
                        <a:pt x="544" y="430"/>
                      </a:lnTo>
                      <a:lnTo>
                        <a:pt x="540" y="462"/>
                      </a:lnTo>
                      <a:lnTo>
                        <a:pt x="537" y="496"/>
                      </a:lnTo>
                      <a:lnTo>
                        <a:pt x="534" y="528"/>
                      </a:lnTo>
                      <a:lnTo>
                        <a:pt x="531" y="596"/>
                      </a:lnTo>
                      <a:lnTo>
                        <a:pt x="529" y="664"/>
                      </a:lnTo>
                      <a:lnTo>
                        <a:pt x="529" y="729"/>
                      </a:lnTo>
                      <a:lnTo>
                        <a:pt x="526" y="797"/>
                      </a:lnTo>
                      <a:lnTo>
                        <a:pt x="522" y="862"/>
                      </a:lnTo>
                      <a:lnTo>
                        <a:pt x="518" y="923"/>
                      </a:lnTo>
                      <a:lnTo>
                        <a:pt x="527" y="932"/>
                      </a:lnTo>
                      <a:lnTo>
                        <a:pt x="537" y="938"/>
                      </a:lnTo>
                      <a:lnTo>
                        <a:pt x="547" y="941"/>
                      </a:lnTo>
                      <a:lnTo>
                        <a:pt x="557" y="944"/>
                      </a:lnTo>
                      <a:lnTo>
                        <a:pt x="566" y="946"/>
                      </a:lnTo>
                      <a:lnTo>
                        <a:pt x="574" y="947"/>
                      </a:lnTo>
                      <a:lnTo>
                        <a:pt x="584" y="946"/>
                      </a:lnTo>
                      <a:lnTo>
                        <a:pt x="592" y="944"/>
                      </a:lnTo>
                      <a:lnTo>
                        <a:pt x="610" y="936"/>
                      </a:lnTo>
                      <a:lnTo>
                        <a:pt x="625" y="926"/>
                      </a:lnTo>
                      <a:lnTo>
                        <a:pt x="642" y="914"/>
                      </a:lnTo>
                      <a:lnTo>
                        <a:pt x="658" y="899"/>
                      </a:lnTo>
                      <a:lnTo>
                        <a:pt x="690" y="867"/>
                      </a:lnTo>
                      <a:lnTo>
                        <a:pt x="724" y="838"/>
                      </a:lnTo>
                      <a:lnTo>
                        <a:pt x="742" y="825"/>
                      </a:lnTo>
                      <a:lnTo>
                        <a:pt x="760" y="815"/>
                      </a:lnTo>
                      <a:lnTo>
                        <a:pt x="769" y="812"/>
                      </a:lnTo>
                      <a:lnTo>
                        <a:pt x="779" y="811"/>
                      </a:lnTo>
                      <a:lnTo>
                        <a:pt x="789" y="809"/>
                      </a:lnTo>
                      <a:lnTo>
                        <a:pt x="800" y="809"/>
                      </a:lnTo>
                      <a:lnTo>
                        <a:pt x="839" y="800"/>
                      </a:lnTo>
                      <a:lnTo>
                        <a:pt x="878" y="796"/>
                      </a:lnTo>
                      <a:lnTo>
                        <a:pt x="914" y="793"/>
                      </a:lnTo>
                      <a:lnTo>
                        <a:pt x="952" y="793"/>
                      </a:lnTo>
                      <a:lnTo>
                        <a:pt x="988" y="794"/>
                      </a:lnTo>
                      <a:lnTo>
                        <a:pt x="1026" y="797"/>
                      </a:lnTo>
                      <a:lnTo>
                        <a:pt x="1063" y="804"/>
                      </a:lnTo>
                      <a:lnTo>
                        <a:pt x="1099" y="812"/>
                      </a:lnTo>
                      <a:lnTo>
                        <a:pt x="1132" y="822"/>
                      </a:lnTo>
                      <a:lnTo>
                        <a:pt x="1167" y="833"/>
                      </a:lnTo>
                      <a:lnTo>
                        <a:pt x="1200" y="846"/>
                      </a:lnTo>
                      <a:lnTo>
                        <a:pt x="1232" y="862"/>
                      </a:lnTo>
                      <a:lnTo>
                        <a:pt x="1265" y="878"/>
                      </a:lnTo>
                      <a:lnTo>
                        <a:pt x="1297" y="896"/>
                      </a:lnTo>
                      <a:lnTo>
                        <a:pt x="1326" y="915"/>
                      </a:lnTo>
                      <a:lnTo>
                        <a:pt x="1356" y="936"/>
                      </a:lnTo>
                      <a:lnTo>
                        <a:pt x="1380" y="959"/>
                      </a:lnTo>
                      <a:lnTo>
                        <a:pt x="1404" y="983"/>
                      </a:lnTo>
                      <a:lnTo>
                        <a:pt x="1425" y="1007"/>
                      </a:lnTo>
                      <a:lnTo>
                        <a:pt x="1445" y="1032"/>
                      </a:lnTo>
                      <a:lnTo>
                        <a:pt x="1463" y="1059"/>
                      </a:lnTo>
                      <a:lnTo>
                        <a:pt x="1480" y="1085"/>
                      </a:lnTo>
                      <a:lnTo>
                        <a:pt x="1493" y="1112"/>
                      </a:lnTo>
                      <a:lnTo>
                        <a:pt x="1507" y="1141"/>
                      </a:lnTo>
                      <a:lnTo>
                        <a:pt x="1518" y="1170"/>
                      </a:lnTo>
                      <a:lnTo>
                        <a:pt x="1528" y="1199"/>
                      </a:lnTo>
                      <a:lnTo>
                        <a:pt x="1536" y="1228"/>
                      </a:lnTo>
                      <a:lnTo>
                        <a:pt x="1542" y="1259"/>
                      </a:lnTo>
                      <a:lnTo>
                        <a:pt x="1548" y="1289"/>
                      </a:lnTo>
                      <a:lnTo>
                        <a:pt x="1551" y="1320"/>
                      </a:lnTo>
                      <a:lnTo>
                        <a:pt x="1555" y="1352"/>
                      </a:lnTo>
                      <a:lnTo>
                        <a:pt x="1558" y="1383"/>
                      </a:lnTo>
                      <a:lnTo>
                        <a:pt x="1558" y="1415"/>
                      </a:lnTo>
                      <a:lnTo>
                        <a:pt x="1558" y="1448"/>
                      </a:lnTo>
                      <a:lnTo>
                        <a:pt x="1557" y="1479"/>
                      </a:lnTo>
                      <a:lnTo>
                        <a:pt x="1555" y="1510"/>
                      </a:lnTo>
                      <a:lnTo>
                        <a:pt x="1551" y="1543"/>
                      </a:lnTo>
                      <a:lnTo>
                        <a:pt x="1546" y="1575"/>
                      </a:lnTo>
                      <a:lnTo>
                        <a:pt x="1542" y="1607"/>
                      </a:lnTo>
                      <a:lnTo>
                        <a:pt x="1537" y="1638"/>
                      </a:lnTo>
                      <a:lnTo>
                        <a:pt x="1522" y="1700"/>
                      </a:lnTo>
                      <a:lnTo>
                        <a:pt x="1508" y="1761"/>
                      </a:lnTo>
                      <a:lnTo>
                        <a:pt x="1490" y="1820"/>
                      </a:lnTo>
                      <a:lnTo>
                        <a:pt x="1471" y="1876"/>
                      </a:lnTo>
                      <a:lnTo>
                        <a:pt x="1462" y="1894"/>
                      </a:lnTo>
                      <a:lnTo>
                        <a:pt x="1451" y="1912"/>
                      </a:lnTo>
                      <a:lnTo>
                        <a:pt x="1442" y="1928"/>
                      </a:lnTo>
                      <a:lnTo>
                        <a:pt x="1431" y="1942"/>
                      </a:lnTo>
                      <a:lnTo>
                        <a:pt x="1407" y="1973"/>
                      </a:lnTo>
                      <a:lnTo>
                        <a:pt x="1379" y="2001"/>
                      </a:lnTo>
                      <a:lnTo>
                        <a:pt x="1350" y="2027"/>
                      </a:lnTo>
                      <a:lnTo>
                        <a:pt x="1319" y="2052"/>
                      </a:lnTo>
                      <a:lnTo>
                        <a:pt x="1289" y="2075"/>
                      </a:lnTo>
                      <a:lnTo>
                        <a:pt x="1255" y="2095"/>
                      </a:lnTo>
                      <a:lnTo>
                        <a:pt x="1221" y="2116"/>
                      </a:lnTo>
                      <a:lnTo>
                        <a:pt x="1185" y="2136"/>
                      </a:lnTo>
                      <a:lnTo>
                        <a:pt x="1150" y="2154"/>
                      </a:lnTo>
                      <a:lnTo>
                        <a:pt x="1115" y="2172"/>
                      </a:lnTo>
                      <a:lnTo>
                        <a:pt x="1044" y="2205"/>
                      </a:lnTo>
                      <a:lnTo>
                        <a:pt x="976" y="2239"/>
                      </a:lnTo>
                      <a:lnTo>
                        <a:pt x="942" y="2243"/>
                      </a:lnTo>
                      <a:lnTo>
                        <a:pt x="910" y="2248"/>
                      </a:lnTo>
                      <a:lnTo>
                        <a:pt x="876" y="2249"/>
                      </a:lnTo>
                      <a:lnTo>
                        <a:pt x="843" y="2249"/>
                      </a:lnTo>
                      <a:lnTo>
                        <a:pt x="813" y="2248"/>
                      </a:lnTo>
                      <a:lnTo>
                        <a:pt x="781" y="2243"/>
                      </a:lnTo>
                      <a:lnTo>
                        <a:pt x="751" y="2239"/>
                      </a:lnTo>
                      <a:lnTo>
                        <a:pt x="719" y="2233"/>
                      </a:lnTo>
                      <a:lnTo>
                        <a:pt x="690" y="2226"/>
                      </a:lnTo>
                      <a:lnTo>
                        <a:pt x="661" y="2216"/>
                      </a:lnTo>
                      <a:lnTo>
                        <a:pt x="633" y="2207"/>
                      </a:lnTo>
                      <a:lnTo>
                        <a:pt x="605" y="2194"/>
                      </a:lnTo>
                      <a:lnTo>
                        <a:pt x="577" y="2181"/>
                      </a:lnTo>
                      <a:lnTo>
                        <a:pt x="550" y="2168"/>
                      </a:lnTo>
                      <a:lnTo>
                        <a:pt x="522" y="2152"/>
                      </a:lnTo>
                      <a:lnTo>
                        <a:pt x="497" y="2136"/>
                      </a:lnTo>
                      <a:lnTo>
                        <a:pt x="473" y="2119"/>
                      </a:lnTo>
                      <a:lnTo>
                        <a:pt x="447" y="2102"/>
                      </a:lnTo>
                      <a:lnTo>
                        <a:pt x="423" y="2083"/>
                      </a:lnTo>
                      <a:lnTo>
                        <a:pt x="398" y="2062"/>
                      </a:lnTo>
                      <a:lnTo>
                        <a:pt x="376" y="2042"/>
                      </a:lnTo>
                      <a:lnTo>
                        <a:pt x="353" y="2021"/>
                      </a:lnTo>
                      <a:lnTo>
                        <a:pt x="332" y="1998"/>
                      </a:lnTo>
                      <a:lnTo>
                        <a:pt x="312" y="1977"/>
                      </a:lnTo>
                      <a:lnTo>
                        <a:pt x="270" y="1930"/>
                      </a:lnTo>
                      <a:lnTo>
                        <a:pt x="232" y="1882"/>
                      </a:lnTo>
                      <a:lnTo>
                        <a:pt x="197" y="1832"/>
                      </a:lnTo>
                      <a:lnTo>
                        <a:pt x="164" y="1779"/>
                      </a:lnTo>
                      <a:lnTo>
                        <a:pt x="138" y="1739"/>
                      </a:lnTo>
                      <a:lnTo>
                        <a:pt x="116" y="1699"/>
                      </a:lnTo>
                      <a:lnTo>
                        <a:pt x="96" y="1655"/>
                      </a:lnTo>
                      <a:lnTo>
                        <a:pt x="78" y="1612"/>
                      </a:lnTo>
                      <a:lnTo>
                        <a:pt x="61" y="1569"/>
                      </a:lnTo>
                      <a:lnTo>
                        <a:pt x="47" y="1522"/>
                      </a:lnTo>
                      <a:lnTo>
                        <a:pt x="34" y="1476"/>
                      </a:lnTo>
                      <a:lnTo>
                        <a:pt x="25" y="1430"/>
                      </a:lnTo>
                      <a:lnTo>
                        <a:pt x="16" y="1381"/>
                      </a:lnTo>
                      <a:lnTo>
                        <a:pt x="8" y="1333"/>
                      </a:lnTo>
                      <a:lnTo>
                        <a:pt x="5" y="1284"/>
                      </a:lnTo>
                      <a:lnTo>
                        <a:pt x="2" y="1236"/>
                      </a:lnTo>
                      <a:lnTo>
                        <a:pt x="0" y="1186"/>
                      </a:lnTo>
                      <a:lnTo>
                        <a:pt x="2" y="1136"/>
                      </a:lnTo>
                      <a:lnTo>
                        <a:pt x="4" y="1088"/>
                      </a:lnTo>
                      <a:lnTo>
                        <a:pt x="7" y="1038"/>
                      </a:lnTo>
                      <a:lnTo>
                        <a:pt x="13" y="988"/>
                      </a:lnTo>
                      <a:lnTo>
                        <a:pt x="19" y="939"/>
                      </a:lnTo>
                      <a:lnTo>
                        <a:pt x="29" y="890"/>
                      </a:lnTo>
                      <a:lnTo>
                        <a:pt x="39" y="841"/>
                      </a:lnTo>
                      <a:lnTo>
                        <a:pt x="50" y="793"/>
                      </a:lnTo>
                      <a:lnTo>
                        <a:pt x="63" y="744"/>
                      </a:lnTo>
                      <a:lnTo>
                        <a:pt x="78" y="697"/>
                      </a:lnTo>
                      <a:lnTo>
                        <a:pt x="94" y="652"/>
                      </a:lnTo>
                      <a:lnTo>
                        <a:pt x="110" y="605"/>
                      </a:lnTo>
                      <a:lnTo>
                        <a:pt x="128" y="562"/>
                      </a:lnTo>
                      <a:lnTo>
                        <a:pt x="147" y="519"/>
                      </a:lnTo>
                      <a:lnTo>
                        <a:pt x="168" y="475"/>
                      </a:lnTo>
                      <a:lnTo>
                        <a:pt x="191" y="434"/>
                      </a:lnTo>
                      <a:lnTo>
                        <a:pt x="213" y="395"/>
                      </a:lnTo>
                      <a:lnTo>
                        <a:pt x="235" y="356"/>
                      </a:lnTo>
                      <a:lnTo>
                        <a:pt x="261" y="318"/>
                      </a:lnTo>
                      <a:lnTo>
                        <a:pt x="281" y="289"/>
                      </a:lnTo>
                      <a:lnTo>
                        <a:pt x="303" y="262"/>
                      </a:lnTo>
                      <a:lnTo>
                        <a:pt x="327" y="236"/>
                      </a:lnTo>
                      <a:lnTo>
                        <a:pt x="352" y="212"/>
                      </a:lnTo>
                      <a:lnTo>
                        <a:pt x="377" y="188"/>
                      </a:lnTo>
                      <a:lnTo>
                        <a:pt x="405" y="165"/>
                      </a:lnTo>
                      <a:lnTo>
                        <a:pt x="434" y="144"/>
                      </a:lnTo>
                      <a:lnTo>
                        <a:pt x="465" y="125"/>
                      </a:lnTo>
                      <a:lnTo>
                        <a:pt x="495" y="106"/>
                      </a:lnTo>
                      <a:lnTo>
                        <a:pt x="527" y="88"/>
                      </a:lnTo>
                      <a:lnTo>
                        <a:pt x="560" y="73"/>
                      </a:lnTo>
                      <a:lnTo>
                        <a:pt x="594" y="59"/>
                      </a:lnTo>
                      <a:lnTo>
                        <a:pt x="628" y="46"/>
                      </a:lnTo>
                      <a:lnTo>
                        <a:pt x="661" y="35"/>
                      </a:lnTo>
                      <a:lnTo>
                        <a:pt x="696" y="25"/>
                      </a:lnTo>
                      <a:lnTo>
                        <a:pt x="733" y="17"/>
                      </a:lnTo>
                      <a:lnTo>
                        <a:pt x="768" y="11"/>
                      </a:lnTo>
                      <a:lnTo>
                        <a:pt x="804" y="6"/>
                      </a:lnTo>
                      <a:lnTo>
                        <a:pt x="840" y="2"/>
                      </a:lnTo>
                      <a:lnTo>
                        <a:pt x="876" y="0"/>
                      </a:lnTo>
                      <a:lnTo>
                        <a:pt x="911" y="0"/>
                      </a:lnTo>
                      <a:lnTo>
                        <a:pt x="949" y="2"/>
                      </a:lnTo>
                      <a:lnTo>
                        <a:pt x="984" y="8"/>
                      </a:lnTo>
                      <a:lnTo>
                        <a:pt x="1018" y="12"/>
                      </a:lnTo>
                      <a:lnTo>
                        <a:pt x="1053" y="20"/>
                      </a:lnTo>
                      <a:lnTo>
                        <a:pt x="1087" y="30"/>
                      </a:lnTo>
                      <a:lnTo>
                        <a:pt x="1121" y="41"/>
                      </a:lnTo>
                      <a:lnTo>
                        <a:pt x="1153" y="54"/>
                      </a:lnTo>
                      <a:lnTo>
                        <a:pt x="1185" y="70"/>
                      </a:lnTo>
                      <a:lnTo>
                        <a:pt x="1218" y="88"/>
                      </a:lnTo>
                      <a:lnTo>
                        <a:pt x="1247" y="108"/>
                      </a:lnTo>
                      <a:lnTo>
                        <a:pt x="127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45"/>
                <p:cNvSpPr/>
                <p:nvPr/>
              </p:nvSpPr>
              <p:spPr>
                <a:xfrm>
                  <a:off x="6866280" y="2669760"/>
                  <a:ext cx="96480" cy="137880"/>
                </a:xfrm>
                <a:custGeom>
                  <a:avLst/>
                  <a:gdLst/>
                  <a:ahLst/>
                  <a:rect l="l" t="t" r="r" b="b"/>
                  <a:pathLst>
                    <a:path w="1495" h="2145">
                      <a:moveTo>
                        <a:pt x="211" y="869"/>
                      </a:moveTo>
                      <a:lnTo>
                        <a:pt x="208" y="877"/>
                      </a:lnTo>
                      <a:lnTo>
                        <a:pt x="205" y="885"/>
                      </a:lnTo>
                      <a:lnTo>
                        <a:pt x="203" y="894"/>
                      </a:lnTo>
                      <a:lnTo>
                        <a:pt x="202" y="905"/>
                      </a:lnTo>
                      <a:lnTo>
                        <a:pt x="200" y="927"/>
                      </a:lnTo>
                      <a:lnTo>
                        <a:pt x="200" y="952"/>
                      </a:lnTo>
                      <a:lnTo>
                        <a:pt x="203" y="974"/>
                      </a:lnTo>
                      <a:lnTo>
                        <a:pt x="208" y="996"/>
                      </a:lnTo>
                      <a:lnTo>
                        <a:pt x="211" y="1006"/>
                      </a:lnTo>
                      <a:lnTo>
                        <a:pt x="216" y="1015"/>
                      </a:lnTo>
                      <a:lnTo>
                        <a:pt x="220" y="1026"/>
                      </a:lnTo>
                      <a:lnTo>
                        <a:pt x="224" y="1032"/>
                      </a:lnTo>
                      <a:lnTo>
                        <a:pt x="274" y="1008"/>
                      </a:lnTo>
                      <a:lnTo>
                        <a:pt x="323" y="985"/>
                      </a:lnTo>
                      <a:lnTo>
                        <a:pt x="368" y="962"/>
                      </a:lnTo>
                      <a:lnTo>
                        <a:pt x="411" y="938"/>
                      </a:lnTo>
                      <a:lnTo>
                        <a:pt x="455" y="914"/>
                      </a:lnTo>
                      <a:lnTo>
                        <a:pt x="497" y="887"/>
                      </a:lnTo>
                      <a:lnTo>
                        <a:pt x="542" y="858"/>
                      </a:lnTo>
                      <a:lnTo>
                        <a:pt x="587" y="825"/>
                      </a:lnTo>
                      <a:lnTo>
                        <a:pt x="619" y="819"/>
                      </a:lnTo>
                      <a:lnTo>
                        <a:pt x="651" y="814"/>
                      </a:lnTo>
                      <a:lnTo>
                        <a:pt x="684" y="811"/>
                      </a:lnTo>
                      <a:lnTo>
                        <a:pt x="716" y="809"/>
                      </a:lnTo>
                      <a:lnTo>
                        <a:pt x="748" y="809"/>
                      </a:lnTo>
                      <a:lnTo>
                        <a:pt x="781" y="813"/>
                      </a:lnTo>
                      <a:lnTo>
                        <a:pt x="813" y="816"/>
                      </a:lnTo>
                      <a:lnTo>
                        <a:pt x="843" y="823"/>
                      </a:lnTo>
                      <a:lnTo>
                        <a:pt x="872" y="832"/>
                      </a:lnTo>
                      <a:lnTo>
                        <a:pt x="902" y="844"/>
                      </a:lnTo>
                      <a:lnTo>
                        <a:pt x="914" y="852"/>
                      </a:lnTo>
                      <a:lnTo>
                        <a:pt x="928" y="859"/>
                      </a:lnTo>
                      <a:lnTo>
                        <a:pt x="940" y="869"/>
                      </a:lnTo>
                      <a:lnTo>
                        <a:pt x="953" y="877"/>
                      </a:lnTo>
                      <a:lnTo>
                        <a:pt x="964" y="888"/>
                      </a:lnTo>
                      <a:lnTo>
                        <a:pt x="976" y="899"/>
                      </a:lnTo>
                      <a:lnTo>
                        <a:pt x="987" y="911"/>
                      </a:lnTo>
                      <a:lnTo>
                        <a:pt x="999" y="923"/>
                      </a:lnTo>
                      <a:lnTo>
                        <a:pt x="1008" y="937"/>
                      </a:lnTo>
                      <a:lnTo>
                        <a:pt x="1016" y="952"/>
                      </a:lnTo>
                      <a:lnTo>
                        <a:pt x="1026" y="967"/>
                      </a:lnTo>
                      <a:lnTo>
                        <a:pt x="1032" y="983"/>
                      </a:lnTo>
                      <a:lnTo>
                        <a:pt x="1053" y="1124"/>
                      </a:lnTo>
                      <a:lnTo>
                        <a:pt x="1073" y="1274"/>
                      </a:lnTo>
                      <a:lnTo>
                        <a:pt x="1081" y="1349"/>
                      </a:lnTo>
                      <a:lnTo>
                        <a:pt x="1085" y="1427"/>
                      </a:lnTo>
                      <a:lnTo>
                        <a:pt x="1085" y="1466"/>
                      </a:lnTo>
                      <a:lnTo>
                        <a:pt x="1085" y="1504"/>
                      </a:lnTo>
                      <a:lnTo>
                        <a:pt x="1085" y="1542"/>
                      </a:lnTo>
                      <a:lnTo>
                        <a:pt x="1082" y="1580"/>
                      </a:lnTo>
                      <a:lnTo>
                        <a:pt x="1079" y="1617"/>
                      </a:lnTo>
                      <a:lnTo>
                        <a:pt x="1076" y="1655"/>
                      </a:lnTo>
                      <a:lnTo>
                        <a:pt x="1070" y="1691"/>
                      </a:lnTo>
                      <a:lnTo>
                        <a:pt x="1061" y="1726"/>
                      </a:lnTo>
                      <a:lnTo>
                        <a:pt x="1053" y="1762"/>
                      </a:lnTo>
                      <a:lnTo>
                        <a:pt x="1041" y="1796"/>
                      </a:lnTo>
                      <a:lnTo>
                        <a:pt x="1031" y="1830"/>
                      </a:lnTo>
                      <a:lnTo>
                        <a:pt x="1016" y="1862"/>
                      </a:lnTo>
                      <a:lnTo>
                        <a:pt x="1000" y="1894"/>
                      </a:lnTo>
                      <a:lnTo>
                        <a:pt x="982" y="1926"/>
                      </a:lnTo>
                      <a:lnTo>
                        <a:pt x="961" y="1954"/>
                      </a:lnTo>
                      <a:lnTo>
                        <a:pt x="938" y="1983"/>
                      </a:lnTo>
                      <a:lnTo>
                        <a:pt x="914" y="2010"/>
                      </a:lnTo>
                      <a:lnTo>
                        <a:pt x="887" y="2036"/>
                      </a:lnTo>
                      <a:lnTo>
                        <a:pt x="858" y="2060"/>
                      </a:lnTo>
                      <a:lnTo>
                        <a:pt x="825" y="2083"/>
                      </a:lnTo>
                      <a:lnTo>
                        <a:pt x="808" y="2089"/>
                      </a:lnTo>
                      <a:lnTo>
                        <a:pt x="792" y="2095"/>
                      </a:lnTo>
                      <a:lnTo>
                        <a:pt x="775" y="2100"/>
                      </a:lnTo>
                      <a:lnTo>
                        <a:pt x="760" y="2103"/>
                      </a:lnTo>
                      <a:lnTo>
                        <a:pt x="745" y="2104"/>
                      </a:lnTo>
                      <a:lnTo>
                        <a:pt x="729" y="2106"/>
                      </a:lnTo>
                      <a:lnTo>
                        <a:pt x="713" y="2106"/>
                      </a:lnTo>
                      <a:lnTo>
                        <a:pt x="698" y="2104"/>
                      </a:lnTo>
                      <a:lnTo>
                        <a:pt x="683" y="2103"/>
                      </a:lnTo>
                      <a:lnTo>
                        <a:pt x="668" y="2100"/>
                      </a:lnTo>
                      <a:lnTo>
                        <a:pt x="653" y="2096"/>
                      </a:lnTo>
                      <a:lnTo>
                        <a:pt x="639" y="2093"/>
                      </a:lnTo>
                      <a:lnTo>
                        <a:pt x="612" y="2082"/>
                      </a:lnTo>
                      <a:lnTo>
                        <a:pt x="583" y="2069"/>
                      </a:lnTo>
                      <a:lnTo>
                        <a:pt x="556" y="2054"/>
                      </a:lnTo>
                      <a:lnTo>
                        <a:pt x="530" y="2036"/>
                      </a:lnTo>
                      <a:lnTo>
                        <a:pt x="506" y="2017"/>
                      </a:lnTo>
                      <a:lnTo>
                        <a:pt x="482" y="1997"/>
                      </a:lnTo>
                      <a:lnTo>
                        <a:pt x="459" y="1975"/>
                      </a:lnTo>
                      <a:lnTo>
                        <a:pt x="438" y="1953"/>
                      </a:lnTo>
                      <a:lnTo>
                        <a:pt x="416" y="1930"/>
                      </a:lnTo>
                      <a:lnTo>
                        <a:pt x="397" y="1906"/>
                      </a:lnTo>
                      <a:lnTo>
                        <a:pt x="385" y="1880"/>
                      </a:lnTo>
                      <a:lnTo>
                        <a:pt x="377" y="1853"/>
                      </a:lnTo>
                      <a:lnTo>
                        <a:pt x="370" y="1823"/>
                      </a:lnTo>
                      <a:lnTo>
                        <a:pt x="362" y="1794"/>
                      </a:lnTo>
                      <a:lnTo>
                        <a:pt x="359" y="1765"/>
                      </a:lnTo>
                      <a:lnTo>
                        <a:pt x="356" y="1737"/>
                      </a:lnTo>
                      <a:lnTo>
                        <a:pt x="355" y="1708"/>
                      </a:lnTo>
                      <a:lnTo>
                        <a:pt x="356" y="1678"/>
                      </a:lnTo>
                      <a:lnTo>
                        <a:pt x="358" y="1649"/>
                      </a:lnTo>
                      <a:lnTo>
                        <a:pt x="362" y="1620"/>
                      </a:lnTo>
                      <a:lnTo>
                        <a:pt x="370" y="1591"/>
                      </a:lnTo>
                      <a:lnTo>
                        <a:pt x="377" y="1564"/>
                      </a:lnTo>
                      <a:lnTo>
                        <a:pt x="387" y="1537"/>
                      </a:lnTo>
                      <a:lnTo>
                        <a:pt x="398" y="1511"/>
                      </a:lnTo>
                      <a:lnTo>
                        <a:pt x="413" y="1485"/>
                      </a:lnTo>
                      <a:lnTo>
                        <a:pt x="427" y="1461"/>
                      </a:lnTo>
                      <a:lnTo>
                        <a:pt x="438" y="1452"/>
                      </a:lnTo>
                      <a:lnTo>
                        <a:pt x="447" y="1445"/>
                      </a:lnTo>
                      <a:lnTo>
                        <a:pt x="458" y="1439"/>
                      </a:lnTo>
                      <a:lnTo>
                        <a:pt x="469" y="1431"/>
                      </a:lnTo>
                      <a:lnTo>
                        <a:pt x="492" y="1419"/>
                      </a:lnTo>
                      <a:lnTo>
                        <a:pt x="515" y="1404"/>
                      </a:lnTo>
                      <a:lnTo>
                        <a:pt x="526" y="1398"/>
                      </a:lnTo>
                      <a:lnTo>
                        <a:pt x="536" y="1390"/>
                      </a:lnTo>
                      <a:lnTo>
                        <a:pt x="544" y="1380"/>
                      </a:lnTo>
                      <a:lnTo>
                        <a:pt x="550" y="1371"/>
                      </a:lnTo>
                      <a:lnTo>
                        <a:pt x="554" y="1359"/>
                      </a:lnTo>
                      <a:lnTo>
                        <a:pt x="559" y="1348"/>
                      </a:lnTo>
                      <a:lnTo>
                        <a:pt x="559" y="1333"/>
                      </a:lnTo>
                      <a:lnTo>
                        <a:pt x="556" y="1319"/>
                      </a:lnTo>
                      <a:lnTo>
                        <a:pt x="542" y="1312"/>
                      </a:lnTo>
                      <a:lnTo>
                        <a:pt x="529" y="1307"/>
                      </a:lnTo>
                      <a:lnTo>
                        <a:pt x="516" y="1304"/>
                      </a:lnTo>
                      <a:lnTo>
                        <a:pt x="504" y="1301"/>
                      </a:lnTo>
                      <a:lnTo>
                        <a:pt x="480" y="1300"/>
                      </a:lnTo>
                      <a:lnTo>
                        <a:pt x="456" y="1301"/>
                      </a:lnTo>
                      <a:lnTo>
                        <a:pt x="433" y="1303"/>
                      </a:lnTo>
                      <a:lnTo>
                        <a:pt x="408" y="1304"/>
                      </a:lnTo>
                      <a:lnTo>
                        <a:pt x="379" y="1304"/>
                      </a:lnTo>
                      <a:lnTo>
                        <a:pt x="348" y="1301"/>
                      </a:lnTo>
                      <a:lnTo>
                        <a:pt x="299" y="1319"/>
                      </a:lnTo>
                      <a:lnTo>
                        <a:pt x="250" y="1336"/>
                      </a:lnTo>
                      <a:lnTo>
                        <a:pt x="226" y="1348"/>
                      </a:lnTo>
                      <a:lnTo>
                        <a:pt x="203" y="1359"/>
                      </a:lnTo>
                      <a:lnTo>
                        <a:pt x="181" y="1371"/>
                      </a:lnTo>
                      <a:lnTo>
                        <a:pt x="160" y="1383"/>
                      </a:lnTo>
                      <a:lnTo>
                        <a:pt x="138" y="1396"/>
                      </a:lnTo>
                      <a:lnTo>
                        <a:pt x="119" y="1410"/>
                      </a:lnTo>
                      <a:lnTo>
                        <a:pt x="100" y="1427"/>
                      </a:lnTo>
                      <a:lnTo>
                        <a:pt x="82" y="1443"/>
                      </a:lnTo>
                      <a:lnTo>
                        <a:pt x="64" y="1463"/>
                      </a:lnTo>
                      <a:lnTo>
                        <a:pt x="46" y="1481"/>
                      </a:lnTo>
                      <a:lnTo>
                        <a:pt x="32" y="1504"/>
                      </a:lnTo>
                      <a:lnTo>
                        <a:pt x="17" y="1527"/>
                      </a:lnTo>
                      <a:lnTo>
                        <a:pt x="10" y="1554"/>
                      </a:lnTo>
                      <a:lnTo>
                        <a:pt x="5" y="1582"/>
                      </a:lnTo>
                      <a:lnTo>
                        <a:pt x="2" y="1609"/>
                      </a:lnTo>
                      <a:lnTo>
                        <a:pt x="0" y="1637"/>
                      </a:lnTo>
                      <a:lnTo>
                        <a:pt x="2" y="1664"/>
                      </a:lnTo>
                      <a:lnTo>
                        <a:pt x="4" y="1690"/>
                      </a:lnTo>
                      <a:lnTo>
                        <a:pt x="7" y="1717"/>
                      </a:lnTo>
                      <a:lnTo>
                        <a:pt x="13" y="1743"/>
                      </a:lnTo>
                      <a:lnTo>
                        <a:pt x="19" y="1770"/>
                      </a:lnTo>
                      <a:lnTo>
                        <a:pt x="28" y="1794"/>
                      </a:lnTo>
                      <a:lnTo>
                        <a:pt x="35" y="1820"/>
                      </a:lnTo>
                      <a:lnTo>
                        <a:pt x="46" y="1844"/>
                      </a:lnTo>
                      <a:lnTo>
                        <a:pt x="58" y="1868"/>
                      </a:lnTo>
                      <a:lnTo>
                        <a:pt x="69" y="1893"/>
                      </a:lnTo>
                      <a:lnTo>
                        <a:pt x="82" y="1915"/>
                      </a:lnTo>
                      <a:lnTo>
                        <a:pt x="97" y="1936"/>
                      </a:lnTo>
                      <a:lnTo>
                        <a:pt x="125" y="1961"/>
                      </a:lnTo>
                      <a:lnTo>
                        <a:pt x="153" y="1982"/>
                      </a:lnTo>
                      <a:lnTo>
                        <a:pt x="181" y="2003"/>
                      </a:lnTo>
                      <a:lnTo>
                        <a:pt x="209" y="2022"/>
                      </a:lnTo>
                      <a:lnTo>
                        <a:pt x="240" y="2039"/>
                      </a:lnTo>
                      <a:lnTo>
                        <a:pt x="271" y="2056"/>
                      </a:lnTo>
                      <a:lnTo>
                        <a:pt x="302" y="2071"/>
                      </a:lnTo>
                      <a:lnTo>
                        <a:pt x="332" y="2083"/>
                      </a:lnTo>
                      <a:lnTo>
                        <a:pt x="365" y="2096"/>
                      </a:lnTo>
                      <a:lnTo>
                        <a:pt x="397" y="2107"/>
                      </a:lnTo>
                      <a:lnTo>
                        <a:pt x="430" y="2118"/>
                      </a:lnTo>
                      <a:lnTo>
                        <a:pt x="465" y="2125"/>
                      </a:lnTo>
                      <a:lnTo>
                        <a:pt x="498" y="2131"/>
                      </a:lnTo>
                      <a:lnTo>
                        <a:pt x="532" y="2136"/>
                      </a:lnTo>
                      <a:lnTo>
                        <a:pt x="568" y="2142"/>
                      </a:lnTo>
                      <a:lnTo>
                        <a:pt x="604" y="2145"/>
                      </a:lnTo>
                      <a:lnTo>
                        <a:pt x="657" y="2143"/>
                      </a:lnTo>
                      <a:lnTo>
                        <a:pt x="708" y="2139"/>
                      </a:lnTo>
                      <a:lnTo>
                        <a:pt x="760" y="2135"/>
                      </a:lnTo>
                      <a:lnTo>
                        <a:pt x="810" y="2127"/>
                      </a:lnTo>
                      <a:lnTo>
                        <a:pt x="858" y="2118"/>
                      </a:lnTo>
                      <a:lnTo>
                        <a:pt x="907" y="2106"/>
                      </a:lnTo>
                      <a:lnTo>
                        <a:pt x="953" y="2091"/>
                      </a:lnTo>
                      <a:lnTo>
                        <a:pt x="999" y="2074"/>
                      </a:lnTo>
                      <a:lnTo>
                        <a:pt x="1046" y="2056"/>
                      </a:lnTo>
                      <a:lnTo>
                        <a:pt x="1088" y="2033"/>
                      </a:lnTo>
                      <a:lnTo>
                        <a:pt x="1132" y="2010"/>
                      </a:lnTo>
                      <a:lnTo>
                        <a:pt x="1176" y="1985"/>
                      </a:lnTo>
                      <a:lnTo>
                        <a:pt x="1218" y="1956"/>
                      </a:lnTo>
                      <a:lnTo>
                        <a:pt x="1258" y="1926"/>
                      </a:lnTo>
                      <a:lnTo>
                        <a:pt x="1298" y="1893"/>
                      </a:lnTo>
                      <a:lnTo>
                        <a:pt x="1337" y="1858"/>
                      </a:lnTo>
                      <a:lnTo>
                        <a:pt x="1363" y="1823"/>
                      </a:lnTo>
                      <a:lnTo>
                        <a:pt x="1386" y="1787"/>
                      </a:lnTo>
                      <a:lnTo>
                        <a:pt x="1406" y="1749"/>
                      </a:lnTo>
                      <a:lnTo>
                        <a:pt x="1425" y="1711"/>
                      </a:lnTo>
                      <a:lnTo>
                        <a:pt x="1444" y="1670"/>
                      </a:lnTo>
                      <a:lnTo>
                        <a:pt x="1457" y="1628"/>
                      </a:lnTo>
                      <a:lnTo>
                        <a:pt x="1471" y="1587"/>
                      </a:lnTo>
                      <a:lnTo>
                        <a:pt x="1480" y="1545"/>
                      </a:lnTo>
                      <a:lnTo>
                        <a:pt x="1489" y="1501"/>
                      </a:lnTo>
                      <a:lnTo>
                        <a:pt x="1493" y="1457"/>
                      </a:lnTo>
                      <a:lnTo>
                        <a:pt x="1495" y="1413"/>
                      </a:lnTo>
                      <a:lnTo>
                        <a:pt x="1495" y="1369"/>
                      </a:lnTo>
                      <a:lnTo>
                        <a:pt x="1490" y="1324"/>
                      </a:lnTo>
                      <a:lnTo>
                        <a:pt x="1484" y="1280"/>
                      </a:lnTo>
                      <a:lnTo>
                        <a:pt x="1479" y="1257"/>
                      </a:lnTo>
                      <a:lnTo>
                        <a:pt x="1474" y="1235"/>
                      </a:lnTo>
                      <a:lnTo>
                        <a:pt x="1468" y="1212"/>
                      </a:lnTo>
                      <a:lnTo>
                        <a:pt x="1462" y="1191"/>
                      </a:lnTo>
                      <a:lnTo>
                        <a:pt x="1447" y="1157"/>
                      </a:lnTo>
                      <a:lnTo>
                        <a:pt x="1430" y="1127"/>
                      </a:lnTo>
                      <a:lnTo>
                        <a:pt x="1413" y="1097"/>
                      </a:lnTo>
                      <a:lnTo>
                        <a:pt x="1394" y="1067"/>
                      </a:lnTo>
                      <a:lnTo>
                        <a:pt x="1374" y="1038"/>
                      </a:lnTo>
                      <a:lnTo>
                        <a:pt x="1353" y="1012"/>
                      </a:lnTo>
                      <a:lnTo>
                        <a:pt x="1330" y="987"/>
                      </a:lnTo>
                      <a:lnTo>
                        <a:pt x="1306" y="962"/>
                      </a:lnTo>
                      <a:lnTo>
                        <a:pt x="1282" y="938"/>
                      </a:lnTo>
                      <a:lnTo>
                        <a:pt x="1256" y="917"/>
                      </a:lnTo>
                      <a:lnTo>
                        <a:pt x="1230" y="896"/>
                      </a:lnTo>
                      <a:lnTo>
                        <a:pt x="1203" y="877"/>
                      </a:lnTo>
                      <a:lnTo>
                        <a:pt x="1174" y="859"/>
                      </a:lnTo>
                      <a:lnTo>
                        <a:pt x="1145" y="843"/>
                      </a:lnTo>
                      <a:lnTo>
                        <a:pt x="1114" y="826"/>
                      </a:lnTo>
                      <a:lnTo>
                        <a:pt x="1084" y="814"/>
                      </a:lnTo>
                      <a:lnTo>
                        <a:pt x="1053" y="801"/>
                      </a:lnTo>
                      <a:lnTo>
                        <a:pt x="1021" y="790"/>
                      </a:lnTo>
                      <a:lnTo>
                        <a:pt x="987" y="781"/>
                      </a:lnTo>
                      <a:lnTo>
                        <a:pt x="955" y="772"/>
                      </a:lnTo>
                      <a:lnTo>
                        <a:pt x="920" y="764"/>
                      </a:lnTo>
                      <a:lnTo>
                        <a:pt x="885" y="760"/>
                      </a:lnTo>
                      <a:lnTo>
                        <a:pt x="852" y="755"/>
                      </a:lnTo>
                      <a:lnTo>
                        <a:pt x="816" y="751"/>
                      </a:lnTo>
                      <a:lnTo>
                        <a:pt x="781" y="749"/>
                      </a:lnTo>
                      <a:lnTo>
                        <a:pt x="745" y="749"/>
                      </a:lnTo>
                      <a:lnTo>
                        <a:pt x="708" y="751"/>
                      </a:lnTo>
                      <a:lnTo>
                        <a:pt x="672" y="755"/>
                      </a:lnTo>
                      <a:lnTo>
                        <a:pt x="636" y="760"/>
                      </a:lnTo>
                      <a:lnTo>
                        <a:pt x="598" y="764"/>
                      </a:lnTo>
                      <a:lnTo>
                        <a:pt x="562" y="772"/>
                      </a:lnTo>
                      <a:lnTo>
                        <a:pt x="526" y="781"/>
                      </a:lnTo>
                      <a:lnTo>
                        <a:pt x="508" y="782"/>
                      </a:lnTo>
                      <a:lnTo>
                        <a:pt x="492" y="785"/>
                      </a:lnTo>
                      <a:lnTo>
                        <a:pt x="476" y="793"/>
                      </a:lnTo>
                      <a:lnTo>
                        <a:pt x="462" y="801"/>
                      </a:lnTo>
                      <a:lnTo>
                        <a:pt x="432" y="823"/>
                      </a:lnTo>
                      <a:lnTo>
                        <a:pt x="405" y="849"/>
                      </a:lnTo>
                      <a:lnTo>
                        <a:pt x="392" y="861"/>
                      </a:lnTo>
                      <a:lnTo>
                        <a:pt x="377" y="872"/>
                      </a:lnTo>
                      <a:lnTo>
                        <a:pt x="365" y="884"/>
                      </a:lnTo>
                      <a:lnTo>
                        <a:pt x="350" y="891"/>
                      </a:lnTo>
                      <a:lnTo>
                        <a:pt x="335" y="896"/>
                      </a:lnTo>
                      <a:lnTo>
                        <a:pt x="321" y="899"/>
                      </a:lnTo>
                      <a:lnTo>
                        <a:pt x="314" y="902"/>
                      </a:lnTo>
                      <a:lnTo>
                        <a:pt x="306" y="899"/>
                      </a:lnTo>
                      <a:lnTo>
                        <a:pt x="299" y="897"/>
                      </a:lnTo>
                      <a:lnTo>
                        <a:pt x="290" y="896"/>
                      </a:lnTo>
                      <a:lnTo>
                        <a:pt x="311" y="571"/>
                      </a:lnTo>
                      <a:lnTo>
                        <a:pt x="332" y="545"/>
                      </a:lnTo>
                      <a:lnTo>
                        <a:pt x="355" y="524"/>
                      </a:lnTo>
                      <a:lnTo>
                        <a:pt x="377" y="506"/>
                      </a:lnTo>
                      <a:lnTo>
                        <a:pt x="400" y="492"/>
                      </a:lnTo>
                      <a:lnTo>
                        <a:pt x="424" y="480"/>
                      </a:lnTo>
                      <a:lnTo>
                        <a:pt x="450" y="472"/>
                      </a:lnTo>
                      <a:lnTo>
                        <a:pt x="474" y="466"/>
                      </a:lnTo>
                      <a:lnTo>
                        <a:pt x="500" y="463"/>
                      </a:lnTo>
                      <a:lnTo>
                        <a:pt x="526" y="460"/>
                      </a:lnTo>
                      <a:lnTo>
                        <a:pt x="551" y="463"/>
                      </a:lnTo>
                      <a:lnTo>
                        <a:pt x="579" y="466"/>
                      </a:lnTo>
                      <a:lnTo>
                        <a:pt x="606" y="469"/>
                      </a:lnTo>
                      <a:lnTo>
                        <a:pt x="661" y="482"/>
                      </a:lnTo>
                      <a:lnTo>
                        <a:pt x="718" y="496"/>
                      </a:lnTo>
                      <a:lnTo>
                        <a:pt x="775" y="514"/>
                      </a:lnTo>
                      <a:lnTo>
                        <a:pt x="834" y="530"/>
                      </a:lnTo>
                      <a:lnTo>
                        <a:pt x="863" y="537"/>
                      </a:lnTo>
                      <a:lnTo>
                        <a:pt x="892" y="543"/>
                      </a:lnTo>
                      <a:lnTo>
                        <a:pt x="920" y="548"/>
                      </a:lnTo>
                      <a:lnTo>
                        <a:pt x="950" y="553"/>
                      </a:lnTo>
                      <a:lnTo>
                        <a:pt x="979" y="554"/>
                      </a:lnTo>
                      <a:lnTo>
                        <a:pt x="1008" y="554"/>
                      </a:lnTo>
                      <a:lnTo>
                        <a:pt x="1037" y="553"/>
                      </a:lnTo>
                      <a:lnTo>
                        <a:pt x="1066" y="549"/>
                      </a:lnTo>
                      <a:lnTo>
                        <a:pt x="1094" y="543"/>
                      </a:lnTo>
                      <a:lnTo>
                        <a:pt x="1123" y="536"/>
                      </a:lnTo>
                      <a:lnTo>
                        <a:pt x="1150" y="522"/>
                      </a:lnTo>
                      <a:lnTo>
                        <a:pt x="1179" y="507"/>
                      </a:lnTo>
                      <a:lnTo>
                        <a:pt x="1197" y="498"/>
                      </a:lnTo>
                      <a:lnTo>
                        <a:pt x="1212" y="490"/>
                      </a:lnTo>
                      <a:lnTo>
                        <a:pt x="1230" y="480"/>
                      </a:lnTo>
                      <a:lnTo>
                        <a:pt x="1245" y="471"/>
                      </a:lnTo>
                      <a:lnTo>
                        <a:pt x="1259" y="459"/>
                      </a:lnTo>
                      <a:lnTo>
                        <a:pt x="1274" y="448"/>
                      </a:lnTo>
                      <a:lnTo>
                        <a:pt x="1289" y="435"/>
                      </a:lnTo>
                      <a:lnTo>
                        <a:pt x="1301" y="422"/>
                      </a:lnTo>
                      <a:lnTo>
                        <a:pt x="1313" y="409"/>
                      </a:lnTo>
                      <a:lnTo>
                        <a:pt x="1324" y="397"/>
                      </a:lnTo>
                      <a:lnTo>
                        <a:pt x="1333" y="382"/>
                      </a:lnTo>
                      <a:lnTo>
                        <a:pt x="1345" y="368"/>
                      </a:lnTo>
                      <a:lnTo>
                        <a:pt x="1353" y="353"/>
                      </a:lnTo>
                      <a:lnTo>
                        <a:pt x="1362" y="336"/>
                      </a:lnTo>
                      <a:lnTo>
                        <a:pt x="1369" y="321"/>
                      </a:lnTo>
                      <a:lnTo>
                        <a:pt x="1376" y="304"/>
                      </a:lnTo>
                      <a:lnTo>
                        <a:pt x="1387" y="273"/>
                      </a:lnTo>
                      <a:lnTo>
                        <a:pt x="1395" y="236"/>
                      </a:lnTo>
                      <a:lnTo>
                        <a:pt x="1401" y="201"/>
                      </a:lnTo>
                      <a:lnTo>
                        <a:pt x="1403" y="165"/>
                      </a:lnTo>
                      <a:lnTo>
                        <a:pt x="1403" y="129"/>
                      </a:lnTo>
                      <a:lnTo>
                        <a:pt x="1398" y="91"/>
                      </a:lnTo>
                      <a:lnTo>
                        <a:pt x="1392" y="55"/>
                      </a:lnTo>
                      <a:lnTo>
                        <a:pt x="1382" y="17"/>
                      </a:lnTo>
                      <a:lnTo>
                        <a:pt x="1365" y="20"/>
                      </a:lnTo>
                      <a:lnTo>
                        <a:pt x="1347" y="27"/>
                      </a:lnTo>
                      <a:lnTo>
                        <a:pt x="1330" y="35"/>
                      </a:lnTo>
                      <a:lnTo>
                        <a:pt x="1315" y="43"/>
                      </a:lnTo>
                      <a:lnTo>
                        <a:pt x="1300" y="55"/>
                      </a:lnTo>
                      <a:lnTo>
                        <a:pt x="1285" y="67"/>
                      </a:lnTo>
                      <a:lnTo>
                        <a:pt x="1271" y="80"/>
                      </a:lnTo>
                      <a:lnTo>
                        <a:pt x="1258" y="97"/>
                      </a:lnTo>
                      <a:lnTo>
                        <a:pt x="1235" y="105"/>
                      </a:lnTo>
                      <a:lnTo>
                        <a:pt x="1212" y="109"/>
                      </a:lnTo>
                      <a:lnTo>
                        <a:pt x="1191" y="112"/>
                      </a:lnTo>
                      <a:lnTo>
                        <a:pt x="1168" y="114"/>
                      </a:lnTo>
                      <a:lnTo>
                        <a:pt x="1145" y="112"/>
                      </a:lnTo>
                      <a:lnTo>
                        <a:pt x="1124" y="109"/>
                      </a:lnTo>
                      <a:lnTo>
                        <a:pt x="1103" y="106"/>
                      </a:lnTo>
                      <a:lnTo>
                        <a:pt x="1082" y="100"/>
                      </a:lnTo>
                      <a:lnTo>
                        <a:pt x="1040" y="85"/>
                      </a:lnTo>
                      <a:lnTo>
                        <a:pt x="1000" y="67"/>
                      </a:lnTo>
                      <a:lnTo>
                        <a:pt x="961" y="50"/>
                      </a:lnTo>
                      <a:lnTo>
                        <a:pt x="922" y="31"/>
                      </a:lnTo>
                      <a:lnTo>
                        <a:pt x="879" y="20"/>
                      </a:lnTo>
                      <a:lnTo>
                        <a:pt x="835" y="14"/>
                      </a:lnTo>
                      <a:lnTo>
                        <a:pt x="790" y="8"/>
                      </a:lnTo>
                      <a:lnTo>
                        <a:pt x="745" y="3"/>
                      </a:lnTo>
                      <a:lnTo>
                        <a:pt x="700" y="2"/>
                      </a:lnTo>
                      <a:lnTo>
                        <a:pt x="653" y="0"/>
                      </a:lnTo>
                      <a:lnTo>
                        <a:pt x="608" y="2"/>
                      </a:lnTo>
                      <a:lnTo>
                        <a:pt x="562" y="5"/>
                      </a:lnTo>
                      <a:lnTo>
                        <a:pt x="516" y="8"/>
                      </a:lnTo>
                      <a:lnTo>
                        <a:pt x="471" y="14"/>
                      </a:lnTo>
                      <a:lnTo>
                        <a:pt x="427" y="24"/>
                      </a:lnTo>
                      <a:lnTo>
                        <a:pt x="383" y="34"/>
                      </a:lnTo>
                      <a:lnTo>
                        <a:pt x="342" y="46"/>
                      </a:lnTo>
                      <a:lnTo>
                        <a:pt x="302" y="61"/>
                      </a:lnTo>
                      <a:lnTo>
                        <a:pt x="263" y="77"/>
                      </a:lnTo>
                      <a:lnTo>
                        <a:pt x="224" y="97"/>
                      </a:lnTo>
                      <a:lnTo>
                        <a:pt x="226" y="161"/>
                      </a:lnTo>
                      <a:lnTo>
                        <a:pt x="226" y="227"/>
                      </a:lnTo>
                      <a:lnTo>
                        <a:pt x="224" y="295"/>
                      </a:lnTo>
                      <a:lnTo>
                        <a:pt x="223" y="362"/>
                      </a:lnTo>
                      <a:lnTo>
                        <a:pt x="223" y="427"/>
                      </a:lnTo>
                      <a:lnTo>
                        <a:pt x="223" y="487"/>
                      </a:lnTo>
                      <a:lnTo>
                        <a:pt x="224" y="514"/>
                      </a:lnTo>
                      <a:lnTo>
                        <a:pt x="226" y="540"/>
                      </a:lnTo>
                      <a:lnTo>
                        <a:pt x="229" y="564"/>
                      </a:lnTo>
                      <a:lnTo>
                        <a:pt x="234" y="586"/>
                      </a:lnTo>
                      <a:lnTo>
                        <a:pt x="211" y="869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46"/>
                <p:cNvSpPr/>
                <p:nvPr/>
              </p:nvSpPr>
              <p:spPr>
                <a:xfrm>
                  <a:off x="6713280" y="2769120"/>
                  <a:ext cx="39960" cy="81000"/>
                </a:xfrm>
                <a:custGeom>
                  <a:avLst/>
                  <a:gdLst/>
                  <a:ahLst/>
                  <a:rect l="l" t="t" r="r" b="b"/>
                  <a:pathLst>
                    <a:path w="627" h="1260">
                      <a:moveTo>
                        <a:pt x="590" y="115"/>
                      </a:moveTo>
                      <a:lnTo>
                        <a:pt x="598" y="176"/>
                      </a:lnTo>
                      <a:lnTo>
                        <a:pt x="605" y="239"/>
                      </a:lnTo>
                      <a:lnTo>
                        <a:pt x="611" y="303"/>
                      </a:lnTo>
                      <a:lnTo>
                        <a:pt x="615" y="368"/>
                      </a:lnTo>
                      <a:lnTo>
                        <a:pt x="621" y="434"/>
                      </a:lnTo>
                      <a:lnTo>
                        <a:pt x="624" y="499"/>
                      </a:lnTo>
                      <a:lnTo>
                        <a:pt x="627" y="566"/>
                      </a:lnTo>
                      <a:lnTo>
                        <a:pt x="627" y="634"/>
                      </a:lnTo>
                      <a:lnTo>
                        <a:pt x="627" y="700"/>
                      </a:lnTo>
                      <a:lnTo>
                        <a:pt x="626" y="765"/>
                      </a:lnTo>
                      <a:lnTo>
                        <a:pt x="621" y="832"/>
                      </a:lnTo>
                      <a:lnTo>
                        <a:pt x="615" y="898"/>
                      </a:lnTo>
                      <a:lnTo>
                        <a:pt x="609" y="962"/>
                      </a:lnTo>
                      <a:lnTo>
                        <a:pt x="600" y="1025"/>
                      </a:lnTo>
                      <a:lnTo>
                        <a:pt x="590" y="1086"/>
                      </a:lnTo>
                      <a:lnTo>
                        <a:pt x="576" y="1148"/>
                      </a:lnTo>
                      <a:lnTo>
                        <a:pt x="558" y="1163"/>
                      </a:lnTo>
                      <a:lnTo>
                        <a:pt x="538" y="1177"/>
                      </a:lnTo>
                      <a:lnTo>
                        <a:pt x="519" y="1190"/>
                      </a:lnTo>
                      <a:lnTo>
                        <a:pt x="499" y="1203"/>
                      </a:lnTo>
                      <a:lnTo>
                        <a:pt x="479" y="1216"/>
                      </a:lnTo>
                      <a:lnTo>
                        <a:pt x="456" y="1225"/>
                      </a:lnTo>
                      <a:lnTo>
                        <a:pt x="435" y="1235"/>
                      </a:lnTo>
                      <a:lnTo>
                        <a:pt x="413" y="1243"/>
                      </a:lnTo>
                      <a:lnTo>
                        <a:pt x="390" y="1249"/>
                      </a:lnTo>
                      <a:lnTo>
                        <a:pt x="367" y="1256"/>
                      </a:lnTo>
                      <a:lnTo>
                        <a:pt x="345" y="1257"/>
                      </a:lnTo>
                      <a:lnTo>
                        <a:pt x="320" y="1260"/>
                      </a:lnTo>
                      <a:lnTo>
                        <a:pt x="296" y="1257"/>
                      </a:lnTo>
                      <a:lnTo>
                        <a:pt x="272" y="1254"/>
                      </a:lnTo>
                      <a:lnTo>
                        <a:pt x="248" y="1249"/>
                      </a:lnTo>
                      <a:lnTo>
                        <a:pt x="222" y="1240"/>
                      </a:lnTo>
                      <a:lnTo>
                        <a:pt x="196" y="1219"/>
                      </a:lnTo>
                      <a:lnTo>
                        <a:pt x="172" y="1196"/>
                      </a:lnTo>
                      <a:lnTo>
                        <a:pt x="150" y="1172"/>
                      </a:lnTo>
                      <a:lnTo>
                        <a:pt x="128" y="1148"/>
                      </a:lnTo>
                      <a:lnTo>
                        <a:pt x="110" y="1121"/>
                      </a:lnTo>
                      <a:lnTo>
                        <a:pt x="92" y="1093"/>
                      </a:lnTo>
                      <a:lnTo>
                        <a:pt x="77" y="1065"/>
                      </a:lnTo>
                      <a:lnTo>
                        <a:pt x="63" y="1035"/>
                      </a:lnTo>
                      <a:lnTo>
                        <a:pt x="50" y="1004"/>
                      </a:lnTo>
                      <a:lnTo>
                        <a:pt x="40" y="972"/>
                      </a:lnTo>
                      <a:lnTo>
                        <a:pt x="30" y="939"/>
                      </a:lnTo>
                      <a:lnTo>
                        <a:pt x="22" y="908"/>
                      </a:lnTo>
                      <a:lnTo>
                        <a:pt x="16" y="874"/>
                      </a:lnTo>
                      <a:lnTo>
                        <a:pt x="12" y="838"/>
                      </a:lnTo>
                      <a:lnTo>
                        <a:pt x="6" y="805"/>
                      </a:lnTo>
                      <a:lnTo>
                        <a:pt x="3" y="769"/>
                      </a:lnTo>
                      <a:lnTo>
                        <a:pt x="1" y="734"/>
                      </a:lnTo>
                      <a:lnTo>
                        <a:pt x="0" y="696"/>
                      </a:lnTo>
                      <a:lnTo>
                        <a:pt x="0" y="661"/>
                      </a:lnTo>
                      <a:lnTo>
                        <a:pt x="0" y="623"/>
                      </a:lnTo>
                      <a:lnTo>
                        <a:pt x="4" y="551"/>
                      </a:lnTo>
                      <a:lnTo>
                        <a:pt x="10" y="481"/>
                      </a:lnTo>
                      <a:lnTo>
                        <a:pt x="19" y="410"/>
                      </a:lnTo>
                      <a:lnTo>
                        <a:pt x="29" y="339"/>
                      </a:lnTo>
                      <a:lnTo>
                        <a:pt x="40" y="272"/>
                      </a:lnTo>
                      <a:lnTo>
                        <a:pt x="51" y="207"/>
                      </a:lnTo>
                      <a:lnTo>
                        <a:pt x="66" y="186"/>
                      </a:lnTo>
                      <a:lnTo>
                        <a:pt x="83" y="169"/>
                      </a:lnTo>
                      <a:lnTo>
                        <a:pt x="98" y="151"/>
                      </a:lnTo>
                      <a:lnTo>
                        <a:pt x="116" y="135"/>
                      </a:lnTo>
                      <a:lnTo>
                        <a:pt x="136" y="121"/>
                      </a:lnTo>
                      <a:lnTo>
                        <a:pt x="154" y="108"/>
                      </a:lnTo>
                      <a:lnTo>
                        <a:pt x="174" y="95"/>
                      </a:lnTo>
                      <a:lnTo>
                        <a:pt x="195" y="82"/>
                      </a:lnTo>
                      <a:lnTo>
                        <a:pt x="237" y="59"/>
                      </a:lnTo>
                      <a:lnTo>
                        <a:pt x="282" y="38"/>
                      </a:lnTo>
                      <a:lnTo>
                        <a:pt x="326" y="20"/>
                      </a:lnTo>
                      <a:lnTo>
                        <a:pt x="369" y="0"/>
                      </a:lnTo>
                      <a:lnTo>
                        <a:pt x="400" y="5"/>
                      </a:lnTo>
                      <a:lnTo>
                        <a:pt x="432" y="11"/>
                      </a:lnTo>
                      <a:lnTo>
                        <a:pt x="461" y="20"/>
                      </a:lnTo>
                      <a:lnTo>
                        <a:pt x="490" y="30"/>
                      </a:lnTo>
                      <a:lnTo>
                        <a:pt x="505" y="37"/>
                      </a:lnTo>
                      <a:lnTo>
                        <a:pt x="519" y="45"/>
                      </a:lnTo>
                      <a:lnTo>
                        <a:pt x="532" y="53"/>
                      </a:lnTo>
                      <a:lnTo>
                        <a:pt x="545" y="62"/>
                      </a:lnTo>
                      <a:lnTo>
                        <a:pt x="556" y="74"/>
                      </a:lnTo>
                      <a:lnTo>
                        <a:pt x="567" y="86"/>
                      </a:lnTo>
                      <a:lnTo>
                        <a:pt x="579" y="100"/>
                      </a:lnTo>
                      <a:lnTo>
                        <a:pt x="59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47"/>
                <p:cNvSpPr/>
                <p:nvPr/>
              </p:nvSpPr>
              <p:spPr>
                <a:xfrm>
                  <a:off x="6584760" y="2764440"/>
                  <a:ext cx="41760" cy="63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4" name="Group 348"/>
                <p:cNvGrpSpPr/>
                <p:nvPr/>
              </p:nvGrpSpPr>
              <p:grpSpPr>
                <a:xfrm>
                  <a:off x="6353640" y="1960200"/>
                  <a:ext cx="335880" cy="202680"/>
                  <a:chOff x="6353640" y="1960200"/>
                  <a:chExt cx="335880" cy="202680"/>
                </a:xfrm>
              </p:grpSpPr>
              <p:sp>
                <p:nvSpPr>
                  <p:cNvPr id="395" name="Freeform 349"/>
                  <p:cNvSpPr/>
                  <p:nvPr/>
                </p:nvSpPr>
                <p:spPr>
                  <a:xfrm>
                    <a:off x="6681600" y="1960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341">
                        <a:moveTo>
                          <a:pt x="115" y="336"/>
                        </a:moveTo>
                        <a:lnTo>
                          <a:pt x="103" y="339"/>
                        </a:lnTo>
                        <a:lnTo>
                          <a:pt x="92" y="341"/>
                        </a:lnTo>
                        <a:lnTo>
                          <a:pt x="82" y="341"/>
                        </a:lnTo>
                        <a:lnTo>
                          <a:pt x="74" y="339"/>
                        </a:lnTo>
                        <a:lnTo>
                          <a:pt x="66" y="338"/>
                        </a:lnTo>
                        <a:lnTo>
                          <a:pt x="58" y="336"/>
                        </a:lnTo>
                        <a:lnTo>
                          <a:pt x="52" y="332"/>
                        </a:lnTo>
                        <a:lnTo>
                          <a:pt x="47" y="327"/>
                        </a:lnTo>
                        <a:lnTo>
                          <a:pt x="42" y="323"/>
                        </a:lnTo>
                        <a:lnTo>
                          <a:pt x="37" y="318"/>
                        </a:lnTo>
                        <a:lnTo>
                          <a:pt x="34" y="313"/>
                        </a:lnTo>
                        <a:lnTo>
                          <a:pt x="30" y="306"/>
                        </a:lnTo>
                        <a:lnTo>
                          <a:pt x="26" y="292"/>
                        </a:lnTo>
                        <a:lnTo>
                          <a:pt x="23" y="276"/>
                        </a:lnTo>
                        <a:lnTo>
                          <a:pt x="20" y="242"/>
                        </a:lnTo>
                        <a:lnTo>
                          <a:pt x="17" y="206"/>
                        </a:lnTo>
                        <a:lnTo>
                          <a:pt x="14" y="189"/>
                        </a:lnTo>
                        <a:lnTo>
                          <a:pt x="11" y="173"/>
                        </a:lnTo>
                        <a:lnTo>
                          <a:pt x="6" y="158"/>
                        </a:lnTo>
                        <a:lnTo>
                          <a:pt x="0" y="147"/>
                        </a:lnTo>
                        <a:lnTo>
                          <a:pt x="3" y="128"/>
                        </a:lnTo>
                        <a:lnTo>
                          <a:pt x="3" y="106"/>
                        </a:lnTo>
                        <a:lnTo>
                          <a:pt x="0" y="85"/>
                        </a:lnTo>
                        <a:lnTo>
                          <a:pt x="0" y="64"/>
                        </a:lnTo>
                        <a:lnTo>
                          <a:pt x="0" y="55"/>
                        </a:lnTo>
                        <a:lnTo>
                          <a:pt x="0" y="46"/>
                        </a:lnTo>
                        <a:lnTo>
                          <a:pt x="3" y="35"/>
                        </a:lnTo>
                        <a:lnTo>
                          <a:pt x="5" y="28"/>
                        </a:lnTo>
                        <a:lnTo>
                          <a:pt x="9" y="20"/>
                        </a:lnTo>
                        <a:lnTo>
                          <a:pt x="17" y="13"/>
                        </a:lnTo>
                        <a:lnTo>
                          <a:pt x="24" y="7"/>
                        </a:lnTo>
                        <a:lnTo>
                          <a:pt x="35" y="0"/>
                        </a:lnTo>
                        <a:lnTo>
                          <a:pt x="47" y="5"/>
                        </a:lnTo>
                        <a:lnTo>
                          <a:pt x="56" y="10"/>
                        </a:lnTo>
                        <a:lnTo>
                          <a:pt x="65" y="16"/>
                        </a:lnTo>
                        <a:lnTo>
                          <a:pt x="74" y="23"/>
                        </a:lnTo>
                        <a:lnTo>
                          <a:pt x="80" y="31"/>
                        </a:lnTo>
                        <a:lnTo>
                          <a:pt x="89" y="39"/>
                        </a:lnTo>
                        <a:lnTo>
                          <a:pt x="95" y="47"/>
                        </a:lnTo>
                        <a:lnTo>
                          <a:pt x="100" y="57"/>
                        </a:lnTo>
                        <a:lnTo>
                          <a:pt x="109" y="76"/>
                        </a:lnTo>
                        <a:lnTo>
                          <a:pt x="118" y="97"/>
                        </a:lnTo>
                        <a:lnTo>
                          <a:pt x="123" y="120"/>
                        </a:lnTo>
                        <a:lnTo>
                          <a:pt x="126" y="144"/>
                        </a:lnTo>
                        <a:lnTo>
                          <a:pt x="129" y="168"/>
                        </a:lnTo>
                        <a:lnTo>
                          <a:pt x="129" y="194"/>
                        </a:lnTo>
                        <a:lnTo>
                          <a:pt x="129" y="218"/>
                        </a:lnTo>
                        <a:lnTo>
                          <a:pt x="127" y="244"/>
                        </a:lnTo>
                        <a:lnTo>
                          <a:pt x="121" y="292"/>
                        </a:lnTo>
                        <a:lnTo>
                          <a:pt x="115" y="3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350"/>
                  <p:cNvSpPr/>
                  <p:nvPr/>
                </p:nvSpPr>
                <p:spPr>
                  <a:xfrm>
                    <a:off x="6634080" y="1968120"/>
                    <a:ext cx="93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334">
                        <a:moveTo>
                          <a:pt x="143" y="318"/>
                        </a:moveTo>
                        <a:lnTo>
                          <a:pt x="139" y="324"/>
                        </a:lnTo>
                        <a:lnTo>
                          <a:pt x="130" y="330"/>
                        </a:lnTo>
                        <a:lnTo>
                          <a:pt x="122" y="333"/>
                        </a:lnTo>
                        <a:lnTo>
                          <a:pt x="113" y="334"/>
                        </a:lnTo>
                        <a:lnTo>
                          <a:pt x="103" y="333"/>
                        </a:lnTo>
                        <a:lnTo>
                          <a:pt x="93" y="330"/>
                        </a:lnTo>
                        <a:lnTo>
                          <a:pt x="90" y="328"/>
                        </a:lnTo>
                        <a:lnTo>
                          <a:pt x="86" y="324"/>
                        </a:lnTo>
                        <a:lnTo>
                          <a:pt x="83" y="321"/>
                        </a:lnTo>
                        <a:lnTo>
                          <a:pt x="81" y="318"/>
                        </a:lnTo>
                        <a:lnTo>
                          <a:pt x="62" y="281"/>
                        </a:lnTo>
                        <a:lnTo>
                          <a:pt x="45" y="242"/>
                        </a:lnTo>
                        <a:lnTo>
                          <a:pt x="27" y="206"/>
                        </a:lnTo>
                        <a:lnTo>
                          <a:pt x="13" y="165"/>
                        </a:lnTo>
                        <a:lnTo>
                          <a:pt x="7" y="145"/>
                        </a:lnTo>
                        <a:lnTo>
                          <a:pt x="4" y="124"/>
                        </a:lnTo>
                        <a:lnTo>
                          <a:pt x="1" y="105"/>
                        </a:lnTo>
                        <a:lnTo>
                          <a:pt x="0" y="85"/>
                        </a:lnTo>
                        <a:lnTo>
                          <a:pt x="1" y="63"/>
                        </a:lnTo>
                        <a:lnTo>
                          <a:pt x="3" y="42"/>
                        </a:lnTo>
                        <a:lnTo>
                          <a:pt x="7" y="21"/>
                        </a:lnTo>
                        <a:lnTo>
                          <a:pt x="16" y="0"/>
                        </a:lnTo>
                        <a:lnTo>
                          <a:pt x="35" y="9"/>
                        </a:lnTo>
                        <a:lnTo>
                          <a:pt x="51" y="23"/>
                        </a:lnTo>
                        <a:lnTo>
                          <a:pt x="67" y="38"/>
                        </a:lnTo>
                        <a:lnTo>
                          <a:pt x="80" y="53"/>
                        </a:lnTo>
                        <a:lnTo>
                          <a:pt x="92" y="71"/>
                        </a:lnTo>
                        <a:lnTo>
                          <a:pt x="101" y="91"/>
                        </a:lnTo>
                        <a:lnTo>
                          <a:pt x="110" y="110"/>
                        </a:lnTo>
                        <a:lnTo>
                          <a:pt x="117" y="133"/>
                        </a:lnTo>
                        <a:lnTo>
                          <a:pt x="124" y="155"/>
                        </a:lnTo>
                        <a:lnTo>
                          <a:pt x="127" y="177"/>
                        </a:lnTo>
                        <a:lnTo>
                          <a:pt x="131" y="200"/>
                        </a:lnTo>
                        <a:lnTo>
                          <a:pt x="134" y="224"/>
                        </a:lnTo>
                        <a:lnTo>
                          <a:pt x="140" y="271"/>
                        </a:lnTo>
                        <a:lnTo>
                          <a:pt x="143" y="3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351"/>
                  <p:cNvSpPr/>
                  <p:nvPr/>
                </p:nvSpPr>
                <p:spPr>
                  <a:xfrm>
                    <a:off x="6585840" y="1980000"/>
                    <a:ext cx="10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49">
                        <a:moveTo>
                          <a:pt x="140" y="349"/>
                        </a:moveTo>
                        <a:lnTo>
                          <a:pt x="128" y="338"/>
                        </a:lnTo>
                        <a:lnTo>
                          <a:pt x="114" y="328"/>
                        </a:lnTo>
                        <a:lnTo>
                          <a:pt x="101" y="314"/>
                        </a:lnTo>
                        <a:lnTo>
                          <a:pt x="90" y="302"/>
                        </a:lnTo>
                        <a:lnTo>
                          <a:pt x="81" y="287"/>
                        </a:lnTo>
                        <a:lnTo>
                          <a:pt x="71" y="270"/>
                        </a:lnTo>
                        <a:lnTo>
                          <a:pt x="61" y="255"/>
                        </a:lnTo>
                        <a:lnTo>
                          <a:pt x="51" y="237"/>
                        </a:lnTo>
                        <a:lnTo>
                          <a:pt x="36" y="202"/>
                        </a:lnTo>
                        <a:lnTo>
                          <a:pt x="22" y="164"/>
                        </a:lnTo>
                        <a:lnTo>
                          <a:pt x="10" y="129"/>
                        </a:lnTo>
                        <a:lnTo>
                          <a:pt x="0" y="93"/>
                        </a:lnTo>
                        <a:lnTo>
                          <a:pt x="43" y="0"/>
                        </a:lnTo>
                        <a:lnTo>
                          <a:pt x="58" y="16"/>
                        </a:lnTo>
                        <a:lnTo>
                          <a:pt x="72" y="34"/>
                        </a:lnTo>
                        <a:lnTo>
                          <a:pt x="87" y="51"/>
                        </a:lnTo>
                        <a:lnTo>
                          <a:pt x="100" y="72"/>
                        </a:lnTo>
                        <a:lnTo>
                          <a:pt x="113" y="93"/>
                        </a:lnTo>
                        <a:lnTo>
                          <a:pt x="124" y="114"/>
                        </a:lnTo>
                        <a:lnTo>
                          <a:pt x="134" y="139"/>
                        </a:lnTo>
                        <a:lnTo>
                          <a:pt x="142" y="161"/>
                        </a:lnTo>
                        <a:lnTo>
                          <a:pt x="148" y="186"/>
                        </a:lnTo>
                        <a:lnTo>
                          <a:pt x="155" y="210"/>
                        </a:lnTo>
                        <a:lnTo>
                          <a:pt x="158" y="234"/>
                        </a:lnTo>
                        <a:lnTo>
                          <a:pt x="160" y="257"/>
                        </a:lnTo>
                        <a:lnTo>
                          <a:pt x="158" y="281"/>
                        </a:lnTo>
                        <a:lnTo>
                          <a:pt x="155" y="305"/>
                        </a:lnTo>
                        <a:lnTo>
                          <a:pt x="149" y="328"/>
                        </a:lnTo>
                        <a:lnTo>
                          <a:pt x="140" y="3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352"/>
                  <p:cNvSpPr/>
                  <p:nvPr/>
                </p:nvSpPr>
                <p:spPr>
                  <a:xfrm>
                    <a:off x="6541560" y="1996920"/>
                    <a:ext cx="1188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18">
                        <a:moveTo>
                          <a:pt x="191" y="269"/>
                        </a:moveTo>
                        <a:lnTo>
                          <a:pt x="161" y="318"/>
                        </a:lnTo>
                        <a:lnTo>
                          <a:pt x="142" y="305"/>
                        </a:lnTo>
                        <a:lnTo>
                          <a:pt x="126" y="290"/>
                        </a:lnTo>
                        <a:lnTo>
                          <a:pt x="111" y="276"/>
                        </a:lnTo>
                        <a:lnTo>
                          <a:pt x="94" y="258"/>
                        </a:lnTo>
                        <a:lnTo>
                          <a:pt x="79" y="239"/>
                        </a:lnTo>
                        <a:lnTo>
                          <a:pt x="65" y="219"/>
                        </a:lnTo>
                        <a:lnTo>
                          <a:pt x="52" y="198"/>
                        </a:lnTo>
                        <a:lnTo>
                          <a:pt x="41" y="178"/>
                        </a:lnTo>
                        <a:lnTo>
                          <a:pt x="31" y="155"/>
                        </a:lnTo>
                        <a:lnTo>
                          <a:pt x="22" y="133"/>
                        </a:lnTo>
                        <a:lnTo>
                          <a:pt x="14" y="110"/>
                        </a:lnTo>
                        <a:lnTo>
                          <a:pt x="7" y="87"/>
                        </a:lnTo>
                        <a:lnTo>
                          <a:pt x="3" y="65"/>
                        </a:lnTo>
                        <a:lnTo>
                          <a:pt x="0" y="44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lnTo>
                          <a:pt x="14" y="1"/>
                        </a:lnTo>
                        <a:lnTo>
                          <a:pt x="25" y="3"/>
                        </a:lnTo>
                        <a:lnTo>
                          <a:pt x="34" y="6"/>
                        </a:lnTo>
                        <a:lnTo>
                          <a:pt x="46" y="10"/>
                        </a:lnTo>
                        <a:lnTo>
                          <a:pt x="53" y="13"/>
                        </a:lnTo>
                        <a:lnTo>
                          <a:pt x="64" y="20"/>
                        </a:lnTo>
                        <a:lnTo>
                          <a:pt x="71" y="24"/>
                        </a:lnTo>
                        <a:lnTo>
                          <a:pt x="78" y="31"/>
                        </a:lnTo>
                        <a:lnTo>
                          <a:pt x="91" y="45"/>
                        </a:lnTo>
                        <a:lnTo>
                          <a:pt x="103" y="63"/>
                        </a:lnTo>
                        <a:lnTo>
                          <a:pt x="114" y="83"/>
                        </a:lnTo>
                        <a:lnTo>
                          <a:pt x="123" y="102"/>
                        </a:lnTo>
                        <a:lnTo>
                          <a:pt x="139" y="145"/>
                        </a:lnTo>
                        <a:lnTo>
                          <a:pt x="153" y="189"/>
                        </a:lnTo>
                        <a:lnTo>
                          <a:pt x="162" y="212"/>
                        </a:lnTo>
                        <a:lnTo>
                          <a:pt x="170" y="231"/>
                        </a:lnTo>
                        <a:lnTo>
                          <a:pt x="179" y="252"/>
                        </a:lnTo>
                        <a:lnTo>
                          <a:pt x="191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353"/>
                  <p:cNvSpPr/>
                  <p:nvPr/>
                </p:nvSpPr>
                <p:spPr>
                  <a:xfrm>
                    <a:off x="6458400" y="2044080"/>
                    <a:ext cx="151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08">
                        <a:moveTo>
                          <a:pt x="239" y="305"/>
                        </a:moveTo>
                        <a:lnTo>
                          <a:pt x="227" y="307"/>
                        </a:lnTo>
                        <a:lnTo>
                          <a:pt x="218" y="308"/>
                        </a:lnTo>
                        <a:lnTo>
                          <a:pt x="208" y="307"/>
                        </a:lnTo>
                        <a:lnTo>
                          <a:pt x="198" y="307"/>
                        </a:lnTo>
                        <a:lnTo>
                          <a:pt x="189" y="304"/>
                        </a:lnTo>
                        <a:lnTo>
                          <a:pt x="181" y="301"/>
                        </a:lnTo>
                        <a:lnTo>
                          <a:pt x="171" y="295"/>
                        </a:lnTo>
                        <a:lnTo>
                          <a:pt x="163" y="290"/>
                        </a:lnTo>
                        <a:lnTo>
                          <a:pt x="148" y="278"/>
                        </a:lnTo>
                        <a:lnTo>
                          <a:pt x="134" y="261"/>
                        </a:lnTo>
                        <a:lnTo>
                          <a:pt x="121" y="243"/>
                        </a:lnTo>
                        <a:lnTo>
                          <a:pt x="108" y="225"/>
                        </a:lnTo>
                        <a:lnTo>
                          <a:pt x="84" y="184"/>
                        </a:lnTo>
                        <a:lnTo>
                          <a:pt x="57" y="142"/>
                        </a:lnTo>
                        <a:lnTo>
                          <a:pt x="45" y="124"/>
                        </a:lnTo>
                        <a:lnTo>
                          <a:pt x="30" y="107"/>
                        </a:lnTo>
                        <a:lnTo>
                          <a:pt x="16" y="92"/>
                        </a:lnTo>
                        <a:lnTo>
                          <a:pt x="0" y="80"/>
                        </a:lnTo>
                        <a:lnTo>
                          <a:pt x="0" y="55"/>
                        </a:lnTo>
                        <a:lnTo>
                          <a:pt x="1" y="31"/>
                        </a:lnTo>
                        <a:lnTo>
                          <a:pt x="3" y="21"/>
                        </a:lnTo>
                        <a:lnTo>
                          <a:pt x="8" y="12"/>
                        </a:lnTo>
                        <a:lnTo>
                          <a:pt x="13" y="9"/>
                        </a:lnTo>
                        <a:lnTo>
                          <a:pt x="18" y="6"/>
                        </a:lnTo>
                        <a:lnTo>
                          <a:pt x="24" y="1"/>
                        </a:lnTo>
                        <a:lnTo>
                          <a:pt x="30" y="0"/>
                        </a:lnTo>
                        <a:lnTo>
                          <a:pt x="53" y="13"/>
                        </a:lnTo>
                        <a:lnTo>
                          <a:pt x="72" y="27"/>
                        </a:lnTo>
                        <a:lnTo>
                          <a:pt x="90" y="44"/>
                        </a:lnTo>
                        <a:lnTo>
                          <a:pt x="106" y="60"/>
                        </a:lnTo>
                        <a:lnTo>
                          <a:pt x="122" y="77"/>
                        </a:lnTo>
                        <a:lnTo>
                          <a:pt x="137" y="95"/>
                        </a:lnTo>
                        <a:lnTo>
                          <a:pt x="150" y="115"/>
                        </a:lnTo>
                        <a:lnTo>
                          <a:pt x="161" y="136"/>
                        </a:lnTo>
                        <a:lnTo>
                          <a:pt x="184" y="178"/>
                        </a:lnTo>
                        <a:lnTo>
                          <a:pt x="203" y="219"/>
                        </a:lnTo>
                        <a:lnTo>
                          <a:pt x="221" y="263"/>
                        </a:lnTo>
                        <a:lnTo>
                          <a:pt x="239" y="3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354"/>
                  <p:cNvSpPr/>
                  <p:nvPr/>
                </p:nvSpPr>
                <p:spPr>
                  <a:xfrm>
                    <a:off x="6419520" y="2076120"/>
                    <a:ext cx="151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69">
                        <a:moveTo>
                          <a:pt x="239" y="269"/>
                        </a:moveTo>
                        <a:lnTo>
                          <a:pt x="221" y="265"/>
                        </a:lnTo>
                        <a:lnTo>
                          <a:pt x="204" y="258"/>
                        </a:lnTo>
                        <a:lnTo>
                          <a:pt x="187" y="250"/>
                        </a:lnTo>
                        <a:lnTo>
                          <a:pt x="169" y="240"/>
                        </a:lnTo>
                        <a:lnTo>
                          <a:pt x="154" y="229"/>
                        </a:lnTo>
                        <a:lnTo>
                          <a:pt x="139" y="215"/>
                        </a:lnTo>
                        <a:lnTo>
                          <a:pt x="122" y="201"/>
                        </a:lnTo>
                        <a:lnTo>
                          <a:pt x="109" y="186"/>
                        </a:lnTo>
                        <a:lnTo>
                          <a:pt x="51" y="124"/>
                        </a:lnTo>
                        <a:lnTo>
                          <a:pt x="0" y="62"/>
                        </a:lnTo>
                        <a:lnTo>
                          <a:pt x="36" y="0"/>
                        </a:lnTo>
                        <a:lnTo>
                          <a:pt x="63" y="26"/>
                        </a:lnTo>
                        <a:lnTo>
                          <a:pt x="98" y="53"/>
                        </a:lnTo>
                        <a:lnTo>
                          <a:pt x="136" y="84"/>
                        </a:lnTo>
                        <a:lnTo>
                          <a:pt x="172" y="115"/>
                        </a:lnTo>
                        <a:lnTo>
                          <a:pt x="189" y="133"/>
                        </a:lnTo>
                        <a:lnTo>
                          <a:pt x="205" y="151"/>
                        </a:lnTo>
                        <a:lnTo>
                          <a:pt x="218" y="171"/>
                        </a:lnTo>
                        <a:lnTo>
                          <a:pt x="229" y="190"/>
                        </a:lnTo>
                        <a:lnTo>
                          <a:pt x="234" y="200"/>
                        </a:lnTo>
                        <a:lnTo>
                          <a:pt x="237" y="209"/>
                        </a:lnTo>
                        <a:lnTo>
                          <a:pt x="239" y="219"/>
                        </a:lnTo>
                        <a:lnTo>
                          <a:pt x="242" y="229"/>
                        </a:lnTo>
                        <a:lnTo>
                          <a:pt x="242" y="238"/>
                        </a:lnTo>
                        <a:lnTo>
                          <a:pt x="242" y="250"/>
                        </a:lnTo>
                        <a:lnTo>
                          <a:pt x="240" y="259"/>
                        </a:lnTo>
                        <a:lnTo>
                          <a:pt x="239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355"/>
                  <p:cNvSpPr/>
                  <p:nvPr/>
                </p:nvSpPr>
                <p:spPr>
                  <a:xfrm>
                    <a:off x="6385680" y="21085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269">
                        <a:moveTo>
                          <a:pt x="286" y="269"/>
                        </a:moveTo>
                        <a:lnTo>
                          <a:pt x="263" y="269"/>
                        </a:lnTo>
                        <a:lnTo>
                          <a:pt x="243" y="266"/>
                        </a:lnTo>
                        <a:lnTo>
                          <a:pt x="224" y="262"/>
                        </a:lnTo>
                        <a:lnTo>
                          <a:pt x="204" y="256"/>
                        </a:lnTo>
                        <a:lnTo>
                          <a:pt x="185" y="245"/>
                        </a:lnTo>
                        <a:lnTo>
                          <a:pt x="168" y="234"/>
                        </a:lnTo>
                        <a:lnTo>
                          <a:pt x="151" y="222"/>
                        </a:lnTo>
                        <a:lnTo>
                          <a:pt x="135" y="209"/>
                        </a:lnTo>
                        <a:lnTo>
                          <a:pt x="103" y="180"/>
                        </a:lnTo>
                        <a:lnTo>
                          <a:pt x="71" y="151"/>
                        </a:lnTo>
                        <a:lnTo>
                          <a:pt x="54" y="136"/>
                        </a:lnTo>
                        <a:lnTo>
                          <a:pt x="38" y="121"/>
                        </a:lnTo>
                        <a:lnTo>
                          <a:pt x="22" y="109"/>
                        </a:lnTo>
                        <a:lnTo>
                          <a:pt x="4" y="97"/>
                        </a:lnTo>
                        <a:lnTo>
                          <a:pt x="6" y="85"/>
                        </a:lnTo>
                        <a:lnTo>
                          <a:pt x="4" y="70"/>
                        </a:lnTo>
                        <a:lnTo>
                          <a:pt x="3" y="54"/>
                        </a:lnTo>
                        <a:lnTo>
                          <a:pt x="0" y="38"/>
                        </a:lnTo>
                        <a:lnTo>
                          <a:pt x="0" y="30"/>
                        </a:lnTo>
                        <a:lnTo>
                          <a:pt x="1" y="23"/>
                        </a:lnTo>
                        <a:lnTo>
                          <a:pt x="3" y="17"/>
                        </a:lnTo>
                        <a:lnTo>
                          <a:pt x="6" y="12"/>
                        </a:lnTo>
                        <a:lnTo>
                          <a:pt x="11" y="7"/>
                        </a:lnTo>
                        <a:lnTo>
                          <a:pt x="17" y="4"/>
                        </a:lnTo>
                        <a:lnTo>
                          <a:pt x="26" y="3"/>
                        </a:lnTo>
                        <a:lnTo>
                          <a:pt x="35" y="0"/>
                        </a:lnTo>
                        <a:lnTo>
                          <a:pt x="75" y="32"/>
                        </a:lnTo>
                        <a:lnTo>
                          <a:pt x="117" y="60"/>
                        </a:lnTo>
                        <a:lnTo>
                          <a:pt x="157" y="88"/>
                        </a:lnTo>
                        <a:lnTo>
                          <a:pt x="196" y="117"/>
                        </a:lnTo>
                        <a:lnTo>
                          <a:pt x="213" y="133"/>
                        </a:lnTo>
                        <a:lnTo>
                          <a:pt x="230" y="149"/>
                        </a:lnTo>
                        <a:lnTo>
                          <a:pt x="245" y="165"/>
                        </a:lnTo>
                        <a:lnTo>
                          <a:pt x="259" y="184"/>
                        </a:lnTo>
                        <a:lnTo>
                          <a:pt x="269" y="204"/>
                        </a:lnTo>
                        <a:lnTo>
                          <a:pt x="278" y="224"/>
                        </a:lnTo>
                        <a:lnTo>
                          <a:pt x="283" y="245"/>
                        </a:lnTo>
                        <a:lnTo>
                          <a:pt x="286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356"/>
                  <p:cNvSpPr/>
                  <p:nvPr/>
                </p:nvSpPr>
                <p:spPr>
                  <a:xfrm>
                    <a:off x="6353640" y="2149200"/>
                    <a:ext cx="187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17">
                        <a:moveTo>
                          <a:pt x="290" y="212"/>
                        </a:moveTo>
                        <a:lnTo>
                          <a:pt x="269" y="215"/>
                        </a:lnTo>
                        <a:lnTo>
                          <a:pt x="249" y="217"/>
                        </a:lnTo>
                        <a:lnTo>
                          <a:pt x="230" y="214"/>
                        </a:lnTo>
                        <a:lnTo>
                          <a:pt x="210" y="210"/>
                        </a:lnTo>
                        <a:lnTo>
                          <a:pt x="191" y="204"/>
                        </a:lnTo>
                        <a:lnTo>
                          <a:pt x="171" y="195"/>
                        </a:lnTo>
                        <a:lnTo>
                          <a:pt x="154" y="185"/>
                        </a:lnTo>
                        <a:lnTo>
                          <a:pt x="134" y="174"/>
                        </a:lnTo>
                        <a:lnTo>
                          <a:pt x="116" y="160"/>
                        </a:lnTo>
                        <a:lnTo>
                          <a:pt x="98" y="147"/>
                        </a:lnTo>
                        <a:lnTo>
                          <a:pt x="83" y="133"/>
                        </a:lnTo>
                        <a:lnTo>
                          <a:pt x="67" y="117"/>
                        </a:lnTo>
                        <a:lnTo>
                          <a:pt x="35" y="85"/>
                        </a:lnTo>
                        <a:lnTo>
                          <a:pt x="4" y="53"/>
                        </a:lnTo>
                        <a:lnTo>
                          <a:pt x="0" y="39"/>
                        </a:lnTo>
                        <a:lnTo>
                          <a:pt x="2" y="29"/>
                        </a:lnTo>
                        <a:lnTo>
                          <a:pt x="4" y="18"/>
                        </a:lnTo>
                        <a:lnTo>
                          <a:pt x="9" y="12"/>
                        </a:lnTo>
                        <a:lnTo>
                          <a:pt x="15" y="8"/>
                        </a:lnTo>
                        <a:lnTo>
                          <a:pt x="23" y="4"/>
                        </a:lnTo>
                        <a:lnTo>
                          <a:pt x="33" y="2"/>
                        </a:lnTo>
                        <a:lnTo>
                          <a:pt x="42" y="0"/>
                        </a:lnTo>
                        <a:lnTo>
                          <a:pt x="62" y="2"/>
                        </a:lnTo>
                        <a:lnTo>
                          <a:pt x="83" y="9"/>
                        </a:lnTo>
                        <a:lnTo>
                          <a:pt x="101" y="15"/>
                        </a:lnTo>
                        <a:lnTo>
                          <a:pt x="113" y="21"/>
                        </a:lnTo>
                        <a:lnTo>
                          <a:pt x="124" y="35"/>
                        </a:lnTo>
                        <a:lnTo>
                          <a:pt x="138" y="47"/>
                        </a:lnTo>
                        <a:lnTo>
                          <a:pt x="151" y="59"/>
                        </a:lnTo>
                        <a:lnTo>
                          <a:pt x="163" y="70"/>
                        </a:lnTo>
                        <a:lnTo>
                          <a:pt x="192" y="93"/>
                        </a:lnTo>
                        <a:lnTo>
                          <a:pt x="219" y="114"/>
                        </a:lnTo>
                        <a:lnTo>
                          <a:pt x="233" y="124"/>
                        </a:lnTo>
                        <a:lnTo>
                          <a:pt x="245" y="136"/>
                        </a:lnTo>
                        <a:lnTo>
                          <a:pt x="257" y="147"/>
                        </a:lnTo>
                        <a:lnTo>
                          <a:pt x="266" y="159"/>
                        </a:lnTo>
                        <a:lnTo>
                          <a:pt x="275" y="170"/>
                        </a:lnTo>
                        <a:lnTo>
                          <a:pt x="283" y="183"/>
                        </a:lnTo>
                        <a:lnTo>
                          <a:pt x="287" y="197"/>
                        </a:lnTo>
                        <a:lnTo>
                          <a:pt x="290" y="2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357"/>
                  <p:cNvSpPr/>
                  <p:nvPr/>
                </p:nvSpPr>
                <p:spPr>
                  <a:xfrm>
                    <a:off x="6492960" y="2006640"/>
                    <a:ext cx="180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483">
                        <a:moveTo>
                          <a:pt x="214" y="479"/>
                        </a:moveTo>
                        <a:lnTo>
                          <a:pt x="227" y="475"/>
                        </a:lnTo>
                        <a:lnTo>
                          <a:pt x="237" y="469"/>
                        </a:lnTo>
                        <a:lnTo>
                          <a:pt x="246" y="458"/>
                        </a:lnTo>
                        <a:lnTo>
                          <a:pt x="255" y="448"/>
                        </a:lnTo>
                        <a:lnTo>
                          <a:pt x="263" y="434"/>
                        </a:lnTo>
                        <a:lnTo>
                          <a:pt x="269" y="419"/>
                        </a:lnTo>
                        <a:lnTo>
                          <a:pt x="273" y="402"/>
                        </a:lnTo>
                        <a:lnTo>
                          <a:pt x="277" y="384"/>
                        </a:lnTo>
                        <a:lnTo>
                          <a:pt x="280" y="365"/>
                        </a:lnTo>
                        <a:lnTo>
                          <a:pt x="280" y="345"/>
                        </a:lnTo>
                        <a:lnTo>
                          <a:pt x="280" y="323"/>
                        </a:lnTo>
                        <a:lnTo>
                          <a:pt x="278" y="301"/>
                        </a:lnTo>
                        <a:lnTo>
                          <a:pt x="277" y="278"/>
                        </a:lnTo>
                        <a:lnTo>
                          <a:pt x="272" y="254"/>
                        </a:lnTo>
                        <a:lnTo>
                          <a:pt x="267" y="230"/>
                        </a:lnTo>
                        <a:lnTo>
                          <a:pt x="260" y="206"/>
                        </a:lnTo>
                        <a:lnTo>
                          <a:pt x="251" y="181"/>
                        </a:lnTo>
                        <a:lnTo>
                          <a:pt x="242" y="157"/>
                        </a:lnTo>
                        <a:lnTo>
                          <a:pt x="231" y="136"/>
                        </a:lnTo>
                        <a:lnTo>
                          <a:pt x="220" y="115"/>
                        </a:lnTo>
                        <a:lnTo>
                          <a:pt x="210" y="95"/>
                        </a:lnTo>
                        <a:lnTo>
                          <a:pt x="198" y="78"/>
                        </a:lnTo>
                        <a:lnTo>
                          <a:pt x="185" y="62"/>
                        </a:lnTo>
                        <a:lnTo>
                          <a:pt x="172" y="47"/>
                        </a:lnTo>
                        <a:lnTo>
                          <a:pt x="160" y="35"/>
                        </a:lnTo>
                        <a:lnTo>
                          <a:pt x="145" y="23"/>
                        </a:lnTo>
                        <a:lnTo>
                          <a:pt x="131" y="15"/>
                        </a:lnTo>
                        <a:lnTo>
                          <a:pt x="119" y="9"/>
                        </a:lnTo>
                        <a:lnTo>
                          <a:pt x="104" y="4"/>
                        </a:lnTo>
                        <a:lnTo>
                          <a:pt x="92" y="0"/>
                        </a:lnTo>
                        <a:lnTo>
                          <a:pt x="78" y="0"/>
                        </a:lnTo>
                        <a:lnTo>
                          <a:pt x="66" y="4"/>
                        </a:lnTo>
                        <a:lnTo>
                          <a:pt x="54" y="9"/>
                        </a:lnTo>
                        <a:lnTo>
                          <a:pt x="43" y="17"/>
                        </a:lnTo>
                        <a:lnTo>
                          <a:pt x="33" y="24"/>
                        </a:lnTo>
                        <a:lnTo>
                          <a:pt x="25" y="36"/>
                        </a:lnTo>
                        <a:lnTo>
                          <a:pt x="18" y="50"/>
                        </a:lnTo>
                        <a:lnTo>
                          <a:pt x="12" y="65"/>
                        </a:lnTo>
                        <a:lnTo>
                          <a:pt x="7" y="82"/>
                        </a:lnTo>
                        <a:lnTo>
                          <a:pt x="3" y="100"/>
                        </a:lnTo>
                        <a:lnTo>
                          <a:pt x="1" y="118"/>
                        </a:lnTo>
                        <a:lnTo>
                          <a:pt x="0" y="139"/>
                        </a:lnTo>
                        <a:lnTo>
                          <a:pt x="0" y="162"/>
                        </a:lnTo>
                        <a:lnTo>
                          <a:pt x="1" y="183"/>
                        </a:lnTo>
                        <a:lnTo>
                          <a:pt x="4" y="207"/>
                        </a:lnTo>
                        <a:lnTo>
                          <a:pt x="9" y="231"/>
                        </a:lnTo>
                        <a:lnTo>
                          <a:pt x="15" y="256"/>
                        </a:lnTo>
                        <a:lnTo>
                          <a:pt x="21" y="280"/>
                        </a:lnTo>
                        <a:lnTo>
                          <a:pt x="30" y="304"/>
                        </a:lnTo>
                        <a:lnTo>
                          <a:pt x="39" y="327"/>
                        </a:lnTo>
                        <a:lnTo>
                          <a:pt x="48" y="349"/>
                        </a:lnTo>
                        <a:lnTo>
                          <a:pt x="59" y="369"/>
                        </a:lnTo>
                        <a:lnTo>
                          <a:pt x="71" y="387"/>
                        </a:lnTo>
                        <a:lnTo>
                          <a:pt x="83" y="405"/>
                        </a:lnTo>
                        <a:lnTo>
                          <a:pt x="96" y="423"/>
                        </a:lnTo>
                        <a:lnTo>
                          <a:pt x="109" y="437"/>
                        </a:lnTo>
                        <a:lnTo>
                          <a:pt x="122" y="449"/>
                        </a:lnTo>
                        <a:lnTo>
                          <a:pt x="134" y="460"/>
                        </a:lnTo>
                        <a:lnTo>
                          <a:pt x="149" y="470"/>
                        </a:lnTo>
                        <a:lnTo>
                          <a:pt x="163" y="476"/>
                        </a:lnTo>
                        <a:lnTo>
                          <a:pt x="175" y="481"/>
                        </a:lnTo>
                        <a:lnTo>
                          <a:pt x="190" y="483"/>
                        </a:lnTo>
                        <a:lnTo>
                          <a:pt x="202" y="483"/>
                        </a:lnTo>
                        <a:lnTo>
                          <a:pt x="214" y="4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4" name="Freeform 358"/>
                <p:cNvSpPr/>
                <p:nvPr/>
              </p:nvSpPr>
              <p:spPr>
                <a:xfrm>
                  <a:off x="6999480" y="2548800"/>
                  <a:ext cx="43200" cy="62640"/>
                </a:xfrm>
                <a:custGeom>
                  <a:avLst/>
                  <a:gdLst/>
                  <a:ahLst/>
                  <a:rect l="l" t="t" r="r" b="b"/>
                  <a:pathLst>
                    <a:path w="667" h="973">
                      <a:moveTo>
                        <a:pt x="667" y="910"/>
                      </a:moveTo>
                      <a:lnTo>
                        <a:pt x="637" y="973"/>
                      </a:lnTo>
                      <a:lnTo>
                        <a:pt x="555" y="971"/>
                      </a:lnTo>
                      <a:lnTo>
                        <a:pt x="474" y="971"/>
                      </a:lnTo>
                      <a:lnTo>
                        <a:pt x="392" y="973"/>
                      </a:lnTo>
                      <a:lnTo>
                        <a:pt x="309" y="973"/>
                      </a:lnTo>
                      <a:lnTo>
                        <a:pt x="227" y="973"/>
                      </a:lnTo>
                      <a:lnTo>
                        <a:pt x="148" y="970"/>
                      </a:lnTo>
                      <a:lnTo>
                        <a:pt x="111" y="968"/>
                      </a:lnTo>
                      <a:lnTo>
                        <a:pt x="71" y="965"/>
                      </a:lnTo>
                      <a:lnTo>
                        <a:pt x="36" y="960"/>
                      </a:lnTo>
                      <a:lnTo>
                        <a:pt x="0" y="956"/>
                      </a:lnTo>
                      <a:lnTo>
                        <a:pt x="36" y="892"/>
                      </a:lnTo>
                      <a:lnTo>
                        <a:pt x="73" y="832"/>
                      </a:lnTo>
                      <a:lnTo>
                        <a:pt x="111" y="770"/>
                      </a:lnTo>
                      <a:lnTo>
                        <a:pt x="150" y="708"/>
                      </a:lnTo>
                      <a:lnTo>
                        <a:pt x="230" y="588"/>
                      </a:lnTo>
                      <a:lnTo>
                        <a:pt x="312" y="469"/>
                      </a:lnTo>
                      <a:lnTo>
                        <a:pt x="398" y="349"/>
                      </a:lnTo>
                      <a:lnTo>
                        <a:pt x="483" y="233"/>
                      </a:lnTo>
                      <a:lnTo>
                        <a:pt x="569" y="117"/>
                      </a:lnTo>
                      <a:lnTo>
                        <a:pt x="654" y="0"/>
                      </a:lnTo>
                      <a:lnTo>
                        <a:pt x="667" y="9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Group 359"/>
                <p:cNvGrpSpPr/>
                <p:nvPr/>
              </p:nvGrpSpPr>
              <p:grpSpPr>
                <a:xfrm>
                  <a:off x="6725520" y="2751120"/>
                  <a:ext cx="320040" cy="144720"/>
                  <a:chOff x="6725520" y="2751120"/>
                  <a:chExt cx="320040" cy="144720"/>
                </a:xfrm>
              </p:grpSpPr>
              <p:sp>
                <p:nvSpPr>
                  <p:cNvPr id="406" name="Freeform 360"/>
                  <p:cNvSpPr/>
                  <p:nvPr/>
                </p:nvSpPr>
                <p:spPr>
                  <a:xfrm>
                    <a:off x="7030800" y="27511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274">
                        <a:moveTo>
                          <a:pt x="237" y="221"/>
                        </a:moveTo>
                        <a:lnTo>
                          <a:pt x="233" y="224"/>
                        </a:lnTo>
                        <a:lnTo>
                          <a:pt x="227" y="230"/>
                        </a:lnTo>
                        <a:lnTo>
                          <a:pt x="226" y="236"/>
                        </a:lnTo>
                        <a:lnTo>
                          <a:pt x="224" y="242"/>
                        </a:lnTo>
                        <a:lnTo>
                          <a:pt x="224" y="256"/>
                        </a:lnTo>
                        <a:lnTo>
                          <a:pt x="224" y="270"/>
                        </a:lnTo>
                        <a:lnTo>
                          <a:pt x="213" y="271"/>
                        </a:lnTo>
                        <a:lnTo>
                          <a:pt x="201" y="273"/>
                        </a:lnTo>
                        <a:lnTo>
                          <a:pt x="191" y="274"/>
                        </a:lnTo>
                        <a:lnTo>
                          <a:pt x="181" y="273"/>
                        </a:lnTo>
                        <a:lnTo>
                          <a:pt x="171" y="271"/>
                        </a:lnTo>
                        <a:lnTo>
                          <a:pt x="163" y="270"/>
                        </a:lnTo>
                        <a:lnTo>
                          <a:pt x="153" y="266"/>
                        </a:lnTo>
                        <a:lnTo>
                          <a:pt x="145" y="263"/>
                        </a:lnTo>
                        <a:lnTo>
                          <a:pt x="130" y="256"/>
                        </a:lnTo>
                        <a:lnTo>
                          <a:pt x="117" y="244"/>
                        </a:lnTo>
                        <a:lnTo>
                          <a:pt x="103" y="231"/>
                        </a:lnTo>
                        <a:lnTo>
                          <a:pt x="92" y="217"/>
                        </a:lnTo>
                        <a:lnTo>
                          <a:pt x="70" y="185"/>
                        </a:lnTo>
                        <a:lnTo>
                          <a:pt x="49" y="150"/>
                        </a:lnTo>
                        <a:lnTo>
                          <a:pt x="38" y="135"/>
                        </a:lnTo>
                        <a:lnTo>
                          <a:pt x="26" y="120"/>
                        </a:lnTo>
                        <a:lnTo>
                          <a:pt x="14" y="106"/>
                        </a:lnTo>
                        <a:lnTo>
                          <a:pt x="0" y="92"/>
                        </a:lnTo>
                        <a:lnTo>
                          <a:pt x="0" y="0"/>
                        </a:lnTo>
                        <a:lnTo>
                          <a:pt x="21" y="3"/>
                        </a:lnTo>
                        <a:lnTo>
                          <a:pt x="41" y="11"/>
                        </a:lnTo>
                        <a:lnTo>
                          <a:pt x="59" y="20"/>
                        </a:lnTo>
                        <a:lnTo>
                          <a:pt x="76" y="29"/>
                        </a:lnTo>
                        <a:lnTo>
                          <a:pt x="92" y="43"/>
                        </a:lnTo>
                        <a:lnTo>
                          <a:pt x="107" y="57"/>
                        </a:lnTo>
                        <a:lnTo>
                          <a:pt x="120" y="71"/>
                        </a:lnTo>
                        <a:lnTo>
                          <a:pt x="135" y="88"/>
                        </a:lnTo>
                        <a:lnTo>
                          <a:pt x="159" y="121"/>
                        </a:lnTo>
                        <a:lnTo>
                          <a:pt x="184" y="157"/>
                        </a:lnTo>
                        <a:lnTo>
                          <a:pt x="197" y="174"/>
                        </a:lnTo>
                        <a:lnTo>
                          <a:pt x="210" y="191"/>
                        </a:lnTo>
                        <a:lnTo>
                          <a:pt x="223" y="207"/>
                        </a:lnTo>
                        <a:lnTo>
                          <a:pt x="237" y="2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361"/>
                  <p:cNvSpPr/>
                  <p:nvPr/>
                </p:nvSpPr>
                <p:spPr>
                  <a:xfrm>
                    <a:off x="6992640" y="2780280"/>
                    <a:ext cx="13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00">
                        <a:moveTo>
                          <a:pt x="207" y="219"/>
                        </a:moveTo>
                        <a:lnTo>
                          <a:pt x="210" y="237"/>
                        </a:lnTo>
                        <a:lnTo>
                          <a:pt x="207" y="251"/>
                        </a:lnTo>
                        <a:lnTo>
                          <a:pt x="206" y="263"/>
                        </a:lnTo>
                        <a:lnTo>
                          <a:pt x="201" y="272"/>
                        </a:lnTo>
                        <a:lnTo>
                          <a:pt x="195" y="281"/>
                        </a:lnTo>
                        <a:lnTo>
                          <a:pt x="187" y="289"/>
                        </a:lnTo>
                        <a:lnTo>
                          <a:pt x="174" y="293"/>
                        </a:lnTo>
                        <a:lnTo>
                          <a:pt x="160" y="300"/>
                        </a:lnTo>
                        <a:lnTo>
                          <a:pt x="137" y="263"/>
                        </a:lnTo>
                        <a:lnTo>
                          <a:pt x="110" y="226"/>
                        </a:lnTo>
                        <a:lnTo>
                          <a:pt x="82" y="191"/>
                        </a:lnTo>
                        <a:lnTo>
                          <a:pt x="54" y="153"/>
                        </a:lnTo>
                        <a:lnTo>
                          <a:pt x="42" y="134"/>
                        </a:lnTo>
                        <a:lnTo>
                          <a:pt x="30" y="115"/>
                        </a:lnTo>
                        <a:lnTo>
                          <a:pt x="21" y="97"/>
                        </a:lnTo>
                        <a:lnTo>
                          <a:pt x="12" y="77"/>
                        </a:lnTo>
                        <a:lnTo>
                          <a:pt x="6" y="58"/>
                        </a:lnTo>
                        <a:lnTo>
                          <a:pt x="1" y="39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21" y="2"/>
                        </a:lnTo>
                        <a:lnTo>
                          <a:pt x="30" y="3"/>
                        </a:lnTo>
                        <a:lnTo>
                          <a:pt x="40" y="6"/>
                        </a:lnTo>
                        <a:lnTo>
                          <a:pt x="56" y="13"/>
                        </a:lnTo>
                        <a:lnTo>
                          <a:pt x="71" y="24"/>
                        </a:lnTo>
                        <a:lnTo>
                          <a:pt x="85" y="38"/>
                        </a:lnTo>
                        <a:lnTo>
                          <a:pt x="98" y="50"/>
                        </a:lnTo>
                        <a:lnTo>
                          <a:pt x="109" y="66"/>
                        </a:lnTo>
                        <a:lnTo>
                          <a:pt x="121" y="84"/>
                        </a:lnTo>
                        <a:lnTo>
                          <a:pt x="142" y="119"/>
                        </a:lnTo>
                        <a:lnTo>
                          <a:pt x="163" y="157"/>
                        </a:lnTo>
                        <a:lnTo>
                          <a:pt x="172" y="174"/>
                        </a:lnTo>
                        <a:lnTo>
                          <a:pt x="183" y="191"/>
                        </a:lnTo>
                        <a:lnTo>
                          <a:pt x="195" y="207"/>
                        </a:lnTo>
                        <a:lnTo>
                          <a:pt x="207" y="2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Freeform 362"/>
                  <p:cNvSpPr/>
                  <p:nvPr/>
                </p:nvSpPr>
                <p:spPr>
                  <a:xfrm>
                    <a:off x="6911280" y="2826360"/>
                    <a:ext cx="13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37">
                        <a:moveTo>
                          <a:pt x="204" y="301"/>
                        </a:moveTo>
                        <a:lnTo>
                          <a:pt x="197" y="312"/>
                        </a:lnTo>
                        <a:lnTo>
                          <a:pt x="189" y="320"/>
                        </a:lnTo>
                        <a:lnTo>
                          <a:pt x="180" y="326"/>
                        </a:lnTo>
                        <a:lnTo>
                          <a:pt x="170" y="331"/>
                        </a:lnTo>
                        <a:lnTo>
                          <a:pt x="160" y="334"/>
                        </a:lnTo>
                        <a:lnTo>
                          <a:pt x="148" y="336"/>
                        </a:lnTo>
                        <a:lnTo>
                          <a:pt x="138" y="337"/>
                        </a:lnTo>
                        <a:lnTo>
                          <a:pt x="124" y="336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2" y="36"/>
                        </a:lnTo>
                        <a:lnTo>
                          <a:pt x="6" y="30"/>
                        </a:lnTo>
                        <a:lnTo>
                          <a:pt x="9" y="23"/>
                        </a:lnTo>
                        <a:lnTo>
                          <a:pt x="14" y="18"/>
                        </a:lnTo>
                        <a:lnTo>
                          <a:pt x="18" y="13"/>
                        </a:lnTo>
                        <a:lnTo>
                          <a:pt x="24" y="9"/>
                        </a:lnTo>
                        <a:lnTo>
                          <a:pt x="32" y="6"/>
                        </a:lnTo>
                        <a:lnTo>
                          <a:pt x="36" y="3"/>
                        </a:lnTo>
                        <a:lnTo>
                          <a:pt x="44" y="0"/>
                        </a:lnTo>
                        <a:lnTo>
                          <a:pt x="50" y="0"/>
                        </a:lnTo>
                        <a:lnTo>
                          <a:pt x="57" y="0"/>
                        </a:lnTo>
                        <a:lnTo>
                          <a:pt x="63" y="4"/>
                        </a:lnTo>
                        <a:lnTo>
                          <a:pt x="68" y="7"/>
                        </a:lnTo>
                        <a:lnTo>
                          <a:pt x="74" y="12"/>
                        </a:lnTo>
                        <a:lnTo>
                          <a:pt x="80" y="18"/>
                        </a:lnTo>
                        <a:lnTo>
                          <a:pt x="86" y="38"/>
                        </a:lnTo>
                        <a:lnTo>
                          <a:pt x="94" y="56"/>
                        </a:lnTo>
                        <a:lnTo>
                          <a:pt x="103" y="71"/>
                        </a:lnTo>
                        <a:lnTo>
                          <a:pt x="112" y="89"/>
                        </a:lnTo>
                        <a:lnTo>
                          <a:pt x="133" y="121"/>
                        </a:lnTo>
                        <a:lnTo>
                          <a:pt x="156" y="154"/>
                        </a:lnTo>
                        <a:lnTo>
                          <a:pt x="165" y="171"/>
                        </a:lnTo>
                        <a:lnTo>
                          <a:pt x="175" y="187"/>
                        </a:lnTo>
                        <a:lnTo>
                          <a:pt x="184" y="205"/>
                        </a:lnTo>
                        <a:lnTo>
                          <a:pt x="192" y="224"/>
                        </a:lnTo>
                        <a:lnTo>
                          <a:pt x="197" y="241"/>
                        </a:lnTo>
                        <a:lnTo>
                          <a:pt x="202" y="260"/>
                        </a:lnTo>
                        <a:lnTo>
                          <a:pt x="204" y="280"/>
                        </a:lnTo>
                        <a:lnTo>
                          <a:pt x="204" y="3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Freeform 363"/>
                  <p:cNvSpPr/>
                  <p:nvPr/>
                </p:nvSpPr>
                <p:spPr>
                  <a:xfrm>
                    <a:off x="6868440" y="2844000"/>
                    <a:ext cx="11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338">
                        <a:moveTo>
                          <a:pt x="193" y="306"/>
                        </a:moveTo>
                        <a:lnTo>
                          <a:pt x="190" y="313"/>
                        </a:lnTo>
                        <a:lnTo>
                          <a:pt x="183" y="321"/>
                        </a:lnTo>
                        <a:lnTo>
                          <a:pt x="177" y="327"/>
                        </a:lnTo>
                        <a:lnTo>
                          <a:pt x="171" y="331"/>
                        </a:lnTo>
                        <a:lnTo>
                          <a:pt x="165" y="334"/>
                        </a:lnTo>
                        <a:lnTo>
                          <a:pt x="156" y="336"/>
                        </a:lnTo>
                        <a:lnTo>
                          <a:pt x="148" y="338"/>
                        </a:lnTo>
                        <a:lnTo>
                          <a:pt x="140" y="338"/>
                        </a:lnTo>
                        <a:lnTo>
                          <a:pt x="124" y="336"/>
                        </a:lnTo>
                        <a:lnTo>
                          <a:pt x="107" y="333"/>
                        </a:lnTo>
                        <a:lnTo>
                          <a:pt x="92" y="327"/>
                        </a:lnTo>
                        <a:lnTo>
                          <a:pt x="79" y="319"/>
                        </a:lnTo>
                        <a:lnTo>
                          <a:pt x="69" y="278"/>
                        </a:lnTo>
                        <a:lnTo>
                          <a:pt x="56" y="238"/>
                        </a:lnTo>
                        <a:lnTo>
                          <a:pt x="44" y="198"/>
                        </a:lnTo>
                        <a:lnTo>
                          <a:pt x="30" y="156"/>
                        </a:lnTo>
                        <a:lnTo>
                          <a:pt x="19" y="115"/>
                        </a:lnTo>
                        <a:lnTo>
                          <a:pt x="11" y="77"/>
                        </a:lnTo>
                        <a:lnTo>
                          <a:pt x="3" y="38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26" y="6"/>
                        </a:lnTo>
                        <a:lnTo>
                          <a:pt x="36" y="9"/>
                        </a:lnTo>
                        <a:lnTo>
                          <a:pt x="47" y="14"/>
                        </a:lnTo>
                        <a:lnTo>
                          <a:pt x="56" y="18"/>
                        </a:lnTo>
                        <a:lnTo>
                          <a:pt x="64" y="26"/>
                        </a:lnTo>
                        <a:lnTo>
                          <a:pt x="72" y="33"/>
                        </a:lnTo>
                        <a:lnTo>
                          <a:pt x="80" y="39"/>
                        </a:lnTo>
                        <a:lnTo>
                          <a:pt x="92" y="57"/>
                        </a:lnTo>
                        <a:lnTo>
                          <a:pt x="103" y="77"/>
                        </a:lnTo>
                        <a:lnTo>
                          <a:pt x="112" y="100"/>
                        </a:lnTo>
                        <a:lnTo>
                          <a:pt x="121" y="121"/>
                        </a:lnTo>
                        <a:lnTo>
                          <a:pt x="133" y="170"/>
                        </a:lnTo>
                        <a:lnTo>
                          <a:pt x="148" y="218"/>
                        </a:lnTo>
                        <a:lnTo>
                          <a:pt x="157" y="242"/>
                        </a:lnTo>
                        <a:lnTo>
                          <a:pt x="168" y="265"/>
                        </a:lnTo>
                        <a:lnTo>
                          <a:pt x="178" y="286"/>
                        </a:lnTo>
                        <a:lnTo>
                          <a:pt x="193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364"/>
                  <p:cNvSpPr/>
                  <p:nvPr/>
                </p:nvSpPr>
                <p:spPr>
                  <a:xfrm>
                    <a:off x="6822360" y="2855880"/>
                    <a:ext cx="9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35">
                        <a:moveTo>
                          <a:pt x="144" y="305"/>
                        </a:moveTo>
                        <a:lnTo>
                          <a:pt x="135" y="308"/>
                        </a:lnTo>
                        <a:lnTo>
                          <a:pt x="125" y="314"/>
                        </a:lnTo>
                        <a:lnTo>
                          <a:pt x="114" y="323"/>
                        </a:lnTo>
                        <a:lnTo>
                          <a:pt x="104" y="329"/>
                        </a:lnTo>
                        <a:lnTo>
                          <a:pt x="100" y="332"/>
                        </a:lnTo>
                        <a:lnTo>
                          <a:pt x="94" y="334"/>
                        </a:lnTo>
                        <a:lnTo>
                          <a:pt x="89" y="335"/>
                        </a:lnTo>
                        <a:lnTo>
                          <a:pt x="85" y="334"/>
                        </a:lnTo>
                        <a:lnTo>
                          <a:pt x="80" y="332"/>
                        </a:lnTo>
                        <a:lnTo>
                          <a:pt x="75" y="329"/>
                        </a:lnTo>
                        <a:lnTo>
                          <a:pt x="70" y="325"/>
                        </a:lnTo>
                        <a:lnTo>
                          <a:pt x="65" y="317"/>
                        </a:lnTo>
                        <a:lnTo>
                          <a:pt x="61" y="296"/>
                        </a:lnTo>
                        <a:lnTo>
                          <a:pt x="56" y="278"/>
                        </a:lnTo>
                        <a:lnTo>
                          <a:pt x="50" y="257"/>
                        </a:lnTo>
                        <a:lnTo>
                          <a:pt x="43" y="236"/>
                        </a:lnTo>
                        <a:lnTo>
                          <a:pt x="27" y="195"/>
                        </a:lnTo>
                        <a:lnTo>
                          <a:pt x="12" y="154"/>
                        </a:lnTo>
                        <a:lnTo>
                          <a:pt x="7" y="134"/>
                        </a:lnTo>
                        <a:lnTo>
                          <a:pt x="3" y="113"/>
                        </a:lnTo>
                        <a:lnTo>
                          <a:pt x="0" y="94"/>
                        </a:lnTo>
                        <a:lnTo>
                          <a:pt x="0" y="72"/>
                        </a:lnTo>
                        <a:lnTo>
                          <a:pt x="4" y="55"/>
                        </a:lnTo>
                        <a:lnTo>
                          <a:pt x="11" y="36"/>
                        </a:lnTo>
                        <a:lnTo>
                          <a:pt x="15" y="26"/>
                        </a:lnTo>
                        <a:lnTo>
                          <a:pt x="20" y="18"/>
                        </a:lnTo>
                        <a:lnTo>
                          <a:pt x="27" y="9"/>
                        </a:lnTo>
                        <a:lnTo>
                          <a:pt x="33" y="0"/>
                        </a:lnTo>
                        <a:lnTo>
                          <a:pt x="46" y="1"/>
                        </a:lnTo>
                        <a:lnTo>
                          <a:pt x="57" y="4"/>
                        </a:lnTo>
                        <a:lnTo>
                          <a:pt x="67" y="9"/>
                        </a:lnTo>
                        <a:lnTo>
                          <a:pt x="75" y="13"/>
                        </a:lnTo>
                        <a:lnTo>
                          <a:pt x="83" y="19"/>
                        </a:lnTo>
                        <a:lnTo>
                          <a:pt x="89" y="26"/>
                        </a:lnTo>
                        <a:lnTo>
                          <a:pt x="96" y="33"/>
                        </a:lnTo>
                        <a:lnTo>
                          <a:pt x="101" y="40"/>
                        </a:lnTo>
                        <a:lnTo>
                          <a:pt x="109" y="58"/>
                        </a:lnTo>
                        <a:lnTo>
                          <a:pt x="115" y="77"/>
                        </a:lnTo>
                        <a:lnTo>
                          <a:pt x="118" y="100"/>
                        </a:lnTo>
                        <a:lnTo>
                          <a:pt x="120" y="122"/>
                        </a:lnTo>
                        <a:lnTo>
                          <a:pt x="121" y="169"/>
                        </a:lnTo>
                        <a:lnTo>
                          <a:pt x="124" y="218"/>
                        </a:lnTo>
                        <a:lnTo>
                          <a:pt x="127" y="242"/>
                        </a:lnTo>
                        <a:lnTo>
                          <a:pt x="130" y="264"/>
                        </a:lnTo>
                        <a:lnTo>
                          <a:pt x="136" y="286"/>
                        </a:lnTo>
                        <a:lnTo>
                          <a:pt x="144" y="3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365"/>
                  <p:cNvSpPr/>
                  <p:nvPr/>
                </p:nvSpPr>
                <p:spPr>
                  <a:xfrm>
                    <a:off x="6775560" y="2862360"/>
                    <a:ext cx="54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49">
                        <a:moveTo>
                          <a:pt x="85" y="48"/>
                        </a:moveTo>
                        <a:lnTo>
                          <a:pt x="85" y="349"/>
                        </a:lnTo>
                        <a:lnTo>
                          <a:pt x="19" y="349"/>
                        </a:lnTo>
                        <a:lnTo>
                          <a:pt x="12" y="306"/>
                        </a:lnTo>
                        <a:lnTo>
                          <a:pt x="7" y="260"/>
                        </a:lnTo>
                        <a:lnTo>
                          <a:pt x="1" y="210"/>
                        </a:lnTo>
                        <a:lnTo>
                          <a:pt x="0" y="161"/>
                        </a:lnTo>
                        <a:lnTo>
                          <a:pt x="0" y="137"/>
                        </a:lnTo>
                        <a:lnTo>
                          <a:pt x="1" y="113"/>
                        </a:lnTo>
                        <a:lnTo>
                          <a:pt x="4" y="90"/>
                        </a:lnTo>
                        <a:lnTo>
                          <a:pt x="9" y="69"/>
                        </a:lnTo>
                        <a:lnTo>
                          <a:pt x="16" y="50"/>
                        </a:lnTo>
                        <a:lnTo>
                          <a:pt x="25" y="31"/>
                        </a:lnTo>
                        <a:lnTo>
                          <a:pt x="30" y="22"/>
                        </a:lnTo>
                        <a:lnTo>
                          <a:pt x="36" y="15"/>
                        </a:lnTo>
                        <a:lnTo>
                          <a:pt x="43" y="7"/>
                        </a:lnTo>
                        <a:lnTo>
                          <a:pt x="50" y="0"/>
                        </a:lnTo>
                        <a:lnTo>
                          <a:pt x="8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Freeform 366"/>
                  <p:cNvSpPr/>
                  <p:nvPr/>
                </p:nvSpPr>
                <p:spPr>
                  <a:xfrm>
                    <a:off x="6725520" y="2864160"/>
                    <a:ext cx="16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501">
                        <a:moveTo>
                          <a:pt x="127" y="501"/>
                        </a:moveTo>
                        <a:lnTo>
                          <a:pt x="141" y="499"/>
                        </a:lnTo>
                        <a:lnTo>
                          <a:pt x="152" y="495"/>
                        </a:lnTo>
                        <a:lnTo>
                          <a:pt x="165" y="487"/>
                        </a:lnTo>
                        <a:lnTo>
                          <a:pt x="176" y="480"/>
                        </a:lnTo>
                        <a:lnTo>
                          <a:pt x="188" y="470"/>
                        </a:lnTo>
                        <a:lnTo>
                          <a:pt x="197" y="457"/>
                        </a:lnTo>
                        <a:lnTo>
                          <a:pt x="206" y="443"/>
                        </a:lnTo>
                        <a:lnTo>
                          <a:pt x="215" y="427"/>
                        </a:lnTo>
                        <a:lnTo>
                          <a:pt x="223" y="409"/>
                        </a:lnTo>
                        <a:lnTo>
                          <a:pt x="230" y="389"/>
                        </a:lnTo>
                        <a:lnTo>
                          <a:pt x="236" y="369"/>
                        </a:lnTo>
                        <a:lnTo>
                          <a:pt x="241" y="346"/>
                        </a:lnTo>
                        <a:lnTo>
                          <a:pt x="245" y="324"/>
                        </a:lnTo>
                        <a:lnTo>
                          <a:pt x="248" y="300"/>
                        </a:lnTo>
                        <a:lnTo>
                          <a:pt x="250" y="275"/>
                        </a:lnTo>
                        <a:lnTo>
                          <a:pt x="250" y="250"/>
                        </a:lnTo>
                        <a:lnTo>
                          <a:pt x="250" y="224"/>
                        </a:lnTo>
                        <a:lnTo>
                          <a:pt x="247" y="200"/>
                        </a:lnTo>
                        <a:lnTo>
                          <a:pt x="244" y="175"/>
                        </a:lnTo>
                        <a:lnTo>
                          <a:pt x="239" y="153"/>
                        </a:lnTo>
                        <a:lnTo>
                          <a:pt x="234" y="130"/>
                        </a:lnTo>
                        <a:lnTo>
                          <a:pt x="227" y="111"/>
                        </a:lnTo>
                        <a:lnTo>
                          <a:pt x="221" y="91"/>
                        </a:lnTo>
                        <a:lnTo>
                          <a:pt x="212" y="73"/>
                        </a:lnTo>
                        <a:lnTo>
                          <a:pt x="203" y="58"/>
                        </a:lnTo>
                        <a:lnTo>
                          <a:pt x="194" y="43"/>
                        </a:lnTo>
                        <a:lnTo>
                          <a:pt x="182" y="30"/>
                        </a:lnTo>
                        <a:lnTo>
                          <a:pt x="173" y="20"/>
                        </a:lnTo>
                        <a:lnTo>
                          <a:pt x="160" y="12"/>
                        </a:lnTo>
                        <a:lnTo>
                          <a:pt x="148" y="6"/>
                        </a:lnTo>
                        <a:lnTo>
                          <a:pt x="136" y="3"/>
                        </a:lnTo>
                        <a:lnTo>
                          <a:pt x="123" y="0"/>
                        </a:lnTo>
                        <a:lnTo>
                          <a:pt x="109" y="3"/>
                        </a:lnTo>
                        <a:lnTo>
                          <a:pt x="99" y="6"/>
                        </a:lnTo>
                        <a:lnTo>
                          <a:pt x="85" y="12"/>
                        </a:lnTo>
                        <a:lnTo>
                          <a:pt x="74" y="20"/>
                        </a:lnTo>
                        <a:lnTo>
                          <a:pt x="65" y="32"/>
                        </a:lnTo>
                        <a:lnTo>
                          <a:pt x="53" y="44"/>
                        </a:lnTo>
                        <a:lnTo>
                          <a:pt x="44" y="59"/>
                        </a:lnTo>
                        <a:lnTo>
                          <a:pt x="35" y="76"/>
                        </a:lnTo>
                        <a:lnTo>
                          <a:pt x="28" y="93"/>
                        </a:lnTo>
                        <a:lnTo>
                          <a:pt x="21" y="112"/>
                        </a:lnTo>
                        <a:lnTo>
                          <a:pt x="15" y="132"/>
                        </a:lnTo>
                        <a:lnTo>
                          <a:pt x="9" y="154"/>
                        </a:lnTo>
                        <a:lnTo>
                          <a:pt x="5" y="177"/>
                        </a:lnTo>
                        <a:lnTo>
                          <a:pt x="3" y="201"/>
                        </a:lnTo>
                        <a:lnTo>
                          <a:pt x="0" y="225"/>
                        </a:lnTo>
                        <a:lnTo>
                          <a:pt x="0" y="251"/>
                        </a:lnTo>
                        <a:lnTo>
                          <a:pt x="2" y="277"/>
                        </a:lnTo>
                        <a:lnTo>
                          <a:pt x="3" y="303"/>
                        </a:lnTo>
                        <a:lnTo>
                          <a:pt x="6" y="325"/>
                        </a:lnTo>
                        <a:lnTo>
                          <a:pt x="11" y="349"/>
                        </a:lnTo>
                        <a:lnTo>
                          <a:pt x="17" y="371"/>
                        </a:lnTo>
                        <a:lnTo>
                          <a:pt x="23" y="392"/>
                        </a:lnTo>
                        <a:lnTo>
                          <a:pt x="31" y="410"/>
                        </a:lnTo>
                        <a:lnTo>
                          <a:pt x="39" y="428"/>
                        </a:lnTo>
                        <a:lnTo>
                          <a:pt x="47" y="445"/>
                        </a:lnTo>
                        <a:lnTo>
                          <a:pt x="56" y="457"/>
                        </a:lnTo>
                        <a:lnTo>
                          <a:pt x="68" y="470"/>
                        </a:lnTo>
                        <a:lnTo>
                          <a:pt x="79" y="481"/>
                        </a:lnTo>
                        <a:lnTo>
                          <a:pt x="91" y="490"/>
                        </a:lnTo>
                        <a:lnTo>
                          <a:pt x="102" y="496"/>
                        </a:lnTo>
                        <a:lnTo>
                          <a:pt x="115" y="499"/>
                        </a:lnTo>
                        <a:lnTo>
                          <a:pt x="127" y="5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Freeform 367"/>
                  <p:cNvSpPr/>
                  <p:nvPr/>
                </p:nvSpPr>
                <p:spPr>
                  <a:xfrm>
                    <a:off x="6951600" y="2800440"/>
                    <a:ext cx="180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482">
                        <a:moveTo>
                          <a:pt x="216" y="478"/>
                        </a:moveTo>
                        <a:lnTo>
                          <a:pt x="227" y="474"/>
                        </a:lnTo>
                        <a:lnTo>
                          <a:pt x="239" y="467"/>
                        </a:lnTo>
                        <a:lnTo>
                          <a:pt x="248" y="458"/>
                        </a:lnTo>
                        <a:lnTo>
                          <a:pt x="256" y="446"/>
                        </a:lnTo>
                        <a:lnTo>
                          <a:pt x="263" y="432"/>
                        </a:lnTo>
                        <a:lnTo>
                          <a:pt x="269" y="417"/>
                        </a:lnTo>
                        <a:lnTo>
                          <a:pt x="274" y="401"/>
                        </a:lnTo>
                        <a:lnTo>
                          <a:pt x="277" y="384"/>
                        </a:lnTo>
                        <a:lnTo>
                          <a:pt x="280" y="364"/>
                        </a:lnTo>
                        <a:lnTo>
                          <a:pt x="282" y="343"/>
                        </a:lnTo>
                        <a:lnTo>
                          <a:pt x="280" y="322"/>
                        </a:lnTo>
                        <a:lnTo>
                          <a:pt x="280" y="300"/>
                        </a:lnTo>
                        <a:lnTo>
                          <a:pt x="277" y="275"/>
                        </a:lnTo>
                        <a:lnTo>
                          <a:pt x="272" y="253"/>
                        </a:lnTo>
                        <a:lnTo>
                          <a:pt x="268" y="229"/>
                        </a:lnTo>
                        <a:lnTo>
                          <a:pt x="259" y="203"/>
                        </a:lnTo>
                        <a:lnTo>
                          <a:pt x="251" y="179"/>
                        </a:lnTo>
                        <a:lnTo>
                          <a:pt x="243" y="156"/>
                        </a:lnTo>
                        <a:lnTo>
                          <a:pt x="232" y="133"/>
                        </a:lnTo>
                        <a:lnTo>
                          <a:pt x="222" y="115"/>
                        </a:lnTo>
                        <a:lnTo>
                          <a:pt x="209" y="95"/>
                        </a:lnTo>
                        <a:lnTo>
                          <a:pt x="198" y="77"/>
                        </a:lnTo>
                        <a:lnTo>
                          <a:pt x="185" y="61"/>
                        </a:lnTo>
                        <a:lnTo>
                          <a:pt x="172" y="47"/>
                        </a:lnTo>
                        <a:lnTo>
                          <a:pt x="159" y="33"/>
                        </a:lnTo>
                        <a:lnTo>
                          <a:pt x="147" y="23"/>
                        </a:lnTo>
                        <a:lnTo>
                          <a:pt x="132" y="12"/>
                        </a:lnTo>
                        <a:lnTo>
                          <a:pt x="119" y="6"/>
                        </a:lnTo>
                        <a:lnTo>
                          <a:pt x="104" y="2"/>
                        </a:lnTo>
                        <a:lnTo>
                          <a:pt x="92" y="0"/>
                        </a:lnTo>
                        <a:lnTo>
                          <a:pt x="79" y="0"/>
                        </a:lnTo>
                        <a:lnTo>
                          <a:pt x="65" y="3"/>
                        </a:lnTo>
                        <a:lnTo>
                          <a:pt x="54" y="8"/>
                        </a:lnTo>
                        <a:lnTo>
                          <a:pt x="44" y="14"/>
                        </a:lnTo>
                        <a:lnTo>
                          <a:pt x="33" y="24"/>
                        </a:lnTo>
                        <a:lnTo>
                          <a:pt x="26" y="35"/>
                        </a:lnTo>
                        <a:lnTo>
                          <a:pt x="19" y="48"/>
                        </a:lnTo>
                        <a:lnTo>
                          <a:pt x="12" y="64"/>
                        </a:lnTo>
                        <a:lnTo>
                          <a:pt x="8" y="80"/>
                        </a:lnTo>
                        <a:lnTo>
                          <a:pt x="5" y="98"/>
                        </a:lnTo>
                        <a:lnTo>
                          <a:pt x="1" y="118"/>
                        </a:lnTo>
                        <a:lnTo>
                          <a:pt x="0" y="139"/>
                        </a:lnTo>
                        <a:lnTo>
                          <a:pt x="0" y="159"/>
                        </a:lnTo>
                        <a:lnTo>
                          <a:pt x="1" y="182"/>
                        </a:lnTo>
                        <a:lnTo>
                          <a:pt x="5" y="204"/>
                        </a:lnTo>
                        <a:lnTo>
                          <a:pt x="9" y="229"/>
                        </a:lnTo>
                        <a:lnTo>
                          <a:pt x="14" y="253"/>
                        </a:lnTo>
                        <a:lnTo>
                          <a:pt x="23" y="277"/>
                        </a:lnTo>
                        <a:lnTo>
                          <a:pt x="30" y="301"/>
                        </a:lnTo>
                        <a:lnTo>
                          <a:pt x="38" y="325"/>
                        </a:lnTo>
                        <a:lnTo>
                          <a:pt x="50" y="346"/>
                        </a:lnTo>
                        <a:lnTo>
                          <a:pt x="59" y="368"/>
                        </a:lnTo>
                        <a:lnTo>
                          <a:pt x="72" y="387"/>
                        </a:lnTo>
                        <a:lnTo>
                          <a:pt x="83" y="404"/>
                        </a:lnTo>
                        <a:lnTo>
                          <a:pt x="97" y="421"/>
                        </a:lnTo>
                        <a:lnTo>
                          <a:pt x="109" y="435"/>
                        </a:lnTo>
                        <a:lnTo>
                          <a:pt x="122" y="448"/>
                        </a:lnTo>
                        <a:lnTo>
                          <a:pt x="135" y="460"/>
                        </a:lnTo>
                        <a:lnTo>
                          <a:pt x="150" y="467"/>
                        </a:lnTo>
                        <a:lnTo>
                          <a:pt x="162" y="475"/>
                        </a:lnTo>
                        <a:lnTo>
                          <a:pt x="177" y="478"/>
                        </a:lnTo>
                        <a:lnTo>
                          <a:pt x="190" y="482"/>
                        </a:lnTo>
                        <a:lnTo>
                          <a:pt x="203" y="482"/>
                        </a:lnTo>
                        <a:lnTo>
                          <a:pt x="216" y="4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Group 368"/>
                <p:cNvGrpSpPr/>
                <p:nvPr/>
              </p:nvGrpSpPr>
              <p:grpSpPr>
                <a:xfrm>
                  <a:off x="6246000" y="2184480"/>
                  <a:ext cx="212400" cy="549720"/>
                  <a:chOff x="6246000" y="2184480"/>
                  <a:chExt cx="212400" cy="549720"/>
                </a:xfrm>
              </p:grpSpPr>
              <p:sp>
                <p:nvSpPr>
                  <p:cNvPr id="415" name="Freeform 369"/>
                  <p:cNvSpPr/>
                  <p:nvPr/>
                </p:nvSpPr>
                <p:spPr>
                  <a:xfrm>
                    <a:off x="6428160" y="2196000"/>
                    <a:ext cx="3024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1939">
                        <a:moveTo>
                          <a:pt x="471" y="158"/>
                        </a:moveTo>
                        <a:lnTo>
                          <a:pt x="458" y="1827"/>
                        </a:lnTo>
                        <a:lnTo>
                          <a:pt x="445" y="1847"/>
                        </a:lnTo>
                        <a:lnTo>
                          <a:pt x="430" y="1862"/>
                        </a:lnTo>
                        <a:lnTo>
                          <a:pt x="416" y="1879"/>
                        </a:lnTo>
                        <a:lnTo>
                          <a:pt x="400" y="1892"/>
                        </a:lnTo>
                        <a:lnTo>
                          <a:pt x="384" y="1903"/>
                        </a:lnTo>
                        <a:lnTo>
                          <a:pt x="366" y="1915"/>
                        </a:lnTo>
                        <a:lnTo>
                          <a:pt x="348" y="1922"/>
                        </a:lnTo>
                        <a:lnTo>
                          <a:pt x="329" y="1929"/>
                        </a:lnTo>
                        <a:lnTo>
                          <a:pt x="309" y="1933"/>
                        </a:lnTo>
                        <a:lnTo>
                          <a:pt x="291" y="1937"/>
                        </a:lnTo>
                        <a:lnTo>
                          <a:pt x="271" y="1939"/>
                        </a:lnTo>
                        <a:lnTo>
                          <a:pt x="251" y="1939"/>
                        </a:lnTo>
                        <a:lnTo>
                          <a:pt x="230" y="1937"/>
                        </a:lnTo>
                        <a:lnTo>
                          <a:pt x="211" y="1935"/>
                        </a:lnTo>
                        <a:lnTo>
                          <a:pt x="191" y="1930"/>
                        </a:lnTo>
                        <a:lnTo>
                          <a:pt x="171" y="1924"/>
                        </a:lnTo>
                        <a:lnTo>
                          <a:pt x="149" y="1898"/>
                        </a:lnTo>
                        <a:lnTo>
                          <a:pt x="129" y="1872"/>
                        </a:lnTo>
                        <a:lnTo>
                          <a:pt x="111" y="1845"/>
                        </a:lnTo>
                        <a:lnTo>
                          <a:pt x="95" y="1816"/>
                        </a:lnTo>
                        <a:lnTo>
                          <a:pt x="81" y="1786"/>
                        </a:lnTo>
                        <a:lnTo>
                          <a:pt x="68" y="1758"/>
                        </a:lnTo>
                        <a:lnTo>
                          <a:pt x="56" y="1727"/>
                        </a:lnTo>
                        <a:lnTo>
                          <a:pt x="47" y="1695"/>
                        </a:lnTo>
                        <a:lnTo>
                          <a:pt x="38" y="1662"/>
                        </a:lnTo>
                        <a:lnTo>
                          <a:pt x="32" y="1630"/>
                        </a:lnTo>
                        <a:lnTo>
                          <a:pt x="26" y="1597"/>
                        </a:lnTo>
                        <a:lnTo>
                          <a:pt x="21" y="1563"/>
                        </a:lnTo>
                        <a:lnTo>
                          <a:pt x="17" y="1527"/>
                        </a:lnTo>
                        <a:lnTo>
                          <a:pt x="14" y="1493"/>
                        </a:lnTo>
                        <a:lnTo>
                          <a:pt x="13" y="1458"/>
                        </a:lnTo>
                        <a:lnTo>
                          <a:pt x="13" y="1420"/>
                        </a:lnTo>
                        <a:lnTo>
                          <a:pt x="11" y="1349"/>
                        </a:lnTo>
                        <a:lnTo>
                          <a:pt x="13" y="1275"/>
                        </a:lnTo>
                        <a:lnTo>
                          <a:pt x="14" y="1203"/>
                        </a:lnTo>
                        <a:lnTo>
                          <a:pt x="17" y="1129"/>
                        </a:lnTo>
                        <a:lnTo>
                          <a:pt x="20" y="1056"/>
                        </a:lnTo>
                        <a:lnTo>
                          <a:pt x="20" y="983"/>
                        </a:lnTo>
                        <a:lnTo>
                          <a:pt x="17" y="912"/>
                        </a:lnTo>
                        <a:lnTo>
                          <a:pt x="13" y="842"/>
                        </a:lnTo>
                        <a:lnTo>
                          <a:pt x="14" y="814"/>
                        </a:lnTo>
                        <a:lnTo>
                          <a:pt x="14" y="785"/>
                        </a:lnTo>
                        <a:lnTo>
                          <a:pt x="16" y="755"/>
                        </a:lnTo>
                        <a:lnTo>
                          <a:pt x="14" y="724"/>
                        </a:lnTo>
                        <a:lnTo>
                          <a:pt x="13" y="663"/>
                        </a:lnTo>
                        <a:lnTo>
                          <a:pt x="8" y="600"/>
                        </a:lnTo>
                        <a:lnTo>
                          <a:pt x="5" y="539"/>
                        </a:lnTo>
                        <a:lnTo>
                          <a:pt x="2" y="475"/>
                        </a:lnTo>
                        <a:lnTo>
                          <a:pt x="0" y="414"/>
                        </a:lnTo>
                        <a:lnTo>
                          <a:pt x="2" y="355"/>
                        </a:lnTo>
                        <a:lnTo>
                          <a:pt x="3" y="324"/>
                        </a:lnTo>
                        <a:lnTo>
                          <a:pt x="6" y="297"/>
                        </a:lnTo>
                        <a:lnTo>
                          <a:pt x="11" y="268"/>
                        </a:lnTo>
                        <a:lnTo>
                          <a:pt x="16" y="240"/>
                        </a:lnTo>
                        <a:lnTo>
                          <a:pt x="24" y="215"/>
                        </a:lnTo>
                        <a:lnTo>
                          <a:pt x="32" y="189"/>
                        </a:lnTo>
                        <a:lnTo>
                          <a:pt x="44" y="165"/>
                        </a:lnTo>
                        <a:lnTo>
                          <a:pt x="55" y="141"/>
                        </a:lnTo>
                        <a:lnTo>
                          <a:pt x="70" y="118"/>
                        </a:lnTo>
                        <a:lnTo>
                          <a:pt x="85" y="97"/>
                        </a:lnTo>
                        <a:lnTo>
                          <a:pt x="103" y="77"/>
                        </a:lnTo>
                        <a:lnTo>
                          <a:pt x="124" y="58"/>
                        </a:lnTo>
                        <a:lnTo>
                          <a:pt x="147" y="42"/>
                        </a:lnTo>
                        <a:lnTo>
                          <a:pt x="173" y="26"/>
                        </a:lnTo>
                        <a:lnTo>
                          <a:pt x="202" y="11"/>
                        </a:lnTo>
                        <a:lnTo>
                          <a:pt x="232" y="0"/>
                        </a:lnTo>
                        <a:lnTo>
                          <a:pt x="253" y="0"/>
                        </a:lnTo>
                        <a:lnTo>
                          <a:pt x="273" y="2"/>
                        </a:lnTo>
                        <a:lnTo>
                          <a:pt x="292" y="5"/>
                        </a:lnTo>
                        <a:lnTo>
                          <a:pt x="312" y="8"/>
                        </a:lnTo>
                        <a:lnTo>
                          <a:pt x="330" y="15"/>
                        </a:lnTo>
                        <a:lnTo>
                          <a:pt x="348" y="21"/>
                        </a:lnTo>
                        <a:lnTo>
                          <a:pt x="366" y="29"/>
                        </a:lnTo>
                        <a:lnTo>
                          <a:pt x="384" y="37"/>
                        </a:lnTo>
                        <a:lnTo>
                          <a:pt x="400" y="48"/>
                        </a:lnTo>
                        <a:lnTo>
                          <a:pt x="415" y="59"/>
                        </a:lnTo>
                        <a:lnTo>
                          <a:pt x="427" y="73"/>
                        </a:lnTo>
                        <a:lnTo>
                          <a:pt x="440" y="88"/>
                        </a:lnTo>
                        <a:lnTo>
                          <a:pt x="450" y="103"/>
                        </a:lnTo>
                        <a:lnTo>
                          <a:pt x="460" y="120"/>
                        </a:lnTo>
                        <a:lnTo>
                          <a:pt x="466" y="139"/>
                        </a:lnTo>
                        <a:lnTo>
                          <a:pt x="471" y="15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370"/>
                  <p:cNvSpPr/>
                  <p:nvPr/>
                </p:nvSpPr>
                <p:spPr>
                  <a:xfrm>
                    <a:off x="6307200" y="2233080"/>
                    <a:ext cx="190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198">
                        <a:moveTo>
                          <a:pt x="299" y="170"/>
                        </a:moveTo>
                        <a:lnTo>
                          <a:pt x="288" y="180"/>
                        </a:lnTo>
                        <a:lnTo>
                          <a:pt x="275" y="186"/>
                        </a:lnTo>
                        <a:lnTo>
                          <a:pt x="264" y="191"/>
                        </a:lnTo>
                        <a:lnTo>
                          <a:pt x="255" y="195"/>
                        </a:lnTo>
                        <a:lnTo>
                          <a:pt x="243" y="198"/>
                        </a:lnTo>
                        <a:lnTo>
                          <a:pt x="234" y="198"/>
                        </a:lnTo>
                        <a:lnTo>
                          <a:pt x="224" y="198"/>
                        </a:lnTo>
                        <a:lnTo>
                          <a:pt x="214" y="196"/>
                        </a:lnTo>
                        <a:lnTo>
                          <a:pt x="205" y="192"/>
                        </a:lnTo>
                        <a:lnTo>
                          <a:pt x="196" y="189"/>
                        </a:lnTo>
                        <a:lnTo>
                          <a:pt x="187" y="184"/>
                        </a:lnTo>
                        <a:lnTo>
                          <a:pt x="178" y="180"/>
                        </a:lnTo>
                        <a:lnTo>
                          <a:pt x="161" y="168"/>
                        </a:lnTo>
                        <a:lnTo>
                          <a:pt x="145" y="154"/>
                        </a:lnTo>
                        <a:lnTo>
                          <a:pt x="113" y="125"/>
                        </a:lnTo>
                        <a:lnTo>
                          <a:pt x="78" y="98"/>
                        </a:lnTo>
                        <a:lnTo>
                          <a:pt x="61" y="86"/>
                        </a:lnTo>
                        <a:lnTo>
                          <a:pt x="42" y="80"/>
                        </a:lnTo>
                        <a:lnTo>
                          <a:pt x="32" y="78"/>
                        </a:lnTo>
                        <a:lnTo>
                          <a:pt x="22" y="77"/>
                        </a:lnTo>
                        <a:lnTo>
                          <a:pt x="11" y="77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lnTo>
                          <a:pt x="42" y="12"/>
                        </a:lnTo>
                        <a:lnTo>
                          <a:pt x="87" y="27"/>
                        </a:lnTo>
                        <a:lnTo>
                          <a:pt x="132" y="41"/>
                        </a:lnTo>
                        <a:lnTo>
                          <a:pt x="177" y="57"/>
                        </a:lnTo>
                        <a:lnTo>
                          <a:pt x="198" y="67"/>
                        </a:lnTo>
                        <a:lnTo>
                          <a:pt x="217" y="78"/>
                        </a:lnTo>
                        <a:lnTo>
                          <a:pt x="237" y="89"/>
                        </a:lnTo>
                        <a:lnTo>
                          <a:pt x="252" y="103"/>
                        </a:lnTo>
                        <a:lnTo>
                          <a:pt x="269" y="116"/>
                        </a:lnTo>
                        <a:lnTo>
                          <a:pt x="282" y="133"/>
                        </a:lnTo>
                        <a:lnTo>
                          <a:pt x="291" y="151"/>
                        </a:lnTo>
                        <a:lnTo>
                          <a:pt x="299" y="1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371"/>
                  <p:cNvSpPr/>
                  <p:nvPr/>
                </p:nvSpPr>
                <p:spPr>
                  <a:xfrm>
                    <a:off x="6288120" y="227808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8">
                        <a:moveTo>
                          <a:pt x="330" y="95"/>
                        </a:moveTo>
                        <a:lnTo>
                          <a:pt x="330" y="144"/>
                        </a:lnTo>
                        <a:lnTo>
                          <a:pt x="309" y="147"/>
                        </a:lnTo>
                        <a:lnTo>
                          <a:pt x="289" y="148"/>
                        </a:lnTo>
                        <a:lnTo>
                          <a:pt x="266" y="148"/>
                        </a:lnTo>
                        <a:lnTo>
                          <a:pt x="245" y="147"/>
                        </a:lnTo>
                        <a:lnTo>
                          <a:pt x="222" y="144"/>
                        </a:lnTo>
                        <a:lnTo>
                          <a:pt x="201" y="139"/>
                        </a:lnTo>
                        <a:lnTo>
                          <a:pt x="180" y="135"/>
                        </a:lnTo>
                        <a:lnTo>
                          <a:pt x="159" y="127"/>
                        </a:lnTo>
                        <a:lnTo>
                          <a:pt x="138" y="120"/>
                        </a:lnTo>
                        <a:lnTo>
                          <a:pt x="118" y="112"/>
                        </a:lnTo>
                        <a:lnTo>
                          <a:pt x="97" y="102"/>
                        </a:lnTo>
                        <a:lnTo>
                          <a:pt x="76" y="92"/>
                        </a:lnTo>
                        <a:lnTo>
                          <a:pt x="37" y="70"/>
                        </a:lnTo>
                        <a:lnTo>
                          <a:pt x="0" y="47"/>
                        </a:lnTo>
                        <a:lnTo>
                          <a:pt x="5" y="39"/>
                        </a:lnTo>
                        <a:lnTo>
                          <a:pt x="11" y="32"/>
                        </a:lnTo>
                        <a:lnTo>
                          <a:pt x="15" y="23"/>
                        </a:lnTo>
                        <a:lnTo>
                          <a:pt x="23" y="18"/>
                        </a:lnTo>
                        <a:lnTo>
                          <a:pt x="29" y="14"/>
                        </a:lnTo>
                        <a:lnTo>
                          <a:pt x="35" y="9"/>
                        </a:lnTo>
                        <a:lnTo>
                          <a:pt x="44" y="5"/>
                        </a:lnTo>
                        <a:lnTo>
                          <a:pt x="50" y="3"/>
                        </a:lnTo>
                        <a:lnTo>
                          <a:pt x="65" y="0"/>
                        </a:lnTo>
                        <a:lnTo>
                          <a:pt x="82" y="0"/>
                        </a:lnTo>
                        <a:lnTo>
                          <a:pt x="98" y="2"/>
                        </a:lnTo>
                        <a:lnTo>
                          <a:pt x="116" y="5"/>
                        </a:lnTo>
                        <a:lnTo>
                          <a:pt x="151" y="17"/>
                        </a:lnTo>
                        <a:lnTo>
                          <a:pt x="185" y="29"/>
                        </a:lnTo>
                        <a:lnTo>
                          <a:pt x="203" y="36"/>
                        </a:lnTo>
                        <a:lnTo>
                          <a:pt x="221" y="41"/>
                        </a:lnTo>
                        <a:lnTo>
                          <a:pt x="236" y="45"/>
                        </a:lnTo>
                        <a:lnTo>
                          <a:pt x="251" y="47"/>
                        </a:lnTo>
                        <a:lnTo>
                          <a:pt x="263" y="55"/>
                        </a:lnTo>
                        <a:lnTo>
                          <a:pt x="274" y="60"/>
                        </a:lnTo>
                        <a:lnTo>
                          <a:pt x="285" y="65"/>
                        </a:lnTo>
                        <a:lnTo>
                          <a:pt x="298" y="70"/>
                        </a:lnTo>
                        <a:lnTo>
                          <a:pt x="309" y="74"/>
                        </a:lnTo>
                        <a:lnTo>
                          <a:pt x="319" y="81"/>
                        </a:lnTo>
                        <a:lnTo>
                          <a:pt x="322" y="85"/>
                        </a:lnTo>
                        <a:lnTo>
                          <a:pt x="325" y="88"/>
                        </a:lnTo>
                        <a:lnTo>
                          <a:pt x="328" y="91"/>
                        </a:lnTo>
                        <a:lnTo>
                          <a:pt x="33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372"/>
                  <p:cNvSpPr/>
                  <p:nvPr/>
                </p:nvSpPr>
                <p:spPr>
                  <a:xfrm>
                    <a:off x="6276600" y="2324160"/>
                    <a:ext cx="19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39">
                        <a:moveTo>
                          <a:pt x="301" y="80"/>
                        </a:moveTo>
                        <a:lnTo>
                          <a:pt x="301" y="128"/>
                        </a:lnTo>
                        <a:lnTo>
                          <a:pt x="281" y="133"/>
                        </a:lnTo>
                        <a:lnTo>
                          <a:pt x="262" y="138"/>
                        </a:lnTo>
                        <a:lnTo>
                          <a:pt x="242" y="139"/>
                        </a:lnTo>
                        <a:lnTo>
                          <a:pt x="224" y="139"/>
                        </a:lnTo>
                        <a:lnTo>
                          <a:pt x="206" y="138"/>
                        </a:lnTo>
                        <a:lnTo>
                          <a:pt x="186" y="135"/>
                        </a:lnTo>
                        <a:lnTo>
                          <a:pt x="167" y="131"/>
                        </a:lnTo>
                        <a:lnTo>
                          <a:pt x="150" y="127"/>
                        </a:lnTo>
                        <a:lnTo>
                          <a:pt x="111" y="115"/>
                        </a:lnTo>
                        <a:lnTo>
                          <a:pt x="74" y="103"/>
                        </a:lnTo>
                        <a:lnTo>
                          <a:pt x="36" y="91"/>
                        </a:lnTo>
                        <a:lnTo>
                          <a:pt x="0" y="80"/>
                        </a:lnTo>
                        <a:lnTo>
                          <a:pt x="3" y="65"/>
                        </a:lnTo>
                        <a:lnTo>
                          <a:pt x="8" y="54"/>
                        </a:lnTo>
                        <a:lnTo>
                          <a:pt x="12" y="42"/>
                        </a:lnTo>
                        <a:lnTo>
                          <a:pt x="18" y="33"/>
                        </a:lnTo>
                        <a:lnTo>
                          <a:pt x="26" y="25"/>
                        </a:lnTo>
                        <a:lnTo>
                          <a:pt x="32" y="18"/>
                        </a:lnTo>
                        <a:lnTo>
                          <a:pt x="39" y="12"/>
                        </a:lnTo>
                        <a:lnTo>
                          <a:pt x="50" y="7"/>
                        </a:lnTo>
                        <a:lnTo>
                          <a:pt x="59" y="4"/>
                        </a:lnTo>
                        <a:lnTo>
                          <a:pt x="68" y="3"/>
                        </a:lnTo>
                        <a:lnTo>
                          <a:pt x="79" y="1"/>
                        </a:lnTo>
                        <a:lnTo>
                          <a:pt x="89" y="0"/>
                        </a:lnTo>
                        <a:lnTo>
                          <a:pt x="112" y="1"/>
                        </a:lnTo>
                        <a:lnTo>
                          <a:pt x="135" y="6"/>
                        </a:lnTo>
                        <a:lnTo>
                          <a:pt x="159" y="10"/>
                        </a:lnTo>
                        <a:lnTo>
                          <a:pt x="183" y="18"/>
                        </a:lnTo>
                        <a:lnTo>
                          <a:pt x="207" y="28"/>
                        </a:lnTo>
                        <a:lnTo>
                          <a:pt x="230" y="39"/>
                        </a:lnTo>
                        <a:lnTo>
                          <a:pt x="271" y="60"/>
                        </a:lnTo>
                        <a:lnTo>
                          <a:pt x="301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373"/>
                  <p:cNvSpPr/>
                  <p:nvPr/>
                </p:nvSpPr>
                <p:spPr>
                  <a:xfrm>
                    <a:off x="6327720" y="2364840"/>
                    <a:ext cx="396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1193">
                        <a:moveTo>
                          <a:pt x="499" y="105"/>
                        </a:moveTo>
                        <a:lnTo>
                          <a:pt x="518" y="143"/>
                        </a:lnTo>
                        <a:lnTo>
                          <a:pt x="536" y="182"/>
                        </a:lnTo>
                        <a:lnTo>
                          <a:pt x="550" y="219"/>
                        </a:lnTo>
                        <a:lnTo>
                          <a:pt x="564" y="255"/>
                        </a:lnTo>
                        <a:lnTo>
                          <a:pt x="576" y="292"/>
                        </a:lnTo>
                        <a:lnTo>
                          <a:pt x="585" y="328"/>
                        </a:lnTo>
                        <a:lnTo>
                          <a:pt x="593" y="366"/>
                        </a:lnTo>
                        <a:lnTo>
                          <a:pt x="602" y="405"/>
                        </a:lnTo>
                        <a:lnTo>
                          <a:pt x="607" y="447"/>
                        </a:lnTo>
                        <a:lnTo>
                          <a:pt x="611" y="492"/>
                        </a:lnTo>
                        <a:lnTo>
                          <a:pt x="613" y="541"/>
                        </a:lnTo>
                        <a:lnTo>
                          <a:pt x="614" y="592"/>
                        </a:lnTo>
                        <a:lnTo>
                          <a:pt x="614" y="648"/>
                        </a:lnTo>
                        <a:lnTo>
                          <a:pt x="614" y="709"/>
                        </a:lnTo>
                        <a:lnTo>
                          <a:pt x="611" y="777"/>
                        </a:lnTo>
                        <a:lnTo>
                          <a:pt x="608" y="850"/>
                        </a:lnTo>
                        <a:lnTo>
                          <a:pt x="589" y="910"/>
                        </a:lnTo>
                        <a:lnTo>
                          <a:pt x="569" y="966"/>
                        </a:lnTo>
                        <a:lnTo>
                          <a:pt x="558" y="993"/>
                        </a:lnTo>
                        <a:lnTo>
                          <a:pt x="546" y="1021"/>
                        </a:lnTo>
                        <a:lnTo>
                          <a:pt x="532" y="1046"/>
                        </a:lnTo>
                        <a:lnTo>
                          <a:pt x="518" y="1071"/>
                        </a:lnTo>
                        <a:lnTo>
                          <a:pt x="499" y="1095"/>
                        </a:lnTo>
                        <a:lnTo>
                          <a:pt x="478" y="1116"/>
                        </a:lnTo>
                        <a:lnTo>
                          <a:pt x="466" y="1126"/>
                        </a:lnTo>
                        <a:lnTo>
                          <a:pt x="455" y="1135"/>
                        </a:lnTo>
                        <a:lnTo>
                          <a:pt x="440" y="1143"/>
                        </a:lnTo>
                        <a:lnTo>
                          <a:pt x="428" y="1152"/>
                        </a:lnTo>
                        <a:lnTo>
                          <a:pt x="411" y="1160"/>
                        </a:lnTo>
                        <a:lnTo>
                          <a:pt x="395" y="1166"/>
                        </a:lnTo>
                        <a:lnTo>
                          <a:pt x="380" y="1173"/>
                        </a:lnTo>
                        <a:lnTo>
                          <a:pt x="360" y="1178"/>
                        </a:lnTo>
                        <a:lnTo>
                          <a:pt x="340" y="1182"/>
                        </a:lnTo>
                        <a:lnTo>
                          <a:pt x="319" y="1187"/>
                        </a:lnTo>
                        <a:lnTo>
                          <a:pt x="298" y="1190"/>
                        </a:lnTo>
                        <a:lnTo>
                          <a:pt x="276" y="1193"/>
                        </a:lnTo>
                        <a:lnTo>
                          <a:pt x="237" y="1181"/>
                        </a:lnTo>
                        <a:lnTo>
                          <a:pt x="203" y="1166"/>
                        </a:lnTo>
                        <a:lnTo>
                          <a:pt x="173" y="1150"/>
                        </a:lnTo>
                        <a:lnTo>
                          <a:pt x="145" y="1131"/>
                        </a:lnTo>
                        <a:lnTo>
                          <a:pt x="121" y="1111"/>
                        </a:lnTo>
                        <a:lnTo>
                          <a:pt x="98" y="1089"/>
                        </a:lnTo>
                        <a:lnTo>
                          <a:pt x="79" y="1064"/>
                        </a:lnTo>
                        <a:lnTo>
                          <a:pt x="63" y="1039"/>
                        </a:lnTo>
                        <a:lnTo>
                          <a:pt x="49" y="1013"/>
                        </a:lnTo>
                        <a:lnTo>
                          <a:pt x="35" y="984"/>
                        </a:lnTo>
                        <a:lnTo>
                          <a:pt x="26" y="955"/>
                        </a:lnTo>
                        <a:lnTo>
                          <a:pt x="18" y="924"/>
                        </a:lnTo>
                        <a:lnTo>
                          <a:pt x="9" y="893"/>
                        </a:lnTo>
                        <a:lnTo>
                          <a:pt x="6" y="862"/>
                        </a:lnTo>
                        <a:lnTo>
                          <a:pt x="2" y="827"/>
                        </a:lnTo>
                        <a:lnTo>
                          <a:pt x="0" y="794"/>
                        </a:lnTo>
                        <a:lnTo>
                          <a:pt x="0" y="760"/>
                        </a:lnTo>
                        <a:lnTo>
                          <a:pt x="0" y="724"/>
                        </a:lnTo>
                        <a:lnTo>
                          <a:pt x="2" y="689"/>
                        </a:lnTo>
                        <a:lnTo>
                          <a:pt x="5" y="653"/>
                        </a:lnTo>
                        <a:lnTo>
                          <a:pt x="11" y="582"/>
                        </a:lnTo>
                        <a:lnTo>
                          <a:pt x="21" y="511"/>
                        </a:lnTo>
                        <a:lnTo>
                          <a:pt x="29" y="440"/>
                        </a:lnTo>
                        <a:lnTo>
                          <a:pt x="39" y="373"/>
                        </a:lnTo>
                        <a:lnTo>
                          <a:pt x="47" y="308"/>
                        </a:lnTo>
                        <a:lnTo>
                          <a:pt x="52" y="245"/>
                        </a:lnTo>
                        <a:lnTo>
                          <a:pt x="56" y="226"/>
                        </a:lnTo>
                        <a:lnTo>
                          <a:pt x="62" y="208"/>
                        </a:lnTo>
                        <a:lnTo>
                          <a:pt x="67" y="189"/>
                        </a:lnTo>
                        <a:lnTo>
                          <a:pt x="74" y="172"/>
                        </a:lnTo>
                        <a:lnTo>
                          <a:pt x="80" y="155"/>
                        </a:lnTo>
                        <a:lnTo>
                          <a:pt x="91" y="139"/>
                        </a:lnTo>
                        <a:lnTo>
                          <a:pt x="100" y="124"/>
                        </a:lnTo>
                        <a:lnTo>
                          <a:pt x="110" y="108"/>
                        </a:lnTo>
                        <a:lnTo>
                          <a:pt x="121" y="93"/>
                        </a:lnTo>
                        <a:lnTo>
                          <a:pt x="133" y="81"/>
                        </a:lnTo>
                        <a:lnTo>
                          <a:pt x="147" y="66"/>
                        </a:lnTo>
                        <a:lnTo>
                          <a:pt x="162" y="54"/>
                        </a:lnTo>
                        <a:lnTo>
                          <a:pt x="176" y="42"/>
                        </a:lnTo>
                        <a:lnTo>
                          <a:pt x="191" y="31"/>
                        </a:lnTo>
                        <a:lnTo>
                          <a:pt x="209" y="18"/>
                        </a:lnTo>
                        <a:lnTo>
                          <a:pt x="224" y="8"/>
                        </a:lnTo>
                        <a:lnTo>
                          <a:pt x="247" y="1"/>
                        </a:lnTo>
                        <a:lnTo>
                          <a:pt x="266" y="0"/>
                        </a:lnTo>
                        <a:lnTo>
                          <a:pt x="287" y="0"/>
                        </a:lnTo>
                        <a:lnTo>
                          <a:pt x="305" y="1"/>
                        </a:lnTo>
                        <a:lnTo>
                          <a:pt x="322" y="5"/>
                        </a:lnTo>
                        <a:lnTo>
                          <a:pt x="340" y="12"/>
                        </a:lnTo>
                        <a:lnTo>
                          <a:pt x="357" y="18"/>
                        </a:lnTo>
                        <a:lnTo>
                          <a:pt x="372" y="25"/>
                        </a:lnTo>
                        <a:lnTo>
                          <a:pt x="405" y="45"/>
                        </a:lnTo>
                        <a:lnTo>
                          <a:pt x="436" y="66"/>
                        </a:lnTo>
                        <a:lnTo>
                          <a:pt x="466" y="87"/>
                        </a:lnTo>
                        <a:lnTo>
                          <a:pt x="499" y="1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374"/>
                  <p:cNvSpPr/>
                  <p:nvPr/>
                </p:nvSpPr>
                <p:spPr>
                  <a:xfrm>
                    <a:off x="6268320" y="2372400"/>
                    <a:ext cx="223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10">
                        <a:moveTo>
                          <a:pt x="349" y="77"/>
                        </a:moveTo>
                        <a:lnTo>
                          <a:pt x="329" y="89"/>
                        </a:lnTo>
                        <a:lnTo>
                          <a:pt x="308" y="97"/>
                        </a:lnTo>
                        <a:lnTo>
                          <a:pt x="287" y="103"/>
                        </a:lnTo>
                        <a:lnTo>
                          <a:pt x="264" y="109"/>
                        </a:lnTo>
                        <a:lnTo>
                          <a:pt x="242" y="110"/>
                        </a:lnTo>
                        <a:lnTo>
                          <a:pt x="219" y="110"/>
                        </a:lnTo>
                        <a:lnTo>
                          <a:pt x="196" y="109"/>
                        </a:lnTo>
                        <a:lnTo>
                          <a:pt x="174" y="107"/>
                        </a:lnTo>
                        <a:lnTo>
                          <a:pt x="128" y="99"/>
                        </a:lnTo>
                        <a:lnTo>
                          <a:pt x="84" y="88"/>
                        </a:lnTo>
                        <a:lnTo>
                          <a:pt x="42" y="76"/>
                        </a:lnTo>
                        <a:lnTo>
                          <a:pt x="0" y="65"/>
                        </a:lnTo>
                        <a:lnTo>
                          <a:pt x="4" y="53"/>
                        </a:lnTo>
                        <a:lnTo>
                          <a:pt x="11" y="42"/>
                        </a:lnTo>
                        <a:lnTo>
                          <a:pt x="16" y="33"/>
                        </a:lnTo>
                        <a:lnTo>
                          <a:pt x="22" y="24"/>
                        </a:lnTo>
                        <a:lnTo>
                          <a:pt x="30" y="18"/>
                        </a:lnTo>
                        <a:lnTo>
                          <a:pt x="37" y="14"/>
                        </a:lnTo>
                        <a:lnTo>
                          <a:pt x="45" y="9"/>
                        </a:lnTo>
                        <a:lnTo>
                          <a:pt x="54" y="5"/>
                        </a:lnTo>
                        <a:lnTo>
                          <a:pt x="72" y="2"/>
                        </a:lnTo>
                        <a:lnTo>
                          <a:pt x="92" y="0"/>
                        </a:lnTo>
                        <a:lnTo>
                          <a:pt x="113" y="2"/>
                        </a:lnTo>
                        <a:lnTo>
                          <a:pt x="134" y="3"/>
                        </a:lnTo>
                        <a:lnTo>
                          <a:pt x="181" y="14"/>
                        </a:lnTo>
                        <a:lnTo>
                          <a:pt x="228" y="21"/>
                        </a:lnTo>
                        <a:lnTo>
                          <a:pt x="249" y="24"/>
                        </a:lnTo>
                        <a:lnTo>
                          <a:pt x="275" y="24"/>
                        </a:lnTo>
                        <a:lnTo>
                          <a:pt x="285" y="23"/>
                        </a:lnTo>
                        <a:lnTo>
                          <a:pt x="296" y="21"/>
                        </a:lnTo>
                        <a:lnTo>
                          <a:pt x="306" y="20"/>
                        </a:lnTo>
                        <a:lnTo>
                          <a:pt x="317" y="17"/>
                        </a:lnTo>
                        <a:lnTo>
                          <a:pt x="332" y="29"/>
                        </a:lnTo>
                        <a:lnTo>
                          <a:pt x="345" y="44"/>
                        </a:lnTo>
                        <a:lnTo>
                          <a:pt x="350" y="52"/>
                        </a:lnTo>
                        <a:lnTo>
                          <a:pt x="352" y="60"/>
                        </a:lnTo>
                        <a:lnTo>
                          <a:pt x="352" y="68"/>
                        </a:lnTo>
                        <a:lnTo>
                          <a:pt x="349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Freeform 375"/>
                  <p:cNvSpPr/>
                  <p:nvPr/>
                </p:nvSpPr>
                <p:spPr>
                  <a:xfrm>
                    <a:off x="6268320" y="2467080"/>
                    <a:ext cx="216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11">
                        <a:moveTo>
                          <a:pt x="337" y="75"/>
                        </a:moveTo>
                        <a:lnTo>
                          <a:pt x="20" y="111"/>
                        </a:lnTo>
                        <a:lnTo>
                          <a:pt x="15" y="108"/>
                        </a:lnTo>
                        <a:lnTo>
                          <a:pt x="10" y="105"/>
                        </a:lnTo>
                        <a:lnTo>
                          <a:pt x="6" y="100"/>
                        </a:lnTo>
                        <a:lnTo>
                          <a:pt x="5" y="95"/>
                        </a:lnTo>
                        <a:lnTo>
                          <a:pt x="2" y="86"/>
                        </a:lnTo>
                        <a:lnTo>
                          <a:pt x="0" y="75"/>
                        </a:lnTo>
                        <a:lnTo>
                          <a:pt x="2" y="54"/>
                        </a:lnTo>
                        <a:lnTo>
                          <a:pt x="2" y="33"/>
                        </a:lnTo>
                        <a:lnTo>
                          <a:pt x="24" y="33"/>
                        </a:lnTo>
                        <a:lnTo>
                          <a:pt x="47" y="31"/>
                        </a:lnTo>
                        <a:lnTo>
                          <a:pt x="73" y="27"/>
                        </a:lnTo>
                        <a:lnTo>
                          <a:pt x="98" y="22"/>
                        </a:lnTo>
                        <a:lnTo>
                          <a:pt x="153" y="12"/>
                        </a:lnTo>
                        <a:lnTo>
                          <a:pt x="207" y="3"/>
                        </a:lnTo>
                        <a:lnTo>
                          <a:pt x="231" y="0"/>
                        </a:lnTo>
                        <a:lnTo>
                          <a:pt x="255" y="0"/>
                        </a:lnTo>
                        <a:lnTo>
                          <a:pt x="266" y="1"/>
                        </a:lnTo>
                        <a:lnTo>
                          <a:pt x="277" y="3"/>
                        </a:lnTo>
                        <a:lnTo>
                          <a:pt x="286" y="7"/>
                        </a:lnTo>
                        <a:lnTo>
                          <a:pt x="295" y="10"/>
                        </a:lnTo>
                        <a:lnTo>
                          <a:pt x="304" y="13"/>
                        </a:lnTo>
                        <a:lnTo>
                          <a:pt x="312" y="19"/>
                        </a:lnTo>
                        <a:lnTo>
                          <a:pt x="318" y="25"/>
                        </a:lnTo>
                        <a:lnTo>
                          <a:pt x="324" y="33"/>
                        </a:lnTo>
                        <a:lnTo>
                          <a:pt x="330" y="42"/>
                        </a:lnTo>
                        <a:lnTo>
                          <a:pt x="333" y="51"/>
                        </a:lnTo>
                        <a:lnTo>
                          <a:pt x="336" y="63"/>
                        </a:lnTo>
                        <a:lnTo>
                          <a:pt x="33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376"/>
                  <p:cNvSpPr/>
                  <p:nvPr/>
                </p:nvSpPr>
                <p:spPr>
                  <a:xfrm>
                    <a:off x="6275520" y="2511720"/>
                    <a:ext cx="205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45">
                        <a:moveTo>
                          <a:pt x="318" y="16"/>
                        </a:moveTo>
                        <a:lnTo>
                          <a:pt x="323" y="33"/>
                        </a:lnTo>
                        <a:lnTo>
                          <a:pt x="326" y="48"/>
                        </a:lnTo>
                        <a:lnTo>
                          <a:pt x="324" y="61"/>
                        </a:lnTo>
                        <a:lnTo>
                          <a:pt x="321" y="72"/>
                        </a:lnTo>
                        <a:lnTo>
                          <a:pt x="316" y="82"/>
                        </a:lnTo>
                        <a:lnTo>
                          <a:pt x="308" y="90"/>
                        </a:lnTo>
                        <a:lnTo>
                          <a:pt x="298" y="97"/>
                        </a:lnTo>
                        <a:lnTo>
                          <a:pt x="289" y="103"/>
                        </a:lnTo>
                        <a:lnTo>
                          <a:pt x="239" y="118"/>
                        </a:lnTo>
                        <a:lnTo>
                          <a:pt x="194" y="130"/>
                        </a:lnTo>
                        <a:lnTo>
                          <a:pt x="181" y="127"/>
                        </a:lnTo>
                        <a:lnTo>
                          <a:pt x="168" y="127"/>
                        </a:lnTo>
                        <a:lnTo>
                          <a:pt x="153" y="127"/>
                        </a:lnTo>
                        <a:lnTo>
                          <a:pt x="141" y="130"/>
                        </a:lnTo>
                        <a:lnTo>
                          <a:pt x="114" y="136"/>
                        </a:lnTo>
                        <a:lnTo>
                          <a:pt x="91" y="142"/>
                        </a:lnTo>
                        <a:lnTo>
                          <a:pt x="78" y="143"/>
                        </a:lnTo>
                        <a:lnTo>
                          <a:pt x="67" y="145"/>
                        </a:lnTo>
                        <a:lnTo>
                          <a:pt x="53" y="143"/>
                        </a:lnTo>
                        <a:lnTo>
                          <a:pt x="43" y="142"/>
                        </a:lnTo>
                        <a:lnTo>
                          <a:pt x="31" y="139"/>
                        </a:lnTo>
                        <a:lnTo>
                          <a:pt x="20" y="132"/>
                        </a:lnTo>
                        <a:lnTo>
                          <a:pt x="10" y="124"/>
                        </a:lnTo>
                        <a:lnTo>
                          <a:pt x="0" y="113"/>
                        </a:lnTo>
                        <a:lnTo>
                          <a:pt x="3" y="103"/>
                        </a:lnTo>
                        <a:lnTo>
                          <a:pt x="8" y="93"/>
                        </a:lnTo>
                        <a:lnTo>
                          <a:pt x="13" y="85"/>
                        </a:lnTo>
                        <a:lnTo>
                          <a:pt x="20" y="77"/>
                        </a:lnTo>
                        <a:lnTo>
                          <a:pt x="34" y="63"/>
                        </a:lnTo>
                        <a:lnTo>
                          <a:pt x="52" y="48"/>
                        </a:lnTo>
                        <a:lnTo>
                          <a:pt x="70" y="36"/>
                        </a:lnTo>
                        <a:lnTo>
                          <a:pt x="91" y="27"/>
                        </a:lnTo>
                        <a:lnTo>
                          <a:pt x="113" y="18"/>
                        </a:lnTo>
                        <a:lnTo>
                          <a:pt x="137" y="11"/>
                        </a:lnTo>
                        <a:lnTo>
                          <a:pt x="161" y="4"/>
                        </a:lnTo>
                        <a:lnTo>
                          <a:pt x="185" y="1"/>
                        </a:lnTo>
                        <a:lnTo>
                          <a:pt x="209" y="0"/>
                        </a:lnTo>
                        <a:lnTo>
                          <a:pt x="234" y="0"/>
                        </a:lnTo>
                        <a:lnTo>
                          <a:pt x="256" y="1"/>
                        </a:lnTo>
                        <a:lnTo>
                          <a:pt x="279" y="3"/>
                        </a:lnTo>
                        <a:lnTo>
                          <a:pt x="298" y="8"/>
                        </a:lnTo>
                        <a:lnTo>
                          <a:pt x="318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377"/>
                  <p:cNvSpPr/>
                  <p:nvPr/>
                </p:nvSpPr>
                <p:spPr>
                  <a:xfrm>
                    <a:off x="6387480" y="2540880"/>
                    <a:ext cx="568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770">
                        <a:moveTo>
                          <a:pt x="810" y="151"/>
                        </a:moveTo>
                        <a:lnTo>
                          <a:pt x="821" y="159"/>
                        </a:lnTo>
                        <a:lnTo>
                          <a:pt x="829" y="169"/>
                        </a:lnTo>
                        <a:lnTo>
                          <a:pt x="838" y="177"/>
                        </a:lnTo>
                        <a:lnTo>
                          <a:pt x="846" y="186"/>
                        </a:lnTo>
                        <a:lnTo>
                          <a:pt x="852" y="198"/>
                        </a:lnTo>
                        <a:lnTo>
                          <a:pt x="858" y="207"/>
                        </a:lnTo>
                        <a:lnTo>
                          <a:pt x="864" y="219"/>
                        </a:lnTo>
                        <a:lnTo>
                          <a:pt x="868" y="230"/>
                        </a:lnTo>
                        <a:lnTo>
                          <a:pt x="874" y="254"/>
                        </a:lnTo>
                        <a:lnTo>
                          <a:pt x="877" y="278"/>
                        </a:lnTo>
                        <a:lnTo>
                          <a:pt x="881" y="304"/>
                        </a:lnTo>
                        <a:lnTo>
                          <a:pt x="881" y="330"/>
                        </a:lnTo>
                        <a:lnTo>
                          <a:pt x="877" y="383"/>
                        </a:lnTo>
                        <a:lnTo>
                          <a:pt x="871" y="435"/>
                        </a:lnTo>
                        <a:lnTo>
                          <a:pt x="865" y="485"/>
                        </a:lnTo>
                        <a:lnTo>
                          <a:pt x="858" y="531"/>
                        </a:lnTo>
                        <a:lnTo>
                          <a:pt x="853" y="548"/>
                        </a:lnTo>
                        <a:lnTo>
                          <a:pt x="849" y="566"/>
                        </a:lnTo>
                        <a:lnTo>
                          <a:pt x="841" y="582"/>
                        </a:lnTo>
                        <a:lnTo>
                          <a:pt x="832" y="598"/>
                        </a:lnTo>
                        <a:lnTo>
                          <a:pt x="814" y="628"/>
                        </a:lnTo>
                        <a:lnTo>
                          <a:pt x="793" y="659"/>
                        </a:lnTo>
                        <a:lnTo>
                          <a:pt x="768" y="688"/>
                        </a:lnTo>
                        <a:lnTo>
                          <a:pt x="743" y="715"/>
                        </a:lnTo>
                        <a:lnTo>
                          <a:pt x="714" y="743"/>
                        </a:lnTo>
                        <a:lnTo>
                          <a:pt x="687" y="770"/>
                        </a:lnTo>
                        <a:lnTo>
                          <a:pt x="642" y="755"/>
                        </a:lnTo>
                        <a:lnTo>
                          <a:pt x="595" y="741"/>
                        </a:lnTo>
                        <a:lnTo>
                          <a:pt x="546" y="730"/>
                        </a:lnTo>
                        <a:lnTo>
                          <a:pt x="499" y="719"/>
                        </a:lnTo>
                        <a:lnTo>
                          <a:pt x="451" y="709"/>
                        </a:lnTo>
                        <a:lnTo>
                          <a:pt x="402" y="697"/>
                        </a:lnTo>
                        <a:lnTo>
                          <a:pt x="354" y="687"/>
                        </a:lnTo>
                        <a:lnTo>
                          <a:pt x="307" y="673"/>
                        </a:lnTo>
                        <a:lnTo>
                          <a:pt x="284" y="666"/>
                        </a:lnTo>
                        <a:lnTo>
                          <a:pt x="260" y="658"/>
                        </a:lnTo>
                        <a:lnTo>
                          <a:pt x="239" y="649"/>
                        </a:lnTo>
                        <a:lnTo>
                          <a:pt x="216" y="640"/>
                        </a:lnTo>
                        <a:lnTo>
                          <a:pt x="195" y="628"/>
                        </a:lnTo>
                        <a:lnTo>
                          <a:pt x="174" y="617"/>
                        </a:lnTo>
                        <a:lnTo>
                          <a:pt x="155" y="604"/>
                        </a:lnTo>
                        <a:lnTo>
                          <a:pt x="136" y="591"/>
                        </a:lnTo>
                        <a:lnTo>
                          <a:pt x="118" y="576"/>
                        </a:lnTo>
                        <a:lnTo>
                          <a:pt x="100" y="561"/>
                        </a:lnTo>
                        <a:lnTo>
                          <a:pt x="84" y="543"/>
                        </a:lnTo>
                        <a:lnTo>
                          <a:pt x="68" y="525"/>
                        </a:lnTo>
                        <a:lnTo>
                          <a:pt x="53" y="504"/>
                        </a:lnTo>
                        <a:lnTo>
                          <a:pt x="39" y="484"/>
                        </a:lnTo>
                        <a:lnTo>
                          <a:pt x="28" y="460"/>
                        </a:lnTo>
                        <a:lnTo>
                          <a:pt x="17" y="435"/>
                        </a:lnTo>
                        <a:lnTo>
                          <a:pt x="8" y="398"/>
                        </a:lnTo>
                        <a:lnTo>
                          <a:pt x="3" y="357"/>
                        </a:lnTo>
                        <a:lnTo>
                          <a:pt x="2" y="339"/>
                        </a:lnTo>
                        <a:lnTo>
                          <a:pt x="0" y="317"/>
                        </a:lnTo>
                        <a:lnTo>
                          <a:pt x="0" y="296"/>
                        </a:lnTo>
                        <a:lnTo>
                          <a:pt x="0" y="275"/>
                        </a:lnTo>
                        <a:lnTo>
                          <a:pt x="2" y="256"/>
                        </a:lnTo>
                        <a:lnTo>
                          <a:pt x="5" y="235"/>
                        </a:lnTo>
                        <a:lnTo>
                          <a:pt x="10" y="216"/>
                        </a:lnTo>
                        <a:lnTo>
                          <a:pt x="17" y="198"/>
                        </a:lnTo>
                        <a:lnTo>
                          <a:pt x="26" y="180"/>
                        </a:lnTo>
                        <a:lnTo>
                          <a:pt x="35" y="164"/>
                        </a:lnTo>
                        <a:lnTo>
                          <a:pt x="49" y="148"/>
                        </a:lnTo>
                        <a:lnTo>
                          <a:pt x="65" y="133"/>
                        </a:lnTo>
                        <a:lnTo>
                          <a:pt x="82" y="115"/>
                        </a:lnTo>
                        <a:lnTo>
                          <a:pt x="100" y="98"/>
                        </a:lnTo>
                        <a:lnTo>
                          <a:pt x="120" y="82"/>
                        </a:lnTo>
                        <a:lnTo>
                          <a:pt x="141" y="68"/>
                        </a:lnTo>
                        <a:lnTo>
                          <a:pt x="163" y="56"/>
                        </a:lnTo>
                        <a:lnTo>
                          <a:pt x="186" y="43"/>
                        </a:lnTo>
                        <a:lnTo>
                          <a:pt x="209" y="33"/>
                        </a:lnTo>
                        <a:lnTo>
                          <a:pt x="233" y="26"/>
                        </a:lnTo>
                        <a:lnTo>
                          <a:pt x="257" y="17"/>
                        </a:lnTo>
                        <a:lnTo>
                          <a:pt x="283" y="11"/>
                        </a:lnTo>
                        <a:lnTo>
                          <a:pt x="307" y="6"/>
                        </a:lnTo>
                        <a:lnTo>
                          <a:pt x="333" y="3"/>
                        </a:lnTo>
                        <a:lnTo>
                          <a:pt x="360" y="1"/>
                        </a:lnTo>
                        <a:lnTo>
                          <a:pt x="386" y="0"/>
                        </a:lnTo>
                        <a:lnTo>
                          <a:pt x="412" y="0"/>
                        </a:lnTo>
                        <a:lnTo>
                          <a:pt x="439" y="1"/>
                        </a:lnTo>
                        <a:lnTo>
                          <a:pt x="465" y="3"/>
                        </a:lnTo>
                        <a:lnTo>
                          <a:pt x="492" y="6"/>
                        </a:lnTo>
                        <a:lnTo>
                          <a:pt x="518" y="11"/>
                        </a:lnTo>
                        <a:lnTo>
                          <a:pt x="543" y="15"/>
                        </a:lnTo>
                        <a:lnTo>
                          <a:pt x="569" y="22"/>
                        </a:lnTo>
                        <a:lnTo>
                          <a:pt x="595" y="30"/>
                        </a:lnTo>
                        <a:lnTo>
                          <a:pt x="619" y="38"/>
                        </a:lnTo>
                        <a:lnTo>
                          <a:pt x="646" y="47"/>
                        </a:lnTo>
                        <a:lnTo>
                          <a:pt x="667" y="58"/>
                        </a:lnTo>
                        <a:lnTo>
                          <a:pt x="692" y="68"/>
                        </a:lnTo>
                        <a:lnTo>
                          <a:pt x="713" y="80"/>
                        </a:lnTo>
                        <a:lnTo>
                          <a:pt x="735" y="94"/>
                        </a:lnTo>
                        <a:lnTo>
                          <a:pt x="755" y="106"/>
                        </a:lnTo>
                        <a:lnTo>
                          <a:pt x="775" y="121"/>
                        </a:lnTo>
                        <a:lnTo>
                          <a:pt x="794" y="136"/>
                        </a:lnTo>
                        <a:lnTo>
                          <a:pt x="810" y="15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Freeform 378"/>
                  <p:cNvSpPr/>
                  <p:nvPr/>
                </p:nvSpPr>
                <p:spPr>
                  <a:xfrm>
                    <a:off x="6288120" y="255852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6">
                        <a:moveTo>
                          <a:pt x="330" y="19"/>
                        </a:moveTo>
                        <a:lnTo>
                          <a:pt x="300" y="43"/>
                        </a:lnTo>
                        <a:lnTo>
                          <a:pt x="266" y="68"/>
                        </a:lnTo>
                        <a:lnTo>
                          <a:pt x="248" y="79"/>
                        </a:lnTo>
                        <a:lnTo>
                          <a:pt x="229" y="90"/>
                        </a:lnTo>
                        <a:lnTo>
                          <a:pt x="209" y="100"/>
                        </a:lnTo>
                        <a:lnTo>
                          <a:pt x="190" y="109"/>
                        </a:lnTo>
                        <a:lnTo>
                          <a:pt x="169" y="118"/>
                        </a:lnTo>
                        <a:lnTo>
                          <a:pt x="148" y="125"/>
                        </a:lnTo>
                        <a:lnTo>
                          <a:pt x="127" y="132"/>
                        </a:lnTo>
                        <a:lnTo>
                          <a:pt x="106" y="139"/>
                        </a:lnTo>
                        <a:lnTo>
                          <a:pt x="83" y="143"/>
                        </a:lnTo>
                        <a:lnTo>
                          <a:pt x="59" y="145"/>
                        </a:lnTo>
                        <a:lnTo>
                          <a:pt x="37" y="146"/>
                        </a:lnTo>
                        <a:lnTo>
                          <a:pt x="12" y="146"/>
                        </a:lnTo>
                        <a:lnTo>
                          <a:pt x="0" y="98"/>
                        </a:lnTo>
                        <a:lnTo>
                          <a:pt x="21" y="92"/>
                        </a:lnTo>
                        <a:lnTo>
                          <a:pt x="41" y="85"/>
                        </a:lnTo>
                        <a:lnTo>
                          <a:pt x="61" y="75"/>
                        </a:lnTo>
                        <a:lnTo>
                          <a:pt x="82" y="66"/>
                        </a:lnTo>
                        <a:lnTo>
                          <a:pt x="124" y="45"/>
                        </a:lnTo>
                        <a:lnTo>
                          <a:pt x="166" y="24"/>
                        </a:lnTo>
                        <a:lnTo>
                          <a:pt x="185" y="16"/>
                        </a:lnTo>
                        <a:lnTo>
                          <a:pt x="206" y="7"/>
                        </a:lnTo>
                        <a:lnTo>
                          <a:pt x="227" y="3"/>
                        </a:lnTo>
                        <a:lnTo>
                          <a:pt x="248" y="0"/>
                        </a:lnTo>
                        <a:lnTo>
                          <a:pt x="269" y="0"/>
                        </a:lnTo>
                        <a:lnTo>
                          <a:pt x="290" y="3"/>
                        </a:lnTo>
                        <a:lnTo>
                          <a:pt x="300" y="4"/>
                        </a:lnTo>
                        <a:lnTo>
                          <a:pt x="309" y="9"/>
                        </a:lnTo>
                        <a:lnTo>
                          <a:pt x="321" y="12"/>
                        </a:lnTo>
                        <a:lnTo>
                          <a:pt x="33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379"/>
                  <p:cNvSpPr/>
                  <p:nvPr/>
                </p:nvSpPr>
                <p:spPr>
                  <a:xfrm>
                    <a:off x="6306480" y="2599560"/>
                    <a:ext cx="20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08">
                        <a:moveTo>
                          <a:pt x="314" y="48"/>
                        </a:moveTo>
                        <a:lnTo>
                          <a:pt x="299" y="63"/>
                        </a:lnTo>
                        <a:lnTo>
                          <a:pt x="281" y="75"/>
                        </a:lnTo>
                        <a:lnTo>
                          <a:pt x="263" y="89"/>
                        </a:lnTo>
                        <a:lnTo>
                          <a:pt x="246" y="99"/>
                        </a:lnTo>
                        <a:lnTo>
                          <a:pt x="208" y="119"/>
                        </a:lnTo>
                        <a:lnTo>
                          <a:pt x="169" y="139"/>
                        </a:lnTo>
                        <a:lnTo>
                          <a:pt x="131" y="154"/>
                        </a:lnTo>
                        <a:lnTo>
                          <a:pt x="92" y="170"/>
                        </a:lnTo>
                        <a:lnTo>
                          <a:pt x="54" y="188"/>
                        </a:lnTo>
                        <a:lnTo>
                          <a:pt x="15" y="208"/>
                        </a:lnTo>
                        <a:lnTo>
                          <a:pt x="8" y="192"/>
                        </a:lnTo>
                        <a:lnTo>
                          <a:pt x="4" y="177"/>
                        </a:lnTo>
                        <a:lnTo>
                          <a:pt x="0" y="164"/>
                        </a:lnTo>
                        <a:lnTo>
                          <a:pt x="0" y="152"/>
                        </a:lnTo>
                        <a:lnTo>
                          <a:pt x="0" y="142"/>
                        </a:lnTo>
                        <a:lnTo>
                          <a:pt x="2" y="134"/>
                        </a:lnTo>
                        <a:lnTo>
                          <a:pt x="4" y="125"/>
                        </a:lnTo>
                        <a:lnTo>
                          <a:pt x="8" y="117"/>
                        </a:lnTo>
                        <a:lnTo>
                          <a:pt x="13" y="113"/>
                        </a:lnTo>
                        <a:lnTo>
                          <a:pt x="19" y="106"/>
                        </a:lnTo>
                        <a:lnTo>
                          <a:pt x="28" y="103"/>
                        </a:lnTo>
                        <a:lnTo>
                          <a:pt x="36" y="98"/>
                        </a:lnTo>
                        <a:lnTo>
                          <a:pt x="54" y="92"/>
                        </a:lnTo>
                        <a:lnTo>
                          <a:pt x="75" y="87"/>
                        </a:lnTo>
                        <a:lnTo>
                          <a:pt x="95" y="81"/>
                        </a:lnTo>
                        <a:lnTo>
                          <a:pt x="118" y="78"/>
                        </a:lnTo>
                        <a:lnTo>
                          <a:pt x="140" y="72"/>
                        </a:lnTo>
                        <a:lnTo>
                          <a:pt x="161" y="64"/>
                        </a:lnTo>
                        <a:lnTo>
                          <a:pt x="173" y="60"/>
                        </a:lnTo>
                        <a:lnTo>
                          <a:pt x="182" y="54"/>
                        </a:lnTo>
                        <a:lnTo>
                          <a:pt x="190" y="48"/>
                        </a:lnTo>
                        <a:lnTo>
                          <a:pt x="199" y="40"/>
                        </a:lnTo>
                        <a:lnTo>
                          <a:pt x="207" y="31"/>
                        </a:lnTo>
                        <a:lnTo>
                          <a:pt x="213" y="22"/>
                        </a:lnTo>
                        <a:lnTo>
                          <a:pt x="217" y="13"/>
                        </a:lnTo>
                        <a:lnTo>
                          <a:pt x="223" y="0"/>
                        </a:lnTo>
                        <a:lnTo>
                          <a:pt x="237" y="0"/>
                        </a:lnTo>
                        <a:lnTo>
                          <a:pt x="253" y="0"/>
                        </a:lnTo>
                        <a:lnTo>
                          <a:pt x="267" y="1"/>
                        </a:lnTo>
                        <a:lnTo>
                          <a:pt x="282" y="6"/>
                        </a:lnTo>
                        <a:lnTo>
                          <a:pt x="288" y="9"/>
                        </a:lnTo>
                        <a:lnTo>
                          <a:pt x="294" y="13"/>
                        </a:lnTo>
                        <a:lnTo>
                          <a:pt x="300" y="18"/>
                        </a:lnTo>
                        <a:lnTo>
                          <a:pt x="305" y="22"/>
                        </a:lnTo>
                        <a:lnTo>
                          <a:pt x="308" y="27"/>
                        </a:lnTo>
                        <a:lnTo>
                          <a:pt x="311" y="33"/>
                        </a:lnTo>
                        <a:lnTo>
                          <a:pt x="313" y="40"/>
                        </a:lnTo>
                        <a:lnTo>
                          <a:pt x="314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380"/>
                  <p:cNvSpPr/>
                  <p:nvPr/>
                </p:nvSpPr>
                <p:spPr>
                  <a:xfrm>
                    <a:off x="6372000" y="2610000"/>
                    <a:ext cx="658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2" h="957">
                        <a:moveTo>
                          <a:pt x="986" y="369"/>
                        </a:moveTo>
                        <a:lnTo>
                          <a:pt x="994" y="387"/>
                        </a:lnTo>
                        <a:lnTo>
                          <a:pt x="1001" y="408"/>
                        </a:lnTo>
                        <a:lnTo>
                          <a:pt x="1008" y="431"/>
                        </a:lnTo>
                        <a:lnTo>
                          <a:pt x="1013" y="454"/>
                        </a:lnTo>
                        <a:lnTo>
                          <a:pt x="1016" y="478"/>
                        </a:lnTo>
                        <a:lnTo>
                          <a:pt x="1019" y="502"/>
                        </a:lnTo>
                        <a:lnTo>
                          <a:pt x="1021" y="526"/>
                        </a:lnTo>
                        <a:lnTo>
                          <a:pt x="1022" y="550"/>
                        </a:lnTo>
                        <a:lnTo>
                          <a:pt x="1021" y="576"/>
                        </a:lnTo>
                        <a:lnTo>
                          <a:pt x="1019" y="600"/>
                        </a:lnTo>
                        <a:lnTo>
                          <a:pt x="1016" y="625"/>
                        </a:lnTo>
                        <a:lnTo>
                          <a:pt x="1013" y="649"/>
                        </a:lnTo>
                        <a:lnTo>
                          <a:pt x="1008" y="671"/>
                        </a:lnTo>
                        <a:lnTo>
                          <a:pt x="1001" y="694"/>
                        </a:lnTo>
                        <a:lnTo>
                          <a:pt x="994" y="715"/>
                        </a:lnTo>
                        <a:lnTo>
                          <a:pt x="986" y="735"/>
                        </a:lnTo>
                        <a:lnTo>
                          <a:pt x="966" y="765"/>
                        </a:lnTo>
                        <a:lnTo>
                          <a:pt x="945" y="792"/>
                        </a:lnTo>
                        <a:lnTo>
                          <a:pt x="924" y="818"/>
                        </a:lnTo>
                        <a:lnTo>
                          <a:pt x="901" y="841"/>
                        </a:lnTo>
                        <a:lnTo>
                          <a:pt x="876" y="863"/>
                        </a:lnTo>
                        <a:lnTo>
                          <a:pt x="850" y="881"/>
                        </a:lnTo>
                        <a:lnTo>
                          <a:pt x="824" y="898"/>
                        </a:lnTo>
                        <a:lnTo>
                          <a:pt x="795" y="913"/>
                        </a:lnTo>
                        <a:lnTo>
                          <a:pt x="766" y="925"/>
                        </a:lnTo>
                        <a:lnTo>
                          <a:pt x="738" y="936"/>
                        </a:lnTo>
                        <a:lnTo>
                          <a:pt x="705" y="944"/>
                        </a:lnTo>
                        <a:lnTo>
                          <a:pt x="674" y="951"/>
                        </a:lnTo>
                        <a:lnTo>
                          <a:pt x="642" y="954"/>
                        </a:lnTo>
                        <a:lnTo>
                          <a:pt x="608" y="957"/>
                        </a:lnTo>
                        <a:lnTo>
                          <a:pt x="574" y="957"/>
                        </a:lnTo>
                        <a:lnTo>
                          <a:pt x="538" y="956"/>
                        </a:lnTo>
                        <a:lnTo>
                          <a:pt x="500" y="954"/>
                        </a:lnTo>
                        <a:lnTo>
                          <a:pt x="461" y="947"/>
                        </a:lnTo>
                        <a:lnTo>
                          <a:pt x="423" y="939"/>
                        </a:lnTo>
                        <a:lnTo>
                          <a:pt x="384" y="930"/>
                        </a:lnTo>
                        <a:lnTo>
                          <a:pt x="347" y="916"/>
                        </a:lnTo>
                        <a:lnTo>
                          <a:pt x="311" y="901"/>
                        </a:lnTo>
                        <a:lnTo>
                          <a:pt x="276" y="883"/>
                        </a:lnTo>
                        <a:lnTo>
                          <a:pt x="242" y="862"/>
                        </a:lnTo>
                        <a:lnTo>
                          <a:pt x="210" y="841"/>
                        </a:lnTo>
                        <a:lnTo>
                          <a:pt x="180" y="817"/>
                        </a:lnTo>
                        <a:lnTo>
                          <a:pt x="150" y="791"/>
                        </a:lnTo>
                        <a:lnTo>
                          <a:pt x="122" y="764"/>
                        </a:lnTo>
                        <a:lnTo>
                          <a:pt x="97" y="733"/>
                        </a:lnTo>
                        <a:lnTo>
                          <a:pt x="72" y="702"/>
                        </a:lnTo>
                        <a:lnTo>
                          <a:pt x="51" y="671"/>
                        </a:lnTo>
                        <a:lnTo>
                          <a:pt x="33" y="638"/>
                        </a:lnTo>
                        <a:lnTo>
                          <a:pt x="19" y="614"/>
                        </a:lnTo>
                        <a:lnTo>
                          <a:pt x="12" y="590"/>
                        </a:lnTo>
                        <a:lnTo>
                          <a:pt x="5" y="564"/>
                        </a:lnTo>
                        <a:lnTo>
                          <a:pt x="1" y="540"/>
                        </a:lnTo>
                        <a:lnTo>
                          <a:pt x="0" y="514"/>
                        </a:lnTo>
                        <a:lnTo>
                          <a:pt x="0" y="488"/>
                        </a:lnTo>
                        <a:lnTo>
                          <a:pt x="1" y="461"/>
                        </a:lnTo>
                        <a:lnTo>
                          <a:pt x="5" y="436"/>
                        </a:lnTo>
                        <a:lnTo>
                          <a:pt x="13" y="383"/>
                        </a:lnTo>
                        <a:lnTo>
                          <a:pt x="23" y="331"/>
                        </a:lnTo>
                        <a:lnTo>
                          <a:pt x="26" y="304"/>
                        </a:lnTo>
                        <a:lnTo>
                          <a:pt x="29" y="278"/>
                        </a:lnTo>
                        <a:lnTo>
                          <a:pt x="31" y="252"/>
                        </a:lnTo>
                        <a:lnTo>
                          <a:pt x="33" y="227"/>
                        </a:lnTo>
                        <a:lnTo>
                          <a:pt x="48" y="189"/>
                        </a:lnTo>
                        <a:lnTo>
                          <a:pt x="66" y="156"/>
                        </a:lnTo>
                        <a:lnTo>
                          <a:pt x="84" y="125"/>
                        </a:lnTo>
                        <a:lnTo>
                          <a:pt x="104" y="99"/>
                        </a:lnTo>
                        <a:lnTo>
                          <a:pt x="124" y="75"/>
                        </a:lnTo>
                        <a:lnTo>
                          <a:pt x="145" y="56"/>
                        </a:lnTo>
                        <a:lnTo>
                          <a:pt x="168" y="39"/>
                        </a:lnTo>
                        <a:lnTo>
                          <a:pt x="190" y="27"/>
                        </a:lnTo>
                        <a:lnTo>
                          <a:pt x="213" y="17"/>
                        </a:lnTo>
                        <a:lnTo>
                          <a:pt x="237" y="9"/>
                        </a:lnTo>
                        <a:lnTo>
                          <a:pt x="261" y="4"/>
                        </a:lnTo>
                        <a:lnTo>
                          <a:pt x="287" y="1"/>
                        </a:lnTo>
                        <a:lnTo>
                          <a:pt x="313" y="0"/>
                        </a:lnTo>
                        <a:lnTo>
                          <a:pt x="337" y="1"/>
                        </a:lnTo>
                        <a:lnTo>
                          <a:pt x="364" y="4"/>
                        </a:lnTo>
                        <a:lnTo>
                          <a:pt x="390" y="9"/>
                        </a:lnTo>
                        <a:lnTo>
                          <a:pt x="416" y="15"/>
                        </a:lnTo>
                        <a:lnTo>
                          <a:pt x="442" y="21"/>
                        </a:lnTo>
                        <a:lnTo>
                          <a:pt x="470" y="30"/>
                        </a:lnTo>
                        <a:lnTo>
                          <a:pt x="496" y="39"/>
                        </a:lnTo>
                        <a:lnTo>
                          <a:pt x="547" y="60"/>
                        </a:lnTo>
                        <a:lnTo>
                          <a:pt x="597" y="83"/>
                        </a:lnTo>
                        <a:lnTo>
                          <a:pt x="647" y="106"/>
                        </a:lnTo>
                        <a:lnTo>
                          <a:pt x="694" y="127"/>
                        </a:lnTo>
                        <a:lnTo>
                          <a:pt x="738" y="146"/>
                        </a:lnTo>
                        <a:lnTo>
                          <a:pt x="777" y="160"/>
                        </a:lnTo>
                        <a:lnTo>
                          <a:pt x="986" y="3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Freeform 381"/>
                  <p:cNvSpPr/>
                  <p:nvPr/>
                </p:nvSpPr>
                <p:spPr>
                  <a:xfrm>
                    <a:off x="6326640" y="2640240"/>
                    <a:ext cx="230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296">
                        <a:moveTo>
                          <a:pt x="358" y="138"/>
                        </a:moveTo>
                        <a:lnTo>
                          <a:pt x="327" y="162"/>
                        </a:lnTo>
                        <a:lnTo>
                          <a:pt x="296" y="188"/>
                        </a:lnTo>
                        <a:lnTo>
                          <a:pt x="263" y="216"/>
                        </a:lnTo>
                        <a:lnTo>
                          <a:pt x="229" y="240"/>
                        </a:lnTo>
                        <a:lnTo>
                          <a:pt x="210" y="252"/>
                        </a:lnTo>
                        <a:lnTo>
                          <a:pt x="192" y="263"/>
                        </a:lnTo>
                        <a:lnTo>
                          <a:pt x="172" y="272"/>
                        </a:lnTo>
                        <a:lnTo>
                          <a:pt x="152" y="280"/>
                        </a:lnTo>
                        <a:lnTo>
                          <a:pt x="134" y="287"/>
                        </a:lnTo>
                        <a:lnTo>
                          <a:pt x="113" y="293"/>
                        </a:lnTo>
                        <a:lnTo>
                          <a:pt x="93" y="296"/>
                        </a:lnTo>
                        <a:lnTo>
                          <a:pt x="71" y="296"/>
                        </a:lnTo>
                        <a:lnTo>
                          <a:pt x="61" y="280"/>
                        </a:lnTo>
                        <a:lnTo>
                          <a:pt x="48" y="264"/>
                        </a:lnTo>
                        <a:lnTo>
                          <a:pt x="34" y="248"/>
                        </a:lnTo>
                        <a:lnTo>
                          <a:pt x="21" y="233"/>
                        </a:lnTo>
                        <a:lnTo>
                          <a:pt x="14" y="225"/>
                        </a:lnTo>
                        <a:lnTo>
                          <a:pt x="8" y="216"/>
                        </a:lnTo>
                        <a:lnTo>
                          <a:pt x="4" y="207"/>
                        </a:lnTo>
                        <a:lnTo>
                          <a:pt x="1" y="198"/>
                        </a:lnTo>
                        <a:lnTo>
                          <a:pt x="0" y="188"/>
                        </a:lnTo>
                        <a:lnTo>
                          <a:pt x="0" y="178"/>
                        </a:lnTo>
                        <a:lnTo>
                          <a:pt x="1" y="167"/>
                        </a:lnTo>
                        <a:lnTo>
                          <a:pt x="4" y="156"/>
                        </a:lnTo>
                        <a:lnTo>
                          <a:pt x="27" y="146"/>
                        </a:lnTo>
                        <a:lnTo>
                          <a:pt x="51" y="131"/>
                        </a:lnTo>
                        <a:lnTo>
                          <a:pt x="77" y="113"/>
                        </a:lnTo>
                        <a:lnTo>
                          <a:pt x="103" y="95"/>
                        </a:lnTo>
                        <a:lnTo>
                          <a:pt x="132" y="74"/>
                        </a:lnTo>
                        <a:lnTo>
                          <a:pt x="160" y="54"/>
                        </a:lnTo>
                        <a:lnTo>
                          <a:pt x="187" y="35"/>
                        </a:lnTo>
                        <a:lnTo>
                          <a:pt x="214" y="19"/>
                        </a:lnTo>
                        <a:lnTo>
                          <a:pt x="229" y="12"/>
                        </a:lnTo>
                        <a:lnTo>
                          <a:pt x="242" y="7"/>
                        </a:lnTo>
                        <a:lnTo>
                          <a:pt x="253" y="3"/>
                        </a:lnTo>
                        <a:lnTo>
                          <a:pt x="266" y="0"/>
                        </a:lnTo>
                        <a:lnTo>
                          <a:pt x="278" y="0"/>
                        </a:lnTo>
                        <a:lnTo>
                          <a:pt x="288" y="0"/>
                        </a:lnTo>
                        <a:lnTo>
                          <a:pt x="300" y="3"/>
                        </a:lnTo>
                        <a:lnTo>
                          <a:pt x="309" y="7"/>
                        </a:lnTo>
                        <a:lnTo>
                          <a:pt x="319" y="13"/>
                        </a:lnTo>
                        <a:lnTo>
                          <a:pt x="327" y="24"/>
                        </a:lnTo>
                        <a:lnTo>
                          <a:pt x="335" y="35"/>
                        </a:lnTo>
                        <a:lnTo>
                          <a:pt x="341" y="49"/>
                        </a:lnTo>
                        <a:lnTo>
                          <a:pt x="346" y="67"/>
                        </a:lnTo>
                        <a:lnTo>
                          <a:pt x="352" y="86"/>
                        </a:lnTo>
                        <a:lnTo>
                          <a:pt x="356" y="110"/>
                        </a:lnTo>
                        <a:lnTo>
                          <a:pt x="358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382"/>
                  <p:cNvSpPr/>
                  <p:nvPr/>
                </p:nvSpPr>
                <p:spPr>
                  <a:xfrm>
                    <a:off x="6353280" y="2682000"/>
                    <a:ext cx="190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75">
                        <a:moveTo>
                          <a:pt x="290" y="0"/>
                        </a:moveTo>
                        <a:lnTo>
                          <a:pt x="292" y="15"/>
                        </a:lnTo>
                        <a:lnTo>
                          <a:pt x="292" y="27"/>
                        </a:lnTo>
                        <a:lnTo>
                          <a:pt x="292" y="39"/>
                        </a:lnTo>
                        <a:lnTo>
                          <a:pt x="290" y="50"/>
                        </a:lnTo>
                        <a:lnTo>
                          <a:pt x="287" y="62"/>
                        </a:lnTo>
                        <a:lnTo>
                          <a:pt x="283" y="73"/>
                        </a:lnTo>
                        <a:lnTo>
                          <a:pt x="278" y="83"/>
                        </a:lnTo>
                        <a:lnTo>
                          <a:pt x="273" y="92"/>
                        </a:lnTo>
                        <a:lnTo>
                          <a:pt x="259" y="110"/>
                        </a:lnTo>
                        <a:lnTo>
                          <a:pt x="242" y="128"/>
                        </a:lnTo>
                        <a:lnTo>
                          <a:pt x="225" y="142"/>
                        </a:lnTo>
                        <a:lnTo>
                          <a:pt x="204" y="159"/>
                        </a:lnTo>
                        <a:lnTo>
                          <a:pt x="159" y="186"/>
                        </a:lnTo>
                        <a:lnTo>
                          <a:pt x="113" y="213"/>
                        </a:lnTo>
                        <a:lnTo>
                          <a:pt x="91" y="228"/>
                        </a:lnTo>
                        <a:lnTo>
                          <a:pt x="70" y="242"/>
                        </a:lnTo>
                        <a:lnTo>
                          <a:pt x="50" y="259"/>
                        </a:lnTo>
                        <a:lnTo>
                          <a:pt x="35" y="275"/>
                        </a:lnTo>
                        <a:lnTo>
                          <a:pt x="28" y="266"/>
                        </a:lnTo>
                        <a:lnTo>
                          <a:pt x="21" y="262"/>
                        </a:lnTo>
                        <a:lnTo>
                          <a:pt x="15" y="259"/>
                        </a:lnTo>
                        <a:lnTo>
                          <a:pt x="9" y="255"/>
                        </a:lnTo>
                        <a:lnTo>
                          <a:pt x="4" y="252"/>
                        </a:lnTo>
                        <a:lnTo>
                          <a:pt x="0" y="247"/>
                        </a:lnTo>
                        <a:lnTo>
                          <a:pt x="0" y="239"/>
                        </a:lnTo>
                        <a:lnTo>
                          <a:pt x="4" y="227"/>
                        </a:lnTo>
                        <a:lnTo>
                          <a:pt x="9" y="210"/>
                        </a:lnTo>
                        <a:lnTo>
                          <a:pt x="17" y="195"/>
                        </a:lnTo>
                        <a:lnTo>
                          <a:pt x="26" y="181"/>
                        </a:lnTo>
                        <a:lnTo>
                          <a:pt x="38" y="165"/>
                        </a:lnTo>
                        <a:lnTo>
                          <a:pt x="50" y="150"/>
                        </a:lnTo>
                        <a:lnTo>
                          <a:pt x="65" y="138"/>
                        </a:lnTo>
                        <a:lnTo>
                          <a:pt x="80" y="123"/>
                        </a:lnTo>
                        <a:lnTo>
                          <a:pt x="95" y="109"/>
                        </a:lnTo>
                        <a:lnTo>
                          <a:pt x="162" y="53"/>
                        </a:lnTo>
                        <a:lnTo>
                          <a:pt x="224" y="0"/>
                        </a:lnTo>
                        <a:lnTo>
                          <a:pt x="2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383"/>
                  <p:cNvSpPr/>
                  <p:nvPr/>
                </p:nvSpPr>
                <p:spPr>
                  <a:xfrm>
                    <a:off x="6246000" y="27054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0" y="0"/>
                        </a:moveTo>
                        <a:lnTo>
                          <a:pt x="18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Freeform 384"/>
                  <p:cNvSpPr/>
                  <p:nvPr/>
                </p:nvSpPr>
                <p:spPr>
                  <a:xfrm>
                    <a:off x="6384600" y="2719440"/>
                    <a:ext cx="16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31">
                        <a:moveTo>
                          <a:pt x="270" y="11"/>
                        </a:moveTo>
                        <a:lnTo>
                          <a:pt x="263" y="31"/>
                        </a:lnTo>
                        <a:lnTo>
                          <a:pt x="256" y="50"/>
                        </a:lnTo>
                        <a:lnTo>
                          <a:pt x="245" y="71"/>
                        </a:lnTo>
                        <a:lnTo>
                          <a:pt x="233" y="89"/>
                        </a:lnTo>
                        <a:lnTo>
                          <a:pt x="218" y="109"/>
                        </a:lnTo>
                        <a:lnTo>
                          <a:pt x="203" y="124"/>
                        </a:lnTo>
                        <a:lnTo>
                          <a:pt x="186" y="142"/>
                        </a:lnTo>
                        <a:lnTo>
                          <a:pt x="170" y="157"/>
                        </a:lnTo>
                        <a:lnTo>
                          <a:pt x="150" y="171"/>
                        </a:lnTo>
                        <a:lnTo>
                          <a:pt x="131" y="185"/>
                        </a:lnTo>
                        <a:lnTo>
                          <a:pt x="114" y="197"/>
                        </a:lnTo>
                        <a:lnTo>
                          <a:pt x="93" y="207"/>
                        </a:lnTo>
                        <a:lnTo>
                          <a:pt x="73" y="215"/>
                        </a:lnTo>
                        <a:lnTo>
                          <a:pt x="55" y="223"/>
                        </a:lnTo>
                        <a:lnTo>
                          <a:pt x="36" y="228"/>
                        </a:lnTo>
                        <a:lnTo>
                          <a:pt x="18" y="231"/>
                        </a:lnTo>
                        <a:lnTo>
                          <a:pt x="0" y="213"/>
                        </a:lnTo>
                        <a:lnTo>
                          <a:pt x="15" y="202"/>
                        </a:lnTo>
                        <a:lnTo>
                          <a:pt x="29" y="186"/>
                        </a:lnTo>
                        <a:lnTo>
                          <a:pt x="44" y="168"/>
                        </a:lnTo>
                        <a:lnTo>
                          <a:pt x="58" y="149"/>
                        </a:lnTo>
                        <a:lnTo>
                          <a:pt x="86" y="109"/>
                        </a:lnTo>
                        <a:lnTo>
                          <a:pt x="115" y="70"/>
                        </a:lnTo>
                        <a:lnTo>
                          <a:pt x="131" y="50"/>
                        </a:lnTo>
                        <a:lnTo>
                          <a:pt x="147" y="35"/>
                        </a:lnTo>
                        <a:lnTo>
                          <a:pt x="165" y="21"/>
                        </a:lnTo>
                        <a:lnTo>
                          <a:pt x="183" y="11"/>
                        </a:lnTo>
                        <a:lnTo>
                          <a:pt x="192" y="5"/>
                        </a:lnTo>
                        <a:lnTo>
                          <a:pt x="203" y="3"/>
                        </a:lnTo>
                        <a:lnTo>
                          <a:pt x="214" y="0"/>
                        </a:lnTo>
                        <a:lnTo>
                          <a:pt x="223" y="0"/>
                        </a:lnTo>
                        <a:lnTo>
                          <a:pt x="235" y="0"/>
                        </a:lnTo>
                        <a:lnTo>
                          <a:pt x="245" y="2"/>
                        </a:lnTo>
                        <a:lnTo>
                          <a:pt x="259" y="5"/>
                        </a:lnTo>
                        <a:lnTo>
                          <a:pt x="27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385"/>
                  <p:cNvSpPr/>
                  <p:nvPr/>
                </p:nvSpPr>
                <p:spPr>
                  <a:xfrm>
                    <a:off x="6260040" y="2414880"/>
                    <a:ext cx="320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249">
                        <a:moveTo>
                          <a:pt x="499" y="123"/>
                        </a:moveTo>
                        <a:lnTo>
                          <a:pt x="498" y="110"/>
                        </a:lnTo>
                        <a:lnTo>
                          <a:pt x="495" y="97"/>
                        </a:lnTo>
                        <a:lnTo>
                          <a:pt x="488" y="86"/>
                        </a:lnTo>
                        <a:lnTo>
                          <a:pt x="478" y="74"/>
                        </a:lnTo>
                        <a:lnTo>
                          <a:pt x="469" y="63"/>
                        </a:lnTo>
                        <a:lnTo>
                          <a:pt x="455" y="54"/>
                        </a:lnTo>
                        <a:lnTo>
                          <a:pt x="441" y="44"/>
                        </a:lnTo>
                        <a:lnTo>
                          <a:pt x="425" y="35"/>
                        </a:lnTo>
                        <a:lnTo>
                          <a:pt x="407" y="26"/>
                        </a:lnTo>
                        <a:lnTo>
                          <a:pt x="388" y="20"/>
                        </a:lnTo>
                        <a:lnTo>
                          <a:pt x="367" y="14"/>
                        </a:lnTo>
                        <a:lnTo>
                          <a:pt x="346" y="9"/>
                        </a:lnTo>
                        <a:lnTo>
                          <a:pt x="322" y="6"/>
                        </a:lnTo>
                        <a:lnTo>
                          <a:pt x="299" y="2"/>
                        </a:lnTo>
                        <a:lnTo>
                          <a:pt x="274" y="0"/>
                        </a:lnTo>
                        <a:lnTo>
                          <a:pt x="248" y="0"/>
                        </a:lnTo>
                        <a:lnTo>
                          <a:pt x="224" y="0"/>
                        </a:lnTo>
                        <a:lnTo>
                          <a:pt x="198" y="2"/>
                        </a:lnTo>
                        <a:lnTo>
                          <a:pt x="174" y="6"/>
                        </a:lnTo>
                        <a:lnTo>
                          <a:pt x="151" y="10"/>
                        </a:lnTo>
                        <a:lnTo>
                          <a:pt x="130" y="17"/>
                        </a:lnTo>
                        <a:lnTo>
                          <a:pt x="109" y="21"/>
                        </a:lnTo>
                        <a:lnTo>
                          <a:pt x="89" y="30"/>
                        </a:lnTo>
                        <a:lnTo>
                          <a:pt x="72" y="38"/>
                        </a:lnTo>
                        <a:lnTo>
                          <a:pt x="56" y="47"/>
                        </a:lnTo>
                        <a:lnTo>
                          <a:pt x="41" y="57"/>
                        </a:lnTo>
                        <a:lnTo>
                          <a:pt x="29" y="67"/>
                        </a:lnTo>
                        <a:lnTo>
                          <a:pt x="18" y="78"/>
                        </a:lnTo>
                        <a:lnTo>
                          <a:pt x="11" y="89"/>
                        </a:lnTo>
                        <a:lnTo>
                          <a:pt x="4" y="103"/>
                        </a:lnTo>
                        <a:lnTo>
                          <a:pt x="1" y="113"/>
                        </a:lnTo>
                        <a:lnTo>
                          <a:pt x="0" y="127"/>
                        </a:lnTo>
                        <a:lnTo>
                          <a:pt x="1" y="139"/>
                        </a:lnTo>
                        <a:lnTo>
                          <a:pt x="4" y="153"/>
                        </a:lnTo>
                        <a:lnTo>
                          <a:pt x="11" y="163"/>
                        </a:lnTo>
                        <a:lnTo>
                          <a:pt x="21" y="175"/>
                        </a:lnTo>
                        <a:lnTo>
                          <a:pt x="30" y="186"/>
                        </a:lnTo>
                        <a:lnTo>
                          <a:pt x="43" y="195"/>
                        </a:lnTo>
                        <a:lnTo>
                          <a:pt x="57" y="206"/>
                        </a:lnTo>
                        <a:lnTo>
                          <a:pt x="74" y="215"/>
                        </a:lnTo>
                        <a:lnTo>
                          <a:pt x="91" y="224"/>
                        </a:lnTo>
                        <a:lnTo>
                          <a:pt x="110" y="230"/>
                        </a:lnTo>
                        <a:lnTo>
                          <a:pt x="132" y="236"/>
                        </a:lnTo>
                        <a:lnTo>
                          <a:pt x="153" y="241"/>
                        </a:lnTo>
                        <a:lnTo>
                          <a:pt x="175" y="244"/>
                        </a:lnTo>
                        <a:lnTo>
                          <a:pt x="200" y="248"/>
                        </a:lnTo>
                        <a:lnTo>
                          <a:pt x="225" y="249"/>
                        </a:lnTo>
                        <a:lnTo>
                          <a:pt x="251" y="249"/>
                        </a:lnTo>
                        <a:lnTo>
                          <a:pt x="275" y="249"/>
                        </a:lnTo>
                        <a:lnTo>
                          <a:pt x="301" y="248"/>
                        </a:lnTo>
                        <a:lnTo>
                          <a:pt x="325" y="244"/>
                        </a:lnTo>
                        <a:lnTo>
                          <a:pt x="348" y="239"/>
                        </a:lnTo>
                        <a:lnTo>
                          <a:pt x="369" y="233"/>
                        </a:lnTo>
                        <a:lnTo>
                          <a:pt x="390" y="227"/>
                        </a:lnTo>
                        <a:lnTo>
                          <a:pt x="410" y="219"/>
                        </a:lnTo>
                        <a:lnTo>
                          <a:pt x="427" y="212"/>
                        </a:lnTo>
                        <a:lnTo>
                          <a:pt x="443" y="202"/>
                        </a:lnTo>
                        <a:lnTo>
                          <a:pt x="457" y="192"/>
                        </a:lnTo>
                        <a:lnTo>
                          <a:pt x="469" y="183"/>
                        </a:lnTo>
                        <a:lnTo>
                          <a:pt x="480" y="171"/>
                        </a:lnTo>
                        <a:lnTo>
                          <a:pt x="488" y="160"/>
                        </a:lnTo>
                        <a:lnTo>
                          <a:pt x="495" y="147"/>
                        </a:lnTo>
                        <a:lnTo>
                          <a:pt x="498" y="136"/>
                        </a:lnTo>
                        <a:lnTo>
                          <a:pt x="499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386"/>
                  <p:cNvSpPr/>
                  <p:nvPr/>
                </p:nvSpPr>
                <p:spPr>
                  <a:xfrm>
                    <a:off x="6322680" y="2184480"/>
                    <a:ext cx="295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10">
                        <a:moveTo>
                          <a:pt x="459" y="262"/>
                        </a:moveTo>
                        <a:lnTo>
                          <a:pt x="463" y="249"/>
                        </a:lnTo>
                        <a:lnTo>
                          <a:pt x="465" y="236"/>
                        </a:lnTo>
                        <a:lnTo>
                          <a:pt x="465" y="223"/>
                        </a:lnTo>
                        <a:lnTo>
                          <a:pt x="462" y="209"/>
                        </a:lnTo>
                        <a:lnTo>
                          <a:pt x="457" y="194"/>
                        </a:lnTo>
                        <a:lnTo>
                          <a:pt x="450" y="180"/>
                        </a:lnTo>
                        <a:lnTo>
                          <a:pt x="441" y="165"/>
                        </a:lnTo>
                        <a:lnTo>
                          <a:pt x="430" y="150"/>
                        </a:lnTo>
                        <a:lnTo>
                          <a:pt x="418" y="136"/>
                        </a:lnTo>
                        <a:lnTo>
                          <a:pt x="403" y="121"/>
                        </a:lnTo>
                        <a:lnTo>
                          <a:pt x="387" y="107"/>
                        </a:lnTo>
                        <a:lnTo>
                          <a:pt x="369" y="92"/>
                        </a:lnTo>
                        <a:lnTo>
                          <a:pt x="350" y="80"/>
                        </a:lnTo>
                        <a:lnTo>
                          <a:pt x="330" y="67"/>
                        </a:lnTo>
                        <a:lnTo>
                          <a:pt x="308" y="54"/>
                        </a:lnTo>
                        <a:lnTo>
                          <a:pt x="285" y="42"/>
                        </a:lnTo>
                        <a:lnTo>
                          <a:pt x="263" y="32"/>
                        </a:lnTo>
                        <a:lnTo>
                          <a:pt x="239" y="23"/>
                        </a:lnTo>
                        <a:lnTo>
                          <a:pt x="217" y="15"/>
                        </a:lnTo>
                        <a:lnTo>
                          <a:pt x="194" y="11"/>
                        </a:lnTo>
                        <a:lnTo>
                          <a:pt x="171" y="6"/>
                        </a:lnTo>
                        <a:lnTo>
                          <a:pt x="150" y="2"/>
                        </a:lnTo>
                        <a:lnTo>
                          <a:pt x="131" y="0"/>
                        </a:lnTo>
                        <a:lnTo>
                          <a:pt x="111" y="0"/>
                        </a:lnTo>
                        <a:lnTo>
                          <a:pt x="92" y="0"/>
                        </a:lnTo>
                        <a:lnTo>
                          <a:pt x="76" y="3"/>
                        </a:lnTo>
                        <a:lnTo>
                          <a:pt x="60" y="9"/>
                        </a:lnTo>
                        <a:lnTo>
                          <a:pt x="46" y="14"/>
                        </a:lnTo>
                        <a:lnTo>
                          <a:pt x="32" y="20"/>
                        </a:lnTo>
                        <a:lnTo>
                          <a:pt x="23" y="28"/>
                        </a:lnTo>
                        <a:lnTo>
                          <a:pt x="13" y="38"/>
                        </a:lnTo>
                        <a:lnTo>
                          <a:pt x="7" y="49"/>
                        </a:lnTo>
                        <a:lnTo>
                          <a:pt x="3" y="60"/>
                        </a:lnTo>
                        <a:lnTo>
                          <a:pt x="0" y="73"/>
                        </a:lnTo>
                        <a:lnTo>
                          <a:pt x="2" y="88"/>
                        </a:lnTo>
                        <a:lnTo>
                          <a:pt x="3" y="100"/>
                        </a:lnTo>
                        <a:lnTo>
                          <a:pt x="8" y="115"/>
                        </a:lnTo>
                        <a:lnTo>
                          <a:pt x="16" y="130"/>
                        </a:lnTo>
                        <a:lnTo>
                          <a:pt x="25" y="145"/>
                        </a:lnTo>
                        <a:lnTo>
                          <a:pt x="35" y="160"/>
                        </a:lnTo>
                        <a:lnTo>
                          <a:pt x="49" y="174"/>
                        </a:lnTo>
                        <a:lnTo>
                          <a:pt x="63" y="189"/>
                        </a:lnTo>
                        <a:lnTo>
                          <a:pt x="79" y="204"/>
                        </a:lnTo>
                        <a:lnTo>
                          <a:pt x="96" y="218"/>
                        </a:lnTo>
                        <a:lnTo>
                          <a:pt x="114" y="231"/>
                        </a:lnTo>
                        <a:lnTo>
                          <a:pt x="135" y="244"/>
                        </a:lnTo>
                        <a:lnTo>
                          <a:pt x="156" y="257"/>
                        </a:lnTo>
                        <a:lnTo>
                          <a:pt x="179" y="268"/>
                        </a:lnTo>
                        <a:lnTo>
                          <a:pt x="203" y="278"/>
                        </a:lnTo>
                        <a:lnTo>
                          <a:pt x="226" y="287"/>
                        </a:lnTo>
                        <a:lnTo>
                          <a:pt x="249" y="294"/>
                        </a:lnTo>
                        <a:lnTo>
                          <a:pt x="271" y="301"/>
                        </a:lnTo>
                        <a:lnTo>
                          <a:pt x="294" y="306"/>
                        </a:lnTo>
                        <a:lnTo>
                          <a:pt x="315" y="309"/>
                        </a:lnTo>
                        <a:lnTo>
                          <a:pt x="336" y="310"/>
                        </a:lnTo>
                        <a:lnTo>
                          <a:pt x="355" y="310"/>
                        </a:lnTo>
                        <a:lnTo>
                          <a:pt x="373" y="309"/>
                        </a:lnTo>
                        <a:lnTo>
                          <a:pt x="391" y="307"/>
                        </a:lnTo>
                        <a:lnTo>
                          <a:pt x="406" y="302"/>
                        </a:lnTo>
                        <a:lnTo>
                          <a:pt x="421" y="298"/>
                        </a:lnTo>
                        <a:lnTo>
                          <a:pt x="433" y="291"/>
                        </a:lnTo>
                        <a:lnTo>
                          <a:pt x="444" y="283"/>
                        </a:lnTo>
                        <a:lnTo>
                          <a:pt x="451" y="274"/>
                        </a:lnTo>
                        <a:lnTo>
                          <a:pt x="459" y="2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387"/>
                <p:cNvGrpSpPr/>
                <p:nvPr/>
              </p:nvGrpSpPr>
              <p:grpSpPr>
                <a:xfrm>
                  <a:off x="6726960" y="1950840"/>
                  <a:ext cx="349920" cy="174960"/>
                  <a:chOff x="6726960" y="1950840"/>
                  <a:chExt cx="349920" cy="174960"/>
                </a:xfrm>
              </p:grpSpPr>
              <p:sp>
                <p:nvSpPr>
                  <p:cNvPr id="434" name="Freeform 388"/>
                  <p:cNvSpPr/>
                  <p:nvPr/>
                </p:nvSpPr>
                <p:spPr>
                  <a:xfrm>
                    <a:off x="6776640" y="1960920"/>
                    <a:ext cx="82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32">
                        <a:moveTo>
                          <a:pt x="116" y="1"/>
                        </a:moveTo>
                        <a:lnTo>
                          <a:pt x="125" y="23"/>
                        </a:lnTo>
                        <a:lnTo>
                          <a:pt x="130" y="45"/>
                        </a:lnTo>
                        <a:lnTo>
                          <a:pt x="133" y="66"/>
                        </a:lnTo>
                        <a:lnTo>
                          <a:pt x="133" y="87"/>
                        </a:lnTo>
                        <a:lnTo>
                          <a:pt x="133" y="109"/>
                        </a:lnTo>
                        <a:lnTo>
                          <a:pt x="130" y="130"/>
                        </a:lnTo>
                        <a:lnTo>
                          <a:pt x="125" y="151"/>
                        </a:lnTo>
                        <a:lnTo>
                          <a:pt x="119" y="171"/>
                        </a:lnTo>
                        <a:lnTo>
                          <a:pt x="107" y="211"/>
                        </a:lnTo>
                        <a:lnTo>
                          <a:pt x="94" y="254"/>
                        </a:lnTo>
                        <a:lnTo>
                          <a:pt x="83" y="293"/>
                        </a:lnTo>
                        <a:lnTo>
                          <a:pt x="73" y="332"/>
                        </a:lnTo>
                        <a:lnTo>
                          <a:pt x="24" y="332"/>
                        </a:lnTo>
                        <a:lnTo>
                          <a:pt x="24" y="313"/>
                        </a:lnTo>
                        <a:lnTo>
                          <a:pt x="23" y="289"/>
                        </a:lnTo>
                        <a:lnTo>
                          <a:pt x="20" y="261"/>
                        </a:lnTo>
                        <a:lnTo>
                          <a:pt x="15" y="234"/>
                        </a:lnTo>
                        <a:lnTo>
                          <a:pt x="10" y="205"/>
                        </a:lnTo>
                        <a:lnTo>
                          <a:pt x="6" y="176"/>
                        </a:lnTo>
                        <a:lnTo>
                          <a:pt x="3" y="147"/>
                        </a:lnTo>
                        <a:lnTo>
                          <a:pt x="0" y="118"/>
                        </a:lnTo>
                        <a:lnTo>
                          <a:pt x="0" y="90"/>
                        </a:lnTo>
                        <a:lnTo>
                          <a:pt x="4" y="66"/>
                        </a:lnTo>
                        <a:lnTo>
                          <a:pt x="6" y="55"/>
                        </a:lnTo>
                        <a:lnTo>
                          <a:pt x="10" y="45"/>
                        </a:lnTo>
                        <a:lnTo>
                          <a:pt x="15" y="36"/>
                        </a:lnTo>
                        <a:lnTo>
                          <a:pt x="20" y="27"/>
                        </a:lnTo>
                        <a:lnTo>
                          <a:pt x="28" y="19"/>
                        </a:lnTo>
                        <a:lnTo>
                          <a:pt x="36" y="13"/>
                        </a:lnTo>
                        <a:lnTo>
                          <a:pt x="45" y="7"/>
                        </a:lnTo>
                        <a:lnTo>
                          <a:pt x="57" y="4"/>
                        </a:lnTo>
                        <a:lnTo>
                          <a:pt x="69" y="0"/>
                        </a:lnTo>
                        <a:lnTo>
                          <a:pt x="84" y="0"/>
                        </a:lnTo>
                        <a:lnTo>
                          <a:pt x="98" y="0"/>
                        </a:lnTo>
                        <a:lnTo>
                          <a:pt x="116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389"/>
                  <p:cNvSpPr/>
                  <p:nvPr/>
                </p:nvSpPr>
                <p:spPr>
                  <a:xfrm>
                    <a:off x="6822360" y="1969560"/>
                    <a:ext cx="9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331">
                        <a:moveTo>
                          <a:pt x="144" y="1"/>
                        </a:moveTo>
                        <a:lnTo>
                          <a:pt x="148" y="21"/>
                        </a:lnTo>
                        <a:lnTo>
                          <a:pt x="150" y="41"/>
                        </a:lnTo>
                        <a:lnTo>
                          <a:pt x="150" y="62"/>
                        </a:lnTo>
                        <a:lnTo>
                          <a:pt x="148" y="83"/>
                        </a:lnTo>
                        <a:lnTo>
                          <a:pt x="144" y="104"/>
                        </a:lnTo>
                        <a:lnTo>
                          <a:pt x="141" y="125"/>
                        </a:lnTo>
                        <a:lnTo>
                          <a:pt x="136" y="145"/>
                        </a:lnTo>
                        <a:lnTo>
                          <a:pt x="130" y="166"/>
                        </a:lnTo>
                        <a:lnTo>
                          <a:pt x="117" y="207"/>
                        </a:lnTo>
                        <a:lnTo>
                          <a:pt x="103" y="249"/>
                        </a:lnTo>
                        <a:lnTo>
                          <a:pt x="91" y="290"/>
                        </a:lnTo>
                        <a:lnTo>
                          <a:pt x="83" y="331"/>
                        </a:lnTo>
                        <a:lnTo>
                          <a:pt x="67" y="327"/>
                        </a:lnTo>
                        <a:lnTo>
                          <a:pt x="53" y="322"/>
                        </a:lnTo>
                        <a:lnTo>
                          <a:pt x="41" y="317"/>
                        </a:lnTo>
                        <a:lnTo>
                          <a:pt x="30" y="311"/>
                        </a:lnTo>
                        <a:lnTo>
                          <a:pt x="21" y="304"/>
                        </a:lnTo>
                        <a:lnTo>
                          <a:pt x="15" y="296"/>
                        </a:lnTo>
                        <a:lnTo>
                          <a:pt x="9" y="290"/>
                        </a:lnTo>
                        <a:lnTo>
                          <a:pt x="6" y="281"/>
                        </a:lnTo>
                        <a:lnTo>
                          <a:pt x="3" y="273"/>
                        </a:lnTo>
                        <a:lnTo>
                          <a:pt x="0" y="264"/>
                        </a:lnTo>
                        <a:lnTo>
                          <a:pt x="0" y="255"/>
                        </a:lnTo>
                        <a:lnTo>
                          <a:pt x="0" y="246"/>
                        </a:lnTo>
                        <a:lnTo>
                          <a:pt x="4" y="227"/>
                        </a:lnTo>
                        <a:lnTo>
                          <a:pt x="11" y="206"/>
                        </a:lnTo>
                        <a:lnTo>
                          <a:pt x="27" y="162"/>
                        </a:lnTo>
                        <a:lnTo>
                          <a:pt x="43" y="119"/>
                        </a:lnTo>
                        <a:lnTo>
                          <a:pt x="47" y="96"/>
                        </a:lnTo>
                        <a:lnTo>
                          <a:pt x="51" y="74"/>
                        </a:lnTo>
                        <a:lnTo>
                          <a:pt x="53" y="62"/>
                        </a:lnTo>
                        <a:lnTo>
                          <a:pt x="51" y="53"/>
                        </a:lnTo>
                        <a:lnTo>
                          <a:pt x="50" y="41"/>
                        </a:lnTo>
                        <a:lnTo>
                          <a:pt x="47" y="32"/>
                        </a:lnTo>
                        <a:lnTo>
                          <a:pt x="51" y="24"/>
                        </a:lnTo>
                        <a:lnTo>
                          <a:pt x="56" y="19"/>
                        </a:lnTo>
                        <a:lnTo>
                          <a:pt x="61" y="14"/>
                        </a:lnTo>
                        <a:lnTo>
                          <a:pt x="67" y="9"/>
                        </a:lnTo>
                        <a:lnTo>
                          <a:pt x="79" y="4"/>
                        </a:lnTo>
                        <a:lnTo>
                          <a:pt x="91" y="1"/>
                        </a:lnTo>
                        <a:lnTo>
                          <a:pt x="117" y="0"/>
                        </a:lnTo>
                        <a:lnTo>
                          <a:pt x="144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Freeform 390"/>
                  <p:cNvSpPr/>
                  <p:nvPr/>
                </p:nvSpPr>
                <p:spPr>
                  <a:xfrm>
                    <a:off x="6868800" y="1980360"/>
                    <a:ext cx="108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336">
                        <a:moveTo>
                          <a:pt x="167" y="0"/>
                        </a:moveTo>
                        <a:lnTo>
                          <a:pt x="160" y="44"/>
                        </a:lnTo>
                        <a:lnTo>
                          <a:pt x="151" y="91"/>
                        </a:lnTo>
                        <a:lnTo>
                          <a:pt x="140" y="139"/>
                        </a:lnTo>
                        <a:lnTo>
                          <a:pt x="125" y="186"/>
                        </a:lnTo>
                        <a:lnTo>
                          <a:pt x="116" y="209"/>
                        </a:lnTo>
                        <a:lnTo>
                          <a:pt x="107" y="232"/>
                        </a:lnTo>
                        <a:lnTo>
                          <a:pt x="95" y="254"/>
                        </a:lnTo>
                        <a:lnTo>
                          <a:pt x="82" y="274"/>
                        </a:lnTo>
                        <a:lnTo>
                          <a:pt x="66" y="294"/>
                        </a:lnTo>
                        <a:lnTo>
                          <a:pt x="50" y="310"/>
                        </a:lnTo>
                        <a:lnTo>
                          <a:pt x="40" y="318"/>
                        </a:lnTo>
                        <a:lnTo>
                          <a:pt x="30" y="324"/>
                        </a:lnTo>
                        <a:lnTo>
                          <a:pt x="21" y="330"/>
                        </a:lnTo>
                        <a:lnTo>
                          <a:pt x="10" y="336"/>
                        </a:lnTo>
                        <a:lnTo>
                          <a:pt x="4" y="318"/>
                        </a:lnTo>
                        <a:lnTo>
                          <a:pt x="1" y="298"/>
                        </a:lnTo>
                        <a:lnTo>
                          <a:pt x="0" y="277"/>
                        </a:lnTo>
                        <a:lnTo>
                          <a:pt x="1" y="257"/>
                        </a:lnTo>
                        <a:lnTo>
                          <a:pt x="3" y="237"/>
                        </a:lnTo>
                        <a:lnTo>
                          <a:pt x="7" y="215"/>
                        </a:lnTo>
                        <a:lnTo>
                          <a:pt x="13" y="194"/>
                        </a:lnTo>
                        <a:lnTo>
                          <a:pt x="19" y="171"/>
                        </a:lnTo>
                        <a:lnTo>
                          <a:pt x="36" y="127"/>
                        </a:lnTo>
                        <a:lnTo>
                          <a:pt x="53" y="83"/>
                        </a:lnTo>
                        <a:lnTo>
                          <a:pt x="71" y="42"/>
                        </a:lnTo>
                        <a:lnTo>
                          <a:pt x="89" y="0"/>
                        </a:lnTo>
                        <a:lnTo>
                          <a:pt x="16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391"/>
                  <p:cNvSpPr/>
                  <p:nvPr/>
                </p:nvSpPr>
                <p:spPr>
                  <a:xfrm>
                    <a:off x="6912360" y="199728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01">
                        <a:moveTo>
                          <a:pt x="177" y="0"/>
                        </a:moveTo>
                        <a:lnTo>
                          <a:pt x="180" y="12"/>
                        </a:lnTo>
                        <a:lnTo>
                          <a:pt x="185" y="23"/>
                        </a:lnTo>
                        <a:lnTo>
                          <a:pt x="187" y="33"/>
                        </a:lnTo>
                        <a:lnTo>
                          <a:pt x="188" y="44"/>
                        </a:lnTo>
                        <a:lnTo>
                          <a:pt x="188" y="63"/>
                        </a:lnTo>
                        <a:lnTo>
                          <a:pt x="185" y="83"/>
                        </a:lnTo>
                        <a:lnTo>
                          <a:pt x="178" y="102"/>
                        </a:lnTo>
                        <a:lnTo>
                          <a:pt x="170" y="119"/>
                        </a:lnTo>
                        <a:lnTo>
                          <a:pt x="161" y="137"/>
                        </a:lnTo>
                        <a:lnTo>
                          <a:pt x="149" y="155"/>
                        </a:lnTo>
                        <a:lnTo>
                          <a:pt x="125" y="190"/>
                        </a:lnTo>
                        <a:lnTo>
                          <a:pt x="99" y="226"/>
                        </a:lnTo>
                        <a:lnTo>
                          <a:pt x="90" y="243"/>
                        </a:lnTo>
                        <a:lnTo>
                          <a:pt x="80" y="261"/>
                        </a:lnTo>
                        <a:lnTo>
                          <a:pt x="72" y="281"/>
                        </a:lnTo>
                        <a:lnTo>
                          <a:pt x="66" y="301"/>
                        </a:lnTo>
                        <a:lnTo>
                          <a:pt x="0" y="301"/>
                        </a:lnTo>
                        <a:lnTo>
                          <a:pt x="10" y="257"/>
                        </a:lnTo>
                        <a:lnTo>
                          <a:pt x="24" y="210"/>
                        </a:lnTo>
                        <a:lnTo>
                          <a:pt x="30" y="186"/>
                        </a:lnTo>
                        <a:lnTo>
                          <a:pt x="36" y="162"/>
                        </a:lnTo>
                        <a:lnTo>
                          <a:pt x="45" y="139"/>
                        </a:lnTo>
                        <a:lnTo>
                          <a:pt x="53" y="116"/>
                        </a:lnTo>
                        <a:lnTo>
                          <a:pt x="64" y="94"/>
                        </a:lnTo>
                        <a:lnTo>
                          <a:pt x="74" y="74"/>
                        </a:lnTo>
                        <a:lnTo>
                          <a:pt x="87" y="56"/>
                        </a:lnTo>
                        <a:lnTo>
                          <a:pt x="101" y="39"/>
                        </a:lnTo>
                        <a:lnTo>
                          <a:pt x="109" y="33"/>
                        </a:lnTo>
                        <a:lnTo>
                          <a:pt x="117" y="24"/>
                        </a:lnTo>
                        <a:lnTo>
                          <a:pt x="125" y="20"/>
                        </a:lnTo>
                        <a:lnTo>
                          <a:pt x="134" y="13"/>
                        </a:lnTo>
                        <a:lnTo>
                          <a:pt x="145" y="10"/>
                        </a:lnTo>
                        <a:lnTo>
                          <a:pt x="154" y="6"/>
                        </a:lnTo>
                        <a:lnTo>
                          <a:pt x="166" y="1"/>
                        </a:lnTo>
                        <a:lnTo>
                          <a:pt x="1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392"/>
                  <p:cNvSpPr/>
                  <p:nvPr/>
                </p:nvSpPr>
                <p:spPr>
                  <a:xfrm>
                    <a:off x="6991560" y="2046240"/>
                    <a:ext cx="158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82">
                        <a:moveTo>
                          <a:pt x="238" y="0"/>
                        </a:moveTo>
                        <a:lnTo>
                          <a:pt x="241" y="9"/>
                        </a:lnTo>
                        <a:lnTo>
                          <a:pt x="244" y="21"/>
                        </a:lnTo>
                        <a:lnTo>
                          <a:pt x="245" y="30"/>
                        </a:lnTo>
                        <a:lnTo>
                          <a:pt x="245" y="40"/>
                        </a:lnTo>
                        <a:lnTo>
                          <a:pt x="244" y="50"/>
                        </a:lnTo>
                        <a:lnTo>
                          <a:pt x="242" y="59"/>
                        </a:lnTo>
                        <a:lnTo>
                          <a:pt x="239" y="68"/>
                        </a:lnTo>
                        <a:lnTo>
                          <a:pt x="236" y="77"/>
                        </a:lnTo>
                        <a:lnTo>
                          <a:pt x="227" y="95"/>
                        </a:lnTo>
                        <a:lnTo>
                          <a:pt x="215" y="111"/>
                        </a:lnTo>
                        <a:lnTo>
                          <a:pt x="203" y="127"/>
                        </a:lnTo>
                        <a:lnTo>
                          <a:pt x="186" y="144"/>
                        </a:lnTo>
                        <a:lnTo>
                          <a:pt x="156" y="175"/>
                        </a:lnTo>
                        <a:lnTo>
                          <a:pt x="123" y="209"/>
                        </a:lnTo>
                        <a:lnTo>
                          <a:pt x="109" y="225"/>
                        </a:lnTo>
                        <a:lnTo>
                          <a:pt x="97" y="243"/>
                        </a:lnTo>
                        <a:lnTo>
                          <a:pt x="86" y="263"/>
                        </a:lnTo>
                        <a:lnTo>
                          <a:pt x="80" y="282"/>
                        </a:lnTo>
                        <a:lnTo>
                          <a:pt x="0" y="282"/>
                        </a:lnTo>
                        <a:lnTo>
                          <a:pt x="2" y="260"/>
                        </a:lnTo>
                        <a:lnTo>
                          <a:pt x="9" y="240"/>
                        </a:lnTo>
                        <a:lnTo>
                          <a:pt x="17" y="222"/>
                        </a:lnTo>
                        <a:lnTo>
                          <a:pt x="24" y="203"/>
                        </a:lnTo>
                        <a:lnTo>
                          <a:pt x="36" y="185"/>
                        </a:lnTo>
                        <a:lnTo>
                          <a:pt x="49" y="169"/>
                        </a:lnTo>
                        <a:lnTo>
                          <a:pt x="62" y="151"/>
                        </a:lnTo>
                        <a:lnTo>
                          <a:pt x="76" y="135"/>
                        </a:lnTo>
                        <a:lnTo>
                          <a:pt x="106" y="103"/>
                        </a:lnTo>
                        <a:lnTo>
                          <a:pt x="133" y="71"/>
                        </a:lnTo>
                        <a:lnTo>
                          <a:pt x="145" y="53"/>
                        </a:lnTo>
                        <a:lnTo>
                          <a:pt x="157" y="35"/>
                        </a:lnTo>
                        <a:lnTo>
                          <a:pt x="168" y="17"/>
                        </a:lnTo>
                        <a:lnTo>
                          <a:pt x="177" y="0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393"/>
                  <p:cNvSpPr/>
                  <p:nvPr/>
                </p:nvSpPr>
                <p:spPr>
                  <a:xfrm>
                    <a:off x="7029360" y="207612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69">
                        <a:moveTo>
                          <a:pt x="223" y="0"/>
                        </a:moveTo>
                        <a:lnTo>
                          <a:pt x="226" y="14"/>
                        </a:lnTo>
                        <a:lnTo>
                          <a:pt x="228" y="27"/>
                        </a:lnTo>
                        <a:lnTo>
                          <a:pt x="228" y="40"/>
                        </a:lnTo>
                        <a:lnTo>
                          <a:pt x="226" y="53"/>
                        </a:lnTo>
                        <a:lnTo>
                          <a:pt x="225" y="64"/>
                        </a:lnTo>
                        <a:lnTo>
                          <a:pt x="222" y="76"/>
                        </a:lnTo>
                        <a:lnTo>
                          <a:pt x="217" y="87"/>
                        </a:lnTo>
                        <a:lnTo>
                          <a:pt x="213" y="97"/>
                        </a:lnTo>
                        <a:lnTo>
                          <a:pt x="202" y="117"/>
                        </a:lnTo>
                        <a:lnTo>
                          <a:pt x="187" y="135"/>
                        </a:lnTo>
                        <a:lnTo>
                          <a:pt x="172" y="151"/>
                        </a:lnTo>
                        <a:lnTo>
                          <a:pt x="152" y="167"/>
                        </a:lnTo>
                        <a:lnTo>
                          <a:pt x="113" y="197"/>
                        </a:lnTo>
                        <a:lnTo>
                          <a:pt x="71" y="222"/>
                        </a:lnTo>
                        <a:lnTo>
                          <a:pt x="34" y="247"/>
                        </a:lnTo>
                        <a:lnTo>
                          <a:pt x="2" y="269"/>
                        </a:lnTo>
                        <a:lnTo>
                          <a:pt x="0" y="251"/>
                        </a:lnTo>
                        <a:lnTo>
                          <a:pt x="0" y="232"/>
                        </a:lnTo>
                        <a:lnTo>
                          <a:pt x="5" y="212"/>
                        </a:lnTo>
                        <a:lnTo>
                          <a:pt x="10" y="195"/>
                        </a:lnTo>
                        <a:lnTo>
                          <a:pt x="19" y="177"/>
                        </a:lnTo>
                        <a:lnTo>
                          <a:pt x="30" y="159"/>
                        </a:lnTo>
                        <a:lnTo>
                          <a:pt x="42" y="141"/>
                        </a:lnTo>
                        <a:lnTo>
                          <a:pt x="55" y="126"/>
                        </a:lnTo>
                        <a:lnTo>
                          <a:pt x="86" y="91"/>
                        </a:lnTo>
                        <a:lnTo>
                          <a:pt x="116" y="59"/>
                        </a:lnTo>
                        <a:lnTo>
                          <a:pt x="146" y="29"/>
                        </a:lnTo>
                        <a:lnTo>
                          <a:pt x="175" y="0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394"/>
                  <p:cNvSpPr/>
                  <p:nvPr/>
                </p:nvSpPr>
                <p:spPr>
                  <a:xfrm>
                    <a:off x="7060680" y="211032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41">
                        <a:moveTo>
                          <a:pt x="252" y="4"/>
                        </a:moveTo>
                        <a:lnTo>
                          <a:pt x="248" y="22"/>
                        </a:lnTo>
                        <a:lnTo>
                          <a:pt x="244" y="40"/>
                        </a:lnTo>
                        <a:lnTo>
                          <a:pt x="236" y="60"/>
                        </a:lnTo>
                        <a:lnTo>
                          <a:pt x="225" y="78"/>
                        </a:lnTo>
                        <a:lnTo>
                          <a:pt x="213" y="93"/>
                        </a:lnTo>
                        <a:lnTo>
                          <a:pt x="200" y="111"/>
                        </a:lnTo>
                        <a:lnTo>
                          <a:pt x="186" y="128"/>
                        </a:lnTo>
                        <a:lnTo>
                          <a:pt x="169" y="142"/>
                        </a:lnTo>
                        <a:lnTo>
                          <a:pt x="136" y="173"/>
                        </a:lnTo>
                        <a:lnTo>
                          <a:pt x="100" y="199"/>
                        </a:lnTo>
                        <a:lnTo>
                          <a:pt x="65" y="223"/>
                        </a:lnTo>
                        <a:lnTo>
                          <a:pt x="30" y="241"/>
                        </a:lnTo>
                        <a:lnTo>
                          <a:pt x="0" y="211"/>
                        </a:lnTo>
                        <a:lnTo>
                          <a:pt x="6" y="194"/>
                        </a:lnTo>
                        <a:lnTo>
                          <a:pt x="15" y="176"/>
                        </a:lnTo>
                        <a:lnTo>
                          <a:pt x="24" y="156"/>
                        </a:lnTo>
                        <a:lnTo>
                          <a:pt x="34" y="137"/>
                        </a:lnTo>
                        <a:lnTo>
                          <a:pt x="47" y="117"/>
                        </a:lnTo>
                        <a:lnTo>
                          <a:pt x="60" y="99"/>
                        </a:lnTo>
                        <a:lnTo>
                          <a:pt x="74" y="81"/>
                        </a:lnTo>
                        <a:lnTo>
                          <a:pt x="89" y="63"/>
                        </a:lnTo>
                        <a:lnTo>
                          <a:pt x="107" y="46"/>
                        </a:lnTo>
                        <a:lnTo>
                          <a:pt x="124" y="32"/>
                        </a:lnTo>
                        <a:lnTo>
                          <a:pt x="142" y="21"/>
                        </a:lnTo>
                        <a:lnTo>
                          <a:pt x="163" y="11"/>
                        </a:lnTo>
                        <a:lnTo>
                          <a:pt x="172" y="7"/>
                        </a:lnTo>
                        <a:lnTo>
                          <a:pt x="184" y="4"/>
                        </a:lnTo>
                        <a:lnTo>
                          <a:pt x="194" y="2"/>
                        </a:lnTo>
                        <a:lnTo>
                          <a:pt x="205" y="0"/>
                        </a:lnTo>
                        <a:lnTo>
                          <a:pt x="216" y="0"/>
                        </a:lnTo>
                        <a:lnTo>
                          <a:pt x="228" y="0"/>
                        </a:lnTo>
                        <a:lnTo>
                          <a:pt x="240" y="2"/>
                        </a:lnTo>
                        <a:lnTo>
                          <a:pt x="25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395"/>
                  <p:cNvSpPr/>
                  <p:nvPr/>
                </p:nvSpPr>
                <p:spPr>
                  <a:xfrm>
                    <a:off x="6726960" y="1950840"/>
                    <a:ext cx="162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99">
                        <a:moveTo>
                          <a:pt x="127" y="499"/>
                        </a:moveTo>
                        <a:lnTo>
                          <a:pt x="140" y="498"/>
                        </a:lnTo>
                        <a:lnTo>
                          <a:pt x="153" y="494"/>
                        </a:lnTo>
                        <a:lnTo>
                          <a:pt x="165" y="488"/>
                        </a:lnTo>
                        <a:lnTo>
                          <a:pt x="175" y="478"/>
                        </a:lnTo>
                        <a:lnTo>
                          <a:pt x="187" y="469"/>
                        </a:lnTo>
                        <a:lnTo>
                          <a:pt x="197" y="455"/>
                        </a:lnTo>
                        <a:lnTo>
                          <a:pt x="206" y="441"/>
                        </a:lnTo>
                        <a:lnTo>
                          <a:pt x="216" y="425"/>
                        </a:lnTo>
                        <a:lnTo>
                          <a:pt x="222" y="408"/>
                        </a:lnTo>
                        <a:lnTo>
                          <a:pt x="230" y="388"/>
                        </a:lnTo>
                        <a:lnTo>
                          <a:pt x="237" y="367"/>
                        </a:lnTo>
                        <a:lnTo>
                          <a:pt x="242" y="346"/>
                        </a:lnTo>
                        <a:lnTo>
                          <a:pt x="245" y="322"/>
                        </a:lnTo>
                        <a:lnTo>
                          <a:pt x="248" y="299"/>
                        </a:lnTo>
                        <a:lnTo>
                          <a:pt x="250" y="274"/>
                        </a:lnTo>
                        <a:lnTo>
                          <a:pt x="250" y="248"/>
                        </a:lnTo>
                        <a:lnTo>
                          <a:pt x="250" y="222"/>
                        </a:lnTo>
                        <a:lnTo>
                          <a:pt x="246" y="198"/>
                        </a:lnTo>
                        <a:lnTo>
                          <a:pt x="243" y="174"/>
                        </a:lnTo>
                        <a:lnTo>
                          <a:pt x="240" y="151"/>
                        </a:lnTo>
                        <a:lnTo>
                          <a:pt x="233" y="130"/>
                        </a:lnTo>
                        <a:lnTo>
                          <a:pt x="227" y="109"/>
                        </a:lnTo>
                        <a:lnTo>
                          <a:pt x="221" y="89"/>
                        </a:lnTo>
                        <a:lnTo>
                          <a:pt x="213" y="72"/>
                        </a:lnTo>
                        <a:lnTo>
                          <a:pt x="203" y="56"/>
                        </a:lnTo>
                        <a:lnTo>
                          <a:pt x="193" y="41"/>
                        </a:lnTo>
                        <a:lnTo>
                          <a:pt x="183" y="29"/>
                        </a:lnTo>
                        <a:lnTo>
                          <a:pt x="172" y="19"/>
                        </a:lnTo>
                        <a:lnTo>
                          <a:pt x="162" y="11"/>
                        </a:lnTo>
                        <a:lnTo>
                          <a:pt x="148" y="4"/>
                        </a:lnTo>
                        <a:lnTo>
                          <a:pt x="137" y="1"/>
                        </a:lnTo>
                        <a:lnTo>
                          <a:pt x="124" y="0"/>
                        </a:lnTo>
                        <a:lnTo>
                          <a:pt x="111" y="1"/>
                        </a:lnTo>
                        <a:lnTo>
                          <a:pt x="98" y="4"/>
                        </a:lnTo>
                        <a:lnTo>
                          <a:pt x="86" y="11"/>
                        </a:lnTo>
                        <a:lnTo>
                          <a:pt x="76" y="21"/>
                        </a:lnTo>
                        <a:lnTo>
                          <a:pt x="65" y="30"/>
                        </a:lnTo>
                        <a:lnTo>
                          <a:pt x="54" y="43"/>
                        </a:lnTo>
                        <a:lnTo>
                          <a:pt x="45" y="57"/>
                        </a:lnTo>
                        <a:lnTo>
                          <a:pt x="35" y="74"/>
                        </a:lnTo>
                        <a:lnTo>
                          <a:pt x="27" y="92"/>
                        </a:lnTo>
                        <a:lnTo>
                          <a:pt x="21" y="110"/>
                        </a:lnTo>
                        <a:lnTo>
                          <a:pt x="14" y="132"/>
                        </a:lnTo>
                        <a:lnTo>
                          <a:pt x="9" y="153"/>
                        </a:lnTo>
                        <a:lnTo>
                          <a:pt x="6" y="177"/>
                        </a:lnTo>
                        <a:lnTo>
                          <a:pt x="3" y="199"/>
                        </a:lnTo>
                        <a:lnTo>
                          <a:pt x="1" y="225"/>
                        </a:lnTo>
                        <a:lnTo>
                          <a:pt x="0" y="251"/>
                        </a:lnTo>
                        <a:lnTo>
                          <a:pt x="1" y="275"/>
                        </a:lnTo>
                        <a:lnTo>
                          <a:pt x="3" y="301"/>
                        </a:lnTo>
                        <a:lnTo>
                          <a:pt x="6" y="325"/>
                        </a:lnTo>
                        <a:lnTo>
                          <a:pt x="11" y="348"/>
                        </a:lnTo>
                        <a:lnTo>
                          <a:pt x="16" y="369"/>
                        </a:lnTo>
                        <a:lnTo>
                          <a:pt x="23" y="390"/>
                        </a:lnTo>
                        <a:lnTo>
                          <a:pt x="30" y="409"/>
                        </a:lnTo>
                        <a:lnTo>
                          <a:pt x="38" y="427"/>
                        </a:lnTo>
                        <a:lnTo>
                          <a:pt x="48" y="443"/>
                        </a:lnTo>
                        <a:lnTo>
                          <a:pt x="58" y="458"/>
                        </a:lnTo>
                        <a:lnTo>
                          <a:pt x="68" y="469"/>
                        </a:lnTo>
                        <a:lnTo>
                          <a:pt x="79" y="481"/>
                        </a:lnTo>
                        <a:lnTo>
                          <a:pt x="90" y="488"/>
                        </a:lnTo>
                        <a:lnTo>
                          <a:pt x="103" y="494"/>
                        </a:lnTo>
                        <a:lnTo>
                          <a:pt x="115" y="498"/>
                        </a:lnTo>
                        <a:lnTo>
                          <a:pt x="127" y="4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Freeform 396"/>
                  <p:cNvSpPr/>
                  <p:nvPr/>
                </p:nvSpPr>
                <p:spPr>
                  <a:xfrm>
                    <a:off x="6951600" y="2011680"/>
                    <a:ext cx="180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481">
                        <a:moveTo>
                          <a:pt x="215" y="3"/>
                        </a:moveTo>
                        <a:lnTo>
                          <a:pt x="225" y="8"/>
                        </a:lnTo>
                        <a:lnTo>
                          <a:pt x="236" y="15"/>
                        </a:lnTo>
                        <a:lnTo>
                          <a:pt x="246" y="26"/>
                        </a:lnTo>
                        <a:lnTo>
                          <a:pt x="254" y="36"/>
                        </a:lnTo>
                        <a:lnTo>
                          <a:pt x="263" y="50"/>
                        </a:lnTo>
                        <a:lnTo>
                          <a:pt x="268" y="64"/>
                        </a:lnTo>
                        <a:lnTo>
                          <a:pt x="272" y="80"/>
                        </a:lnTo>
                        <a:lnTo>
                          <a:pt x="277" y="100"/>
                        </a:lnTo>
                        <a:lnTo>
                          <a:pt x="278" y="118"/>
                        </a:lnTo>
                        <a:lnTo>
                          <a:pt x="280" y="138"/>
                        </a:lnTo>
                        <a:lnTo>
                          <a:pt x="280" y="161"/>
                        </a:lnTo>
                        <a:lnTo>
                          <a:pt x="278" y="183"/>
                        </a:lnTo>
                        <a:lnTo>
                          <a:pt x="275" y="206"/>
                        </a:lnTo>
                        <a:lnTo>
                          <a:pt x="271" y="230"/>
                        </a:lnTo>
                        <a:lnTo>
                          <a:pt x="266" y="254"/>
                        </a:lnTo>
                        <a:lnTo>
                          <a:pt x="259" y="278"/>
                        </a:lnTo>
                        <a:lnTo>
                          <a:pt x="251" y="303"/>
                        </a:lnTo>
                        <a:lnTo>
                          <a:pt x="242" y="325"/>
                        </a:lnTo>
                        <a:lnTo>
                          <a:pt x="232" y="348"/>
                        </a:lnTo>
                        <a:lnTo>
                          <a:pt x="221" y="369"/>
                        </a:lnTo>
                        <a:lnTo>
                          <a:pt x="209" y="389"/>
                        </a:lnTo>
                        <a:lnTo>
                          <a:pt x="197" y="406"/>
                        </a:lnTo>
                        <a:lnTo>
                          <a:pt x="183" y="422"/>
                        </a:lnTo>
                        <a:lnTo>
                          <a:pt x="171" y="437"/>
                        </a:lnTo>
                        <a:lnTo>
                          <a:pt x="157" y="449"/>
                        </a:lnTo>
                        <a:lnTo>
                          <a:pt x="145" y="459"/>
                        </a:lnTo>
                        <a:lnTo>
                          <a:pt x="130" y="469"/>
                        </a:lnTo>
                        <a:lnTo>
                          <a:pt x="118" y="475"/>
                        </a:lnTo>
                        <a:lnTo>
                          <a:pt x="104" y="480"/>
                        </a:lnTo>
                        <a:lnTo>
                          <a:pt x="89" y="481"/>
                        </a:lnTo>
                        <a:lnTo>
                          <a:pt x="77" y="481"/>
                        </a:lnTo>
                        <a:lnTo>
                          <a:pt x="65" y="480"/>
                        </a:lnTo>
                        <a:lnTo>
                          <a:pt x="53" y="475"/>
                        </a:lnTo>
                        <a:lnTo>
                          <a:pt x="44" y="467"/>
                        </a:lnTo>
                        <a:lnTo>
                          <a:pt x="33" y="457"/>
                        </a:lnTo>
                        <a:lnTo>
                          <a:pt x="24" y="446"/>
                        </a:lnTo>
                        <a:lnTo>
                          <a:pt x="17" y="433"/>
                        </a:lnTo>
                        <a:lnTo>
                          <a:pt x="11" y="417"/>
                        </a:lnTo>
                        <a:lnTo>
                          <a:pt x="6" y="401"/>
                        </a:lnTo>
                        <a:lnTo>
                          <a:pt x="3" y="383"/>
                        </a:lnTo>
                        <a:lnTo>
                          <a:pt x="0" y="364"/>
                        </a:lnTo>
                        <a:lnTo>
                          <a:pt x="0" y="343"/>
                        </a:lnTo>
                        <a:lnTo>
                          <a:pt x="0" y="322"/>
                        </a:lnTo>
                        <a:lnTo>
                          <a:pt x="1" y="300"/>
                        </a:lnTo>
                        <a:lnTo>
                          <a:pt x="3" y="277"/>
                        </a:lnTo>
                        <a:lnTo>
                          <a:pt x="8" y="253"/>
                        </a:lnTo>
                        <a:lnTo>
                          <a:pt x="12" y="228"/>
                        </a:lnTo>
                        <a:lnTo>
                          <a:pt x="21" y="204"/>
                        </a:lnTo>
                        <a:lnTo>
                          <a:pt x="29" y="180"/>
                        </a:lnTo>
                        <a:lnTo>
                          <a:pt x="38" y="156"/>
                        </a:lnTo>
                        <a:lnTo>
                          <a:pt x="48" y="135"/>
                        </a:lnTo>
                        <a:lnTo>
                          <a:pt x="59" y="114"/>
                        </a:lnTo>
                        <a:lnTo>
                          <a:pt x="71" y="94"/>
                        </a:lnTo>
                        <a:lnTo>
                          <a:pt x="82" y="77"/>
                        </a:lnTo>
                        <a:lnTo>
                          <a:pt x="95" y="61"/>
                        </a:lnTo>
                        <a:lnTo>
                          <a:pt x="107" y="46"/>
                        </a:lnTo>
                        <a:lnTo>
                          <a:pt x="121" y="33"/>
                        </a:lnTo>
                        <a:lnTo>
                          <a:pt x="135" y="23"/>
                        </a:lnTo>
                        <a:lnTo>
                          <a:pt x="148" y="14"/>
                        </a:lnTo>
                        <a:lnTo>
                          <a:pt x="162" y="8"/>
                        </a:lnTo>
                        <a:lnTo>
                          <a:pt x="175" y="3"/>
                        </a:lnTo>
                        <a:lnTo>
                          <a:pt x="189" y="0"/>
                        </a:lnTo>
                        <a:lnTo>
                          <a:pt x="201" y="0"/>
                        </a:lnTo>
                        <a:lnTo>
                          <a:pt x="21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Group 397"/>
                <p:cNvGrpSpPr/>
                <p:nvPr/>
              </p:nvGrpSpPr>
              <p:grpSpPr>
                <a:xfrm>
                  <a:off x="7062480" y="2149920"/>
                  <a:ext cx="138960" cy="583920"/>
                  <a:chOff x="7062480" y="2149920"/>
                  <a:chExt cx="138960" cy="583920"/>
                </a:xfrm>
              </p:grpSpPr>
              <p:sp>
                <p:nvSpPr>
                  <p:cNvPr id="444" name="Freeform 398"/>
                  <p:cNvSpPr/>
                  <p:nvPr/>
                </p:nvSpPr>
                <p:spPr>
                  <a:xfrm>
                    <a:off x="7166160" y="2510640"/>
                    <a:ext cx="223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163">
                        <a:moveTo>
                          <a:pt x="346" y="147"/>
                        </a:moveTo>
                        <a:lnTo>
                          <a:pt x="322" y="156"/>
                        </a:lnTo>
                        <a:lnTo>
                          <a:pt x="299" y="160"/>
                        </a:lnTo>
                        <a:lnTo>
                          <a:pt x="277" y="162"/>
                        </a:lnTo>
                        <a:lnTo>
                          <a:pt x="256" y="163"/>
                        </a:lnTo>
                        <a:lnTo>
                          <a:pt x="233" y="162"/>
                        </a:lnTo>
                        <a:lnTo>
                          <a:pt x="212" y="159"/>
                        </a:lnTo>
                        <a:lnTo>
                          <a:pt x="192" y="154"/>
                        </a:lnTo>
                        <a:lnTo>
                          <a:pt x="171" y="149"/>
                        </a:lnTo>
                        <a:lnTo>
                          <a:pt x="128" y="135"/>
                        </a:lnTo>
                        <a:lnTo>
                          <a:pt x="88" y="117"/>
                        </a:lnTo>
                        <a:lnTo>
                          <a:pt x="50" y="99"/>
                        </a:lnTo>
                        <a:lnTo>
                          <a:pt x="11" y="82"/>
                        </a:lnTo>
                        <a:lnTo>
                          <a:pt x="4" y="70"/>
                        </a:lnTo>
                        <a:lnTo>
                          <a:pt x="1" y="61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3" y="29"/>
                        </a:lnTo>
                        <a:lnTo>
                          <a:pt x="7" y="20"/>
                        </a:lnTo>
                        <a:lnTo>
                          <a:pt x="15" y="11"/>
                        </a:lnTo>
                        <a:lnTo>
                          <a:pt x="29" y="0"/>
                        </a:lnTo>
                        <a:lnTo>
                          <a:pt x="74" y="7"/>
                        </a:lnTo>
                        <a:lnTo>
                          <a:pt x="124" y="14"/>
                        </a:lnTo>
                        <a:lnTo>
                          <a:pt x="148" y="17"/>
                        </a:lnTo>
                        <a:lnTo>
                          <a:pt x="172" y="21"/>
                        </a:lnTo>
                        <a:lnTo>
                          <a:pt x="195" y="28"/>
                        </a:lnTo>
                        <a:lnTo>
                          <a:pt x="219" y="35"/>
                        </a:lnTo>
                        <a:lnTo>
                          <a:pt x="239" y="43"/>
                        </a:lnTo>
                        <a:lnTo>
                          <a:pt x="260" y="52"/>
                        </a:lnTo>
                        <a:lnTo>
                          <a:pt x="280" y="64"/>
                        </a:lnTo>
                        <a:lnTo>
                          <a:pt x="298" y="76"/>
                        </a:lnTo>
                        <a:lnTo>
                          <a:pt x="314" y="91"/>
                        </a:lnTo>
                        <a:lnTo>
                          <a:pt x="327" y="107"/>
                        </a:lnTo>
                        <a:lnTo>
                          <a:pt x="333" y="117"/>
                        </a:lnTo>
                        <a:lnTo>
                          <a:pt x="338" y="126"/>
                        </a:lnTo>
                        <a:lnTo>
                          <a:pt x="342" y="136"/>
                        </a:lnTo>
                        <a:lnTo>
                          <a:pt x="346" y="1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Freeform 399"/>
                  <p:cNvSpPr/>
                  <p:nvPr/>
                </p:nvSpPr>
                <p:spPr>
                  <a:xfrm>
                    <a:off x="7152480" y="2558160"/>
                    <a:ext cx="20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189">
                        <a:moveTo>
                          <a:pt x="317" y="189"/>
                        </a:moveTo>
                        <a:lnTo>
                          <a:pt x="277" y="176"/>
                        </a:lnTo>
                        <a:lnTo>
                          <a:pt x="235" y="166"/>
                        </a:lnTo>
                        <a:lnTo>
                          <a:pt x="192" y="157"/>
                        </a:lnTo>
                        <a:lnTo>
                          <a:pt x="149" y="145"/>
                        </a:lnTo>
                        <a:lnTo>
                          <a:pt x="128" y="139"/>
                        </a:lnTo>
                        <a:lnTo>
                          <a:pt x="110" y="133"/>
                        </a:lnTo>
                        <a:lnTo>
                          <a:pt x="89" y="125"/>
                        </a:lnTo>
                        <a:lnTo>
                          <a:pt x="69" y="115"/>
                        </a:lnTo>
                        <a:lnTo>
                          <a:pt x="51" y="105"/>
                        </a:lnTo>
                        <a:lnTo>
                          <a:pt x="33" y="92"/>
                        </a:lnTo>
                        <a:lnTo>
                          <a:pt x="16" y="78"/>
                        </a:lnTo>
                        <a:lnTo>
                          <a:pt x="0" y="62"/>
                        </a:lnTo>
                        <a:lnTo>
                          <a:pt x="30" y="0"/>
                        </a:lnTo>
                        <a:lnTo>
                          <a:pt x="39" y="7"/>
                        </a:lnTo>
                        <a:lnTo>
                          <a:pt x="48" y="13"/>
                        </a:lnTo>
                        <a:lnTo>
                          <a:pt x="59" y="18"/>
                        </a:lnTo>
                        <a:lnTo>
                          <a:pt x="69" y="23"/>
                        </a:lnTo>
                        <a:lnTo>
                          <a:pt x="93" y="31"/>
                        </a:lnTo>
                        <a:lnTo>
                          <a:pt x="118" y="36"/>
                        </a:lnTo>
                        <a:lnTo>
                          <a:pt x="171" y="47"/>
                        </a:lnTo>
                        <a:lnTo>
                          <a:pt x="222" y="57"/>
                        </a:lnTo>
                        <a:lnTo>
                          <a:pt x="245" y="63"/>
                        </a:lnTo>
                        <a:lnTo>
                          <a:pt x="267" y="71"/>
                        </a:lnTo>
                        <a:lnTo>
                          <a:pt x="277" y="78"/>
                        </a:lnTo>
                        <a:lnTo>
                          <a:pt x="287" y="83"/>
                        </a:lnTo>
                        <a:lnTo>
                          <a:pt x="295" y="89"/>
                        </a:lnTo>
                        <a:lnTo>
                          <a:pt x="301" y="95"/>
                        </a:lnTo>
                        <a:lnTo>
                          <a:pt x="308" y="104"/>
                        </a:lnTo>
                        <a:lnTo>
                          <a:pt x="313" y="113"/>
                        </a:lnTo>
                        <a:lnTo>
                          <a:pt x="317" y="122"/>
                        </a:lnTo>
                        <a:lnTo>
                          <a:pt x="320" y="134"/>
                        </a:lnTo>
                        <a:lnTo>
                          <a:pt x="320" y="145"/>
                        </a:lnTo>
                        <a:lnTo>
                          <a:pt x="322" y="160"/>
                        </a:lnTo>
                        <a:lnTo>
                          <a:pt x="320" y="175"/>
                        </a:lnTo>
                        <a:lnTo>
                          <a:pt x="317" y="1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Freeform 400"/>
                  <p:cNvSpPr/>
                  <p:nvPr/>
                </p:nvSpPr>
                <p:spPr>
                  <a:xfrm>
                    <a:off x="7137360" y="2599920"/>
                    <a:ext cx="20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198">
                        <a:moveTo>
                          <a:pt x="317" y="195"/>
                        </a:moveTo>
                        <a:lnTo>
                          <a:pt x="307" y="196"/>
                        </a:lnTo>
                        <a:lnTo>
                          <a:pt x="295" y="198"/>
                        </a:lnTo>
                        <a:lnTo>
                          <a:pt x="286" y="198"/>
                        </a:lnTo>
                        <a:lnTo>
                          <a:pt x="274" y="196"/>
                        </a:lnTo>
                        <a:lnTo>
                          <a:pt x="255" y="193"/>
                        </a:lnTo>
                        <a:lnTo>
                          <a:pt x="234" y="188"/>
                        </a:lnTo>
                        <a:lnTo>
                          <a:pt x="214" y="181"/>
                        </a:lnTo>
                        <a:lnTo>
                          <a:pt x="195" y="170"/>
                        </a:lnTo>
                        <a:lnTo>
                          <a:pt x="175" y="160"/>
                        </a:lnTo>
                        <a:lnTo>
                          <a:pt x="158" y="146"/>
                        </a:lnTo>
                        <a:lnTo>
                          <a:pt x="119" y="121"/>
                        </a:lnTo>
                        <a:lnTo>
                          <a:pt x="80" y="98"/>
                        </a:lnTo>
                        <a:lnTo>
                          <a:pt x="62" y="87"/>
                        </a:lnTo>
                        <a:lnTo>
                          <a:pt x="42" y="77"/>
                        </a:lnTo>
                        <a:lnTo>
                          <a:pt x="21" y="71"/>
                        </a:lnTo>
                        <a:lnTo>
                          <a:pt x="0" y="66"/>
                        </a:lnTo>
                        <a:lnTo>
                          <a:pt x="30" y="0"/>
                        </a:lnTo>
                        <a:lnTo>
                          <a:pt x="72" y="18"/>
                        </a:lnTo>
                        <a:lnTo>
                          <a:pt x="119" y="31"/>
                        </a:lnTo>
                        <a:lnTo>
                          <a:pt x="166" y="48"/>
                        </a:lnTo>
                        <a:lnTo>
                          <a:pt x="213" y="66"/>
                        </a:lnTo>
                        <a:lnTo>
                          <a:pt x="234" y="75"/>
                        </a:lnTo>
                        <a:lnTo>
                          <a:pt x="254" y="87"/>
                        </a:lnTo>
                        <a:lnTo>
                          <a:pt x="271" y="99"/>
                        </a:lnTo>
                        <a:lnTo>
                          <a:pt x="287" y="114"/>
                        </a:lnTo>
                        <a:lnTo>
                          <a:pt x="293" y="122"/>
                        </a:lnTo>
                        <a:lnTo>
                          <a:pt x="299" y="131"/>
                        </a:lnTo>
                        <a:lnTo>
                          <a:pt x="305" y="140"/>
                        </a:lnTo>
                        <a:lnTo>
                          <a:pt x="310" y="149"/>
                        </a:lnTo>
                        <a:lnTo>
                          <a:pt x="313" y="160"/>
                        </a:lnTo>
                        <a:lnTo>
                          <a:pt x="316" y="170"/>
                        </a:lnTo>
                        <a:lnTo>
                          <a:pt x="317" y="182"/>
                        </a:lnTo>
                        <a:lnTo>
                          <a:pt x="317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401"/>
                  <p:cNvSpPr/>
                  <p:nvPr/>
                </p:nvSpPr>
                <p:spPr>
                  <a:xfrm>
                    <a:off x="7089840" y="2680200"/>
                    <a:ext cx="205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258">
                        <a:moveTo>
                          <a:pt x="317" y="225"/>
                        </a:moveTo>
                        <a:lnTo>
                          <a:pt x="310" y="235"/>
                        </a:lnTo>
                        <a:lnTo>
                          <a:pt x="301" y="242"/>
                        </a:lnTo>
                        <a:lnTo>
                          <a:pt x="292" y="248"/>
                        </a:lnTo>
                        <a:lnTo>
                          <a:pt x="282" y="252"/>
                        </a:lnTo>
                        <a:lnTo>
                          <a:pt x="272" y="257"/>
                        </a:lnTo>
                        <a:lnTo>
                          <a:pt x="261" y="258"/>
                        </a:lnTo>
                        <a:lnTo>
                          <a:pt x="249" y="258"/>
                        </a:lnTo>
                        <a:lnTo>
                          <a:pt x="237" y="257"/>
                        </a:lnTo>
                        <a:lnTo>
                          <a:pt x="0" y="48"/>
                        </a:lnTo>
                        <a:lnTo>
                          <a:pt x="30" y="0"/>
                        </a:lnTo>
                        <a:lnTo>
                          <a:pt x="72" y="16"/>
                        </a:lnTo>
                        <a:lnTo>
                          <a:pt x="115" y="35"/>
                        </a:lnTo>
                        <a:lnTo>
                          <a:pt x="136" y="45"/>
                        </a:lnTo>
                        <a:lnTo>
                          <a:pt x="157" y="56"/>
                        </a:lnTo>
                        <a:lnTo>
                          <a:pt x="177" y="69"/>
                        </a:lnTo>
                        <a:lnTo>
                          <a:pt x="196" y="82"/>
                        </a:lnTo>
                        <a:lnTo>
                          <a:pt x="216" y="95"/>
                        </a:lnTo>
                        <a:lnTo>
                          <a:pt x="234" y="111"/>
                        </a:lnTo>
                        <a:lnTo>
                          <a:pt x="251" y="127"/>
                        </a:lnTo>
                        <a:lnTo>
                          <a:pt x="267" y="143"/>
                        </a:lnTo>
                        <a:lnTo>
                          <a:pt x="282" y="163"/>
                        </a:lnTo>
                        <a:lnTo>
                          <a:pt x="295" y="181"/>
                        </a:lnTo>
                        <a:lnTo>
                          <a:pt x="307" y="203"/>
                        </a:lnTo>
                        <a:lnTo>
                          <a:pt x="317" y="2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Freeform 402"/>
                  <p:cNvSpPr/>
                  <p:nvPr/>
                </p:nvSpPr>
                <p:spPr>
                  <a:xfrm>
                    <a:off x="7062480" y="2717640"/>
                    <a:ext cx="172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248">
                        <a:moveTo>
                          <a:pt x="271" y="238"/>
                        </a:moveTo>
                        <a:lnTo>
                          <a:pt x="260" y="243"/>
                        </a:lnTo>
                        <a:lnTo>
                          <a:pt x="250" y="246"/>
                        </a:lnTo>
                        <a:lnTo>
                          <a:pt x="239" y="248"/>
                        </a:lnTo>
                        <a:lnTo>
                          <a:pt x="230" y="248"/>
                        </a:lnTo>
                        <a:lnTo>
                          <a:pt x="220" y="248"/>
                        </a:lnTo>
                        <a:lnTo>
                          <a:pt x="212" y="248"/>
                        </a:lnTo>
                        <a:lnTo>
                          <a:pt x="203" y="246"/>
                        </a:lnTo>
                        <a:lnTo>
                          <a:pt x="192" y="245"/>
                        </a:lnTo>
                        <a:lnTo>
                          <a:pt x="175" y="237"/>
                        </a:lnTo>
                        <a:lnTo>
                          <a:pt x="159" y="229"/>
                        </a:lnTo>
                        <a:lnTo>
                          <a:pt x="142" y="217"/>
                        </a:lnTo>
                        <a:lnTo>
                          <a:pt x="125" y="205"/>
                        </a:lnTo>
                        <a:lnTo>
                          <a:pt x="94" y="174"/>
                        </a:lnTo>
                        <a:lnTo>
                          <a:pt x="62" y="142"/>
                        </a:lnTo>
                        <a:lnTo>
                          <a:pt x="32" y="110"/>
                        </a:lnTo>
                        <a:lnTo>
                          <a:pt x="0" y="80"/>
                        </a:lnTo>
                        <a:lnTo>
                          <a:pt x="14" y="0"/>
                        </a:lnTo>
                        <a:lnTo>
                          <a:pt x="36" y="7"/>
                        </a:lnTo>
                        <a:lnTo>
                          <a:pt x="58" y="18"/>
                        </a:lnTo>
                        <a:lnTo>
                          <a:pt x="79" y="28"/>
                        </a:lnTo>
                        <a:lnTo>
                          <a:pt x="97" y="42"/>
                        </a:lnTo>
                        <a:lnTo>
                          <a:pt x="117" y="54"/>
                        </a:lnTo>
                        <a:lnTo>
                          <a:pt x="135" y="69"/>
                        </a:lnTo>
                        <a:lnTo>
                          <a:pt x="153" y="84"/>
                        </a:lnTo>
                        <a:lnTo>
                          <a:pt x="168" y="99"/>
                        </a:lnTo>
                        <a:lnTo>
                          <a:pt x="185" y="116"/>
                        </a:lnTo>
                        <a:lnTo>
                          <a:pt x="200" y="134"/>
                        </a:lnTo>
                        <a:lnTo>
                          <a:pt x="214" y="149"/>
                        </a:lnTo>
                        <a:lnTo>
                          <a:pt x="227" y="167"/>
                        </a:lnTo>
                        <a:lnTo>
                          <a:pt x="251" y="202"/>
                        </a:lnTo>
                        <a:lnTo>
                          <a:pt x="271" y="2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Freeform 403"/>
                  <p:cNvSpPr/>
                  <p:nvPr/>
                </p:nvSpPr>
                <p:spPr>
                  <a:xfrm>
                    <a:off x="7111440" y="2637720"/>
                    <a:ext cx="302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11">
                        <a:moveTo>
                          <a:pt x="459" y="261"/>
                        </a:moveTo>
                        <a:lnTo>
                          <a:pt x="463" y="250"/>
                        </a:lnTo>
                        <a:lnTo>
                          <a:pt x="465" y="237"/>
                        </a:lnTo>
                        <a:lnTo>
                          <a:pt x="463" y="224"/>
                        </a:lnTo>
                        <a:lnTo>
                          <a:pt x="462" y="210"/>
                        </a:lnTo>
                        <a:lnTo>
                          <a:pt x="457" y="195"/>
                        </a:lnTo>
                        <a:lnTo>
                          <a:pt x="448" y="181"/>
                        </a:lnTo>
                        <a:lnTo>
                          <a:pt x="441" y="166"/>
                        </a:lnTo>
                        <a:lnTo>
                          <a:pt x="430" y="151"/>
                        </a:lnTo>
                        <a:lnTo>
                          <a:pt x="416" y="136"/>
                        </a:lnTo>
                        <a:lnTo>
                          <a:pt x="401" y="121"/>
                        </a:lnTo>
                        <a:lnTo>
                          <a:pt x="388" y="106"/>
                        </a:lnTo>
                        <a:lnTo>
                          <a:pt x="370" y="94"/>
                        </a:lnTo>
                        <a:lnTo>
                          <a:pt x="350" y="79"/>
                        </a:lnTo>
                        <a:lnTo>
                          <a:pt x="329" y="66"/>
                        </a:lnTo>
                        <a:lnTo>
                          <a:pt x="309" y="54"/>
                        </a:lnTo>
                        <a:lnTo>
                          <a:pt x="286" y="44"/>
                        </a:lnTo>
                        <a:lnTo>
                          <a:pt x="262" y="32"/>
                        </a:lnTo>
                        <a:lnTo>
                          <a:pt x="239" y="24"/>
                        </a:lnTo>
                        <a:lnTo>
                          <a:pt x="217" y="16"/>
                        </a:lnTo>
                        <a:lnTo>
                          <a:pt x="194" y="10"/>
                        </a:lnTo>
                        <a:lnTo>
                          <a:pt x="171" y="6"/>
                        </a:lnTo>
                        <a:lnTo>
                          <a:pt x="150" y="3"/>
                        </a:lnTo>
                        <a:lnTo>
                          <a:pt x="129" y="1"/>
                        </a:lnTo>
                        <a:lnTo>
                          <a:pt x="110" y="0"/>
                        </a:lnTo>
                        <a:lnTo>
                          <a:pt x="93" y="1"/>
                        </a:lnTo>
                        <a:lnTo>
                          <a:pt x="75" y="5"/>
                        </a:lnTo>
                        <a:lnTo>
                          <a:pt x="58" y="8"/>
                        </a:lnTo>
                        <a:lnTo>
                          <a:pt x="46" y="15"/>
                        </a:lnTo>
                        <a:lnTo>
                          <a:pt x="32" y="21"/>
                        </a:lnTo>
                        <a:lnTo>
                          <a:pt x="21" y="29"/>
                        </a:lnTo>
                        <a:lnTo>
                          <a:pt x="13" y="39"/>
                        </a:lnTo>
                        <a:lnTo>
                          <a:pt x="7" y="50"/>
                        </a:lnTo>
                        <a:lnTo>
                          <a:pt x="2" y="62"/>
                        </a:lnTo>
                        <a:lnTo>
                          <a:pt x="0" y="74"/>
                        </a:lnTo>
                        <a:lnTo>
                          <a:pt x="0" y="87"/>
                        </a:lnTo>
                        <a:lnTo>
                          <a:pt x="3" y="101"/>
                        </a:lnTo>
                        <a:lnTo>
                          <a:pt x="8" y="116"/>
                        </a:lnTo>
                        <a:lnTo>
                          <a:pt x="14" y="130"/>
                        </a:lnTo>
                        <a:lnTo>
                          <a:pt x="25" y="145"/>
                        </a:lnTo>
                        <a:lnTo>
                          <a:pt x="34" y="162"/>
                        </a:lnTo>
                        <a:lnTo>
                          <a:pt x="47" y="175"/>
                        </a:lnTo>
                        <a:lnTo>
                          <a:pt x="61" y="190"/>
                        </a:lnTo>
                        <a:lnTo>
                          <a:pt x="78" y="205"/>
                        </a:lnTo>
                        <a:lnTo>
                          <a:pt x="96" y="218"/>
                        </a:lnTo>
                        <a:lnTo>
                          <a:pt x="115" y="233"/>
                        </a:lnTo>
                        <a:lnTo>
                          <a:pt x="134" y="245"/>
                        </a:lnTo>
                        <a:lnTo>
                          <a:pt x="156" y="258"/>
                        </a:lnTo>
                        <a:lnTo>
                          <a:pt x="179" y="269"/>
                        </a:lnTo>
                        <a:lnTo>
                          <a:pt x="202" y="279"/>
                        </a:lnTo>
                        <a:lnTo>
                          <a:pt x="226" y="289"/>
                        </a:lnTo>
                        <a:lnTo>
                          <a:pt x="249" y="295"/>
                        </a:lnTo>
                        <a:lnTo>
                          <a:pt x="271" y="302"/>
                        </a:lnTo>
                        <a:lnTo>
                          <a:pt x="294" y="307"/>
                        </a:lnTo>
                        <a:lnTo>
                          <a:pt x="315" y="310"/>
                        </a:lnTo>
                        <a:lnTo>
                          <a:pt x="336" y="311"/>
                        </a:lnTo>
                        <a:lnTo>
                          <a:pt x="355" y="311"/>
                        </a:lnTo>
                        <a:lnTo>
                          <a:pt x="373" y="310"/>
                        </a:lnTo>
                        <a:lnTo>
                          <a:pt x="391" y="307"/>
                        </a:lnTo>
                        <a:lnTo>
                          <a:pt x="406" y="304"/>
                        </a:lnTo>
                        <a:lnTo>
                          <a:pt x="419" y="298"/>
                        </a:lnTo>
                        <a:lnTo>
                          <a:pt x="433" y="290"/>
                        </a:lnTo>
                        <a:lnTo>
                          <a:pt x="442" y="283"/>
                        </a:lnTo>
                        <a:lnTo>
                          <a:pt x="451" y="272"/>
                        </a:lnTo>
                        <a:lnTo>
                          <a:pt x="459" y="2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404"/>
                  <p:cNvSpPr/>
                  <p:nvPr/>
                </p:nvSpPr>
                <p:spPr>
                  <a:xfrm>
                    <a:off x="7089840" y="2149920"/>
                    <a:ext cx="19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224">
                        <a:moveTo>
                          <a:pt x="299" y="15"/>
                        </a:moveTo>
                        <a:lnTo>
                          <a:pt x="292" y="37"/>
                        </a:lnTo>
                        <a:lnTo>
                          <a:pt x="281" y="56"/>
                        </a:lnTo>
                        <a:lnTo>
                          <a:pt x="269" y="76"/>
                        </a:lnTo>
                        <a:lnTo>
                          <a:pt x="255" y="91"/>
                        </a:lnTo>
                        <a:lnTo>
                          <a:pt x="240" y="108"/>
                        </a:lnTo>
                        <a:lnTo>
                          <a:pt x="224" y="123"/>
                        </a:lnTo>
                        <a:lnTo>
                          <a:pt x="208" y="136"/>
                        </a:lnTo>
                        <a:lnTo>
                          <a:pt x="190" y="150"/>
                        </a:lnTo>
                        <a:lnTo>
                          <a:pt x="171" y="161"/>
                        </a:lnTo>
                        <a:lnTo>
                          <a:pt x="151" y="172"/>
                        </a:lnTo>
                        <a:lnTo>
                          <a:pt x="133" y="183"/>
                        </a:lnTo>
                        <a:lnTo>
                          <a:pt x="111" y="194"/>
                        </a:lnTo>
                        <a:lnTo>
                          <a:pt x="71" y="209"/>
                        </a:lnTo>
                        <a:lnTo>
                          <a:pt x="30" y="224"/>
                        </a:lnTo>
                        <a:lnTo>
                          <a:pt x="0" y="188"/>
                        </a:lnTo>
                        <a:lnTo>
                          <a:pt x="32" y="159"/>
                        </a:lnTo>
                        <a:lnTo>
                          <a:pt x="66" y="124"/>
                        </a:lnTo>
                        <a:lnTo>
                          <a:pt x="101" y="87"/>
                        </a:lnTo>
                        <a:lnTo>
                          <a:pt x="140" y="52"/>
                        </a:lnTo>
                        <a:lnTo>
                          <a:pt x="158" y="35"/>
                        </a:lnTo>
                        <a:lnTo>
                          <a:pt x="177" y="23"/>
                        </a:lnTo>
                        <a:lnTo>
                          <a:pt x="198" y="11"/>
                        </a:lnTo>
                        <a:lnTo>
                          <a:pt x="217" y="5"/>
                        </a:lnTo>
                        <a:lnTo>
                          <a:pt x="227" y="2"/>
                        </a:lnTo>
                        <a:lnTo>
                          <a:pt x="239" y="0"/>
                        </a:lnTo>
                        <a:lnTo>
                          <a:pt x="248" y="0"/>
                        </a:lnTo>
                        <a:lnTo>
                          <a:pt x="258" y="2"/>
                        </a:lnTo>
                        <a:lnTo>
                          <a:pt x="269" y="3"/>
                        </a:lnTo>
                        <a:lnTo>
                          <a:pt x="279" y="6"/>
                        </a:lnTo>
                        <a:lnTo>
                          <a:pt x="289" y="11"/>
                        </a:lnTo>
                        <a:lnTo>
                          <a:pt x="299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Freeform 405"/>
                  <p:cNvSpPr/>
                  <p:nvPr/>
                </p:nvSpPr>
                <p:spPr>
                  <a:xfrm>
                    <a:off x="7138080" y="2233080"/>
                    <a:ext cx="194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178">
                        <a:moveTo>
                          <a:pt x="304" y="30"/>
                        </a:moveTo>
                        <a:lnTo>
                          <a:pt x="292" y="44"/>
                        </a:lnTo>
                        <a:lnTo>
                          <a:pt x="279" y="59"/>
                        </a:lnTo>
                        <a:lnTo>
                          <a:pt x="265" y="75"/>
                        </a:lnTo>
                        <a:lnTo>
                          <a:pt x="247" y="89"/>
                        </a:lnTo>
                        <a:lnTo>
                          <a:pt x="230" y="104"/>
                        </a:lnTo>
                        <a:lnTo>
                          <a:pt x="211" y="118"/>
                        </a:lnTo>
                        <a:lnTo>
                          <a:pt x="192" y="131"/>
                        </a:lnTo>
                        <a:lnTo>
                          <a:pt x="173" y="142"/>
                        </a:lnTo>
                        <a:lnTo>
                          <a:pt x="152" y="154"/>
                        </a:lnTo>
                        <a:lnTo>
                          <a:pt x="130" y="162"/>
                        </a:lnTo>
                        <a:lnTo>
                          <a:pt x="109" y="170"/>
                        </a:lnTo>
                        <a:lnTo>
                          <a:pt x="87" y="175"/>
                        </a:lnTo>
                        <a:lnTo>
                          <a:pt x="66" y="178"/>
                        </a:lnTo>
                        <a:lnTo>
                          <a:pt x="44" y="178"/>
                        </a:lnTo>
                        <a:lnTo>
                          <a:pt x="23" y="175"/>
                        </a:lnTo>
                        <a:lnTo>
                          <a:pt x="0" y="170"/>
                        </a:lnTo>
                        <a:lnTo>
                          <a:pt x="2" y="159"/>
                        </a:lnTo>
                        <a:lnTo>
                          <a:pt x="3" y="148"/>
                        </a:lnTo>
                        <a:lnTo>
                          <a:pt x="6" y="136"/>
                        </a:lnTo>
                        <a:lnTo>
                          <a:pt x="9" y="127"/>
                        </a:lnTo>
                        <a:lnTo>
                          <a:pt x="13" y="116"/>
                        </a:lnTo>
                        <a:lnTo>
                          <a:pt x="17" y="109"/>
                        </a:lnTo>
                        <a:lnTo>
                          <a:pt x="24" y="101"/>
                        </a:lnTo>
                        <a:lnTo>
                          <a:pt x="31" y="92"/>
                        </a:lnTo>
                        <a:lnTo>
                          <a:pt x="45" y="80"/>
                        </a:lnTo>
                        <a:lnTo>
                          <a:pt x="61" y="67"/>
                        </a:lnTo>
                        <a:lnTo>
                          <a:pt x="81" y="57"/>
                        </a:lnTo>
                        <a:lnTo>
                          <a:pt x="100" y="48"/>
                        </a:lnTo>
                        <a:lnTo>
                          <a:pt x="144" y="33"/>
                        </a:lnTo>
                        <a:lnTo>
                          <a:pt x="187" y="21"/>
                        </a:lnTo>
                        <a:lnTo>
                          <a:pt x="230" y="10"/>
                        </a:lnTo>
                        <a:lnTo>
                          <a:pt x="269" y="0"/>
                        </a:lnTo>
                        <a:lnTo>
                          <a:pt x="30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Freeform 406"/>
                  <p:cNvSpPr/>
                  <p:nvPr/>
                </p:nvSpPr>
                <p:spPr>
                  <a:xfrm>
                    <a:off x="7152480" y="227808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151">
                        <a:moveTo>
                          <a:pt x="331" y="20"/>
                        </a:moveTo>
                        <a:lnTo>
                          <a:pt x="313" y="27"/>
                        </a:lnTo>
                        <a:lnTo>
                          <a:pt x="293" y="38"/>
                        </a:lnTo>
                        <a:lnTo>
                          <a:pt x="275" y="50"/>
                        </a:lnTo>
                        <a:lnTo>
                          <a:pt x="258" y="63"/>
                        </a:lnTo>
                        <a:lnTo>
                          <a:pt x="219" y="91"/>
                        </a:lnTo>
                        <a:lnTo>
                          <a:pt x="180" y="118"/>
                        </a:lnTo>
                        <a:lnTo>
                          <a:pt x="160" y="129"/>
                        </a:lnTo>
                        <a:lnTo>
                          <a:pt x="139" y="139"/>
                        </a:lnTo>
                        <a:lnTo>
                          <a:pt x="118" y="147"/>
                        </a:lnTo>
                        <a:lnTo>
                          <a:pt x="95" y="151"/>
                        </a:lnTo>
                        <a:lnTo>
                          <a:pt x="83" y="151"/>
                        </a:lnTo>
                        <a:lnTo>
                          <a:pt x="72" y="151"/>
                        </a:lnTo>
                        <a:lnTo>
                          <a:pt x="60" y="151"/>
                        </a:lnTo>
                        <a:lnTo>
                          <a:pt x="50" y="150"/>
                        </a:lnTo>
                        <a:lnTo>
                          <a:pt x="37" y="147"/>
                        </a:lnTo>
                        <a:lnTo>
                          <a:pt x="24" y="142"/>
                        </a:lnTo>
                        <a:lnTo>
                          <a:pt x="13" y="138"/>
                        </a:lnTo>
                        <a:lnTo>
                          <a:pt x="0" y="129"/>
                        </a:lnTo>
                        <a:lnTo>
                          <a:pt x="0" y="113"/>
                        </a:lnTo>
                        <a:lnTo>
                          <a:pt x="3" y="100"/>
                        </a:lnTo>
                        <a:lnTo>
                          <a:pt x="9" y="88"/>
                        </a:lnTo>
                        <a:lnTo>
                          <a:pt x="16" y="77"/>
                        </a:lnTo>
                        <a:lnTo>
                          <a:pt x="25" y="68"/>
                        </a:lnTo>
                        <a:lnTo>
                          <a:pt x="37" y="60"/>
                        </a:lnTo>
                        <a:lnTo>
                          <a:pt x="50" y="53"/>
                        </a:lnTo>
                        <a:lnTo>
                          <a:pt x="63" y="47"/>
                        </a:lnTo>
                        <a:lnTo>
                          <a:pt x="90" y="38"/>
                        </a:lnTo>
                        <a:lnTo>
                          <a:pt x="119" y="27"/>
                        </a:lnTo>
                        <a:lnTo>
                          <a:pt x="133" y="23"/>
                        </a:lnTo>
                        <a:lnTo>
                          <a:pt x="148" y="17"/>
                        </a:lnTo>
                        <a:lnTo>
                          <a:pt x="160" y="9"/>
                        </a:lnTo>
                        <a:lnTo>
                          <a:pt x="172" y="2"/>
                        </a:lnTo>
                        <a:lnTo>
                          <a:pt x="213" y="2"/>
                        </a:lnTo>
                        <a:lnTo>
                          <a:pt x="257" y="0"/>
                        </a:lnTo>
                        <a:lnTo>
                          <a:pt x="277" y="2"/>
                        </a:lnTo>
                        <a:lnTo>
                          <a:pt x="296" y="5"/>
                        </a:lnTo>
                        <a:lnTo>
                          <a:pt x="307" y="6"/>
                        </a:lnTo>
                        <a:lnTo>
                          <a:pt x="314" y="9"/>
                        </a:lnTo>
                        <a:lnTo>
                          <a:pt x="322" y="15"/>
                        </a:lnTo>
                        <a:lnTo>
                          <a:pt x="33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407"/>
                  <p:cNvSpPr/>
                  <p:nvPr/>
                </p:nvSpPr>
                <p:spPr>
                  <a:xfrm>
                    <a:off x="7166520" y="2324880"/>
                    <a:ext cx="21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44">
                        <a:moveTo>
                          <a:pt x="337" y="17"/>
                        </a:moveTo>
                        <a:lnTo>
                          <a:pt x="333" y="26"/>
                        </a:lnTo>
                        <a:lnTo>
                          <a:pt x="329" y="36"/>
                        </a:lnTo>
                        <a:lnTo>
                          <a:pt x="322" y="45"/>
                        </a:lnTo>
                        <a:lnTo>
                          <a:pt x="318" y="53"/>
                        </a:lnTo>
                        <a:lnTo>
                          <a:pt x="303" y="68"/>
                        </a:lnTo>
                        <a:lnTo>
                          <a:pt x="289" y="83"/>
                        </a:lnTo>
                        <a:lnTo>
                          <a:pt x="271" y="92"/>
                        </a:lnTo>
                        <a:lnTo>
                          <a:pt x="250" y="102"/>
                        </a:lnTo>
                        <a:lnTo>
                          <a:pt x="229" y="110"/>
                        </a:lnTo>
                        <a:lnTo>
                          <a:pt x="208" y="116"/>
                        </a:lnTo>
                        <a:lnTo>
                          <a:pt x="160" y="126"/>
                        </a:lnTo>
                        <a:lnTo>
                          <a:pt x="112" y="133"/>
                        </a:lnTo>
                        <a:lnTo>
                          <a:pt x="65" y="138"/>
                        </a:lnTo>
                        <a:lnTo>
                          <a:pt x="20" y="144"/>
                        </a:lnTo>
                        <a:lnTo>
                          <a:pt x="13" y="142"/>
                        </a:lnTo>
                        <a:lnTo>
                          <a:pt x="9" y="139"/>
                        </a:lnTo>
                        <a:lnTo>
                          <a:pt x="6" y="136"/>
                        </a:lnTo>
                        <a:lnTo>
                          <a:pt x="3" y="133"/>
                        </a:lnTo>
                        <a:lnTo>
                          <a:pt x="0" y="124"/>
                        </a:lnTo>
                        <a:lnTo>
                          <a:pt x="0" y="116"/>
                        </a:lnTo>
                        <a:lnTo>
                          <a:pt x="2" y="98"/>
                        </a:lnTo>
                        <a:lnTo>
                          <a:pt x="2" y="83"/>
                        </a:lnTo>
                        <a:lnTo>
                          <a:pt x="20" y="70"/>
                        </a:lnTo>
                        <a:lnTo>
                          <a:pt x="38" y="59"/>
                        </a:lnTo>
                        <a:lnTo>
                          <a:pt x="56" y="49"/>
                        </a:lnTo>
                        <a:lnTo>
                          <a:pt x="76" y="38"/>
                        </a:lnTo>
                        <a:lnTo>
                          <a:pt x="97" y="29"/>
                        </a:lnTo>
                        <a:lnTo>
                          <a:pt x="116" y="21"/>
                        </a:lnTo>
                        <a:lnTo>
                          <a:pt x="137" y="15"/>
                        </a:lnTo>
                        <a:lnTo>
                          <a:pt x="160" y="10"/>
                        </a:lnTo>
                        <a:lnTo>
                          <a:pt x="180" y="5"/>
                        </a:lnTo>
                        <a:lnTo>
                          <a:pt x="203" y="2"/>
                        </a:lnTo>
                        <a:lnTo>
                          <a:pt x="224" y="0"/>
                        </a:lnTo>
                        <a:lnTo>
                          <a:pt x="247" y="0"/>
                        </a:lnTo>
                        <a:lnTo>
                          <a:pt x="269" y="2"/>
                        </a:lnTo>
                        <a:lnTo>
                          <a:pt x="292" y="5"/>
                        </a:lnTo>
                        <a:lnTo>
                          <a:pt x="315" y="10"/>
                        </a:lnTo>
                        <a:lnTo>
                          <a:pt x="337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Freeform 408"/>
                  <p:cNvSpPr/>
                  <p:nvPr/>
                </p:nvSpPr>
                <p:spPr>
                  <a:xfrm>
                    <a:off x="7173000" y="237312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90">
                        <a:moveTo>
                          <a:pt x="332" y="20"/>
                        </a:moveTo>
                        <a:lnTo>
                          <a:pt x="329" y="32"/>
                        </a:lnTo>
                        <a:lnTo>
                          <a:pt x="324" y="41"/>
                        </a:lnTo>
                        <a:lnTo>
                          <a:pt x="317" y="50"/>
                        </a:lnTo>
                        <a:lnTo>
                          <a:pt x="311" y="58"/>
                        </a:lnTo>
                        <a:lnTo>
                          <a:pt x="305" y="64"/>
                        </a:lnTo>
                        <a:lnTo>
                          <a:pt x="296" y="68"/>
                        </a:lnTo>
                        <a:lnTo>
                          <a:pt x="290" y="74"/>
                        </a:lnTo>
                        <a:lnTo>
                          <a:pt x="281" y="79"/>
                        </a:lnTo>
                        <a:lnTo>
                          <a:pt x="263" y="85"/>
                        </a:lnTo>
                        <a:lnTo>
                          <a:pt x="242" y="88"/>
                        </a:lnTo>
                        <a:lnTo>
                          <a:pt x="221" y="90"/>
                        </a:lnTo>
                        <a:lnTo>
                          <a:pt x="198" y="90"/>
                        </a:lnTo>
                        <a:lnTo>
                          <a:pt x="151" y="88"/>
                        </a:lnTo>
                        <a:lnTo>
                          <a:pt x="103" y="83"/>
                        </a:lnTo>
                        <a:lnTo>
                          <a:pt x="80" y="83"/>
                        </a:lnTo>
                        <a:lnTo>
                          <a:pt x="56" y="83"/>
                        </a:lnTo>
                        <a:lnTo>
                          <a:pt x="35" y="83"/>
                        </a:lnTo>
                        <a:lnTo>
                          <a:pt x="15" y="86"/>
                        </a:lnTo>
                        <a:lnTo>
                          <a:pt x="9" y="85"/>
                        </a:lnTo>
                        <a:lnTo>
                          <a:pt x="6" y="82"/>
                        </a:lnTo>
                        <a:lnTo>
                          <a:pt x="3" y="79"/>
                        </a:lnTo>
                        <a:lnTo>
                          <a:pt x="1" y="74"/>
                        </a:lnTo>
                        <a:lnTo>
                          <a:pt x="0" y="65"/>
                        </a:lnTo>
                        <a:lnTo>
                          <a:pt x="0" y="58"/>
                        </a:lnTo>
                        <a:lnTo>
                          <a:pt x="1" y="38"/>
                        </a:lnTo>
                        <a:lnTo>
                          <a:pt x="1" y="20"/>
                        </a:lnTo>
                        <a:lnTo>
                          <a:pt x="42" y="17"/>
                        </a:lnTo>
                        <a:lnTo>
                          <a:pt x="86" y="11"/>
                        </a:lnTo>
                        <a:lnTo>
                          <a:pt x="128" y="6"/>
                        </a:lnTo>
                        <a:lnTo>
                          <a:pt x="174" y="1"/>
                        </a:lnTo>
                        <a:lnTo>
                          <a:pt x="195" y="0"/>
                        </a:lnTo>
                        <a:lnTo>
                          <a:pt x="218" y="0"/>
                        </a:lnTo>
                        <a:lnTo>
                          <a:pt x="239" y="0"/>
                        </a:lnTo>
                        <a:lnTo>
                          <a:pt x="258" y="1"/>
                        </a:lnTo>
                        <a:lnTo>
                          <a:pt x="278" y="5"/>
                        </a:lnTo>
                        <a:lnTo>
                          <a:pt x="296" y="8"/>
                        </a:lnTo>
                        <a:lnTo>
                          <a:pt x="316" y="14"/>
                        </a:lnTo>
                        <a:lnTo>
                          <a:pt x="33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409"/>
                  <p:cNvSpPr/>
                  <p:nvPr/>
                </p:nvSpPr>
                <p:spPr>
                  <a:xfrm>
                    <a:off x="7173000" y="2467800"/>
                    <a:ext cx="20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111">
                        <a:moveTo>
                          <a:pt x="318" y="111"/>
                        </a:moveTo>
                        <a:lnTo>
                          <a:pt x="300" y="106"/>
                        </a:lnTo>
                        <a:lnTo>
                          <a:pt x="281" y="103"/>
                        </a:lnTo>
                        <a:lnTo>
                          <a:pt x="260" y="100"/>
                        </a:lnTo>
                        <a:lnTo>
                          <a:pt x="238" y="98"/>
                        </a:lnTo>
                        <a:lnTo>
                          <a:pt x="192" y="95"/>
                        </a:lnTo>
                        <a:lnTo>
                          <a:pt x="144" y="92"/>
                        </a:lnTo>
                        <a:lnTo>
                          <a:pt x="121" y="89"/>
                        </a:lnTo>
                        <a:lnTo>
                          <a:pt x="99" y="85"/>
                        </a:lnTo>
                        <a:lnTo>
                          <a:pt x="78" y="79"/>
                        </a:lnTo>
                        <a:lnTo>
                          <a:pt x="58" y="73"/>
                        </a:lnTo>
                        <a:lnTo>
                          <a:pt x="41" y="62"/>
                        </a:lnTo>
                        <a:lnTo>
                          <a:pt x="25" y="52"/>
                        </a:lnTo>
                        <a:lnTo>
                          <a:pt x="17" y="45"/>
                        </a:lnTo>
                        <a:lnTo>
                          <a:pt x="10" y="37"/>
                        </a:lnTo>
                        <a:lnTo>
                          <a:pt x="5" y="29"/>
                        </a:lnTo>
                        <a:lnTo>
                          <a:pt x="0" y="20"/>
                        </a:lnTo>
                        <a:lnTo>
                          <a:pt x="15" y="14"/>
                        </a:lnTo>
                        <a:lnTo>
                          <a:pt x="31" y="11"/>
                        </a:lnTo>
                        <a:lnTo>
                          <a:pt x="49" y="6"/>
                        </a:lnTo>
                        <a:lnTo>
                          <a:pt x="68" y="5"/>
                        </a:lnTo>
                        <a:lnTo>
                          <a:pt x="109" y="0"/>
                        </a:lnTo>
                        <a:lnTo>
                          <a:pt x="150" y="0"/>
                        </a:lnTo>
                        <a:lnTo>
                          <a:pt x="194" y="0"/>
                        </a:lnTo>
                        <a:lnTo>
                          <a:pt x="238" y="5"/>
                        </a:lnTo>
                        <a:lnTo>
                          <a:pt x="280" y="11"/>
                        </a:lnTo>
                        <a:lnTo>
                          <a:pt x="318" y="20"/>
                        </a:lnTo>
                        <a:lnTo>
                          <a:pt x="318" y="1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410"/>
                  <p:cNvSpPr/>
                  <p:nvPr/>
                </p:nvSpPr>
                <p:spPr>
                  <a:xfrm>
                    <a:off x="7169040" y="2414520"/>
                    <a:ext cx="32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250">
                        <a:moveTo>
                          <a:pt x="499" y="123"/>
                        </a:moveTo>
                        <a:lnTo>
                          <a:pt x="499" y="111"/>
                        </a:lnTo>
                        <a:lnTo>
                          <a:pt x="494" y="99"/>
                        </a:lnTo>
                        <a:lnTo>
                          <a:pt x="488" y="86"/>
                        </a:lnTo>
                        <a:lnTo>
                          <a:pt x="479" y="75"/>
                        </a:lnTo>
                        <a:lnTo>
                          <a:pt x="468" y="65"/>
                        </a:lnTo>
                        <a:lnTo>
                          <a:pt x="457" y="53"/>
                        </a:lnTo>
                        <a:lnTo>
                          <a:pt x="443" y="44"/>
                        </a:lnTo>
                        <a:lnTo>
                          <a:pt x="426" y="36"/>
                        </a:lnTo>
                        <a:lnTo>
                          <a:pt x="408" y="28"/>
                        </a:lnTo>
                        <a:lnTo>
                          <a:pt x="389" y="22"/>
                        </a:lnTo>
                        <a:lnTo>
                          <a:pt x="369" y="15"/>
                        </a:lnTo>
                        <a:lnTo>
                          <a:pt x="346" y="10"/>
                        </a:lnTo>
                        <a:lnTo>
                          <a:pt x="323" y="5"/>
                        </a:lnTo>
                        <a:lnTo>
                          <a:pt x="299" y="2"/>
                        </a:lnTo>
                        <a:lnTo>
                          <a:pt x="275" y="0"/>
                        </a:lnTo>
                        <a:lnTo>
                          <a:pt x="249" y="0"/>
                        </a:lnTo>
                        <a:lnTo>
                          <a:pt x="223" y="2"/>
                        </a:lnTo>
                        <a:lnTo>
                          <a:pt x="199" y="4"/>
                        </a:lnTo>
                        <a:lnTo>
                          <a:pt x="175" y="7"/>
                        </a:lnTo>
                        <a:lnTo>
                          <a:pt x="152" y="12"/>
                        </a:lnTo>
                        <a:lnTo>
                          <a:pt x="130" y="17"/>
                        </a:lnTo>
                        <a:lnTo>
                          <a:pt x="109" y="23"/>
                        </a:lnTo>
                        <a:lnTo>
                          <a:pt x="91" y="31"/>
                        </a:lnTo>
                        <a:lnTo>
                          <a:pt x="73" y="40"/>
                        </a:lnTo>
                        <a:lnTo>
                          <a:pt x="57" y="47"/>
                        </a:lnTo>
                        <a:lnTo>
                          <a:pt x="42" y="57"/>
                        </a:lnTo>
                        <a:lnTo>
                          <a:pt x="30" y="68"/>
                        </a:lnTo>
                        <a:lnTo>
                          <a:pt x="20" y="79"/>
                        </a:lnTo>
                        <a:lnTo>
                          <a:pt x="10" y="91"/>
                        </a:lnTo>
                        <a:lnTo>
                          <a:pt x="6" y="102"/>
                        </a:lnTo>
                        <a:lnTo>
                          <a:pt x="0" y="115"/>
                        </a:lnTo>
                        <a:lnTo>
                          <a:pt x="0" y="128"/>
                        </a:lnTo>
                        <a:lnTo>
                          <a:pt x="3" y="141"/>
                        </a:lnTo>
                        <a:lnTo>
                          <a:pt x="6" y="152"/>
                        </a:lnTo>
                        <a:lnTo>
                          <a:pt x="12" y="165"/>
                        </a:lnTo>
                        <a:lnTo>
                          <a:pt x="20" y="176"/>
                        </a:lnTo>
                        <a:lnTo>
                          <a:pt x="31" y="188"/>
                        </a:lnTo>
                        <a:lnTo>
                          <a:pt x="44" y="197"/>
                        </a:lnTo>
                        <a:lnTo>
                          <a:pt x="57" y="207"/>
                        </a:lnTo>
                        <a:lnTo>
                          <a:pt x="75" y="215"/>
                        </a:lnTo>
                        <a:lnTo>
                          <a:pt x="92" y="223"/>
                        </a:lnTo>
                        <a:lnTo>
                          <a:pt x="110" y="229"/>
                        </a:lnTo>
                        <a:lnTo>
                          <a:pt x="131" y="236"/>
                        </a:lnTo>
                        <a:lnTo>
                          <a:pt x="154" y="241"/>
                        </a:lnTo>
                        <a:lnTo>
                          <a:pt x="177" y="246"/>
                        </a:lnTo>
                        <a:lnTo>
                          <a:pt x="201" y="249"/>
                        </a:lnTo>
                        <a:lnTo>
                          <a:pt x="225" y="250"/>
                        </a:lnTo>
                        <a:lnTo>
                          <a:pt x="251" y="250"/>
                        </a:lnTo>
                        <a:lnTo>
                          <a:pt x="276" y="249"/>
                        </a:lnTo>
                        <a:lnTo>
                          <a:pt x="301" y="247"/>
                        </a:lnTo>
                        <a:lnTo>
                          <a:pt x="325" y="244"/>
                        </a:lnTo>
                        <a:lnTo>
                          <a:pt x="347" y="239"/>
                        </a:lnTo>
                        <a:lnTo>
                          <a:pt x="370" y="235"/>
                        </a:lnTo>
                        <a:lnTo>
                          <a:pt x="391" y="227"/>
                        </a:lnTo>
                        <a:lnTo>
                          <a:pt x="410" y="220"/>
                        </a:lnTo>
                        <a:lnTo>
                          <a:pt x="426" y="212"/>
                        </a:lnTo>
                        <a:lnTo>
                          <a:pt x="443" y="203"/>
                        </a:lnTo>
                        <a:lnTo>
                          <a:pt x="457" y="194"/>
                        </a:lnTo>
                        <a:lnTo>
                          <a:pt x="470" y="183"/>
                        </a:lnTo>
                        <a:lnTo>
                          <a:pt x="479" y="173"/>
                        </a:lnTo>
                        <a:lnTo>
                          <a:pt x="490" y="161"/>
                        </a:lnTo>
                        <a:lnTo>
                          <a:pt x="494" y="149"/>
                        </a:lnTo>
                        <a:lnTo>
                          <a:pt x="499" y="136"/>
                        </a:lnTo>
                        <a:lnTo>
                          <a:pt x="499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411"/>
                  <p:cNvSpPr/>
                  <p:nvPr/>
                </p:nvSpPr>
                <p:spPr>
                  <a:xfrm>
                    <a:off x="7112520" y="2183760"/>
                    <a:ext cx="29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310">
                        <a:moveTo>
                          <a:pt x="458" y="49"/>
                        </a:moveTo>
                        <a:lnTo>
                          <a:pt x="461" y="62"/>
                        </a:lnTo>
                        <a:lnTo>
                          <a:pt x="463" y="74"/>
                        </a:lnTo>
                        <a:lnTo>
                          <a:pt x="463" y="88"/>
                        </a:lnTo>
                        <a:lnTo>
                          <a:pt x="460" y="102"/>
                        </a:lnTo>
                        <a:lnTo>
                          <a:pt x="455" y="116"/>
                        </a:lnTo>
                        <a:lnTo>
                          <a:pt x="449" y="131"/>
                        </a:lnTo>
                        <a:lnTo>
                          <a:pt x="440" y="145"/>
                        </a:lnTo>
                        <a:lnTo>
                          <a:pt x="430" y="160"/>
                        </a:lnTo>
                        <a:lnTo>
                          <a:pt x="416" y="174"/>
                        </a:lnTo>
                        <a:lnTo>
                          <a:pt x="402" y="189"/>
                        </a:lnTo>
                        <a:lnTo>
                          <a:pt x="386" y="204"/>
                        </a:lnTo>
                        <a:lnTo>
                          <a:pt x="368" y="218"/>
                        </a:lnTo>
                        <a:lnTo>
                          <a:pt x="351" y="231"/>
                        </a:lnTo>
                        <a:lnTo>
                          <a:pt x="330" y="245"/>
                        </a:lnTo>
                        <a:lnTo>
                          <a:pt x="309" y="257"/>
                        </a:lnTo>
                        <a:lnTo>
                          <a:pt x="284" y="268"/>
                        </a:lnTo>
                        <a:lnTo>
                          <a:pt x="262" y="280"/>
                        </a:lnTo>
                        <a:lnTo>
                          <a:pt x="239" y="287"/>
                        </a:lnTo>
                        <a:lnTo>
                          <a:pt x="215" y="295"/>
                        </a:lnTo>
                        <a:lnTo>
                          <a:pt x="192" y="301"/>
                        </a:lnTo>
                        <a:lnTo>
                          <a:pt x="171" y="305"/>
                        </a:lnTo>
                        <a:lnTo>
                          <a:pt x="150" y="309"/>
                        </a:lnTo>
                        <a:lnTo>
                          <a:pt x="130" y="310"/>
                        </a:lnTo>
                        <a:lnTo>
                          <a:pt x="110" y="310"/>
                        </a:lnTo>
                        <a:lnTo>
                          <a:pt x="91" y="310"/>
                        </a:lnTo>
                        <a:lnTo>
                          <a:pt x="74" y="307"/>
                        </a:lnTo>
                        <a:lnTo>
                          <a:pt x="59" y="304"/>
                        </a:lnTo>
                        <a:lnTo>
                          <a:pt x="44" y="297"/>
                        </a:lnTo>
                        <a:lnTo>
                          <a:pt x="33" y="290"/>
                        </a:lnTo>
                        <a:lnTo>
                          <a:pt x="21" y="283"/>
                        </a:lnTo>
                        <a:lnTo>
                          <a:pt x="14" y="272"/>
                        </a:lnTo>
                        <a:lnTo>
                          <a:pt x="6" y="262"/>
                        </a:lnTo>
                        <a:lnTo>
                          <a:pt x="2" y="250"/>
                        </a:lnTo>
                        <a:lnTo>
                          <a:pt x="0" y="237"/>
                        </a:lnTo>
                        <a:lnTo>
                          <a:pt x="0" y="223"/>
                        </a:lnTo>
                        <a:lnTo>
                          <a:pt x="3" y="210"/>
                        </a:lnTo>
                        <a:lnTo>
                          <a:pt x="9" y="195"/>
                        </a:lnTo>
                        <a:lnTo>
                          <a:pt x="15" y="181"/>
                        </a:lnTo>
                        <a:lnTo>
                          <a:pt x="23" y="165"/>
                        </a:lnTo>
                        <a:lnTo>
                          <a:pt x="35" y="150"/>
                        </a:lnTo>
                        <a:lnTo>
                          <a:pt x="47" y="136"/>
                        </a:lnTo>
                        <a:lnTo>
                          <a:pt x="62" y="121"/>
                        </a:lnTo>
                        <a:lnTo>
                          <a:pt x="77" y="107"/>
                        </a:lnTo>
                        <a:lnTo>
                          <a:pt x="95" y="92"/>
                        </a:lnTo>
                        <a:lnTo>
                          <a:pt x="113" y="79"/>
                        </a:lnTo>
                        <a:lnTo>
                          <a:pt x="135" y="67"/>
                        </a:lnTo>
                        <a:lnTo>
                          <a:pt x="156" y="53"/>
                        </a:lnTo>
                        <a:lnTo>
                          <a:pt x="180" y="42"/>
                        </a:lnTo>
                        <a:lnTo>
                          <a:pt x="203" y="33"/>
                        </a:lnTo>
                        <a:lnTo>
                          <a:pt x="227" y="23"/>
                        </a:lnTo>
                        <a:lnTo>
                          <a:pt x="249" y="17"/>
                        </a:lnTo>
                        <a:lnTo>
                          <a:pt x="271" y="10"/>
                        </a:lnTo>
                        <a:lnTo>
                          <a:pt x="292" y="5"/>
                        </a:lnTo>
                        <a:lnTo>
                          <a:pt x="315" y="2"/>
                        </a:lnTo>
                        <a:lnTo>
                          <a:pt x="334" y="0"/>
                        </a:lnTo>
                        <a:lnTo>
                          <a:pt x="354" y="0"/>
                        </a:lnTo>
                        <a:lnTo>
                          <a:pt x="373" y="2"/>
                        </a:lnTo>
                        <a:lnTo>
                          <a:pt x="389" y="3"/>
                        </a:lnTo>
                        <a:lnTo>
                          <a:pt x="405" y="9"/>
                        </a:lnTo>
                        <a:lnTo>
                          <a:pt x="420" y="14"/>
                        </a:lnTo>
                        <a:lnTo>
                          <a:pt x="433" y="20"/>
                        </a:lnTo>
                        <a:lnTo>
                          <a:pt x="443" y="27"/>
                        </a:lnTo>
                        <a:lnTo>
                          <a:pt x="452" y="38"/>
                        </a:lnTo>
                        <a:lnTo>
                          <a:pt x="45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Group 412"/>
                <p:cNvGrpSpPr/>
                <p:nvPr/>
              </p:nvGrpSpPr>
              <p:grpSpPr>
                <a:xfrm>
                  <a:off x="6420240" y="2752920"/>
                  <a:ext cx="270360" cy="133920"/>
                  <a:chOff x="6420240" y="2752920"/>
                  <a:chExt cx="270360" cy="133920"/>
                </a:xfrm>
              </p:grpSpPr>
              <p:sp>
                <p:nvSpPr>
                  <p:cNvPr id="459" name="Freeform 413"/>
                  <p:cNvSpPr/>
                  <p:nvPr/>
                </p:nvSpPr>
                <p:spPr>
                  <a:xfrm>
                    <a:off x="6420240" y="2752920"/>
                    <a:ext cx="154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287">
                        <a:moveTo>
                          <a:pt x="248" y="0"/>
                        </a:moveTo>
                        <a:lnTo>
                          <a:pt x="249" y="13"/>
                        </a:lnTo>
                        <a:lnTo>
                          <a:pt x="249" y="26"/>
                        </a:lnTo>
                        <a:lnTo>
                          <a:pt x="249" y="37"/>
                        </a:lnTo>
                        <a:lnTo>
                          <a:pt x="248" y="48"/>
                        </a:lnTo>
                        <a:lnTo>
                          <a:pt x="245" y="60"/>
                        </a:lnTo>
                        <a:lnTo>
                          <a:pt x="242" y="69"/>
                        </a:lnTo>
                        <a:lnTo>
                          <a:pt x="236" y="79"/>
                        </a:lnTo>
                        <a:lnTo>
                          <a:pt x="231" y="89"/>
                        </a:lnTo>
                        <a:lnTo>
                          <a:pt x="220" y="107"/>
                        </a:lnTo>
                        <a:lnTo>
                          <a:pt x="204" y="122"/>
                        </a:lnTo>
                        <a:lnTo>
                          <a:pt x="188" y="139"/>
                        </a:lnTo>
                        <a:lnTo>
                          <a:pt x="171" y="154"/>
                        </a:lnTo>
                        <a:lnTo>
                          <a:pt x="131" y="184"/>
                        </a:lnTo>
                        <a:lnTo>
                          <a:pt x="92" y="213"/>
                        </a:lnTo>
                        <a:lnTo>
                          <a:pt x="74" y="231"/>
                        </a:lnTo>
                        <a:lnTo>
                          <a:pt x="56" y="249"/>
                        </a:lnTo>
                        <a:lnTo>
                          <a:pt x="41" y="266"/>
                        </a:lnTo>
                        <a:lnTo>
                          <a:pt x="27" y="287"/>
                        </a:lnTo>
                        <a:lnTo>
                          <a:pt x="18" y="275"/>
                        </a:lnTo>
                        <a:lnTo>
                          <a:pt x="12" y="263"/>
                        </a:lnTo>
                        <a:lnTo>
                          <a:pt x="7" y="252"/>
                        </a:lnTo>
                        <a:lnTo>
                          <a:pt x="3" y="242"/>
                        </a:lnTo>
                        <a:lnTo>
                          <a:pt x="1" y="231"/>
                        </a:lnTo>
                        <a:lnTo>
                          <a:pt x="0" y="222"/>
                        </a:lnTo>
                        <a:lnTo>
                          <a:pt x="1" y="211"/>
                        </a:lnTo>
                        <a:lnTo>
                          <a:pt x="1" y="202"/>
                        </a:lnTo>
                        <a:lnTo>
                          <a:pt x="4" y="193"/>
                        </a:lnTo>
                        <a:lnTo>
                          <a:pt x="7" y="184"/>
                        </a:lnTo>
                        <a:lnTo>
                          <a:pt x="12" y="176"/>
                        </a:lnTo>
                        <a:lnTo>
                          <a:pt x="17" y="168"/>
                        </a:lnTo>
                        <a:lnTo>
                          <a:pt x="30" y="152"/>
                        </a:lnTo>
                        <a:lnTo>
                          <a:pt x="44" y="136"/>
                        </a:lnTo>
                        <a:lnTo>
                          <a:pt x="78" y="105"/>
                        </a:lnTo>
                        <a:lnTo>
                          <a:pt x="113" y="72"/>
                        </a:lnTo>
                        <a:lnTo>
                          <a:pt x="130" y="57"/>
                        </a:lnTo>
                        <a:lnTo>
                          <a:pt x="146" y="39"/>
                        </a:lnTo>
                        <a:lnTo>
                          <a:pt x="159" y="19"/>
                        </a:lnTo>
                        <a:lnTo>
                          <a:pt x="169" y="0"/>
                        </a:lnTo>
                        <a:lnTo>
                          <a:pt x="2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414"/>
                  <p:cNvSpPr/>
                  <p:nvPr/>
                </p:nvSpPr>
                <p:spPr>
                  <a:xfrm>
                    <a:off x="6457680" y="2781720"/>
                    <a:ext cx="15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82">
                        <a:moveTo>
                          <a:pt x="242" y="0"/>
                        </a:moveTo>
                        <a:lnTo>
                          <a:pt x="225" y="40"/>
                        </a:lnTo>
                        <a:lnTo>
                          <a:pt x="204" y="83"/>
                        </a:lnTo>
                        <a:lnTo>
                          <a:pt x="194" y="105"/>
                        </a:lnTo>
                        <a:lnTo>
                          <a:pt x="182" y="126"/>
                        </a:lnTo>
                        <a:lnTo>
                          <a:pt x="170" y="147"/>
                        </a:lnTo>
                        <a:lnTo>
                          <a:pt x="156" y="168"/>
                        </a:lnTo>
                        <a:lnTo>
                          <a:pt x="142" y="186"/>
                        </a:lnTo>
                        <a:lnTo>
                          <a:pt x="127" y="204"/>
                        </a:lnTo>
                        <a:lnTo>
                          <a:pt x="112" y="222"/>
                        </a:lnTo>
                        <a:lnTo>
                          <a:pt x="94" y="237"/>
                        </a:lnTo>
                        <a:lnTo>
                          <a:pt x="77" y="251"/>
                        </a:lnTo>
                        <a:lnTo>
                          <a:pt x="57" y="265"/>
                        </a:lnTo>
                        <a:lnTo>
                          <a:pt x="38" y="274"/>
                        </a:lnTo>
                        <a:lnTo>
                          <a:pt x="17" y="282"/>
                        </a:lnTo>
                        <a:lnTo>
                          <a:pt x="12" y="269"/>
                        </a:lnTo>
                        <a:lnTo>
                          <a:pt x="8" y="257"/>
                        </a:lnTo>
                        <a:lnTo>
                          <a:pt x="4" y="245"/>
                        </a:lnTo>
                        <a:lnTo>
                          <a:pt x="3" y="235"/>
                        </a:lnTo>
                        <a:lnTo>
                          <a:pt x="0" y="224"/>
                        </a:lnTo>
                        <a:lnTo>
                          <a:pt x="3" y="215"/>
                        </a:lnTo>
                        <a:lnTo>
                          <a:pt x="4" y="204"/>
                        </a:lnTo>
                        <a:lnTo>
                          <a:pt x="6" y="195"/>
                        </a:lnTo>
                        <a:lnTo>
                          <a:pt x="9" y="186"/>
                        </a:lnTo>
                        <a:lnTo>
                          <a:pt x="14" y="177"/>
                        </a:lnTo>
                        <a:lnTo>
                          <a:pt x="18" y="169"/>
                        </a:lnTo>
                        <a:lnTo>
                          <a:pt x="25" y="161"/>
                        </a:lnTo>
                        <a:lnTo>
                          <a:pt x="38" y="145"/>
                        </a:lnTo>
                        <a:lnTo>
                          <a:pt x="54" y="130"/>
                        </a:lnTo>
                        <a:lnTo>
                          <a:pt x="88" y="101"/>
                        </a:lnTo>
                        <a:lnTo>
                          <a:pt x="123" y="71"/>
                        </a:lnTo>
                        <a:lnTo>
                          <a:pt x="139" y="55"/>
                        </a:lnTo>
                        <a:lnTo>
                          <a:pt x="154" y="37"/>
                        </a:lnTo>
                        <a:lnTo>
                          <a:pt x="167" y="20"/>
                        </a:lnTo>
                        <a:lnTo>
                          <a:pt x="177" y="0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415"/>
                  <p:cNvSpPr/>
                  <p:nvPr/>
                </p:nvSpPr>
                <p:spPr>
                  <a:xfrm>
                    <a:off x="6542280" y="2827440"/>
                    <a:ext cx="11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21">
                        <a:moveTo>
                          <a:pt x="184" y="33"/>
                        </a:moveTo>
                        <a:lnTo>
                          <a:pt x="172" y="76"/>
                        </a:lnTo>
                        <a:lnTo>
                          <a:pt x="160" y="119"/>
                        </a:lnTo>
                        <a:lnTo>
                          <a:pt x="148" y="165"/>
                        </a:lnTo>
                        <a:lnTo>
                          <a:pt x="132" y="209"/>
                        </a:lnTo>
                        <a:lnTo>
                          <a:pt x="122" y="227"/>
                        </a:lnTo>
                        <a:lnTo>
                          <a:pt x="113" y="247"/>
                        </a:lnTo>
                        <a:lnTo>
                          <a:pt x="99" y="265"/>
                        </a:lnTo>
                        <a:lnTo>
                          <a:pt x="86" y="281"/>
                        </a:lnTo>
                        <a:lnTo>
                          <a:pt x="69" y="293"/>
                        </a:lnTo>
                        <a:lnTo>
                          <a:pt x="51" y="305"/>
                        </a:lnTo>
                        <a:lnTo>
                          <a:pt x="42" y="310"/>
                        </a:lnTo>
                        <a:lnTo>
                          <a:pt x="31" y="315"/>
                        </a:lnTo>
                        <a:lnTo>
                          <a:pt x="19" y="318"/>
                        </a:lnTo>
                        <a:lnTo>
                          <a:pt x="8" y="321"/>
                        </a:lnTo>
                        <a:lnTo>
                          <a:pt x="1" y="298"/>
                        </a:lnTo>
                        <a:lnTo>
                          <a:pt x="0" y="277"/>
                        </a:lnTo>
                        <a:lnTo>
                          <a:pt x="0" y="254"/>
                        </a:lnTo>
                        <a:lnTo>
                          <a:pt x="1" y="234"/>
                        </a:lnTo>
                        <a:lnTo>
                          <a:pt x="7" y="213"/>
                        </a:lnTo>
                        <a:lnTo>
                          <a:pt x="11" y="192"/>
                        </a:lnTo>
                        <a:lnTo>
                          <a:pt x="19" y="172"/>
                        </a:lnTo>
                        <a:lnTo>
                          <a:pt x="29" y="151"/>
                        </a:lnTo>
                        <a:lnTo>
                          <a:pt x="50" y="113"/>
                        </a:lnTo>
                        <a:lnTo>
                          <a:pt x="74" y="76"/>
                        </a:lnTo>
                        <a:lnTo>
                          <a:pt x="98" y="39"/>
                        </a:lnTo>
                        <a:lnTo>
                          <a:pt x="122" y="3"/>
                        </a:lnTo>
                        <a:lnTo>
                          <a:pt x="132" y="0"/>
                        </a:lnTo>
                        <a:lnTo>
                          <a:pt x="140" y="0"/>
                        </a:lnTo>
                        <a:lnTo>
                          <a:pt x="148" y="3"/>
                        </a:lnTo>
                        <a:lnTo>
                          <a:pt x="157" y="6"/>
                        </a:lnTo>
                        <a:lnTo>
                          <a:pt x="171" y="20"/>
                        </a:lnTo>
                        <a:lnTo>
                          <a:pt x="184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416"/>
                  <p:cNvSpPr/>
                  <p:nvPr/>
                </p:nvSpPr>
                <p:spPr>
                  <a:xfrm>
                    <a:off x="6585120" y="2844000"/>
                    <a:ext cx="10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351">
                        <a:moveTo>
                          <a:pt x="157" y="0"/>
                        </a:moveTo>
                        <a:lnTo>
                          <a:pt x="163" y="23"/>
                        </a:lnTo>
                        <a:lnTo>
                          <a:pt x="166" y="46"/>
                        </a:lnTo>
                        <a:lnTo>
                          <a:pt x="169" y="70"/>
                        </a:lnTo>
                        <a:lnTo>
                          <a:pt x="169" y="91"/>
                        </a:lnTo>
                        <a:lnTo>
                          <a:pt x="165" y="114"/>
                        </a:lnTo>
                        <a:lnTo>
                          <a:pt x="160" y="136"/>
                        </a:lnTo>
                        <a:lnTo>
                          <a:pt x="156" y="159"/>
                        </a:lnTo>
                        <a:lnTo>
                          <a:pt x="148" y="180"/>
                        </a:lnTo>
                        <a:lnTo>
                          <a:pt x="131" y="224"/>
                        </a:lnTo>
                        <a:lnTo>
                          <a:pt x="113" y="265"/>
                        </a:lnTo>
                        <a:lnTo>
                          <a:pt x="94" y="307"/>
                        </a:lnTo>
                        <a:lnTo>
                          <a:pt x="78" y="349"/>
                        </a:lnTo>
                        <a:lnTo>
                          <a:pt x="67" y="351"/>
                        </a:lnTo>
                        <a:lnTo>
                          <a:pt x="56" y="351"/>
                        </a:lnTo>
                        <a:lnTo>
                          <a:pt x="44" y="349"/>
                        </a:lnTo>
                        <a:lnTo>
                          <a:pt x="33" y="348"/>
                        </a:lnTo>
                        <a:lnTo>
                          <a:pt x="24" y="343"/>
                        </a:lnTo>
                        <a:lnTo>
                          <a:pt x="14" y="338"/>
                        </a:lnTo>
                        <a:lnTo>
                          <a:pt x="6" y="330"/>
                        </a:lnTo>
                        <a:lnTo>
                          <a:pt x="0" y="319"/>
                        </a:lnTo>
                        <a:lnTo>
                          <a:pt x="7" y="274"/>
                        </a:lnTo>
                        <a:lnTo>
                          <a:pt x="18" y="227"/>
                        </a:lnTo>
                        <a:lnTo>
                          <a:pt x="25" y="204"/>
                        </a:lnTo>
                        <a:lnTo>
                          <a:pt x="33" y="182"/>
                        </a:lnTo>
                        <a:lnTo>
                          <a:pt x="41" y="160"/>
                        </a:lnTo>
                        <a:lnTo>
                          <a:pt x="51" y="138"/>
                        </a:lnTo>
                        <a:lnTo>
                          <a:pt x="60" y="117"/>
                        </a:lnTo>
                        <a:lnTo>
                          <a:pt x="72" y="97"/>
                        </a:lnTo>
                        <a:lnTo>
                          <a:pt x="83" y="79"/>
                        </a:lnTo>
                        <a:lnTo>
                          <a:pt x="96" y="61"/>
                        </a:lnTo>
                        <a:lnTo>
                          <a:pt x="110" y="43"/>
                        </a:lnTo>
                        <a:lnTo>
                          <a:pt x="125" y="27"/>
                        </a:lnTo>
                        <a:lnTo>
                          <a:pt x="141" y="14"/>
                        </a:lnTo>
                        <a:lnTo>
                          <a:pt x="1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Freeform 417"/>
                  <p:cNvSpPr/>
                  <p:nvPr/>
                </p:nvSpPr>
                <p:spPr>
                  <a:xfrm>
                    <a:off x="6634080" y="285624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68">
                        <a:moveTo>
                          <a:pt x="160" y="38"/>
                        </a:moveTo>
                        <a:lnTo>
                          <a:pt x="160" y="60"/>
                        </a:lnTo>
                        <a:lnTo>
                          <a:pt x="159" y="85"/>
                        </a:lnTo>
                        <a:lnTo>
                          <a:pt x="156" y="107"/>
                        </a:lnTo>
                        <a:lnTo>
                          <a:pt x="151" y="130"/>
                        </a:lnTo>
                        <a:lnTo>
                          <a:pt x="146" y="152"/>
                        </a:lnTo>
                        <a:lnTo>
                          <a:pt x="140" y="174"/>
                        </a:lnTo>
                        <a:lnTo>
                          <a:pt x="131" y="195"/>
                        </a:lnTo>
                        <a:lnTo>
                          <a:pt x="124" y="216"/>
                        </a:lnTo>
                        <a:lnTo>
                          <a:pt x="103" y="259"/>
                        </a:lnTo>
                        <a:lnTo>
                          <a:pt x="81" y="297"/>
                        </a:lnTo>
                        <a:lnTo>
                          <a:pt x="57" y="334"/>
                        </a:lnTo>
                        <a:lnTo>
                          <a:pt x="33" y="368"/>
                        </a:lnTo>
                        <a:lnTo>
                          <a:pt x="24" y="355"/>
                        </a:lnTo>
                        <a:lnTo>
                          <a:pt x="18" y="344"/>
                        </a:lnTo>
                        <a:lnTo>
                          <a:pt x="10" y="331"/>
                        </a:lnTo>
                        <a:lnTo>
                          <a:pt x="6" y="319"/>
                        </a:lnTo>
                        <a:lnTo>
                          <a:pt x="3" y="307"/>
                        </a:lnTo>
                        <a:lnTo>
                          <a:pt x="1" y="295"/>
                        </a:lnTo>
                        <a:lnTo>
                          <a:pt x="0" y="284"/>
                        </a:lnTo>
                        <a:lnTo>
                          <a:pt x="0" y="273"/>
                        </a:lnTo>
                        <a:lnTo>
                          <a:pt x="1" y="248"/>
                        </a:lnTo>
                        <a:lnTo>
                          <a:pt x="4" y="227"/>
                        </a:lnTo>
                        <a:lnTo>
                          <a:pt x="12" y="204"/>
                        </a:lnTo>
                        <a:lnTo>
                          <a:pt x="21" y="181"/>
                        </a:lnTo>
                        <a:lnTo>
                          <a:pt x="42" y="138"/>
                        </a:lnTo>
                        <a:lnTo>
                          <a:pt x="63" y="92"/>
                        </a:lnTo>
                        <a:lnTo>
                          <a:pt x="74" y="70"/>
                        </a:lnTo>
                        <a:lnTo>
                          <a:pt x="83" y="47"/>
                        </a:lnTo>
                        <a:lnTo>
                          <a:pt x="90" y="24"/>
                        </a:lnTo>
                        <a:lnTo>
                          <a:pt x="95" y="2"/>
                        </a:lnTo>
                        <a:lnTo>
                          <a:pt x="106" y="0"/>
                        </a:lnTo>
                        <a:lnTo>
                          <a:pt x="114" y="0"/>
                        </a:lnTo>
                        <a:lnTo>
                          <a:pt x="124" y="3"/>
                        </a:lnTo>
                        <a:lnTo>
                          <a:pt x="130" y="9"/>
                        </a:lnTo>
                        <a:lnTo>
                          <a:pt x="145" y="23"/>
                        </a:lnTo>
                        <a:lnTo>
                          <a:pt x="16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418"/>
                  <p:cNvSpPr/>
                  <p:nvPr/>
                </p:nvSpPr>
                <p:spPr>
                  <a:xfrm>
                    <a:off x="6681600" y="2862720"/>
                    <a:ext cx="90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79">
                        <a:moveTo>
                          <a:pt x="95" y="349"/>
                        </a:moveTo>
                        <a:lnTo>
                          <a:pt x="89" y="356"/>
                        </a:lnTo>
                        <a:lnTo>
                          <a:pt x="81" y="363"/>
                        </a:lnTo>
                        <a:lnTo>
                          <a:pt x="74" y="367"/>
                        </a:lnTo>
                        <a:lnTo>
                          <a:pt x="66" y="371"/>
                        </a:lnTo>
                        <a:lnTo>
                          <a:pt x="50" y="376"/>
                        </a:lnTo>
                        <a:lnTo>
                          <a:pt x="33" y="379"/>
                        </a:lnTo>
                        <a:lnTo>
                          <a:pt x="22" y="358"/>
                        </a:lnTo>
                        <a:lnTo>
                          <a:pt x="15" y="334"/>
                        </a:lnTo>
                        <a:lnTo>
                          <a:pt x="7" y="311"/>
                        </a:lnTo>
                        <a:lnTo>
                          <a:pt x="3" y="287"/>
                        </a:lnTo>
                        <a:lnTo>
                          <a:pt x="1" y="261"/>
                        </a:lnTo>
                        <a:lnTo>
                          <a:pt x="0" y="237"/>
                        </a:lnTo>
                        <a:lnTo>
                          <a:pt x="0" y="211"/>
                        </a:lnTo>
                        <a:lnTo>
                          <a:pt x="3" y="187"/>
                        </a:lnTo>
                        <a:lnTo>
                          <a:pt x="6" y="161"/>
                        </a:lnTo>
                        <a:lnTo>
                          <a:pt x="10" y="135"/>
                        </a:lnTo>
                        <a:lnTo>
                          <a:pt x="18" y="111"/>
                        </a:lnTo>
                        <a:lnTo>
                          <a:pt x="25" y="87"/>
                        </a:lnTo>
                        <a:lnTo>
                          <a:pt x="33" y="64"/>
                        </a:lnTo>
                        <a:lnTo>
                          <a:pt x="43" y="42"/>
                        </a:lnTo>
                        <a:lnTo>
                          <a:pt x="53" y="21"/>
                        </a:lnTo>
                        <a:lnTo>
                          <a:pt x="64" y="0"/>
                        </a:lnTo>
                        <a:lnTo>
                          <a:pt x="78" y="4"/>
                        </a:lnTo>
                        <a:lnTo>
                          <a:pt x="92" y="10"/>
                        </a:lnTo>
                        <a:lnTo>
                          <a:pt x="103" y="16"/>
                        </a:lnTo>
                        <a:lnTo>
                          <a:pt x="113" y="22"/>
                        </a:lnTo>
                        <a:lnTo>
                          <a:pt x="121" y="31"/>
                        </a:lnTo>
                        <a:lnTo>
                          <a:pt x="127" y="37"/>
                        </a:lnTo>
                        <a:lnTo>
                          <a:pt x="131" y="46"/>
                        </a:lnTo>
                        <a:lnTo>
                          <a:pt x="136" y="55"/>
                        </a:lnTo>
                        <a:lnTo>
                          <a:pt x="139" y="64"/>
                        </a:lnTo>
                        <a:lnTo>
                          <a:pt x="140" y="75"/>
                        </a:lnTo>
                        <a:lnTo>
                          <a:pt x="140" y="86"/>
                        </a:lnTo>
                        <a:lnTo>
                          <a:pt x="140" y="96"/>
                        </a:lnTo>
                        <a:lnTo>
                          <a:pt x="137" y="119"/>
                        </a:lnTo>
                        <a:lnTo>
                          <a:pt x="130" y="145"/>
                        </a:lnTo>
                        <a:lnTo>
                          <a:pt x="116" y="195"/>
                        </a:lnTo>
                        <a:lnTo>
                          <a:pt x="101" y="249"/>
                        </a:lnTo>
                        <a:lnTo>
                          <a:pt x="95" y="274"/>
                        </a:lnTo>
                        <a:lnTo>
                          <a:pt x="92" y="300"/>
                        </a:lnTo>
                        <a:lnTo>
                          <a:pt x="92" y="313"/>
                        </a:lnTo>
                        <a:lnTo>
                          <a:pt x="92" y="324"/>
                        </a:lnTo>
                        <a:lnTo>
                          <a:pt x="93" y="337"/>
                        </a:lnTo>
                        <a:lnTo>
                          <a:pt x="95" y="3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419"/>
                  <p:cNvSpPr/>
                  <p:nvPr/>
                </p:nvSpPr>
                <p:spPr>
                  <a:xfrm>
                    <a:off x="6495120" y="279972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455">
                        <a:moveTo>
                          <a:pt x="279" y="7"/>
                        </a:moveTo>
                        <a:lnTo>
                          <a:pt x="288" y="15"/>
                        </a:lnTo>
                        <a:lnTo>
                          <a:pt x="299" y="22"/>
                        </a:lnTo>
                        <a:lnTo>
                          <a:pt x="306" y="34"/>
                        </a:lnTo>
                        <a:lnTo>
                          <a:pt x="313" y="47"/>
                        </a:lnTo>
                        <a:lnTo>
                          <a:pt x="317" y="61"/>
                        </a:lnTo>
                        <a:lnTo>
                          <a:pt x="321" y="78"/>
                        </a:lnTo>
                        <a:lnTo>
                          <a:pt x="323" y="95"/>
                        </a:lnTo>
                        <a:lnTo>
                          <a:pt x="323" y="113"/>
                        </a:lnTo>
                        <a:lnTo>
                          <a:pt x="321" y="132"/>
                        </a:lnTo>
                        <a:lnTo>
                          <a:pt x="317" y="154"/>
                        </a:lnTo>
                        <a:lnTo>
                          <a:pt x="314" y="175"/>
                        </a:lnTo>
                        <a:lnTo>
                          <a:pt x="308" y="195"/>
                        </a:lnTo>
                        <a:lnTo>
                          <a:pt x="302" y="217"/>
                        </a:lnTo>
                        <a:lnTo>
                          <a:pt x="293" y="240"/>
                        </a:lnTo>
                        <a:lnTo>
                          <a:pt x="282" y="263"/>
                        </a:lnTo>
                        <a:lnTo>
                          <a:pt x="271" y="285"/>
                        </a:lnTo>
                        <a:lnTo>
                          <a:pt x="260" y="308"/>
                        </a:lnTo>
                        <a:lnTo>
                          <a:pt x="245" y="329"/>
                        </a:lnTo>
                        <a:lnTo>
                          <a:pt x="232" y="349"/>
                        </a:lnTo>
                        <a:lnTo>
                          <a:pt x="217" y="367"/>
                        </a:lnTo>
                        <a:lnTo>
                          <a:pt x="203" y="384"/>
                        </a:lnTo>
                        <a:lnTo>
                          <a:pt x="187" y="400"/>
                        </a:lnTo>
                        <a:lnTo>
                          <a:pt x="172" y="413"/>
                        </a:lnTo>
                        <a:lnTo>
                          <a:pt x="157" y="424"/>
                        </a:lnTo>
                        <a:lnTo>
                          <a:pt x="140" y="435"/>
                        </a:lnTo>
                        <a:lnTo>
                          <a:pt x="126" y="444"/>
                        </a:lnTo>
                        <a:lnTo>
                          <a:pt x="111" y="450"/>
                        </a:lnTo>
                        <a:lnTo>
                          <a:pt x="96" y="453"/>
                        </a:lnTo>
                        <a:lnTo>
                          <a:pt x="82" y="455"/>
                        </a:lnTo>
                        <a:lnTo>
                          <a:pt x="69" y="455"/>
                        </a:lnTo>
                        <a:lnTo>
                          <a:pt x="57" y="453"/>
                        </a:lnTo>
                        <a:lnTo>
                          <a:pt x="43" y="449"/>
                        </a:lnTo>
                        <a:lnTo>
                          <a:pt x="34" y="440"/>
                        </a:lnTo>
                        <a:lnTo>
                          <a:pt x="24" y="432"/>
                        </a:lnTo>
                        <a:lnTo>
                          <a:pt x="16" y="421"/>
                        </a:lnTo>
                        <a:lnTo>
                          <a:pt x="10" y="408"/>
                        </a:lnTo>
                        <a:lnTo>
                          <a:pt x="7" y="394"/>
                        </a:lnTo>
                        <a:lnTo>
                          <a:pt x="4" y="378"/>
                        </a:lnTo>
                        <a:lnTo>
                          <a:pt x="0" y="361"/>
                        </a:lnTo>
                        <a:lnTo>
                          <a:pt x="0" y="342"/>
                        </a:lnTo>
                        <a:lnTo>
                          <a:pt x="1" y="323"/>
                        </a:lnTo>
                        <a:lnTo>
                          <a:pt x="5" y="302"/>
                        </a:lnTo>
                        <a:lnTo>
                          <a:pt x="8" y="281"/>
                        </a:lnTo>
                        <a:lnTo>
                          <a:pt x="15" y="260"/>
                        </a:lnTo>
                        <a:lnTo>
                          <a:pt x="21" y="237"/>
                        </a:lnTo>
                        <a:lnTo>
                          <a:pt x="29" y="214"/>
                        </a:lnTo>
                        <a:lnTo>
                          <a:pt x="40" y="192"/>
                        </a:lnTo>
                        <a:lnTo>
                          <a:pt x="52" y="169"/>
                        </a:lnTo>
                        <a:lnTo>
                          <a:pt x="63" y="146"/>
                        </a:lnTo>
                        <a:lnTo>
                          <a:pt x="78" y="126"/>
                        </a:lnTo>
                        <a:lnTo>
                          <a:pt x="90" y="107"/>
                        </a:lnTo>
                        <a:lnTo>
                          <a:pt x="105" y="87"/>
                        </a:lnTo>
                        <a:lnTo>
                          <a:pt x="121" y="71"/>
                        </a:lnTo>
                        <a:lnTo>
                          <a:pt x="136" y="57"/>
                        </a:lnTo>
                        <a:lnTo>
                          <a:pt x="152" y="42"/>
                        </a:lnTo>
                        <a:lnTo>
                          <a:pt x="166" y="31"/>
                        </a:lnTo>
                        <a:lnTo>
                          <a:pt x="182" y="19"/>
                        </a:lnTo>
                        <a:lnTo>
                          <a:pt x="196" y="12"/>
                        </a:lnTo>
                        <a:lnTo>
                          <a:pt x="211" y="7"/>
                        </a:lnTo>
                        <a:lnTo>
                          <a:pt x="226" y="1"/>
                        </a:lnTo>
                        <a:lnTo>
                          <a:pt x="240" y="0"/>
                        </a:lnTo>
                        <a:lnTo>
                          <a:pt x="253" y="0"/>
                        </a:lnTo>
                        <a:lnTo>
                          <a:pt x="266" y="1"/>
                        </a:lnTo>
                        <a:lnTo>
                          <a:pt x="279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Rectangle 420"/>
                  <p:cNvSpPr/>
                  <p:nvPr/>
                </p:nvSpPr>
                <p:spPr>
                  <a:xfrm>
                    <a:off x="6584760" y="2764080"/>
                    <a:ext cx="4176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7" name="Freeform 421"/>
              <p:cNvSpPr/>
              <p:nvPr/>
            </p:nvSpPr>
            <p:spPr>
              <a:xfrm>
                <a:off x="6737760" y="2426760"/>
                <a:ext cx="203400" cy="345960"/>
              </a:xfrm>
              <a:custGeom>
                <a:avLst/>
                <a:gdLst/>
                <a:ahLst/>
                <a:rect l="l" t="t" r="r" b="b"/>
                <a:pathLst>
                  <a:path w="165" h="281">
                    <a:moveTo>
                      <a:pt x="0" y="0"/>
                    </a:moveTo>
                    <a:lnTo>
                      <a:pt x="165" y="281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22"/>
              <p:cNvSpPr/>
              <p:nvPr/>
            </p:nvSpPr>
            <p:spPr>
              <a:xfrm>
                <a:off x="6737760" y="2429280"/>
                <a:ext cx="306720" cy="67680"/>
              </a:xfrm>
              <a:custGeom>
                <a:avLst/>
                <a:gdLst/>
                <a:ahLst/>
                <a:rect l="l" t="t" r="r" b="b"/>
                <a:pathLst>
                  <a:path w="249" h="55">
                    <a:moveTo>
                      <a:pt x="0" y="0"/>
                    </a:moveTo>
                    <a:lnTo>
                      <a:pt x="249" y="55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423"/>
              <p:cNvSpPr/>
              <p:nvPr/>
            </p:nvSpPr>
            <p:spPr>
              <a:xfrm>
                <a:off x="6705720" y="2398320"/>
                <a:ext cx="61200" cy="62640"/>
              </a:xfrm>
              <a:prstGeom prst="ellipse">
                <a:avLst/>
              </a:prstGeom>
              <a:gradFill rotWithShape="0">
                <a:gsLst>
                  <a:gs pos="0">
                    <a:srgbClr val="e29c6c"/>
                  </a:gs>
                  <a:gs pos="100000">
                    <a:srgbClr val="96674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0" name="Picture 424" descr=""/>
          <p:cNvPicPr/>
          <p:nvPr/>
        </p:nvPicPr>
        <p:blipFill>
          <a:blip r:embed="rId18"/>
          <a:stretch/>
        </p:blipFill>
        <p:spPr>
          <a:xfrm>
            <a:off x="944640" y="374760"/>
            <a:ext cx="1135080" cy="1584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25" descr=""/>
          <p:cNvPicPr/>
          <p:nvPr/>
        </p:nvPicPr>
        <p:blipFill>
          <a:blip r:embed="rId19"/>
          <a:stretch/>
        </p:blipFill>
        <p:spPr>
          <a:xfrm>
            <a:off x="6896160" y="482760"/>
            <a:ext cx="1533600" cy="127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8" name="Group 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869" name="Group 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870" name="AutoShape 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AutoShape 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AutoShape 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AutoShape 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AutoShape 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5" name="Group 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876" name="AutoShape 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AutoShape 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AutoShape 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AutoShape 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AutoShape 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1" name="Group 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882" name="AutoShape 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AutoShape 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AutoShape 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AutoShape 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AutoShape 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888" name="AutoShape 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AutoShape 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AutoShape 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AutoShape 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AutoShape 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3" name="Group 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894" name="AutoShape 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AutoShape 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AutoShape 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AutoShape 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AutoShape 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9" name="AutoShape 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AutoShape 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AutoShape 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AutoShape 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AutoShape 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AutoShape 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AutoShape 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AutoShape 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7" name="Group 4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908" name="Group 4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909" name="AutoShape 4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AutoShape 4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AutoShape 4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AutoShape 4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AutoShape 4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4" name="Group 4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915" name="AutoShape 4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AutoShape 5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AutoShape 5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AutoShape 5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AutoShape 5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0" name="Group 5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921" name="AutoShape 5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AutoShape 5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AutoShape 5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AutoShape 5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AutoShape 5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Group 6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927" name="AutoShape 6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AutoShape 6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AutoShape 6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AutoShape 6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AutoShape 6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2" name="Group 6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933" name="AutoShape 6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AutoShape 6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AutoShape 6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AutoShape 7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AutoShape 7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8" name="AutoShape 7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AutoShape 7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AutoShape 7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AutoShape 7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7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AutoShape 7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AutoShape 7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Group 8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947" name="Group 8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948" name="AutoShape 8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8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AutoShape 8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AutoShape 8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2" name="Group 8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953" name="AutoShape 8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AutoShape 8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AutoShape 8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AutoShape 9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AutoShape 9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8" name="Group 9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959" name="AutoShape 9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AutoShape 9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AutoShape 9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AutoShape 9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AutoShape 9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4" name="Group 9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965" name="AutoShape 9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AutoShape 10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AutoShape 10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AutoShape 10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AutoShape 10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0" name="AutoShape 10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AutoShape 10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AutoShape 10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AutoShape 10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10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975" name="Group 10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976" name="AutoShape 11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AutoShape 11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AutoShape 11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11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0" name="Group 11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981" name="AutoShape 11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AutoShape 11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AutoShape 11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AutoShape 11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AutoShape 11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6" name="Group 12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987" name="AutoShape 12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AutoShape 12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AutoShape 12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AutoShape 12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AutoShape 12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2" name="Group 12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993" name="AutoShape 12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AutoShape 12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AutoShape 12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AutoShape 13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AutoShape 13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8" name="AutoShape 13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13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AutoShape 13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AutoShape 13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2" name="Text Box 141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14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144"/>
          <p:cNvGrpSpPr/>
          <p:nvPr/>
        </p:nvGrpSpPr>
        <p:grpSpPr>
          <a:xfrm>
            <a:off x="3097080" y="2530440"/>
            <a:ext cx="2678040" cy="2677680"/>
            <a:chOff x="3097080" y="2530440"/>
            <a:chExt cx="2678040" cy="2677680"/>
          </a:xfrm>
        </p:grpSpPr>
        <p:sp>
          <p:nvSpPr>
            <p:cNvPr id="2005" name="Freeform 145"/>
            <p:cNvSpPr/>
            <p:nvPr/>
          </p:nvSpPr>
          <p:spPr>
            <a:xfrm>
              <a:off x="3332520" y="2569320"/>
              <a:ext cx="2246400" cy="26074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f9738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46"/>
            <p:cNvSpPr/>
            <p:nvPr/>
          </p:nvSpPr>
          <p:spPr>
            <a:xfrm>
              <a:off x="3097080" y="2530440"/>
              <a:ext cx="2678040" cy="2677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Group 148"/>
          <p:cNvGrpSpPr/>
          <p:nvPr/>
        </p:nvGrpSpPr>
        <p:grpSpPr>
          <a:xfrm>
            <a:off x="3086280" y="2502000"/>
            <a:ext cx="2734560" cy="2734920"/>
            <a:chOff x="3086280" y="2502000"/>
            <a:chExt cx="2734560" cy="2734920"/>
          </a:xfrm>
        </p:grpSpPr>
        <p:sp>
          <p:nvSpPr>
            <p:cNvPr id="2008" name="Freeform 149"/>
            <p:cNvSpPr/>
            <p:nvPr/>
          </p:nvSpPr>
          <p:spPr>
            <a:xfrm>
              <a:off x="3326760" y="2541960"/>
              <a:ext cx="2293560" cy="26632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50"/>
            <p:cNvSpPr/>
            <p:nvPr/>
          </p:nvSpPr>
          <p:spPr>
            <a:xfrm>
              <a:off x="3086280" y="2502000"/>
              <a:ext cx="2734560" cy="273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Oval 151"/>
          <p:cNvSpPr/>
          <p:nvPr/>
        </p:nvSpPr>
        <p:spPr>
          <a:xfrm>
            <a:off x="4365720" y="2844720"/>
            <a:ext cx="19044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1" name="Group 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012" name="Group 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013" name="AutoShape 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AutoShape 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AutoShape 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AutoShape 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AutoShape 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8" name="Group 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019" name="AutoShape 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AutoShape 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AutoShape 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AutoShape 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AutoShape 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4" name="Group 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025" name="AutoShape 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AutoShape 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AutoShape 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AutoShape 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AutoShape 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0" name="Group 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031" name="AutoShape 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AutoShape 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AutoShape 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AutoShape 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AutoShape 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Group 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037" name="AutoShape 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AutoShape 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AutoShape 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AutoShape 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AutoShape 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2" name="AutoShape 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AutoShape 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AutoShape 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AutoShape 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AutoShape 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AutoShape 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AutoShape 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AutoShape 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Group 4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051" name="Group 4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052" name="AutoShape 4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AutoShape 4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AutoShape 4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AutoShape 4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AutoShape 4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7" name="Group 4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058" name="AutoShape 4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AutoShape 5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AutoShape 5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AutoShape 5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AutoShape 5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3" name="Group 5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064" name="AutoShape 5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AutoShape 5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AutoShape 5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AutoShape 5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AutoShape 5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9" name="Group 6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070" name="AutoShape 6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AutoShape 6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AutoShape 6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AutoShape 6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AutoShape 6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6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076" name="AutoShape 6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AutoShape 6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AutoShape 6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AutoShape 7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AutoShape 7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1" name="AutoShape 7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AutoShape 7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AutoShape 7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AutoShape 7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AutoShape 7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AutoShape 7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AutoShape 7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AutoShape 7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9" name="Group 8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090" name="Group 8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091" name="AutoShape 8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AutoShape 8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AutoShape 8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AutoShape 8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5" name="Group 8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096" name="AutoShape 8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AutoShape 8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AutoShape 8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AutoShape 9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AutoShape 9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1" name="Group 9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102" name="AutoShape 9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AutoShape 9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AutoShape 9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AutoShape 9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AutoShape 9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7" name="Group 9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108" name="AutoShape 9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AutoShape 10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AutoShape 10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AutoShape 10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AutoShape 10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3" name="AutoShape 10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AutoShape 10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AutoShape 10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AutoShape 10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Group 10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118" name="Group 10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119" name="AutoShape 11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AutoShape 11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AutoShape 11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AutoShape 11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3" name="Group 11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124" name="AutoShape 11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AutoShape 11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AutoShape 11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AutoShape 11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AutoShape 11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12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130" name="AutoShape 12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AutoShape 12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AutoShape 12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AutoShape 12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AutoShape 12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5" name="Group 12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136" name="AutoShape 12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AutoShape 12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AutoShape 12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AutoShape 13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AutoShape 13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1" name="AutoShape 13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AutoShape 13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AutoShape 13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AutoShape 13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Text Box 136"/>
          <p:cNvSpPr/>
          <p:nvPr/>
        </p:nvSpPr>
        <p:spPr>
          <a:xfrm>
            <a:off x="5778360" y="29354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37"/>
          <p:cNvSpPr/>
          <p:nvPr/>
        </p:nvSpPr>
        <p:spPr>
          <a:xfrm>
            <a:off x="5678640" y="453240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38"/>
          <p:cNvSpPr/>
          <p:nvPr/>
        </p:nvSpPr>
        <p:spPr>
          <a:xfrm>
            <a:off x="4227480" y="53006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139"/>
          <p:cNvSpPr/>
          <p:nvPr/>
        </p:nvSpPr>
        <p:spPr>
          <a:xfrm>
            <a:off x="2664000" y="459432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40"/>
          <p:cNvSpPr/>
          <p:nvPr/>
        </p:nvSpPr>
        <p:spPr>
          <a:xfrm>
            <a:off x="2575080" y="283860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85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186"/>
          <p:cNvSpPr/>
          <p:nvPr/>
        </p:nvSpPr>
        <p:spPr>
          <a:xfrm>
            <a:off x="3983040" y="57578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87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3" name="Group 188"/>
          <p:cNvGrpSpPr/>
          <p:nvPr/>
        </p:nvGrpSpPr>
        <p:grpSpPr>
          <a:xfrm>
            <a:off x="3097080" y="2530440"/>
            <a:ext cx="2678040" cy="2677680"/>
            <a:chOff x="3097080" y="2530440"/>
            <a:chExt cx="2678040" cy="2677680"/>
          </a:xfrm>
        </p:grpSpPr>
        <p:sp>
          <p:nvSpPr>
            <p:cNvPr id="2154" name="Freeform 189"/>
            <p:cNvSpPr/>
            <p:nvPr/>
          </p:nvSpPr>
          <p:spPr>
            <a:xfrm>
              <a:off x="3332520" y="2569320"/>
              <a:ext cx="2246400" cy="26074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f9738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Oval 190"/>
            <p:cNvSpPr/>
            <p:nvPr/>
          </p:nvSpPr>
          <p:spPr>
            <a:xfrm>
              <a:off x="3097080" y="2530440"/>
              <a:ext cx="2678040" cy="2677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Group 195"/>
          <p:cNvGrpSpPr/>
          <p:nvPr/>
        </p:nvGrpSpPr>
        <p:grpSpPr>
          <a:xfrm>
            <a:off x="3086280" y="2502000"/>
            <a:ext cx="2734560" cy="2734920"/>
            <a:chOff x="3086280" y="2502000"/>
            <a:chExt cx="2734560" cy="2734920"/>
          </a:xfrm>
        </p:grpSpPr>
        <p:grpSp>
          <p:nvGrpSpPr>
            <p:cNvPr id="2157" name="Group 191"/>
            <p:cNvGrpSpPr/>
            <p:nvPr/>
          </p:nvGrpSpPr>
          <p:grpSpPr>
            <a:xfrm>
              <a:off x="3086280" y="2502000"/>
              <a:ext cx="2734560" cy="2734920"/>
              <a:chOff x="3086280" y="2502000"/>
              <a:chExt cx="2734560" cy="2734920"/>
            </a:xfrm>
          </p:grpSpPr>
          <p:sp>
            <p:nvSpPr>
              <p:cNvPr id="2158" name="Freeform 192"/>
              <p:cNvSpPr/>
              <p:nvPr/>
            </p:nvSpPr>
            <p:spPr>
              <a:xfrm>
                <a:off x="3326760" y="2541960"/>
                <a:ext cx="2293560" cy="2663280"/>
              </a:xfrm>
              <a:custGeom>
                <a:avLst/>
                <a:gdLst/>
                <a:ahLst/>
                <a:rect l="l" t="t" r="r" b="b"/>
                <a:pathLst>
                  <a:path w="1144" h="1328">
                    <a:moveTo>
                      <a:pt x="4" y="992"/>
                    </a:moveTo>
                    <a:lnTo>
                      <a:pt x="276" y="664"/>
                    </a:lnTo>
                    <a:lnTo>
                      <a:pt x="0" y="328"/>
                    </a:lnTo>
                    <a:lnTo>
                      <a:pt x="424" y="412"/>
                    </a:lnTo>
                    <a:lnTo>
                      <a:pt x="568" y="0"/>
                    </a:lnTo>
                    <a:lnTo>
                      <a:pt x="716" y="408"/>
                    </a:lnTo>
                    <a:lnTo>
                      <a:pt x="1144" y="332"/>
                    </a:lnTo>
                    <a:lnTo>
                      <a:pt x="860" y="664"/>
                    </a:lnTo>
                    <a:lnTo>
                      <a:pt x="1140" y="992"/>
                    </a:lnTo>
                    <a:lnTo>
                      <a:pt x="720" y="916"/>
                    </a:lnTo>
                    <a:lnTo>
                      <a:pt x="572" y="1328"/>
                    </a:lnTo>
                    <a:lnTo>
                      <a:pt x="424" y="912"/>
                    </a:lnTo>
                    <a:lnTo>
                      <a:pt x="4" y="992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Oval 193"/>
              <p:cNvSpPr/>
              <p:nvPr/>
            </p:nvSpPr>
            <p:spPr>
              <a:xfrm>
                <a:off x="3086280" y="2502000"/>
                <a:ext cx="2734560" cy="27349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0" name="Oval 194"/>
            <p:cNvSpPr/>
            <p:nvPr/>
          </p:nvSpPr>
          <p:spPr>
            <a:xfrm>
              <a:off x="4365720" y="284472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1" name="Text Box 196"/>
          <p:cNvSpPr/>
          <p:nvPr/>
        </p:nvSpPr>
        <p:spPr>
          <a:xfrm>
            <a:off x="4181400" y="201600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27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34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41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48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55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262" dur="20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6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4" name="Group 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165" name="Group 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166" name="AutoShape 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AutoShape 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AutoShape 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AutoShape 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AutoShape 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1" name="Group 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172" name="AutoShape 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AutoShape 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AutoShape 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AutoShape 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AutoShape 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7" name="Group 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178" name="AutoShape 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AutoShape 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AutoShape 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AutoShape 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AutoShape 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3" name="Group 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184" name="AutoShape 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AutoShape 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AutoShape 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AutoShape 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AutoShape 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9" name="Group 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190" name="AutoShape 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AutoShape 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AutoShape 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AutoShape 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AutoShape 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AutoShape 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AutoShape 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AutoShape 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AutoShape 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AutoShape 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AutoShape 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AutoShape 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AutoShape 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3" name="Group 4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204" name="Group 4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205" name="AutoShape 4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AutoShape 4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AutoShape 5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AutoShape 5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AutoShape 5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0" name="Group 5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211" name="AutoShape 5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AutoShape 5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AutoShape 5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AutoShape 5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AutoShape 5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6" name="Group 5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217" name="AutoShape 6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AutoShape 6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AutoShape 6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AutoShape 6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AutoShape 6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2" name="Group 6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223" name="AutoShape 6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AutoShape 6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AutoShape 6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AutoShape 6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AutoShape 7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8" name="Group 7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229" name="AutoShape 7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AutoShape 7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AutoShape 7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AutoShape 7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AutoShape 7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4" name="AutoShape 7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AutoShape 7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AutoShape 7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AutoShape 8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AutoShape 8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AutoShape 8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AutoShape 8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AutoShape 8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Group 8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243" name="Group 8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244" name="AutoShape 8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AutoShape 8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AutoShape 8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AutoShape 9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8" name="Group 9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249" name="AutoShape 9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AutoShape 9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AutoShape 9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AutoShape 9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AutoShape 9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4" name="Group 9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255" name="AutoShape 9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AutoShape 9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AutoShape 10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AutoShape 10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AutoShape 10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0" name="Group 10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261" name="AutoShape 10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AutoShape 10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AutoShape 10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AutoShape 10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AutoShape 10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6" name="AutoShape 10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AutoShape 11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AutoShape 11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AutoShape 11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Group 11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271" name="Group 11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272" name="AutoShape 11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AutoShape 11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AutoShape 11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AutoShape 11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11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277" name="AutoShape 12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AutoShape 12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AutoShape 12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AutoShape 12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AutoShape 12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2" name="Group 12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283" name="AutoShape 12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AutoShape 12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AutoShape 12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AutoShape 12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AutoShape 13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8" name="Group 13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289" name="AutoShape 13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AutoShape 13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AutoShape 13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AutoShape 13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AutoShape 13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4" name="AutoShape 13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AutoShape 13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AutoShape 13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AutoShape 14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Text Box 141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Oval 5"/>
          <p:cNvSpPr/>
          <p:nvPr/>
        </p:nvSpPr>
        <p:spPr>
          <a:xfrm>
            <a:off x="2830680" y="2206800"/>
            <a:ext cx="3551040" cy="3551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AutoShape 4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6bc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343080" y="5284440"/>
            <a:ext cx="5200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gular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4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305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306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1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312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7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318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3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324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9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330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5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344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345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0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351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6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357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2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363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8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369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4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383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384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8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389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4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395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0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401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06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0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411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412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6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417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2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423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8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429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4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8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9" name="Group 139"/>
          <p:cNvGrpSpPr/>
          <p:nvPr/>
        </p:nvGrpSpPr>
        <p:grpSpPr>
          <a:xfrm>
            <a:off x="2830680" y="2206800"/>
            <a:ext cx="3551040" cy="3551040"/>
            <a:chOff x="2830680" y="2206800"/>
            <a:chExt cx="3551040" cy="3551040"/>
          </a:xfrm>
        </p:grpSpPr>
        <p:sp>
          <p:nvSpPr>
            <p:cNvPr id="2440" name="Oval 140"/>
            <p:cNvSpPr/>
            <p:nvPr/>
          </p:nvSpPr>
          <p:spPr>
            <a:xfrm>
              <a:off x="2830680" y="2206800"/>
              <a:ext cx="3551040" cy="3551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AutoShape 141"/>
            <p:cNvSpPr/>
            <p:nvPr/>
          </p:nvSpPr>
          <p:spPr>
            <a:xfrm>
              <a:off x="3070080" y="2206800"/>
              <a:ext cx="3076560" cy="2660400"/>
            </a:xfrm>
            <a:prstGeom prst="triangle">
              <a:avLst>
                <a:gd name="adj" fmla="val 50000"/>
              </a:avLst>
            </a:prstGeom>
            <a:solidFill>
              <a:srgbClr val="6bc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Oval 142"/>
            <p:cNvSpPr/>
            <p:nvPr/>
          </p:nvSpPr>
          <p:spPr>
            <a:xfrm>
              <a:off x="4510080" y="23875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5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446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447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2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453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8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459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4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465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0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471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6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485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486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1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492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7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498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3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504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9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510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5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3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524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525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9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530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5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536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1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542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47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1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552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553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7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558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3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564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9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570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75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9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0" name="Group 139"/>
          <p:cNvGrpSpPr/>
          <p:nvPr/>
        </p:nvGrpSpPr>
        <p:grpSpPr>
          <a:xfrm>
            <a:off x="2830680" y="2206800"/>
            <a:ext cx="3551040" cy="3551040"/>
            <a:chOff x="2830680" y="2206800"/>
            <a:chExt cx="3551040" cy="3551040"/>
          </a:xfrm>
        </p:grpSpPr>
        <p:sp>
          <p:nvSpPr>
            <p:cNvPr id="2581" name="Oval 140"/>
            <p:cNvSpPr/>
            <p:nvPr/>
          </p:nvSpPr>
          <p:spPr>
            <a:xfrm>
              <a:off x="2830680" y="2206800"/>
              <a:ext cx="3551040" cy="3551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AutoShape 141"/>
            <p:cNvSpPr/>
            <p:nvPr/>
          </p:nvSpPr>
          <p:spPr>
            <a:xfrm>
              <a:off x="3070080" y="2206800"/>
              <a:ext cx="3076560" cy="2660400"/>
            </a:xfrm>
            <a:prstGeom prst="triangle">
              <a:avLst>
                <a:gd name="adj" fmla="val 50000"/>
              </a:avLst>
            </a:prstGeom>
            <a:solidFill>
              <a:srgbClr val="6bc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Oval 142"/>
            <p:cNvSpPr/>
            <p:nvPr/>
          </p:nvSpPr>
          <p:spPr>
            <a:xfrm>
              <a:off x="4510080" y="23875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4" name="Text Box 143"/>
          <p:cNvSpPr/>
          <p:nvPr/>
        </p:nvSpPr>
        <p:spPr>
          <a:xfrm>
            <a:off x="6224760" y="485316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Text Box 144"/>
          <p:cNvSpPr/>
          <p:nvPr/>
        </p:nvSpPr>
        <p:spPr>
          <a:xfrm>
            <a:off x="2371680" y="48531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145"/>
          <p:cNvSpPr/>
          <p:nvPr/>
        </p:nvSpPr>
        <p:spPr>
          <a:xfrm>
            <a:off x="4356000" y="173664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146"/>
          <p:cNvSpPr/>
          <p:nvPr/>
        </p:nvSpPr>
        <p:spPr>
          <a:xfrm>
            <a:off x="719928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276" dur="20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7200000">
                                      <p:cBhvr>
                                        <p:cTn id="283" dur="20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7200000">
                                      <p:cBhvr>
                                        <p:cTn id="290" dur="20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148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0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591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592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7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598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3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604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9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610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5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616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630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631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6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637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2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643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8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649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655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0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669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670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4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675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0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681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6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687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2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6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697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698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2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703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8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709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4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715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0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4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Rectangle 147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fcd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18680" y="528444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Rectangle 2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9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730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731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6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737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2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743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8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749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4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755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0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8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769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770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5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776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1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782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7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788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3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794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9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7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808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809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3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814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9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820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1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2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5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826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1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5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836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837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1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842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7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848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3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854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9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3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4" name="Group 144"/>
          <p:cNvGrpSpPr/>
          <p:nvPr/>
        </p:nvGrpSpPr>
        <p:grpSpPr>
          <a:xfrm>
            <a:off x="3541680" y="2554200"/>
            <a:ext cx="2176560" cy="2176560"/>
            <a:chOff x="3541680" y="2554200"/>
            <a:chExt cx="2176560" cy="2176560"/>
          </a:xfrm>
        </p:grpSpPr>
        <p:sp>
          <p:nvSpPr>
            <p:cNvPr id="2865" name="Rectangle 145"/>
            <p:cNvSpPr/>
            <p:nvPr/>
          </p:nvSpPr>
          <p:spPr>
            <a:xfrm>
              <a:off x="3541680" y="2554200"/>
              <a:ext cx="2176560" cy="2176560"/>
            </a:xfrm>
            <a:prstGeom prst="rect">
              <a:avLst/>
            </a:prstGeom>
            <a:solidFill>
              <a:srgbClr val="fcda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146"/>
            <p:cNvSpPr/>
            <p:nvPr/>
          </p:nvSpPr>
          <p:spPr>
            <a:xfrm>
              <a:off x="5391000" y="2630520"/>
              <a:ext cx="21780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Rectangle 2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2870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2871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6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2877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2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2883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8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2889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4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2895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0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2909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2910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5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2916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1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2922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7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2928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3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2934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9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7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2948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2949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3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2954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9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2960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5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2966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71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2976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2977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1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2982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7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2988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1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2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3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2994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99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3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139"/>
          <p:cNvSpPr/>
          <p:nvPr/>
        </p:nvSpPr>
        <p:spPr>
          <a:xfrm>
            <a:off x="5959440" y="4659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Text Box 140"/>
          <p:cNvSpPr/>
          <p:nvPr/>
        </p:nvSpPr>
        <p:spPr>
          <a:xfrm>
            <a:off x="2778120" y="4659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Text Box 141"/>
          <p:cNvSpPr/>
          <p:nvPr/>
        </p:nvSpPr>
        <p:spPr>
          <a:xfrm>
            <a:off x="2760840" y="234792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142"/>
          <p:cNvSpPr/>
          <p:nvPr/>
        </p:nvSpPr>
        <p:spPr>
          <a:xfrm>
            <a:off x="719928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Text Box 143"/>
          <p:cNvSpPr/>
          <p:nvPr/>
        </p:nvSpPr>
        <p:spPr>
          <a:xfrm>
            <a:off x="5959440" y="236520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9" name="Group 144"/>
          <p:cNvGrpSpPr/>
          <p:nvPr/>
        </p:nvGrpSpPr>
        <p:grpSpPr>
          <a:xfrm>
            <a:off x="3541680" y="2554200"/>
            <a:ext cx="2176560" cy="2176560"/>
            <a:chOff x="3541680" y="2554200"/>
            <a:chExt cx="2176560" cy="2176560"/>
          </a:xfrm>
        </p:grpSpPr>
        <p:sp>
          <p:nvSpPr>
            <p:cNvPr id="3010" name="Rectangle 145"/>
            <p:cNvSpPr/>
            <p:nvPr/>
          </p:nvSpPr>
          <p:spPr>
            <a:xfrm>
              <a:off x="3541680" y="2554200"/>
              <a:ext cx="2176560" cy="2176560"/>
            </a:xfrm>
            <a:prstGeom prst="rect">
              <a:avLst/>
            </a:prstGeom>
            <a:solidFill>
              <a:srgbClr val="fcda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Oval 146"/>
            <p:cNvSpPr/>
            <p:nvPr/>
          </p:nvSpPr>
          <p:spPr>
            <a:xfrm>
              <a:off x="5391000" y="2630520"/>
              <a:ext cx="21780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04" dur="2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311" dur="2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318" dur="2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325" dur="2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514440" y="536076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ent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AutoShape 148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Pen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5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016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017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2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023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8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029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4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035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0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041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6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055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056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1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062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7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068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3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074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9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080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5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3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094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095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9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100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5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106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1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112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7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1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122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123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7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128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3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134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8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9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140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5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9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pen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AutoShape 147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dbf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Oval 149"/>
          <p:cNvSpPr/>
          <p:nvPr/>
        </p:nvSpPr>
        <p:spPr>
          <a:xfrm>
            <a:off x="2755800" y="2357280"/>
            <a:ext cx="3370320" cy="3370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AutoShape 2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Pen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4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155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156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1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162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7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168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3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174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9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180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5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3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194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195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0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201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6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207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2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213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8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219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4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2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233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234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8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239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4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245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0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251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56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0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261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262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6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267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2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273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8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279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4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8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pen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AutoShape 141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dbf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Oval 142"/>
          <p:cNvSpPr/>
          <p:nvPr/>
        </p:nvSpPr>
        <p:spPr>
          <a:xfrm>
            <a:off x="2755800" y="2357280"/>
            <a:ext cx="3370320" cy="3370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Oval 143"/>
          <p:cNvSpPr/>
          <p:nvPr/>
        </p:nvSpPr>
        <p:spPr>
          <a:xfrm>
            <a:off x="4343400" y="2459160"/>
            <a:ext cx="190440" cy="190440"/>
          </a:xfrm>
          <a:prstGeom prst="ellipse">
            <a:avLst/>
          </a:prstGeom>
          <a:solidFill>
            <a:srgbClr val="130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a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51000" y="1533240"/>
            <a:ext cx="383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795240" y="379440"/>
            <a:ext cx="7562880" cy="22647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6666ff"/>
                </a:solidFill>
                <a:uFillTx/>
                <a:latin typeface="Comic Sans MS"/>
              </a:rPr>
              <a:t>Making Purch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omic Sans MS"/>
              </a:rPr>
              <a:t>Special Offe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Every time you buy 4 or more presentations (in a single basket) the cheapest will be free. Buy 8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get 2 free, buy 12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get 3 free etc. You will be able to monitor the discount as you place the presentations in your basket. Your purchased presentations will appear in your account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nstantly.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lease not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hat when paying by credit card you must press the “</a:t>
            </a:r>
            <a:r>
              <a:rPr b="0" lang="en-GB" sz="1400" spc="-1" strike="noStrike">
                <a:solidFill>
                  <a:srgbClr val="6666ff"/>
                </a:solidFill>
                <a:latin typeface="Comic Sans MS"/>
              </a:rPr>
              <a:t>RETURN TO MERCHAN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” button on the final PayPal screen showing your receipt for payment. If this button is not pressed then you will experience a delay in the presentations being placed in your accoun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817560" y="3086280"/>
            <a:ext cx="7562880" cy="152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6666ff"/>
                </a:solidFill>
                <a:uFillTx/>
                <a:latin typeface="Comic Sans MS"/>
              </a:rPr>
              <a:t>Further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omic Sans MS"/>
              </a:rPr>
              <a:t>FREE MONTHLY PRESENTATIO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A free presentation will be added to your account at some point during each calendar month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HOME PA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More free stuff/sample material at bottom of p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ORDER FORM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Catalogues can also be found here showing some screen sho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96840"/>
          </a:xfrm>
          <a:prstGeom prst="rect">
            <a:avLst/>
          </a:prstGeom>
          <a:gradFill rotWithShape="0">
            <a:gsLst>
              <a:gs pos="0">
                <a:srgbClr val="4444a9"/>
              </a:gs>
              <a:gs pos="50000">
                <a:srgbClr val="6666ff"/>
              </a:gs>
              <a:gs pos="100000">
                <a:srgbClr val="4444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0" y="0"/>
            <a:ext cx="144360" cy="6858000"/>
          </a:xfrm>
          <a:prstGeom prst="rect">
            <a:avLst/>
          </a:prstGeom>
          <a:gradFill rotWithShape="0">
            <a:gsLst>
              <a:gs pos="0">
                <a:srgbClr val="4444a9"/>
              </a:gs>
              <a:gs pos="50000">
                <a:srgbClr val="6666ff"/>
              </a:gs>
              <a:gs pos="100000">
                <a:srgbClr val="4444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9070920" y="0"/>
            <a:ext cx="144360" cy="6858000"/>
          </a:xfrm>
          <a:prstGeom prst="rect">
            <a:avLst/>
          </a:prstGeom>
          <a:gradFill rotWithShape="0">
            <a:gsLst>
              <a:gs pos="0">
                <a:srgbClr val="4444a9"/>
              </a:gs>
              <a:gs pos="50000">
                <a:srgbClr val="6666ff"/>
              </a:gs>
              <a:gs pos="100000">
                <a:srgbClr val="4444a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817560" y="5011560"/>
            <a:ext cx="7562880" cy="141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6666ff"/>
                </a:solidFill>
                <a:uFillTx/>
                <a:latin typeface="Comic Sans MS"/>
              </a:rPr>
              <a:t>Hints and T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intable Worksheet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Always choose “Slide Outline” (top left) before running a presentation to view slide titles and to check for printable workshee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diting Presentation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: All presentations are normally quite easy to edit (particularly text). It is also straightforward to insert your own slid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6761160"/>
            <a:ext cx="9144000" cy="96840"/>
          </a:xfrm>
          <a:prstGeom prst="rect">
            <a:avLst/>
          </a:prstGeom>
          <a:gradFill rotWithShape="0">
            <a:gsLst>
              <a:gs pos="0">
                <a:srgbClr val="4444a9"/>
              </a:gs>
              <a:gs pos="50000">
                <a:srgbClr val="6666ff"/>
              </a:gs>
              <a:gs pos="100000">
                <a:srgbClr val="4444a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AutoShape 2"/>
          <p:cNvSpPr/>
          <p:nvPr/>
        </p:nvSpPr>
        <p:spPr>
          <a:xfrm>
            <a:off x="2838600" y="2362320"/>
            <a:ext cx="3206520" cy="3047760"/>
          </a:xfrm>
          <a:prstGeom prst="pentagon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Pen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4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295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296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1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302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7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308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3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314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9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320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5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334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335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0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341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6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347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2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353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8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359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4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2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373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374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8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379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4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385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0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391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96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0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401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402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6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407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9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2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413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5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6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8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419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0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4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8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pen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Text Box 139"/>
          <p:cNvSpPr/>
          <p:nvPr/>
        </p:nvSpPr>
        <p:spPr>
          <a:xfrm>
            <a:off x="738972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0" name="Group 140"/>
          <p:cNvGrpSpPr/>
          <p:nvPr/>
        </p:nvGrpSpPr>
        <p:grpSpPr>
          <a:xfrm>
            <a:off x="2739960" y="2354400"/>
            <a:ext cx="3395520" cy="3395160"/>
            <a:chOff x="2739960" y="2354400"/>
            <a:chExt cx="3395520" cy="3395160"/>
          </a:xfrm>
        </p:grpSpPr>
        <p:sp>
          <p:nvSpPr>
            <p:cNvPr id="3431" name="AutoShape 141"/>
            <p:cNvSpPr/>
            <p:nvPr/>
          </p:nvSpPr>
          <p:spPr>
            <a:xfrm>
              <a:off x="2823120" y="2359080"/>
              <a:ext cx="3230640" cy="3071160"/>
            </a:xfrm>
            <a:prstGeom prst="pentagon">
              <a:avLst/>
            </a:prstGeom>
            <a:solidFill>
              <a:srgbClr val="edbf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Oval 142"/>
            <p:cNvSpPr/>
            <p:nvPr/>
          </p:nvSpPr>
          <p:spPr>
            <a:xfrm>
              <a:off x="2739960" y="2354400"/>
              <a:ext cx="3395520" cy="3395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Oval 143"/>
            <p:cNvSpPr/>
            <p:nvPr/>
          </p:nvSpPr>
          <p:spPr>
            <a:xfrm>
              <a:off x="4339440" y="2456640"/>
              <a:ext cx="191880" cy="191880"/>
            </a:xfrm>
            <a:prstGeom prst="ellipse">
              <a:avLst/>
            </a:prstGeom>
            <a:solidFill>
              <a:srgbClr val="130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Text Box 144"/>
          <p:cNvSpPr/>
          <p:nvPr/>
        </p:nvSpPr>
        <p:spPr>
          <a:xfrm>
            <a:off x="6111720" y="32878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Text Box 145"/>
          <p:cNvSpPr/>
          <p:nvPr/>
        </p:nvSpPr>
        <p:spPr>
          <a:xfrm>
            <a:off x="5578560" y="54021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Text Box 146"/>
          <p:cNvSpPr/>
          <p:nvPr/>
        </p:nvSpPr>
        <p:spPr>
          <a:xfrm>
            <a:off x="2874960" y="543384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Text Box 147"/>
          <p:cNvSpPr/>
          <p:nvPr/>
        </p:nvSpPr>
        <p:spPr>
          <a:xfrm>
            <a:off x="2149560" y="324180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Text Box 148"/>
          <p:cNvSpPr/>
          <p:nvPr/>
        </p:nvSpPr>
        <p:spPr>
          <a:xfrm>
            <a:off x="4194000" y="187632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">
                                      <p:cBhvr>
                                        <p:cTn id="339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346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353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360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367" dur="2000" fill="hold"/>
                                        <p:tgtEl>
                                          <p:spTgt spid="3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66400" y="5379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x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AutoShape 3"/>
          <p:cNvSpPr/>
          <p:nvPr/>
        </p:nvSpPr>
        <p:spPr>
          <a:xfrm>
            <a:off x="2871720" y="2739960"/>
            <a:ext cx="3133800" cy="27100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AutoShape 5"/>
          <p:cNvSpPr/>
          <p:nvPr/>
        </p:nvSpPr>
        <p:spPr>
          <a:xfrm>
            <a:off x="2871720" y="2739960"/>
            <a:ext cx="3133800" cy="27100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93b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Text Box 14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Hex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3" name="Group 1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444" name="Group 1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445" name="AutoShape 1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AutoShape 1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AutoShape 1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AutoShape 2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AutoShape 2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0" name="Group 2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451" name="AutoShape 2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AutoShape 2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AutoShape 2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AutoShape 2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AutoShape 2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6" name="Group 2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457" name="AutoShape 2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AutoShape 3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AutoShape 3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AutoShape 3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AutoShape 3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2" name="Group 3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463" name="AutoShape 3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AutoShape 3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AutoShape 3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AutoShape 3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AutoShape 3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8" name="Group 4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469" name="AutoShape 4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AutoShape 4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AutoShape 4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AutoShape 4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AutoShape 4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4" name="AutoShape 4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AutoShape 4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AutoShape 4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AutoShape 4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AutoShape 5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AutoShape 5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AutoShape 5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AutoShape 5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2" name="Group 5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483" name="Group 5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484" name="AutoShape 5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AutoShape 5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AutoShape 5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AutoShape 5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8" name="Group 6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489" name="AutoShape 6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0" name="AutoShape 6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AutoShape 6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2" name="AutoShape 6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3" name="AutoShape 6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4" name="Group 6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495" name="AutoShape 6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AutoShape 6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7" name="AutoShape 6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8" name="AutoShape 7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9" name="AutoShape 7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0" name="Group 7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501" name="AutoShape 7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AutoShape 7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3" name="AutoShape 7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4" name="AutoShape 7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AutoShape 7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6" name="AutoShape 7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AutoShape 7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AutoShape 8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AutoShape 8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0" name="Group 8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511" name="Group 8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512" name="AutoShape 8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AutoShape 8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AutoShape 8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AutoShape 8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6" name="Group 8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517" name="AutoShape 8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8" name="AutoShape 9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AutoShape 9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AutoShape 9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AutoShape 9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2" name="Group 9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523" name="AutoShape 9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AutoShape 9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5" name="AutoShape 9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AutoShape 9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7" name="AutoShape 9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8" name="Group 10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529" name="AutoShape 10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AutoShape 10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1" name="AutoShape 10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AutoShape 10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AutoShape 10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4" name="AutoShape 10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AutoShape 10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AutoShape 10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AutoShape 10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8" name="Text Box 110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hex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9" name="Group 11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540" name="Group 11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541" name="AutoShape 11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AutoShape 11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AutoShape 11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AutoShape 11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11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6" name="Group 11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547" name="AutoShape 12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AutoShape 12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AutoShape 12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AutoShape 12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AutoShape 12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2" name="Group 12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553" name="AutoShape 12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AutoShape 12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AutoShape 12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AutoShape 12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AutoShape 13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8" name="Group 13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559" name="AutoShape 13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AutoShape 13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AutoShape 13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AutoShape 13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AutoShape 13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3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565" name="AutoShape 13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AutoShape 13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AutoShape 14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AutoShape 14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AutoShape 14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0" name="AutoShape 14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AutoShape 14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AutoShape 14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AutoShape 14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AutoShape 14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AutoShape 14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AutoShape 14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AutoShape 15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AutoShape 2"/>
          <p:cNvSpPr/>
          <p:nvPr/>
        </p:nvSpPr>
        <p:spPr>
          <a:xfrm>
            <a:off x="2871720" y="2739960"/>
            <a:ext cx="3133800" cy="27100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9" name="Group 3"/>
          <p:cNvGrpSpPr/>
          <p:nvPr/>
        </p:nvGrpSpPr>
        <p:grpSpPr>
          <a:xfrm>
            <a:off x="2871720" y="2739960"/>
            <a:ext cx="3133440" cy="2709720"/>
            <a:chOff x="2871720" y="2739960"/>
            <a:chExt cx="3133440" cy="2709720"/>
          </a:xfrm>
        </p:grpSpPr>
        <p:sp>
          <p:nvSpPr>
            <p:cNvPr id="3580" name="AutoShape 4"/>
            <p:cNvSpPr/>
            <p:nvPr/>
          </p:nvSpPr>
          <p:spPr>
            <a:xfrm>
              <a:off x="2871720" y="2739960"/>
              <a:ext cx="3133440" cy="2709720"/>
            </a:xfrm>
            <a:prstGeom prst="hexagon">
              <a:avLst>
                <a:gd name="adj" fmla="val 28909"/>
                <a:gd name="vf" fmla="val 115470"/>
              </a:avLst>
            </a:prstGeom>
            <a:solidFill>
              <a:srgbClr val="93b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Oval 5"/>
            <p:cNvSpPr/>
            <p:nvPr/>
          </p:nvSpPr>
          <p:spPr>
            <a:xfrm>
              <a:off x="5043600" y="2932920"/>
              <a:ext cx="174600" cy="17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2" name="Text Box 12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Hex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3" name="Group 1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584" name="Group 1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585" name="AutoShape 1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AutoShape 1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AutoShape 1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AutoShape 1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AutoShape 1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0" name="Group 2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591" name="AutoShape 2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AutoShape 2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AutoShape 2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AutoShape 2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AutoShape 2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6" name="Group 2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597" name="AutoShape 2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AutoShape 2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AutoShape 2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AutoShape 3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AutoShape 3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2" name="Group 3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603" name="AutoShape 3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AutoShape 3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AutoShape 3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AutoShape 3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AutoShape 3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8" name="Group 3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609" name="AutoShape 3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AutoShape 4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AutoShape 4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AutoShape 4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4" name="AutoShape 4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AutoShape 4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AutoShape 4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AutoShape 4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AutoShape 4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AutoShape 4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AutoShape 5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AutoShape 5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Group 5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623" name="Group 5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624" name="AutoShape 5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AutoShape 5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AutoShape 5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AutoShape 5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8" name="Group 5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629" name="AutoShape 5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0" name="AutoShape 6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6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2" name="AutoShape 6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3" name="AutoShape 6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4" name="Group 6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635" name="AutoShape 6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6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AutoShape 6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8" name="AutoShape 6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AutoShape 6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0" name="Group 7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641" name="AutoShape 7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2" name="AutoShape 7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AutoShape 7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AutoShape 7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5" name="AutoShape 7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6" name="AutoShape 7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AutoShape 7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AutoShape 7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AutoShape 7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0" name="Group 8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651" name="Group 8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652" name="AutoShape 8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AutoShape 8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AutoShape 8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AutoShape 8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6" name="Group 8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657" name="AutoShape 8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8" name="AutoShape 8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9" name="AutoShape 8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9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1" name="AutoShape 9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2" name="Group 9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663" name="AutoShape 9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9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AutoShape 9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6" name="AutoShape 9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7" name="AutoShape 9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8" name="Group 9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669" name="AutoShape 9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0" name="AutoShape 10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1" name="AutoShape 10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2" name="AutoShape 10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10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4" name="AutoShape 10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AutoShape 10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AutoShape 10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AutoShape 10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8" name="Text Box 108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hex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9" name="Group 11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680" name="Group 11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681" name="AutoShape 11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AutoShape 11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AutoShape 11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AutoShape 11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AutoShape 11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6" name="Group 11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687" name="AutoShape 11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AutoShape 11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AutoShape 12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AutoShape 12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AutoShape 12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2" name="Group 12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693" name="AutoShape 12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AutoShape 12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AutoShape 12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AutoShape 12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AutoShape 12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8" name="Group 12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699" name="AutoShape 13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AutoShape 13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AutoShape 13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AutoShape 13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AutoShape 13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4" name="Group 13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705" name="AutoShape 13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AutoShape 13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AutoShape 13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AutoShape 13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AutoShape 14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0" name="AutoShape 14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AutoShape 14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AutoShape 14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AutoShape 14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AutoShape 14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AutoShape 14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AutoShape 14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AutoShape 14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AutoShape 2"/>
          <p:cNvSpPr/>
          <p:nvPr/>
        </p:nvSpPr>
        <p:spPr>
          <a:xfrm>
            <a:off x="2871720" y="2739960"/>
            <a:ext cx="3133800" cy="27100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Group 3"/>
          <p:cNvGrpSpPr/>
          <p:nvPr/>
        </p:nvGrpSpPr>
        <p:grpSpPr>
          <a:xfrm>
            <a:off x="2871720" y="2739960"/>
            <a:ext cx="3133440" cy="2709720"/>
            <a:chOff x="2871720" y="2739960"/>
            <a:chExt cx="3133440" cy="2709720"/>
          </a:xfrm>
        </p:grpSpPr>
        <p:sp>
          <p:nvSpPr>
            <p:cNvPr id="3720" name="AutoShape 4"/>
            <p:cNvSpPr/>
            <p:nvPr/>
          </p:nvSpPr>
          <p:spPr>
            <a:xfrm>
              <a:off x="2871720" y="2739960"/>
              <a:ext cx="3133440" cy="2709720"/>
            </a:xfrm>
            <a:prstGeom prst="hexagon">
              <a:avLst>
                <a:gd name="adj" fmla="val 28909"/>
                <a:gd name="vf" fmla="val 115470"/>
              </a:avLst>
            </a:prstGeom>
            <a:solidFill>
              <a:srgbClr val="93b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Oval 5"/>
            <p:cNvSpPr/>
            <p:nvPr/>
          </p:nvSpPr>
          <p:spPr>
            <a:xfrm>
              <a:off x="5043600" y="2932920"/>
              <a:ext cx="174600" cy="17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2" name="Text Box 6"/>
          <p:cNvSpPr/>
          <p:nvPr/>
        </p:nvSpPr>
        <p:spPr>
          <a:xfrm>
            <a:off x="6137280" y="39052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Text Box 7"/>
          <p:cNvSpPr/>
          <p:nvPr/>
        </p:nvSpPr>
        <p:spPr>
          <a:xfrm>
            <a:off x="5202360" y="5532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Text Box 8"/>
          <p:cNvSpPr/>
          <p:nvPr/>
        </p:nvSpPr>
        <p:spPr>
          <a:xfrm>
            <a:off x="3086280" y="554040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Text Box 9"/>
          <p:cNvSpPr/>
          <p:nvPr/>
        </p:nvSpPr>
        <p:spPr>
          <a:xfrm>
            <a:off x="2236680" y="39099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Text Box 10"/>
          <p:cNvSpPr/>
          <p:nvPr/>
        </p:nvSpPr>
        <p:spPr>
          <a:xfrm>
            <a:off x="2997360" y="240336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11"/>
          <p:cNvSpPr/>
          <p:nvPr/>
        </p:nvSpPr>
        <p:spPr>
          <a:xfrm>
            <a:off x="5481720" y="24400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Text Box 12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Hex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9" name="Group 1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730" name="Group 1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731" name="AutoShape 1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AutoShape 1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AutoShape 1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AutoShape 1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AutoShape 1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737" name="AutoShape 2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AutoShape 2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AutoShape 2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AutoShape 2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AutoShape 2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2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743" name="AutoShape 2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AutoShape 2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AutoShape 2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AutoShape 3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AutoShape 3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8" name="Group 3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749" name="AutoShape 3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AutoShape 3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AutoShape 3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AutoShape 3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AutoShape 3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3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755" name="AutoShape 3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AutoShape 4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AutoShape 4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AutoShape 4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AutoShape 4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0" name="AutoShape 4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AutoShape 4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AutoShape 4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AutoShape 4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AutoShape 4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AutoShape 4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AutoShape 5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AutoShape 5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Group 5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769" name="Group 5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770" name="AutoShape 5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AutoShape 5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AutoShape 5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AutoShape 5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4" name="Group 5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775" name="AutoShape 5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6" name="AutoShape 6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7" name="AutoShape 6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8" name="AutoShape 6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9" name="AutoShape 6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0" name="Group 6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781" name="AutoShape 6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2" name="AutoShape 6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3" name="AutoShape 6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4" name="AutoShape 6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5" name="AutoShape 6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6" name="Group 7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787" name="AutoShape 7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8" name="AutoShape 7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9" name="AutoShape 7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0" name="AutoShape 7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1" name="AutoShape 7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2" name="AutoShape 7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AutoShape 7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AutoShape 7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AutoShape 7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6" name="Group 8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797" name="Group 8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798" name="AutoShape 8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AutoShape 8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AutoShape 8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AutoShape 8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2" name="Group 8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803" name="AutoShape 8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4" name="AutoShape 8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5" name="AutoShape 8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6" name="AutoShape 9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7" name="AutoShape 9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8" name="Group 9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809" name="AutoShape 9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0" name="AutoShape 9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1" name="AutoShape 9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2" name="AutoShape 9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3" name="AutoShape 9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4" name="Group 9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815" name="AutoShape 9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6" name="AutoShape 10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7" name="AutoShape 10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8" name="AutoShape 10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9" name="AutoShape 10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20" name="AutoShape 10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AutoShape 10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AutoShape 10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AutoShape 10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4" name="Text Box 108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hex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Text Box 109"/>
          <p:cNvSpPr/>
          <p:nvPr/>
        </p:nvSpPr>
        <p:spPr>
          <a:xfrm>
            <a:off x="738972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6" name="Group 11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827" name="Group 11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828" name="AutoShape 11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AutoShape 11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AutoShape 11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11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AutoShape 11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3" name="Group 11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834" name="AutoShape 11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AutoShape 11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12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AutoShape 12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AutoShape 12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9" name="Group 12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840" name="AutoShape 12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AutoShape 12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AutoShape 12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AutoShape 12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AutoShape 12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5" name="Group 12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846" name="AutoShape 13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AutoShape 13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AutoShape 13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AutoShape 13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AutoShape 13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1" name="Group 13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852" name="AutoShape 13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AutoShape 13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AutoShape 13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AutoShape 13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AutoShape 14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7" name="AutoShape 14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AutoShape 14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AutoShape 14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AutoShape 14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AutoShape 14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AutoShape 14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AutoShape 14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AutoShape 14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81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388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395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0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402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409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416" dur="2000" fill="hold"/>
                                        <p:tgtEl>
                                          <p:spTgt spid="3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Text Box 12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Oc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6" name="Group 1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867" name="Group 1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868" name="AutoShape 1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1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AutoShape 1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AutoShape 1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AutoShape 1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3" name="Group 2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874" name="AutoShape 2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AutoShape 2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AutoShape 2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AutoShape 2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AutoShape 2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9" name="Group 2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880" name="AutoShape 2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AutoShape 2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AutoShape 2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AutoShape 3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AutoShape 3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5" name="Group 3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886" name="AutoShape 3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AutoShape 3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AutoShape 3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AutoShape 3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AutoShape 3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1" name="Group 3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892" name="AutoShape 3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AutoShape 4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AutoShape 4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AutoShape 4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AutoShape 4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7" name="AutoShape 4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AutoShape 4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AutoShape 4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AutoShape 4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AutoShape 4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AutoShape 4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AutoShape 5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AutoShape 5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Group 5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906" name="Group 5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907" name="AutoShape 5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AutoShape 5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AutoShape 5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AutoShape 5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1" name="Group 5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912" name="AutoShape 5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3" name="AutoShape 6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4" name="AutoShape 6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5" name="AutoShape 6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6" name="AutoShape 6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7" name="Group 6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918" name="AutoShape 6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9" name="AutoShape 6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0" name="AutoShape 6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1" name="AutoShape 6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2" name="AutoShape 6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3" name="Group 7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924" name="AutoShape 7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5" name="AutoShape 7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6" name="AutoShape 7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7" name="AutoShape 7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8" name="AutoShape 7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9" name="AutoShape 7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AutoShape 7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AutoShape 7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AutoShape 7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3" name="Group 8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934" name="Group 8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935" name="AutoShape 8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AutoShape 8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AutoShape 8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AutoShape 8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9" name="Group 8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940" name="AutoShape 8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1" name="AutoShape 8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2" name="AutoShape 8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3" name="AutoShape 9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4" name="AutoShape 9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5" name="Group 9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946" name="AutoShape 9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7" name="AutoShape 9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8" name="AutoShape 9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9" name="AutoShape 9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0" name="AutoShape 9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1" name="Group 9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952" name="AutoShape 9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3" name="AutoShape 10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4" name="AutoShape 10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5" name="AutoShape 10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6" name="AutoShape 10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57" name="AutoShape 10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AutoShape 10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AutoShape 10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AutoShape 10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Text Box 108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oc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2" name="Group 11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963" name="Group 11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964" name="AutoShape 11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AutoShape 11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AutoShape 11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AutoShape 11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AutoShape 11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9" name="Group 11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970" name="AutoShape 11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AutoShape 11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AutoShape 12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AutoShape 12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AutoShape 12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5" name="Group 12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976" name="AutoShape 12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AutoShape 12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AutoShape 12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AutoShape 12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AutoShape 12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1" name="Group 12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982" name="AutoShape 13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AutoShape 13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AutoShape 13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AutoShape 13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AutoShape 13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7" name="Group 13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988" name="AutoShape 13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AutoShape 13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AutoShape 13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AutoShape 13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AutoShape 14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3" name="AutoShape 14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AutoShape 14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AutoShape 14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AutoShape 14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AutoShape 14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AutoShape 14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AutoShape 14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AutoShape 14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1" name="AutoShape 149"/>
          <p:cNvSpPr/>
          <p:nvPr/>
        </p:nvSpPr>
        <p:spPr>
          <a:xfrm>
            <a:off x="3238560" y="2832120"/>
            <a:ext cx="2450880" cy="2451240"/>
          </a:xfrm>
          <a:prstGeom prst="octagon">
            <a:avLst>
              <a:gd name="adj" fmla="val 292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AutoShape 150"/>
          <p:cNvSpPr/>
          <p:nvPr/>
        </p:nvSpPr>
        <p:spPr>
          <a:xfrm>
            <a:off x="3238560" y="2836800"/>
            <a:ext cx="2450880" cy="2451240"/>
          </a:xfrm>
          <a:prstGeom prst="octagon">
            <a:avLst>
              <a:gd name="adj" fmla="val 29287"/>
            </a:avLst>
          </a:prstGeom>
          <a:solidFill>
            <a:srgbClr val="ffc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Oval 151"/>
          <p:cNvSpPr/>
          <p:nvPr/>
        </p:nvSpPr>
        <p:spPr>
          <a:xfrm>
            <a:off x="4829040" y="28814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1"/>
          <p:cNvSpPr>
            <a:spLocks noGrp="1"/>
          </p:cNvSpPr>
          <p:nvPr>
            <p:ph type="title"/>
          </p:nvPr>
        </p:nvSpPr>
        <p:spPr>
          <a:xfrm>
            <a:off x="456840" y="5287680"/>
            <a:ext cx="313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ct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4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Text Box 2"/>
          <p:cNvSpPr/>
          <p:nvPr/>
        </p:nvSpPr>
        <p:spPr>
          <a:xfrm>
            <a:off x="5808600" y="329400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Text Box 3"/>
          <p:cNvSpPr/>
          <p:nvPr/>
        </p:nvSpPr>
        <p:spPr>
          <a:xfrm>
            <a:off x="5821200" y="44607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Text Box 4"/>
          <p:cNvSpPr/>
          <p:nvPr/>
        </p:nvSpPr>
        <p:spPr>
          <a:xfrm>
            <a:off x="4951440" y="53481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Text Box 5"/>
          <p:cNvSpPr/>
          <p:nvPr/>
        </p:nvSpPr>
        <p:spPr>
          <a:xfrm>
            <a:off x="3527280" y="536112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Text Box 6"/>
          <p:cNvSpPr/>
          <p:nvPr/>
        </p:nvSpPr>
        <p:spPr>
          <a:xfrm>
            <a:off x="2508120" y="439272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Text Box 7"/>
          <p:cNvSpPr/>
          <p:nvPr/>
        </p:nvSpPr>
        <p:spPr>
          <a:xfrm>
            <a:off x="2500200" y="32925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Text Box 8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gular Octag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9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013" name="Group 10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014" name="AutoShape 11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2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AutoShape 13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AutoShape 14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AutoShape 15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9" name="Group 16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020" name="AutoShape 17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AutoShape 18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AutoShape 19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AutoShape 20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AutoShape 21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5" name="Group 22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026" name="AutoShape 23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AutoShape 24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AutoShape 25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AutoShape 26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AutoShape 27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1" name="Group 28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032" name="AutoShape 29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AutoShape 30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AutoShape 31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32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AutoShape 33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7" name="Group 34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038" name="AutoShape 35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36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AutoShape 37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AutoShape 38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AutoShape 39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3" name="AutoShape 40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AutoShape 41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AutoShape 42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AutoShape 43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AutoShape 44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AutoShape 45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AutoShape 46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AutoShape 47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1" name="Group 48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052" name="Group 49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053" name="AutoShape 50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AutoShape 51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AutoShape 52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AutoShape 53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7" name="Group 54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058" name="AutoShape 55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9" name="AutoShape 56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0" name="AutoShape 57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1" name="AutoShape 58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2" name="AutoShape 59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3" name="Group 60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064" name="AutoShape 61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5" name="AutoShape 62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6" name="AutoShape 63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7" name="AutoShape 64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8" name="AutoShape 65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9" name="Group 66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070" name="AutoShape 67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1" name="AutoShape 68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2" name="AutoShape 69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3" name="AutoShape 70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4" name="AutoShape 71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75" name="AutoShape 72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AutoShape 73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AutoShape 74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AutoShape 75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9" name="Group 76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080" name="Group 77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081" name="AutoShape 78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AutoShape 79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AutoShape 80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AutoShape 81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5" name="Group 82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086" name="AutoShape 83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7" name="AutoShape 84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8" name="AutoShape 85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9" name="AutoShape 86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0" name="AutoShape 87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1" name="Group 88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092" name="AutoShape 89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3" name="AutoShape 90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4" name="AutoShape 91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5" name="AutoShape 92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6" name="AutoShape 93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7" name="Group 94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098" name="AutoShape 95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9" name="AutoShape 96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0" name="AutoShape 97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1" name="AutoShape 98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2" name="AutoShape 99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03" name="AutoShape 100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AutoShape 101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AutoShape 102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AutoShape 103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7" name="Text Box 104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r octagon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105"/>
          <p:cNvSpPr/>
          <p:nvPr/>
        </p:nvSpPr>
        <p:spPr>
          <a:xfrm>
            <a:off x="6919920" y="129852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06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110" name="Group 107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111" name="AutoShape 108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AutoShape 109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AutoShape 110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AutoShape 111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AutoShape 112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6" name="Group 113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117" name="AutoShape 114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AutoShape 115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AutoShape 116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AutoShape 117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AutoShape 118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2" name="Group 119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123" name="AutoShape 120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AutoShape 121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AutoShape 122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AutoShape 123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AutoShape 124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8" name="Group 125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129" name="AutoShape 126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AutoShape 127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AutoShape 128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AutoShape 129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AutoShape 130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4" name="Group 131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135" name="AutoShape 132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AutoShape 133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AutoShape 134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AutoShape 135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AutoShape 136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0" name="AutoShape 137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AutoShape 138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AutoShape 139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AutoShape 140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AutoShape 141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AutoShape 142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AutoShape 143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AutoShape 144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AutoShape 145"/>
          <p:cNvSpPr/>
          <p:nvPr/>
        </p:nvSpPr>
        <p:spPr>
          <a:xfrm>
            <a:off x="3238560" y="2832120"/>
            <a:ext cx="2450880" cy="2451240"/>
          </a:xfrm>
          <a:prstGeom prst="octagon">
            <a:avLst>
              <a:gd name="adj" fmla="val 292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9" name="Group 146"/>
          <p:cNvGrpSpPr/>
          <p:nvPr/>
        </p:nvGrpSpPr>
        <p:grpSpPr>
          <a:xfrm>
            <a:off x="3238560" y="2836800"/>
            <a:ext cx="2450880" cy="2451240"/>
            <a:chOff x="3238560" y="2836800"/>
            <a:chExt cx="2450880" cy="2451240"/>
          </a:xfrm>
        </p:grpSpPr>
        <p:sp>
          <p:nvSpPr>
            <p:cNvPr id="4150" name="AutoShape 147"/>
            <p:cNvSpPr/>
            <p:nvPr/>
          </p:nvSpPr>
          <p:spPr>
            <a:xfrm>
              <a:off x="3238560" y="2836800"/>
              <a:ext cx="2450880" cy="2451240"/>
            </a:xfrm>
            <a:prstGeom prst="octagon">
              <a:avLst>
                <a:gd name="adj" fmla="val 29287"/>
              </a:avLst>
            </a:prstGeom>
            <a:solidFill>
              <a:srgbClr val="ffc6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Oval 148"/>
            <p:cNvSpPr/>
            <p:nvPr/>
          </p:nvSpPr>
          <p:spPr>
            <a:xfrm>
              <a:off x="4829040" y="288144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2" name="Text Box 149"/>
          <p:cNvSpPr/>
          <p:nvPr/>
        </p:nvSpPr>
        <p:spPr>
          <a:xfrm>
            <a:off x="3330720" y="234792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Text Box 150"/>
          <p:cNvSpPr/>
          <p:nvPr/>
        </p:nvSpPr>
        <p:spPr>
          <a:xfrm>
            <a:off x="4987800" y="23493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437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44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4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51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58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65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72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79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8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700000">
                                      <p:cBhvr>
                                        <p:cTn id="486" dur="2000" fill="hold"/>
                                        <p:tgtEl>
                                          <p:spTgt spid="4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285480" y="5455800"/>
            <a:ext cx="46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Rectangle 6"/>
          <p:cNvSpPr/>
          <p:nvPr/>
        </p:nvSpPr>
        <p:spPr>
          <a:xfrm>
            <a:off x="2247840" y="2647800"/>
            <a:ext cx="4087800" cy="16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Rectangle 8"/>
          <p:cNvSpPr/>
          <p:nvPr/>
        </p:nvSpPr>
        <p:spPr>
          <a:xfrm>
            <a:off x="2247840" y="2646360"/>
            <a:ext cx="4087800" cy="1643040"/>
          </a:xfrm>
          <a:prstGeom prst="rect">
            <a:avLst/>
          </a:prstGeom>
          <a:solidFill>
            <a:srgbClr val="93b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Oval 9"/>
          <p:cNvSpPr/>
          <p:nvPr/>
        </p:nvSpPr>
        <p:spPr>
          <a:xfrm>
            <a:off x="5918040" y="2736720"/>
            <a:ext cx="277920" cy="277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Text Box 14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ct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9" name="Group 1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160" name="Group 1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161" name="AutoShape 1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AutoShape 1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AutoShape 2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AutoShape 2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6" name="Group 2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167" name="AutoShape 2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AutoShape 2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AutoShape 2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AutoShape 2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AutoShape 2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2" name="Group 2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173" name="AutoShape 2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AutoShape 3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AutoShape 3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AutoShape 3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AutoShape 3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8" name="Group 3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179" name="AutoShape 3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AutoShape 3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AutoShape 3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AutoShape 3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AutoShape 3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4" name="Group 4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185" name="AutoShape 4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4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AutoShape 4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AutoShape 4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AutoShape 4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0" name="AutoShape 4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AutoShape 4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AutoShape 4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AutoShape 4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AutoShape 5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AutoShape 5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AutoShape 5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AutoShape 5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8" name="Group 5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199" name="Group 5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200" name="AutoShape 5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AutoShape 5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AutoShape 5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AutoShape 5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4" name="Group 6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205" name="AutoShape 6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6" name="AutoShape 6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7" name="AutoShape 6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8" name="AutoShape 6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AutoShape 6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0" name="Group 6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211" name="AutoShape 6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AutoShape 6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3" name="AutoShape 6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4" name="AutoShape 7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5" name="AutoShape 7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6" name="Group 7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217" name="AutoShape 7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8" name="AutoShape 7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9" name="AutoShape 7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0" name="AutoShape 7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1" name="AutoShape 7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22" name="AutoShape 7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AutoShape 7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AutoShape 8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AutoShape 8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6" name="Group 8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227" name="Group 8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228" name="AutoShape 8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AutoShape 8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AutoShape 8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AutoShape 8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2" name="Group 8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233" name="AutoShape 8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4" name="AutoShape 9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5" name="AutoShape 9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6" name="AutoShape 9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7" name="AutoShape 9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8" name="Group 9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239" name="AutoShape 9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0" name="AutoShape 9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1" name="AutoShape 9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2" name="AutoShape 9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3" name="AutoShape 9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4" name="Group 10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245" name="AutoShape 10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6" name="AutoShape 10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AutoShape 10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8" name="AutoShape 10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9" name="AutoShape 10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0" name="AutoShape 10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AutoShape 10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AutoShape 10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AutoShape 10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4" name="Text Box 110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ct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5" name="Group 111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256" name="Group 112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257" name="AutoShape 113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AutoShape 114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AutoShape 115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AutoShape 116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AutoShape 117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118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263" name="AutoShape 119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AutoShape 120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AutoShape 121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AutoShape 122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AutoShape 123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8" name="Group 124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269" name="AutoShape 125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AutoShape 126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AutoShape 127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AutoShape 128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AutoShape 129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130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275" name="AutoShape 131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AutoShape 132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AutoShape 133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AutoShape 134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AutoShape 135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0" name="Group 136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281" name="AutoShape 137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AutoShape 138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AutoShape 139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AutoShape 140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AutoShape 141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6" name="AutoShape 142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AutoShape 143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AutoShape 144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AutoShape 145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AutoShape 146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AutoShape 147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AutoShape 148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AutoShape 149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Text Box 3"/>
          <p:cNvSpPr/>
          <p:nvPr/>
        </p:nvSpPr>
        <p:spPr>
          <a:xfrm>
            <a:off x="6080040" y="135720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Rectangle 4"/>
          <p:cNvSpPr/>
          <p:nvPr/>
        </p:nvSpPr>
        <p:spPr>
          <a:xfrm>
            <a:off x="2247840" y="2647800"/>
            <a:ext cx="4087800" cy="1643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6" name="Group 5"/>
          <p:cNvGrpSpPr/>
          <p:nvPr/>
        </p:nvGrpSpPr>
        <p:grpSpPr>
          <a:xfrm>
            <a:off x="2247840" y="2646360"/>
            <a:ext cx="4087440" cy="1642680"/>
            <a:chOff x="2247840" y="2646360"/>
            <a:chExt cx="4087440" cy="1642680"/>
          </a:xfrm>
        </p:grpSpPr>
        <p:sp>
          <p:nvSpPr>
            <p:cNvPr id="4297" name="Rectangle 6"/>
            <p:cNvSpPr/>
            <p:nvPr/>
          </p:nvSpPr>
          <p:spPr>
            <a:xfrm>
              <a:off x="2247840" y="2646360"/>
              <a:ext cx="4087440" cy="1642680"/>
            </a:xfrm>
            <a:prstGeom prst="rect">
              <a:avLst/>
            </a:prstGeom>
            <a:solidFill>
              <a:srgbClr val="93b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Oval 7"/>
            <p:cNvSpPr/>
            <p:nvPr/>
          </p:nvSpPr>
          <p:spPr>
            <a:xfrm>
              <a:off x="5918040" y="2735640"/>
              <a:ext cx="277920" cy="277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9" name="Text Box 8"/>
          <p:cNvSpPr/>
          <p:nvPr/>
        </p:nvSpPr>
        <p:spPr>
          <a:xfrm>
            <a:off x="1766880" y="4352760"/>
            <a:ext cx="42876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9"/>
          <p:cNvSpPr/>
          <p:nvPr/>
        </p:nvSpPr>
        <p:spPr>
          <a:xfrm>
            <a:off x="6462720" y="2263680"/>
            <a:ext cx="42876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0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ect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2" name="Group 1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303" name="Group 1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304" name="AutoShape 1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AutoShape 1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AutoShape 1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AutoShape 1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AutoShape 1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9" name="Group 1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310" name="AutoShape 1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AutoShape 2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AutoShape 2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AutoShape 2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AutoShape 2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5" name="Group 2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316" name="AutoShape 2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AutoShape 2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AutoShape 2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AutoShape 2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AutoShape 2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1" name="Group 3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322" name="AutoShape 3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AutoShape 3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AutoShape 3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AutoShape 3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AutoShape 3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7" name="Group 3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328" name="AutoShape 3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AutoShape 3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AutoShape 3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AutoShape 4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AutoShape 4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3" name="AutoShape 4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AutoShape 4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AutoShape 4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AutoShape 4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AutoShape 4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AutoShape 4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AutoShape 4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AutoShape 4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1" name="Group 5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342" name="Group 5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343" name="AutoShape 5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AutoShape 5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AutoShape 5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AutoShape 5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47" name="Group 5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348" name="AutoShape 5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9" name="AutoShape 5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0" name="AutoShape 5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1" name="AutoShape 6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2" name="AutoShape 6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3" name="Group 6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354" name="AutoShape 6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5" name="AutoShape 6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6" name="AutoShape 6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7" name="AutoShape 6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8" name="AutoShape 6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9" name="Group 6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360" name="AutoShape 6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1" name="AutoShape 7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2" name="AutoShape 7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3" name="AutoShape 7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4" name="AutoShape 7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5" name="AutoShape 7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AutoShape 7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AutoShape 7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AutoShape 7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Group 7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370" name="Group 7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371" name="AutoShape 8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AutoShape 8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AutoShape 8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AutoShape 8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5" name="Group 8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376" name="AutoShape 8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7" name="AutoShape 8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8" name="AutoShape 8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9" name="AutoShape 8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0" name="AutoShape 8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1" name="Group 9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382" name="AutoShape 9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3" name="AutoShape 9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4" name="AutoShape 9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5" name="AutoShape 9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6" name="AutoShape 9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7" name="Group 9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388" name="AutoShape 9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9" name="AutoShape 9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0" name="AutoShape 9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1" name="AutoShape 10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2" name="AutoShape 10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93" name="AutoShape 10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AutoShape 10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AutoShape 10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AutoShape 10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7" name="Text Box 106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ct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8" name="Group 10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399" name="Group 10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400" name="AutoShape 10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AutoShape 1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AutoShape 1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AutoShape 1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AutoShape 1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5" name="Group 1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406" name="AutoShape 1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AutoShape 1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AutoShape 1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AutoShape 1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1" name="Group 1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412" name="AutoShape 1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AutoShape 1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AutoShape 1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AutoShape 1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7" name="Group 1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418" name="AutoShape 1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AutoShape 1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AutoShape 1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AutoShape 1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3" name="Group 1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424" name="AutoShape 1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AutoShape 1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AutoShape 1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AutoShape 1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AutoShape 1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9" name="AutoShape 1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AutoShape 1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AutoShape 1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AutoShape 1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AutoShape 1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AutoShape 1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AutoShape 1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AutoShape 1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07" dur="2000" fill="hold"/>
                                        <p:tgtEl>
                                          <p:spTgt spid="4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4" dur="2000" fill="hold"/>
                                        <p:tgtEl>
                                          <p:spTgt spid="4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AutoShape 22"/>
          <p:cNvSpPr/>
          <p:nvPr/>
        </p:nvSpPr>
        <p:spPr>
          <a:xfrm>
            <a:off x="2286000" y="2743200"/>
            <a:ext cx="4648320" cy="1657440"/>
          </a:xfrm>
          <a:prstGeom prst="parallelogram">
            <a:avLst>
              <a:gd name="adj" fmla="val 7011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AutoShape 24"/>
          <p:cNvSpPr/>
          <p:nvPr/>
        </p:nvSpPr>
        <p:spPr>
          <a:xfrm>
            <a:off x="2286000" y="2743200"/>
            <a:ext cx="4648320" cy="1657440"/>
          </a:xfrm>
          <a:prstGeom prst="parallelogram">
            <a:avLst>
              <a:gd name="adj" fmla="val 70113"/>
            </a:avLst>
          </a:prstGeom>
          <a:solidFill>
            <a:srgbClr val="f97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Oval 25"/>
          <p:cNvSpPr/>
          <p:nvPr/>
        </p:nvSpPr>
        <p:spPr>
          <a:xfrm>
            <a:off x="6502320" y="2827440"/>
            <a:ext cx="16848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0" y="5387760"/>
            <a:ext cx="6324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aralle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Text Box 30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Parallel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2" name="Group 3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443" name="Group 3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444" name="AutoShape 3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AutoShape 3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AutoShape 3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AutoShape 3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3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9" name="Group 3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450" name="AutoShape 3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AutoShape 4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4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AutoShape 4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AutoShape 4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5" name="Group 4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456" name="AutoShape 4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AutoShape 4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AutoShape 4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AutoShape 4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AutoShape 4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1" name="Group 5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462" name="AutoShape 5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AutoShape 5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AutoShape 5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AutoShape 5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AutoShape 5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7" name="Group 5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468" name="AutoShape 5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AutoShape 5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AutoShape 5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AutoShape 6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6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AutoShape 6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AutoShape 6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AutoShape 6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AutoShape 6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AutoShape 6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AutoShape 6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AutoShape 6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AutoShape 6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1" name="Group 7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482" name="Group 7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483" name="AutoShape 7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AutoShape 7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7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AutoShape 7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87" name="Group 7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488" name="AutoShape 7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9" name="AutoShape 7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0" name="AutoShape 7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1" name="AutoShape 8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2" name="AutoShape 8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3" name="Group 8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494" name="AutoShape 8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5" name="AutoShape 8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6" name="AutoShape 8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7" name="AutoShape 8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8" name="AutoShape 8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9" name="Group 8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500" name="AutoShape 8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1" name="AutoShape 9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2" name="AutoShape 9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3" name="AutoShape 9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4" name="AutoShape 9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05" name="AutoShape 9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AutoShape 9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AutoShape 9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AutoShape 9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9" name="Group 9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510" name="Group 9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511" name="AutoShape 10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AutoShape 10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AutoShape 10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10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5" name="Group 10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516" name="AutoShape 10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AutoShape 10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AutoShape 10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9" name="AutoShape 10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0" name="AutoShape 10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1" name="Group 11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522" name="AutoShape 11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3" name="AutoShape 11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4" name="AutoShape 11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5" name="AutoShape 11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6" name="AutoShape 11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7" name="Group 11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528" name="AutoShape 11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9" name="AutoShape 11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0" name="AutoShape 11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1" name="AutoShape 12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2" name="AutoShape 12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3" name="AutoShape 12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AutoShape 12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AutoShape 12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AutoShape 12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7" name="Text Box 126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rallelogra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8" name="Group 12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539" name="Group 12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540" name="AutoShape 12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AutoShape 13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AutoShape 13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AutoShape 13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AutoShape 13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5" name="Group 13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546" name="AutoShape 13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AutoShape 13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AutoShape 13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AutoShape 13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AutoShape 13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1" name="Group 14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552" name="AutoShape 14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AutoShape 14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AutoShape 14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AutoShape 14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AutoShape 14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7" name="Group 14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558" name="AutoShape 14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AutoShape 14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AutoShape 14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AutoShape 15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AutoShape 15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3" name="Group 15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564" name="AutoShape 15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AutoShape 15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AutoShape 15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AutoShape 15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AutoShape 15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AutoShape 15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AutoShape 15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AutoShape 16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AutoShape 16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AutoShape 16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AutoShape 16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AutoShape 16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AutoShape 16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Text Box 2"/>
          <p:cNvSpPr/>
          <p:nvPr/>
        </p:nvSpPr>
        <p:spPr>
          <a:xfrm>
            <a:off x="6423120" y="130032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AutoShape 3"/>
          <p:cNvSpPr/>
          <p:nvPr/>
        </p:nvSpPr>
        <p:spPr>
          <a:xfrm>
            <a:off x="2286000" y="2743200"/>
            <a:ext cx="4648320" cy="1657440"/>
          </a:xfrm>
          <a:prstGeom prst="parallelogram">
            <a:avLst>
              <a:gd name="adj" fmla="val 7011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9" name="Group 4"/>
          <p:cNvGrpSpPr/>
          <p:nvPr/>
        </p:nvGrpSpPr>
        <p:grpSpPr>
          <a:xfrm>
            <a:off x="2286000" y="2743200"/>
            <a:ext cx="4647960" cy="1657080"/>
            <a:chOff x="2286000" y="2743200"/>
            <a:chExt cx="4647960" cy="1657080"/>
          </a:xfrm>
        </p:grpSpPr>
        <p:sp>
          <p:nvSpPr>
            <p:cNvPr id="4580" name="AutoShape 5"/>
            <p:cNvSpPr/>
            <p:nvPr/>
          </p:nvSpPr>
          <p:spPr>
            <a:xfrm>
              <a:off x="2286000" y="2743200"/>
              <a:ext cx="4647960" cy="1657080"/>
            </a:xfrm>
            <a:prstGeom prst="parallelogram">
              <a:avLst>
                <a:gd name="adj" fmla="val 70123"/>
              </a:avLst>
            </a:prstGeom>
            <a:solidFill>
              <a:srgbClr val="f973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Oval 6"/>
            <p:cNvSpPr/>
            <p:nvPr/>
          </p:nvSpPr>
          <p:spPr>
            <a:xfrm>
              <a:off x="6501600" y="2827440"/>
              <a:ext cx="168120" cy="16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2" name="Text Box 7"/>
          <p:cNvSpPr/>
          <p:nvPr/>
        </p:nvSpPr>
        <p:spPr>
          <a:xfrm>
            <a:off x="1752480" y="438300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Text Box 8"/>
          <p:cNvSpPr/>
          <p:nvPr/>
        </p:nvSpPr>
        <p:spPr>
          <a:xfrm>
            <a:off x="7039080" y="2467080"/>
            <a:ext cx="42840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Text Box 10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Parallel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5" name="Group 1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586" name="Group 1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587" name="AutoShape 1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AutoShape 1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AutoShape 1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AutoShape 1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AutoShape 1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2" name="Group 1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593" name="AutoShape 1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AutoShape 2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AutoShape 2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2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AutoShape 2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8" name="Group 2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599" name="AutoShape 2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AutoShape 2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AutoShape 2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AutoShape 2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AutoShape 2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4" name="Group 3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605" name="AutoShape 3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3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AutoShape 3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AutoShape 3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AutoShape 3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0" name="Group 3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611" name="AutoShape 3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AutoShape 3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AutoShape 3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AutoShape 4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4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AutoShape 4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AutoShape 4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AutoShape 4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AutoShape 4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AutoShape 4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AutoShape 4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AutoShape 4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AutoShape 4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4" name="Group 5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625" name="Group 5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626" name="AutoShape 5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AutoShape 5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AutoShape 5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AutoShape 5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0" name="Group 5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631" name="AutoShape 5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2" name="AutoShape 5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3" name="AutoShape 5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4" name="AutoShape 6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5" name="AutoShape 6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6" name="Group 6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637" name="AutoShape 6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8" name="AutoShape 6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9" name="AutoShape 6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0" name="AutoShape 6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1" name="AutoShape 6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2" name="Group 6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643" name="AutoShape 6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4" name="AutoShape 7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5" name="AutoShape 7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6" name="AutoShape 7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7" name="AutoShape 7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8" name="AutoShape 7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AutoShape 7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AutoShape 7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AutoShape 7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2" name="Group 7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653" name="Group 7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654" name="AutoShape 8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AutoShape 8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AutoShape 8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AutoShape 8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8" name="Group 8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659" name="AutoShape 8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0" name="AutoShape 8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1" name="AutoShape 8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2" name="AutoShape 8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3" name="AutoShape 8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4" name="Group 9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665" name="AutoShape 9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6" name="AutoShape 9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7" name="AutoShape 9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8" name="AutoShape 9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9" name="AutoShape 9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0" name="Group 9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671" name="AutoShape 9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2" name="AutoShape 9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3" name="AutoShape 9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4" name="AutoShape 10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5" name="AutoShape 10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6" name="AutoShape 10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AutoShape 10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AutoShape 10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AutoShape 10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0" name="Text Box 106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arallelogra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1" name="Group 10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682" name="Group 10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683" name="AutoShape 10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AutoShape 1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1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AutoShape 1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AutoShape 1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8" name="Group 1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689" name="AutoShape 1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AutoShape 1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AutoShape 1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AutoShape 1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AutoShape 1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4" name="Group 1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695" name="AutoShape 1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AutoShape 1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AutoShape 1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AutoShape 1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AutoShape 1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0" name="Group 1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701" name="AutoShape 1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AutoShape 1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AutoShape 1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AutoShape 1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AutoShape 1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6" name="Group 1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707" name="AutoShape 1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AutoShape 1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AutoShape 1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AutoShape 1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AutoShape 1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2" name="AutoShape 1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AutoShape 1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AutoShape 1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AutoShape 1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AutoShape 1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AutoShape 1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AutoShape 1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AutoShape 1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535" dur="2000" fill="hold"/>
                                        <p:tgtEl>
                                          <p:spTgt spid="4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542" dur="2000" fill="hold"/>
                                        <p:tgtEl>
                                          <p:spTgt spid="4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82" name="Group 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83" name="AutoShape 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1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1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89" name="AutoShape 1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1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AutoShape 1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1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95" name="AutoShape 1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2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utoShape 2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AutoShape 2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2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2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01" name="AutoShape 2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2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utoShape 2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AutoShape 2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2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07" name="AutoShape 3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3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3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3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AutoShape 3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AutoShape 3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3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3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4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4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4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4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21" name="Group 4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22" name="AutoShape 4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4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4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4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" name="Group 5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27" name="AutoShape 5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AutoShape 5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AutoShape 5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AutoShape 5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AutoShape 5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5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33" name="AutoShape 5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5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5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6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AutoShape 6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Group 6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39" name="AutoShape 6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AutoShape 6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6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6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AutoShape 6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4" name="AutoShape 6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6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7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7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7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49" name="Group 7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50" name="AutoShape 7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utoShape 7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AutoShape 7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AutoShape 7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4" name="Group 7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55" name="AutoShape 7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8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8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AutoShape 8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AutoShape 8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8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61" name="AutoShape 8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8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8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8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AutoShape 8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9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67" name="AutoShape 9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9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9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9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9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2" name="AutoShape 9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9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9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9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77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78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84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90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96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02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140"/>
          <p:cNvSpPr/>
          <p:nvPr/>
        </p:nvSpPr>
        <p:spPr>
          <a:xfrm>
            <a:off x="436680" y="12240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2 dimensional shapes have some rotational symmetry. The degree of rotational symmetry that an object has is known as it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rd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41"/>
          <p:cNvGrpSpPr/>
          <p:nvPr/>
        </p:nvGrpSpPr>
        <p:grpSpPr>
          <a:xfrm>
            <a:off x="6605640" y="3530520"/>
            <a:ext cx="1724040" cy="1709280"/>
            <a:chOff x="6605640" y="3530520"/>
            <a:chExt cx="1724040" cy="1709280"/>
          </a:xfrm>
        </p:grpSpPr>
        <p:sp>
          <p:nvSpPr>
            <p:cNvPr id="617" name="Freeform 142"/>
            <p:cNvSpPr/>
            <p:nvPr/>
          </p:nvSpPr>
          <p:spPr>
            <a:xfrm>
              <a:off x="7503840" y="3530520"/>
              <a:ext cx="812160" cy="81900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43"/>
            <p:cNvSpPr/>
            <p:nvPr/>
          </p:nvSpPr>
          <p:spPr>
            <a:xfrm>
              <a:off x="7545960" y="3577680"/>
              <a:ext cx="717120" cy="71856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44"/>
            <p:cNvSpPr/>
            <p:nvPr/>
          </p:nvSpPr>
          <p:spPr>
            <a:xfrm>
              <a:off x="7642080" y="3669480"/>
              <a:ext cx="520560" cy="52668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5"/>
            <p:cNvSpPr/>
            <p:nvPr/>
          </p:nvSpPr>
          <p:spPr>
            <a:xfrm>
              <a:off x="6605640" y="3548880"/>
              <a:ext cx="830880" cy="80532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6"/>
            <p:cNvSpPr/>
            <p:nvPr/>
          </p:nvSpPr>
          <p:spPr>
            <a:xfrm>
              <a:off x="6657840" y="3597480"/>
              <a:ext cx="730800" cy="70380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47"/>
            <p:cNvSpPr/>
            <p:nvPr/>
          </p:nvSpPr>
          <p:spPr>
            <a:xfrm>
              <a:off x="6758640" y="3688200"/>
              <a:ext cx="534600" cy="51300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8"/>
            <p:cNvSpPr/>
            <p:nvPr/>
          </p:nvSpPr>
          <p:spPr>
            <a:xfrm>
              <a:off x="6624360" y="4411800"/>
              <a:ext cx="803160" cy="82800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9"/>
            <p:cNvSpPr/>
            <p:nvPr/>
          </p:nvSpPr>
          <p:spPr>
            <a:xfrm>
              <a:off x="6672600" y="4459320"/>
              <a:ext cx="701280" cy="7282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0"/>
            <p:cNvSpPr/>
            <p:nvPr/>
          </p:nvSpPr>
          <p:spPr>
            <a:xfrm>
              <a:off x="6763680" y="4550040"/>
              <a:ext cx="510840" cy="53676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51"/>
            <p:cNvSpPr/>
            <p:nvPr/>
          </p:nvSpPr>
          <p:spPr>
            <a:xfrm>
              <a:off x="7503840" y="4411800"/>
              <a:ext cx="825840" cy="8046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52"/>
            <p:cNvSpPr/>
            <p:nvPr/>
          </p:nvSpPr>
          <p:spPr>
            <a:xfrm>
              <a:off x="7551000" y="4459320"/>
              <a:ext cx="731160" cy="70452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3"/>
            <p:cNvSpPr/>
            <p:nvPr/>
          </p:nvSpPr>
          <p:spPr>
            <a:xfrm>
              <a:off x="7656840" y="4550040"/>
              <a:ext cx="534600" cy="51300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54"/>
          <p:cNvGrpSpPr/>
          <p:nvPr/>
        </p:nvGrpSpPr>
        <p:grpSpPr>
          <a:xfrm>
            <a:off x="4265640" y="3446640"/>
            <a:ext cx="1854000" cy="1850760"/>
            <a:chOff x="4265640" y="3446640"/>
            <a:chExt cx="1854000" cy="1850760"/>
          </a:xfrm>
        </p:grpSpPr>
        <p:sp>
          <p:nvSpPr>
            <p:cNvPr id="630" name="Freeform 155"/>
            <p:cNvSpPr/>
            <p:nvPr/>
          </p:nvSpPr>
          <p:spPr>
            <a:xfrm>
              <a:off x="4265640" y="3446640"/>
              <a:ext cx="1854000" cy="185076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56"/>
            <p:cNvSpPr/>
            <p:nvPr/>
          </p:nvSpPr>
          <p:spPr>
            <a:xfrm>
              <a:off x="5068800" y="3693600"/>
              <a:ext cx="247320" cy="3664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57"/>
            <p:cNvSpPr/>
            <p:nvPr/>
          </p:nvSpPr>
          <p:spPr>
            <a:xfrm>
              <a:off x="5004720" y="4183560"/>
              <a:ext cx="371160" cy="37152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58"/>
            <p:cNvSpPr/>
            <p:nvPr/>
          </p:nvSpPr>
          <p:spPr>
            <a:xfrm>
              <a:off x="4265640" y="3446640"/>
              <a:ext cx="1854000" cy="185076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59"/>
            <p:cNvSpPr/>
            <p:nvPr/>
          </p:nvSpPr>
          <p:spPr>
            <a:xfrm>
              <a:off x="4325040" y="3506040"/>
              <a:ext cx="1730160" cy="1727280"/>
            </a:xfrm>
            <a:custGeom>
              <a:avLst/>
              <a:gdLst/>
              <a:ahLst/>
              <a:rect l="l" t="t" r="r" b="b"/>
              <a:pathLst>
                <a:path w="1943" h="1942">
                  <a:moveTo>
                    <a:pt x="974" y="1942"/>
                  </a:moveTo>
                  <a:lnTo>
                    <a:pt x="1070" y="1938"/>
                  </a:lnTo>
                  <a:lnTo>
                    <a:pt x="1166" y="1928"/>
                  </a:lnTo>
                  <a:lnTo>
                    <a:pt x="1257" y="1904"/>
                  </a:lnTo>
                  <a:lnTo>
                    <a:pt x="1348" y="1870"/>
                  </a:lnTo>
                  <a:lnTo>
                    <a:pt x="1430" y="1832"/>
                  </a:lnTo>
                  <a:lnTo>
                    <a:pt x="1511" y="1784"/>
                  </a:lnTo>
                  <a:lnTo>
                    <a:pt x="1588" y="1727"/>
                  </a:lnTo>
                  <a:lnTo>
                    <a:pt x="1660" y="1659"/>
                  </a:lnTo>
                  <a:lnTo>
                    <a:pt x="1727" y="1587"/>
                  </a:lnTo>
                  <a:lnTo>
                    <a:pt x="1785" y="1511"/>
                  </a:lnTo>
                  <a:lnTo>
                    <a:pt x="1833" y="1429"/>
                  </a:lnTo>
                  <a:lnTo>
                    <a:pt x="1876" y="1348"/>
                  </a:lnTo>
                  <a:lnTo>
                    <a:pt x="1905" y="1256"/>
                  </a:lnTo>
                  <a:lnTo>
                    <a:pt x="1929" y="1165"/>
                  </a:lnTo>
                  <a:lnTo>
                    <a:pt x="1938" y="1069"/>
                  </a:lnTo>
                  <a:lnTo>
                    <a:pt x="1943" y="973"/>
                  </a:lnTo>
                  <a:lnTo>
                    <a:pt x="1938" y="873"/>
                  </a:lnTo>
                  <a:lnTo>
                    <a:pt x="1929" y="777"/>
                  </a:lnTo>
                  <a:lnTo>
                    <a:pt x="1905" y="686"/>
                  </a:lnTo>
                  <a:lnTo>
                    <a:pt x="1876" y="599"/>
                  </a:lnTo>
                  <a:lnTo>
                    <a:pt x="1833" y="518"/>
                  </a:lnTo>
                  <a:lnTo>
                    <a:pt x="1785" y="436"/>
                  </a:lnTo>
                  <a:lnTo>
                    <a:pt x="1727" y="359"/>
                  </a:lnTo>
                  <a:lnTo>
                    <a:pt x="1660" y="288"/>
                  </a:lnTo>
                  <a:lnTo>
                    <a:pt x="1588" y="220"/>
                  </a:lnTo>
                  <a:lnTo>
                    <a:pt x="1511" y="163"/>
                  </a:lnTo>
                  <a:lnTo>
                    <a:pt x="1430" y="115"/>
                  </a:lnTo>
                  <a:lnTo>
                    <a:pt x="1348" y="72"/>
                  </a:lnTo>
                  <a:lnTo>
                    <a:pt x="1257" y="43"/>
                  </a:lnTo>
                  <a:lnTo>
                    <a:pt x="1166" y="19"/>
                  </a:lnTo>
                  <a:lnTo>
                    <a:pt x="1070" y="5"/>
                  </a:lnTo>
                  <a:lnTo>
                    <a:pt x="974" y="0"/>
                  </a:lnTo>
                  <a:lnTo>
                    <a:pt x="873" y="5"/>
                  </a:lnTo>
                  <a:lnTo>
                    <a:pt x="782" y="19"/>
                  </a:lnTo>
                  <a:lnTo>
                    <a:pt x="691" y="43"/>
                  </a:lnTo>
                  <a:lnTo>
                    <a:pt x="600" y="72"/>
                  </a:lnTo>
                  <a:lnTo>
                    <a:pt x="518" y="115"/>
                  </a:lnTo>
                  <a:lnTo>
                    <a:pt x="436" y="163"/>
                  </a:lnTo>
                  <a:lnTo>
                    <a:pt x="360" y="220"/>
                  </a:lnTo>
                  <a:lnTo>
                    <a:pt x="288" y="288"/>
                  </a:lnTo>
                  <a:lnTo>
                    <a:pt x="220" y="359"/>
                  </a:lnTo>
                  <a:lnTo>
                    <a:pt x="163" y="436"/>
                  </a:lnTo>
                  <a:lnTo>
                    <a:pt x="115" y="518"/>
                  </a:lnTo>
                  <a:lnTo>
                    <a:pt x="72" y="599"/>
                  </a:lnTo>
                  <a:lnTo>
                    <a:pt x="43" y="686"/>
                  </a:lnTo>
                  <a:lnTo>
                    <a:pt x="19" y="777"/>
                  </a:lnTo>
                  <a:lnTo>
                    <a:pt x="5" y="873"/>
                  </a:lnTo>
                  <a:lnTo>
                    <a:pt x="0" y="973"/>
                  </a:lnTo>
                  <a:lnTo>
                    <a:pt x="5" y="1069"/>
                  </a:lnTo>
                  <a:lnTo>
                    <a:pt x="19" y="1165"/>
                  </a:lnTo>
                  <a:lnTo>
                    <a:pt x="43" y="1256"/>
                  </a:lnTo>
                  <a:lnTo>
                    <a:pt x="72" y="1348"/>
                  </a:lnTo>
                  <a:lnTo>
                    <a:pt x="115" y="1429"/>
                  </a:lnTo>
                  <a:lnTo>
                    <a:pt x="163" y="1511"/>
                  </a:lnTo>
                  <a:lnTo>
                    <a:pt x="220" y="1587"/>
                  </a:lnTo>
                  <a:lnTo>
                    <a:pt x="288" y="1659"/>
                  </a:lnTo>
                  <a:lnTo>
                    <a:pt x="360" y="1727"/>
                  </a:lnTo>
                  <a:lnTo>
                    <a:pt x="436" y="1784"/>
                  </a:lnTo>
                  <a:lnTo>
                    <a:pt x="518" y="1832"/>
                  </a:lnTo>
                  <a:lnTo>
                    <a:pt x="600" y="1870"/>
                  </a:lnTo>
                  <a:lnTo>
                    <a:pt x="691" y="1904"/>
                  </a:lnTo>
                  <a:lnTo>
                    <a:pt x="782" y="1928"/>
                  </a:lnTo>
                  <a:lnTo>
                    <a:pt x="873" y="1938"/>
                  </a:lnTo>
                  <a:lnTo>
                    <a:pt x="974" y="194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60"/>
            <p:cNvSpPr/>
            <p:nvPr/>
          </p:nvSpPr>
          <p:spPr>
            <a:xfrm>
              <a:off x="4542480" y="4418640"/>
              <a:ext cx="444960" cy="39672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61"/>
            <p:cNvSpPr/>
            <p:nvPr/>
          </p:nvSpPr>
          <p:spPr>
            <a:xfrm>
              <a:off x="5397480" y="4418640"/>
              <a:ext cx="444240" cy="39672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162"/>
          <p:cNvSpPr/>
          <p:nvPr/>
        </p:nvSpPr>
        <p:spPr>
          <a:xfrm>
            <a:off x="2039760" y="3475080"/>
            <a:ext cx="1827360" cy="1827000"/>
          </a:xfrm>
          <a:custGeom>
            <a:avLst/>
            <a:gdLst>
              <a:gd name="textAreaLeft" fmla="*/ 267480 w 1827360"/>
              <a:gd name="textAreaRight" fmla="*/ 1559880 w 1827360"/>
              <a:gd name="textAreaTop" fmla="*/ 267480 h 1827000"/>
              <a:gd name="textAreaBottom" fmla="*/ 1559520 h 182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73"/>
          <p:cNvGrpSpPr/>
          <p:nvPr/>
        </p:nvGrpSpPr>
        <p:grpSpPr>
          <a:xfrm>
            <a:off x="974880" y="3343320"/>
            <a:ext cx="647280" cy="1873080"/>
            <a:chOff x="974880" y="3343320"/>
            <a:chExt cx="647280" cy="1873080"/>
          </a:xfrm>
        </p:grpSpPr>
        <p:grpSp>
          <p:nvGrpSpPr>
            <p:cNvPr id="639" name="Group 170"/>
            <p:cNvGrpSpPr/>
            <p:nvPr/>
          </p:nvGrpSpPr>
          <p:grpSpPr>
            <a:xfrm>
              <a:off x="974880" y="3343320"/>
              <a:ext cx="149040" cy="1873080"/>
              <a:chOff x="974880" y="3343320"/>
              <a:chExt cx="149040" cy="1873080"/>
            </a:xfrm>
          </p:grpSpPr>
          <p:sp>
            <p:nvSpPr>
              <p:cNvPr id="640" name="Rectangle 163"/>
              <p:cNvSpPr/>
              <p:nvPr/>
            </p:nvSpPr>
            <p:spPr>
              <a:xfrm>
                <a:off x="974880" y="4948920"/>
                <a:ext cx="14904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64"/>
              <p:cNvSpPr/>
              <p:nvPr/>
            </p:nvSpPr>
            <p:spPr>
              <a:xfrm>
                <a:off x="974880" y="4681080"/>
                <a:ext cx="14904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65"/>
              <p:cNvSpPr/>
              <p:nvPr/>
            </p:nvSpPr>
            <p:spPr>
              <a:xfrm>
                <a:off x="974880" y="4413600"/>
                <a:ext cx="14904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66"/>
              <p:cNvSpPr/>
              <p:nvPr/>
            </p:nvSpPr>
            <p:spPr>
              <a:xfrm>
                <a:off x="974880" y="4146120"/>
                <a:ext cx="14904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67"/>
              <p:cNvSpPr/>
              <p:nvPr/>
            </p:nvSpPr>
            <p:spPr>
              <a:xfrm>
                <a:off x="974880" y="3878280"/>
                <a:ext cx="14904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68"/>
              <p:cNvSpPr/>
              <p:nvPr/>
            </p:nvSpPr>
            <p:spPr>
              <a:xfrm>
                <a:off x="974880" y="3610800"/>
                <a:ext cx="14904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69"/>
              <p:cNvSpPr/>
              <p:nvPr/>
            </p:nvSpPr>
            <p:spPr>
              <a:xfrm>
                <a:off x="974880" y="3343320"/>
                <a:ext cx="14904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Freeform 172"/>
            <p:cNvSpPr/>
            <p:nvPr/>
          </p:nvSpPr>
          <p:spPr>
            <a:xfrm>
              <a:off x="1125360" y="3613680"/>
              <a:ext cx="496800" cy="2602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89"/>
          <p:cNvGrpSpPr/>
          <p:nvPr/>
        </p:nvGrpSpPr>
        <p:grpSpPr>
          <a:xfrm>
            <a:off x="609480" y="5403960"/>
            <a:ext cx="7473960" cy="379440"/>
            <a:chOff x="609480" y="5403960"/>
            <a:chExt cx="7473960" cy="379440"/>
          </a:xfrm>
        </p:grpSpPr>
        <p:sp>
          <p:nvSpPr>
            <p:cNvPr id="649" name="Text Box 174"/>
            <p:cNvSpPr/>
            <p:nvPr/>
          </p:nvSpPr>
          <p:spPr>
            <a:xfrm>
              <a:off x="609480" y="5415120"/>
              <a:ext cx="11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der 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175"/>
            <p:cNvSpPr/>
            <p:nvPr/>
          </p:nvSpPr>
          <p:spPr>
            <a:xfrm>
              <a:off x="2363760" y="5411880"/>
              <a:ext cx="113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der 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76"/>
            <p:cNvSpPr/>
            <p:nvPr/>
          </p:nvSpPr>
          <p:spPr>
            <a:xfrm>
              <a:off x="4645080" y="54151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der 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177"/>
            <p:cNvSpPr/>
            <p:nvPr/>
          </p:nvSpPr>
          <p:spPr>
            <a:xfrm>
              <a:off x="6935760" y="5403960"/>
              <a:ext cx="11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der 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Text Box 179"/>
          <p:cNvSpPr/>
          <p:nvPr/>
        </p:nvSpPr>
        <p:spPr>
          <a:xfrm>
            <a:off x="436680" y="19242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hapes that have “order 2” rotational symmetry or higher, a single centre of rotation can be locat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80"/>
          <p:cNvSpPr/>
          <p:nvPr/>
        </p:nvSpPr>
        <p:spPr>
          <a:xfrm>
            <a:off x="5102280" y="428796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81"/>
          <p:cNvSpPr/>
          <p:nvPr/>
        </p:nvSpPr>
        <p:spPr>
          <a:xfrm>
            <a:off x="7394400" y="428148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82"/>
          <p:cNvSpPr/>
          <p:nvPr/>
        </p:nvSpPr>
        <p:spPr>
          <a:xfrm>
            <a:off x="2873520" y="4294080"/>
            <a:ext cx="16956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85"/>
          <p:cNvSpPr/>
          <p:nvPr/>
        </p:nvSpPr>
        <p:spPr>
          <a:xfrm>
            <a:off x="430200" y="260496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hapes that have only “order 1” rotational symmetry a centre of rotation can be found anywhere within i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6"/>
          <p:cNvSpPr/>
          <p:nvPr/>
        </p:nvSpPr>
        <p:spPr>
          <a:xfrm>
            <a:off x="1073160" y="366084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187"/>
          <p:cNvSpPr/>
          <p:nvPr/>
        </p:nvSpPr>
        <p:spPr>
          <a:xfrm>
            <a:off x="952560" y="411480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88"/>
          <p:cNvSpPr/>
          <p:nvPr/>
        </p:nvSpPr>
        <p:spPr>
          <a:xfrm>
            <a:off x="958680" y="5013360"/>
            <a:ext cx="1699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90"/>
          <p:cNvSpPr/>
          <p:nvPr/>
        </p:nvSpPr>
        <p:spPr>
          <a:xfrm>
            <a:off x="493560" y="578016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is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sos 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Text Box 10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Isosceles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2" name="Group 1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723" name="Group 1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724" name="AutoShape 1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AutoShape 1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AutoShape 1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AutoShape 1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AutoShape 1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9" name="Group 1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730" name="AutoShape 1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AutoShape 2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AutoShape 2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AutoShape 2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AutoShape 2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5" name="Group 2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736" name="AutoShape 2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AutoShape 2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AutoShape 2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AutoShape 2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AutoShape 2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1" name="Group 3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742" name="AutoShape 3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AutoShape 3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AutoShape 3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AutoShape 3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AutoShape 3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7" name="Group 3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748" name="AutoShape 3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AutoShape 3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AutoShape 3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AutoShape 4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AutoShape 4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3" name="AutoShape 4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AutoShape 4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AutoShape 4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AutoShape 4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AutoShape 4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AutoShape 4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AutoShape 4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AutoShape 4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1" name="Group 5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762" name="Group 5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763" name="AutoShape 5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AutoShape 5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AutoShape 5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AutoShape 5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7" name="Group 5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768" name="AutoShape 5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9" name="AutoShape 5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0" name="AutoShape 5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1" name="AutoShape 6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2" name="AutoShape 6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3" name="Group 6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774" name="AutoShape 6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5" name="AutoShape 6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6" name="AutoShape 6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7" name="AutoShape 6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8" name="AutoShape 6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9" name="Group 6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780" name="AutoShape 6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1" name="AutoShape 7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2" name="AutoShape 7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3" name="AutoShape 7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4" name="AutoShape 7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85" name="AutoShape 7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AutoShape 7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AutoShape 7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AutoShape 7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9" name="Group 7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790" name="Group 7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791" name="AutoShape 8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AutoShape 8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AutoShape 8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AutoShape 8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5" name="Group 8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796" name="AutoShape 8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AutoShape 8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8" name="AutoShape 8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9" name="AutoShape 8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0" name="AutoShape 8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1" name="Group 9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802" name="AutoShape 9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3" name="AutoShape 9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4" name="AutoShape 9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5" name="AutoShape 9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6" name="AutoShape 9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7" name="Group 9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808" name="AutoShape 9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9" name="AutoShape 9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AutoShape 9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AutoShape 10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2" name="AutoShape 10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3" name="AutoShape 10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AutoShape 10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AutoShape 10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AutoShape 10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7" name="Text Box 106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sceles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8" name="Group 10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819" name="Group 10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820" name="AutoShape 10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AutoShape 1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AutoShape 1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AutoShape 1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AutoShape 1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5" name="Group 1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826" name="AutoShape 1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AutoShape 1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AutoShape 1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AutoShape 1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AutoShape 1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1" name="Group 1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832" name="AutoShape 1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AutoShape 1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AutoShape 1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AutoShape 1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AutoShape 1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7" name="Group 1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838" name="AutoShape 1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AutoShape 1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AutoShape 1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AutoShape 1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AutoShape 1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3" name="Group 1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844" name="AutoShape 1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AutoShape 1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AutoShape 1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AutoShape 1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AutoShape 1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AutoShape 1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AutoShape 1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AutoShape 1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AutoShape 1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AutoShape 1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AutoShape 1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AutoShape 1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AutoShape 1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7" name="AutoShape 146"/>
          <p:cNvSpPr/>
          <p:nvPr/>
        </p:nvSpPr>
        <p:spPr>
          <a:xfrm>
            <a:off x="3489480" y="2448000"/>
            <a:ext cx="1942920" cy="28954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8" name="Group 150"/>
          <p:cNvGrpSpPr/>
          <p:nvPr/>
        </p:nvGrpSpPr>
        <p:grpSpPr>
          <a:xfrm>
            <a:off x="3013200" y="2448000"/>
            <a:ext cx="2876400" cy="2895480"/>
            <a:chOff x="3013200" y="2448000"/>
            <a:chExt cx="2876400" cy="2895480"/>
          </a:xfrm>
        </p:grpSpPr>
        <p:sp>
          <p:nvSpPr>
            <p:cNvPr id="4859" name="AutoShape 147"/>
            <p:cNvSpPr/>
            <p:nvPr/>
          </p:nvSpPr>
          <p:spPr>
            <a:xfrm>
              <a:off x="3489120" y="2448000"/>
              <a:ext cx="1942920" cy="2895480"/>
            </a:xfrm>
            <a:prstGeom prst="triangle">
              <a:avLst>
                <a:gd name="adj" fmla="val 50000"/>
              </a:avLst>
            </a:prstGeom>
            <a:solidFill>
              <a:srgbClr val="edbf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Rectangle 149"/>
            <p:cNvSpPr/>
            <p:nvPr/>
          </p:nvSpPr>
          <p:spPr>
            <a:xfrm>
              <a:off x="3013200" y="2457360"/>
              <a:ext cx="2876400" cy="28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1" name="Oval 156"/>
          <p:cNvSpPr/>
          <p:nvPr/>
        </p:nvSpPr>
        <p:spPr>
          <a:xfrm>
            <a:off x="4348080" y="2911320"/>
            <a:ext cx="230400" cy="230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sos 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Text Box 3"/>
          <p:cNvSpPr/>
          <p:nvPr/>
        </p:nvSpPr>
        <p:spPr>
          <a:xfrm>
            <a:off x="7176960" y="130176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Text Box 4"/>
          <p:cNvSpPr/>
          <p:nvPr/>
        </p:nvSpPr>
        <p:spPr>
          <a:xfrm>
            <a:off x="4273560" y="19731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Text Box 5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Isosceles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6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867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868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3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874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9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880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5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886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1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892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7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906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907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1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912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3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4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5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7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918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9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0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1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924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5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7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8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29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3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934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935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9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940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1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2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3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5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946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7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8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9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0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1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952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4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5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6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57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1" name="Text Box 101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sceles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2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963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964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9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970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5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976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1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982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7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988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3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1" name="AutoShape 141"/>
          <p:cNvSpPr/>
          <p:nvPr/>
        </p:nvSpPr>
        <p:spPr>
          <a:xfrm>
            <a:off x="3489480" y="2448000"/>
            <a:ext cx="1942920" cy="28954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2" name="Group 146"/>
          <p:cNvGrpSpPr/>
          <p:nvPr/>
        </p:nvGrpSpPr>
        <p:grpSpPr>
          <a:xfrm>
            <a:off x="3013200" y="2448000"/>
            <a:ext cx="2876400" cy="2895480"/>
            <a:chOff x="3013200" y="2448000"/>
            <a:chExt cx="2876400" cy="2895480"/>
          </a:xfrm>
        </p:grpSpPr>
        <p:grpSp>
          <p:nvGrpSpPr>
            <p:cNvPr id="5003" name="Group 142"/>
            <p:cNvGrpSpPr/>
            <p:nvPr/>
          </p:nvGrpSpPr>
          <p:grpSpPr>
            <a:xfrm>
              <a:off x="3013200" y="2448000"/>
              <a:ext cx="2876400" cy="2895480"/>
              <a:chOff x="3013200" y="2448000"/>
              <a:chExt cx="2876400" cy="2895480"/>
            </a:xfrm>
          </p:grpSpPr>
          <p:sp>
            <p:nvSpPr>
              <p:cNvPr id="5004" name="AutoShape 143"/>
              <p:cNvSpPr/>
              <p:nvPr/>
            </p:nvSpPr>
            <p:spPr>
              <a:xfrm>
                <a:off x="3489120" y="2448000"/>
                <a:ext cx="1942920" cy="2895480"/>
              </a:xfrm>
              <a:prstGeom prst="triangle">
                <a:avLst>
                  <a:gd name="adj" fmla="val 50000"/>
                </a:avLst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Rectangle 144"/>
              <p:cNvSpPr/>
              <p:nvPr/>
            </p:nvSpPr>
            <p:spPr>
              <a:xfrm>
                <a:off x="3013200" y="2457360"/>
                <a:ext cx="2876400" cy="28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6" name="Oval 145"/>
            <p:cNvSpPr/>
            <p:nvPr/>
          </p:nvSpPr>
          <p:spPr>
            <a:xfrm>
              <a:off x="4348080" y="2911320"/>
              <a:ext cx="230400" cy="23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3" dur="2000" fill="hold"/>
                                        <p:tgtEl>
                                          <p:spTgt spid="5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alene 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Text Box 5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calene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9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010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011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6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017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2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023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8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029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4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035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0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8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049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050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4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055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6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7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8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9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0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061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2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3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4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6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067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8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9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1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72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077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078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2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083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4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5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6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7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8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089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0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1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3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4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095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6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7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8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0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101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scalene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106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107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2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113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8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119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4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125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0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131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6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4" name="Group 149"/>
          <p:cNvGrpSpPr/>
          <p:nvPr/>
        </p:nvGrpSpPr>
        <p:grpSpPr>
          <a:xfrm>
            <a:off x="2714760" y="2960640"/>
            <a:ext cx="4049640" cy="2554200"/>
            <a:chOff x="2714760" y="2960640"/>
            <a:chExt cx="4049640" cy="2554200"/>
          </a:xfrm>
        </p:grpSpPr>
        <p:sp>
          <p:nvSpPr>
            <p:cNvPr id="5145" name="Freeform 147"/>
            <p:cNvSpPr/>
            <p:nvPr/>
          </p:nvSpPr>
          <p:spPr>
            <a:xfrm>
              <a:off x="2714760" y="2975040"/>
              <a:ext cx="3135240" cy="1901880"/>
            </a:xfrm>
            <a:custGeom>
              <a:avLst/>
              <a:gdLst/>
              <a:ahLst/>
              <a:rect l="l" t="t" r="r" b="b"/>
              <a:pathLst>
                <a:path w="1975" h="1198">
                  <a:moveTo>
                    <a:pt x="0" y="1198"/>
                  </a:moveTo>
                  <a:lnTo>
                    <a:pt x="1975" y="1198"/>
                  </a:lnTo>
                  <a:lnTo>
                    <a:pt x="1774" y="0"/>
                  </a:lnTo>
                  <a:lnTo>
                    <a:pt x="0" y="1198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Rectangle 148"/>
            <p:cNvSpPr/>
            <p:nvPr/>
          </p:nvSpPr>
          <p:spPr>
            <a:xfrm>
              <a:off x="2714760" y="2960640"/>
              <a:ext cx="404964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7" name="Group 150"/>
          <p:cNvGrpSpPr/>
          <p:nvPr/>
        </p:nvGrpSpPr>
        <p:grpSpPr>
          <a:xfrm>
            <a:off x="2714760" y="2960640"/>
            <a:ext cx="4049640" cy="2554200"/>
            <a:chOff x="2714760" y="2960640"/>
            <a:chExt cx="4049640" cy="2554200"/>
          </a:xfrm>
        </p:grpSpPr>
        <p:sp>
          <p:nvSpPr>
            <p:cNvPr id="5148" name="Freeform 151"/>
            <p:cNvSpPr/>
            <p:nvPr/>
          </p:nvSpPr>
          <p:spPr>
            <a:xfrm>
              <a:off x="2714760" y="2975040"/>
              <a:ext cx="3135240" cy="1901880"/>
            </a:xfrm>
            <a:custGeom>
              <a:avLst/>
              <a:gdLst/>
              <a:ahLst/>
              <a:rect l="l" t="t" r="r" b="b"/>
              <a:pathLst>
                <a:path w="1975" h="1198">
                  <a:moveTo>
                    <a:pt x="0" y="1198"/>
                  </a:moveTo>
                  <a:lnTo>
                    <a:pt x="1975" y="1198"/>
                  </a:lnTo>
                  <a:lnTo>
                    <a:pt x="1774" y="0"/>
                  </a:lnTo>
                  <a:lnTo>
                    <a:pt x="0" y="119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Rectangle 152"/>
            <p:cNvSpPr/>
            <p:nvPr/>
          </p:nvSpPr>
          <p:spPr>
            <a:xfrm>
              <a:off x="2714760" y="2960640"/>
              <a:ext cx="404964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0" name="Oval 153"/>
          <p:cNvSpPr/>
          <p:nvPr/>
        </p:nvSpPr>
        <p:spPr>
          <a:xfrm>
            <a:off x="5286240" y="3181320"/>
            <a:ext cx="209520" cy="209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Text Box 3"/>
          <p:cNvSpPr/>
          <p:nvPr/>
        </p:nvSpPr>
        <p:spPr>
          <a:xfrm>
            <a:off x="7176960" y="130176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Text Box 4"/>
          <p:cNvSpPr/>
          <p:nvPr/>
        </p:nvSpPr>
        <p:spPr>
          <a:xfrm>
            <a:off x="5332320" y="24717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Text Box 5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calene Triang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4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155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156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162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7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168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3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174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9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180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5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3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194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195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9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200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1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2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3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4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5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206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7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8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9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0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1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212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3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4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5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6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7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1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222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223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7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228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9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0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1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2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3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234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5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6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7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9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240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1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5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9" name="Text Box 101"/>
          <p:cNvSpPr/>
          <p:nvPr/>
        </p:nvSpPr>
        <p:spPr>
          <a:xfrm>
            <a:off x="468360" y="135900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scalene triangl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0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251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252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7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258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3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264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9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270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5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276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1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9" name="Group 141"/>
          <p:cNvGrpSpPr/>
          <p:nvPr/>
        </p:nvGrpSpPr>
        <p:grpSpPr>
          <a:xfrm>
            <a:off x="2714760" y="2960640"/>
            <a:ext cx="4049640" cy="2554200"/>
            <a:chOff x="2714760" y="2960640"/>
            <a:chExt cx="4049640" cy="2554200"/>
          </a:xfrm>
        </p:grpSpPr>
        <p:sp>
          <p:nvSpPr>
            <p:cNvPr id="5290" name="Freeform 142"/>
            <p:cNvSpPr/>
            <p:nvPr/>
          </p:nvSpPr>
          <p:spPr>
            <a:xfrm>
              <a:off x="2714760" y="2975040"/>
              <a:ext cx="3135240" cy="1901880"/>
            </a:xfrm>
            <a:custGeom>
              <a:avLst/>
              <a:gdLst/>
              <a:ahLst/>
              <a:rect l="l" t="t" r="r" b="b"/>
              <a:pathLst>
                <a:path w="1975" h="1198">
                  <a:moveTo>
                    <a:pt x="0" y="1198"/>
                  </a:moveTo>
                  <a:lnTo>
                    <a:pt x="1975" y="1198"/>
                  </a:lnTo>
                  <a:lnTo>
                    <a:pt x="1774" y="0"/>
                  </a:lnTo>
                  <a:lnTo>
                    <a:pt x="0" y="1198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Rectangle 143"/>
            <p:cNvSpPr/>
            <p:nvPr/>
          </p:nvSpPr>
          <p:spPr>
            <a:xfrm>
              <a:off x="2714760" y="2960640"/>
              <a:ext cx="4049640" cy="25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2" name="Group 148"/>
          <p:cNvGrpSpPr/>
          <p:nvPr/>
        </p:nvGrpSpPr>
        <p:grpSpPr>
          <a:xfrm>
            <a:off x="2714760" y="2960640"/>
            <a:ext cx="4049640" cy="2554200"/>
            <a:chOff x="2714760" y="2960640"/>
            <a:chExt cx="4049640" cy="2554200"/>
          </a:xfrm>
        </p:grpSpPr>
        <p:grpSp>
          <p:nvGrpSpPr>
            <p:cNvPr id="5293" name="Group 144"/>
            <p:cNvGrpSpPr/>
            <p:nvPr/>
          </p:nvGrpSpPr>
          <p:grpSpPr>
            <a:xfrm>
              <a:off x="2714760" y="2960640"/>
              <a:ext cx="4049640" cy="2554200"/>
              <a:chOff x="2714760" y="2960640"/>
              <a:chExt cx="4049640" cy="2554200"/>
            </a:xfrm>
          </p:grpSpPr>
          <p:sp>
            <p:nvSpPr>
              <p:cNvPr id="5294" name="Freeform 145"/>
              <p:cNvSpPr/>
              <p:nvPr/>
            </p:nvSpPr>
            <p:spPr>
              <a:xfrm>
                <a:off x="2714760" y="2975040"/>
                <a:ext cx="3135240" cy="1901880"/>
              </a:xfrm>
              <a:custGeom>
                <a:avLst/>
                <a:gdLst/>
                <a:ahLst/>
                <a:rect l="l" t="t" r="r" b="b"/>
                <a:pathLst>
                  <a:path w="1975" h="1198">
                    <a:moveTo>
                      <a:pt x="0" y="1198"/>
                    </a:moveTo>
                    <a:lnTo>
                      <a:pt x="1975" y="1198"/>
                    </a:lnTo>
                    <a:lnTo>
                      <a:pt x="1774" y="0"/>
                    </a:lnTo>
                    <a:lnTo>
                      <a:pt x="0" y="1198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Rectangle 146"/>
              <p:cNvSpPr/>
              <p:nvPr/>
            </p:nvSpPr>
            <p:spPr>
              <a:xfrm>
                <a:off x="2714760" y="2960640"/>
                <a:ext cx="4049640" cy="25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6" name="Oval 147"/>
            <p:cNvSpPr/>
            <p:nvPr/>
          </p:nvSpPr>
          <p:spPr>
            <a:xfrm>
              <a:off x="5286240" y="3181320"/>
              <a:ext cx="209520" cy="209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5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sos Trapez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5"/>
          <p:cNvSpPr/>
          <p:nvPr/>
        </p:nvSpPr>
        <p:spPr>
          <a:xfrm>
            <a:off x="1927080" y="630360"/>
            <a:ext cx="4940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Isosceles Trapezi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300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301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6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307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2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313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8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319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4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325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0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339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340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4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345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6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7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8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9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0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351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2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3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4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5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6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357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8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9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0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1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2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6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367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368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2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373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4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5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6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7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8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379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0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1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2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3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4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385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6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7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8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9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90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Text Box 101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sceles trapeziu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5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396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397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2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403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8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409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4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415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0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421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6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4" name="AutoShape 147"/>
          <p:cNvSpPr/>
          <p:nvPr/>
        </p:nvSpPr>
        <p:spPr>
          <a:xfrm flipV="1">
            <a:off x="2924280" y="2877840"/>
            <a:ext cx="3512880" cy="1922400"/>
          </a:xfrm>
          <a:custGeom>
            <a:avLst/>
            <a:gdLst>
              <a:gd name="textAreaLeft" fmla="*/ 731880 w 3512880"/>
              <a:gd name="textAreaRight" fmla="*/ 2781000 w 3512880"/>
              <a:gd name="textAreaTop" fmla="*/ 400320 h 1922400"/>
              <a:gd name="textAreaBottom" fmla="*/ 152208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AutoShape 148"/>
          <p:cNvSpPr/>
          <p:nvPr/>
        </p:nvSpPr>
        <p:spPr>
          <a:xfrm flipV="1">
            <a:off x="2932200" y="2877840"/>
            <a:ext cx="3512880" cy="1922400"/>
          </a:xfrm>
          <a:custGeom>
            <a:avLst/>
            <a:gdLst>
              <a:gd name="textAreaLeft" fmla="*/ 731880 w 3512880"/>
              <a:gd name="textAreaRight" fmla="*/ 2781000 w 3512880"/>
              <a:gd name="textAreaTop" fmla="*/ 400320 h 1922400"/>
              <a:gd name="textAreaBottom" fmla="*/ 152208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Oval 149"/>
          <p:cNvSpPr/>
          <p:nvPr/>
        </p:nvSpPr>
        <p:spPr>
          <a:xfrm>
            <a:off x="5315040" y="2924280"/>
            <a:ext cx="218880" cy="218880"/>
          </a:xfrm>
          <a:prstGeom prst="ellipse">
            <a:avLst/>
          </a:prstGeom>
          <a:solidFill>
            <a:srgbClr val="130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Text Box 3"/>
          <p:cNvSpPr/>
          <p:nvPr/>
        </p:nvSpPr>
        <p:spPr>
          <a:xfrm>
            <a:off x="7142040" y="132732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Text Box 4"/>
          <p:cNvSpPr/>
          <p:nvPr/>
        </p:nvSpPr>
        <p:spPr>
          <a:xfrm>
            <a:off x="5518080" y="23493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Text Box 5"/>
          <p:cNvSpPr/>
          <p:nvPr/>
        </p:nvSpPr>
        <p:spPr>
          <a:xfrm>
            <a:off x="1927080" y="630360"/>
            <a:ext cx="4940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Isosceles Trapezi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0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441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442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7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448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3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454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9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460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5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466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1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9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480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481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85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486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8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9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1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492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3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4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5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7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498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9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0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1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2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03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508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509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3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514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7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8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9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520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2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3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4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5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526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7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8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9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0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31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5" name="Text Box 101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sceles trapeziu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6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537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538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3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544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9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550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5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556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1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562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5" name="AutoShape 141"/>
          <p:cNvSpPr/>
          <p:nvPr/>
        </p:nvSpPr>
        <p:spPr>
          <a:xfrm flipV="1">
            <a:off x="2924280" y="2877840"/>
            <a:ext cx="3512880" cy="1922400"/>
          </a:xfrm>
          <a:custGeom>
            <a:avLst/>
            <a:gdLst>
              <a:gd name="textAreaLeft" fmla="*/ 731880 w 3512880"/>
              <a:gd name="textAreaRight" fmla="*/ 2781000 w 3512880"/>
              <a:gd name="textAreaTop" fmla="*/ 400320 h 1922400"/>
              <a:gd name="textAreaBottom" fmla="*/ 152208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6" name="Group 144"/>
          <p:cNvGrpSpPr/>
          <p:nvPr/>
        </p:nvGrpSpPr>
        <p:grpSpPr>
          <a:xfrm>
            <a:off x="2932200" y="2878200"/>
            <a:ext cx="3512880" cy="1922400"/>
            <a:chOff x="2932200" y="2878200"/>
            <a:chExt cx="3512880" cy="1922400"/>
          </a:xfrm>
        </p:grpSpPr>
        <p:sp>
          <p:nvSpPr>
            <p:cNvPr id="5577" name="AutoShape 142"/>
            <p:cNvSpPr/>
            <p:nvPr/>
          </p:nvSpPr>
          <p:spPr>
            <a:xfrm flipV="1">
              <a:off x="2932200" y="2877840"/>
              <a:ext cx="3512880" cy="1922400"/>
            </a:xfrm>
            <a:custGeom>
              <a:avLst/>
              <a:gdLst>
                <a:gd name="textAreaLeft" fmla="*/ 731880 w 3512880"/>
                <a:gd name="textAreaRight" fmla="*/ 2781000 w 3512880"/>
                <a:gd name="textAreaTop" fmla="*/ 399960 h 1922400"/>
                <a:gd name="textAreaBottom" fmla="*/ 1522440 h 19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Oval 143"/>
            <p:cNvSpPr/>
            <p:nvPr/>
          </p:nvSpPr>
          <p:spPr>
            <a:xfrm>
              <a:off x="5315040" y="2924280"/>
              <a:ext cx="218880" cy="218880"/>
            </a:xfrm>
            <a:prstGeom prst="ellipse">
              <a:avLst/>
            </a:prstGeom>
            <a:solidFill>
              <a:srgbClr val="130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8" dur="2000" fill="hold"/>
                                        <p:tgtEl>
                                          <p:spTgt spid="5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9" name="PlaceHolder 1"/>
          <p:cNvSpPr>
            <a:spLocks noGrp="1"/>
          </p:cNvSpPr>
          <p:nvPr>
            <p:ph type="title"/>
          </p:nvPr>
        </p:nvSpPr>
        <p:spPr>
          <a:xfrm>
            <a:off x="336240" y="5365440"/>
            <a:ext cx="4303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rapez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Text Box 5"/>
          <p:cNvSpPr/>
          <p:nvPr/>
        </p:nvSpPr>
        <p:spPr>
          <a:xfrm>
            <a:off x="1927080" y="630360"/>
            <a:ext cx="4940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Trapezi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1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582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583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8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589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4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595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0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601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6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607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2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0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621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622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6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627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8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9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0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1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2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633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4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5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6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7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8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639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1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2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3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44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649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650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4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655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6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7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8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9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0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661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2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3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6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667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8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9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1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72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6" name="Text Box 101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apeziu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7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678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679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4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685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0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691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6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697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2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703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8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6" name="Freeform 145"/>
          <p:cNvSpPr/>
          <p:nvPr/>
        </p:nvSpPr>
        <p:spPr>
          <a:xfrm>
            <a:off x="3022560" y="3098880"/>
            <a:ext cx="3556080" cy="1485720"/>
          </a:xfrm>
          <a:custGeom>
            <a:avLst/>
            <a:gdLst/>
            <a:ahLst/>
            <a:rect l="l" t="t" r="r" b="b"/>
            <a:pathLst>
              <a:path w="2240" h="936">
                <a:moveTo>
                  <a:pt x="2240" y="936"/>
                </a:moveTo>
                <a:lnTo>
                  <a:pt x="0" y="936"/>
                </a:lnTo>
                <a:lnTo>
                  <a:pt x="112" y="0"/>
                </a:lnTo>
                <a:lnTo>
                  <a:pt x="1296" y="0"/>
                </a:lnTo>
                <a:lnTo>
                  <a:pt x="2240" y="936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Freeform 146"/>
          <p:cNvSpPr/>
          <p:nvPr/>
        </p:nvSpPr>
        <p:spPr>
          <a:xfrm>
            <a:off x="3009960" y="3098880"/>
            <a:ext cx="3556080" cy="1485720"/>
          </a:xfrm>
          <a:custGeom>
            <a:avLst/>
            <a:gdLst/>
            <a:ahLst/>
            <a:rect l="l" t="t" r="r" b="b"/>
            <a:pathLst>
              <a:path w="2240" h="936">
                <a:moveTo>
                  <a:pt x="2240" y="936"/>
                </a:moveTo>
                <a:lnTo>
                  <a:pt x="0" y="936"/>
                </a:lnTo>
                <a:lnTo>
                  <a:pt x="112" y="0"/>
                </a:lnTo>
                <a:lnTo>
                  <a:pt x="1296" y="0"/>
                </a:lnTo>
                <a:lnTo>
                  <a:pt x="2240" y="936"/>
                </a:lnTo>
                <a:close/>
              </a:path>
            </a:pathLst>
          </a:custGeom>
          <a:solidFill>
            <a:srgbClr val="fce2a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Oval 147"/>
          <p:cNvSpPr/>
          <p:nvPr/>
        </p:nvSpPr>
        <p:spPr>
          <a:xfrm>
            <a:off x="4875120" y="3173400"/>
            <a:ext cx="200160" cy="200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9" name="Text Box 3"/>
          <p:cNvSpPr/>
          <p:nvPr/>
        </p:nvSpPr>
        <p:spPr>
          <a:xfrm>
            <a:off x="5973840" y="130176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Text Box 4"/>
          <p:cNvSpPr/>
          <p:nvPr/>
        </p:nvSpPr>
        <p:spPr>
          <a:xfrm>
            <a:off x="5137200" y="2629080"/>
            <a:ext cx="42840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1" name="Group 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722" name="Group 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723" name="AutoShape 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4" name="AutoShape 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5" name="AutoShape 1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6" name="AutoShape 1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1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8" name="Group 1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729" name="AutoShape 1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AutoShape 1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1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2" name="AutoShape 1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3" name="AutoShape 1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4" name="Group 1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735" name="AutoShape 2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6" name="AutoShape 2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7" name="AutoShape 2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8" name="AutoShape 2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AutoShape 2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0" name="Group 2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741" name="AutoShape 2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2" name="AutoShape 2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3" name="AutoShape 2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4" name="AutoShape 2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AutoShape 3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6" name="Group 3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747" name="AutoShape 3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AutoShape 3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AutoShape 3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AutoShape 3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AutoShape 3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2" name="AutoShape 3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AutoShape 3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AutoShape 3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AutoShape 4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AutoShape 4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AutoShape 4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AutoShape 4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AutoShape 4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0" name="Group 4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761" name="Group 4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762" name="AutoShape 4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3" name="AutoShape 4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AutoShape 4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AutoShape 5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6" name="Group 5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767" name="AutoShape 5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8" name="AutoShape 5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9" name="AutoShape 5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0" name="AutoShape 5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1" name="AutoShape 5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2" name="Group 5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773" name="AutoShape 5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4" name="AutoShape 5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5" name="AutoShape 6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6" name="AutoShape 6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7" name="AutoShape 6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8" name="Group 6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779" name="AutoShape 6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0" name="AutoShape 6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1" name="AutoShape 6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2" name="AutoShape 6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3" name="AutoShape 6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84" name="AutoShape 6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AutoShape 7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AutoShape 7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AutoShape 7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8" name="Group 7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789" name="Group 7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790" name="AutoShape 7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AutoShape 7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AutoShape 7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AutoShape 7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4" name="Group 7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795" name="AutoShape 8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6" name="AutoShape 8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7" name="AutoShape 8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8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9" name="AutoShape 8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0" name="Group 8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801" name="AutoShape 8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2" name="AutoShape 8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8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4" name="AutoShape 8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5" name="AutoShape 9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6" name="Group 9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807" name="AutoShape 9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8" name="AutoShape 9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9" name="AutoShape 9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0" name="AutoShape 9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1" name="AutoShape 9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12" name="AutoShape 9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AutoShape 9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AutoShape 9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AutoShape 10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6" name="Text Box 101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trapezium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7" name="Group 10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818" name="Group 10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819" name="AutoShape 10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0" name="AutoShape 10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1" name="AutoShape 10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2" name="AutoShape 10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AutoShape 10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4" name="Group 10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825" name="AutoShape 1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6" name="AutoShape 1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7" name="AutoShape 1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8" name="AutoShape 1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9" name="AutoShape 1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0" name="Group 1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831" name="AutoShape 1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2" name="AutoShape 1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3" name="AutoShape 1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4" name="AutoShape 1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5" name="AutoShape 1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6" name="Group 1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837" name="AutoShape 1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AutoShape 1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AutoShape 1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0" name="AutoShape 1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1" name="AutoShape 1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2" name="Group 1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843" name="AutoShape 1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4" name="AutoShape 1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5" name="AutoShape 1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6" name="AutoShape 1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7" name="AutoShape 1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8" name="AutoShape 1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AutoShape 1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AutoShape 1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AutoShape 1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AutoShape 1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AutoShape 1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AutoShape 1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AutoShape 1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6" name="Freeform 141"/>
          <p:cNvSpPr/>
          <p:nvPr/>
        </p:nvSpPr>
        <p:spPr>
          <a:xfrm>
            <a:off x="3022560" y="3098880"/>
            <a:ext cx="3556080" cy="1485720"/>
          </a:xfrm>
          <a:custGeom>
            <a:avLst/>
            <a:gdLst/>
            <a:ahLst/>
            <a:rect l="l" t="t" r="r" b="b"/>
            <a:pathLst>
              <a:path w="2240" h="936">
                <a:moveTo>
                  <a:pt x="2240" y="936"/>
                </a:moveTo>
                <a:lnTo>
                  <a:pt x="0" y="936"/>
                </a:lnTo>
                <a:lnTo>
                  <a:pt x="112" y="0"/>
                </a:lnTo>
                <a:lnTo>
                  <a:pt x="1296" y="0"/>
                </a:lnTo>
                <a:lnTo>
                  <a:pt x="2240" y="936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7" name="Group 142"/>
          <p:cNvGrpSpPr/>
          <p:nvPr/>
        </p:nvGrpSpPr>
        <p:grpSpPr>
          <a:xfrm>
            <a:off x="3009960" y="3098880"/>
            <a:ext cx="3556080" cy="1485720"/>
            <a:chOff x="3009960" y="3098880"/>
            <a:chExt cx="3556080" cy="1485720"/>
          </a:xfrm>
        </p:grpSpPr>
        <p:sp>
          <p:nvSpPr>
            <p:cNvPr id="5858" name="Freeform 143"/>
            <p:cNvSpPr/>
            <p:nvPr/>
          </p:nvSpPr>
          <p:spPr>
            <a:xfrm>
              <a:off x="3009960" y="3098880"/>
              <a:ext cx="3556080" cy="1485720"/>
            </a:xfrm>
            <a:custGeom>
              <a:avLst/>
              <a:gdLst/>
              <a:ahLst/>
              <a:rect l="l" t="t" r="r" b="b"/>
              <a:pathLst>
                <a:path w="2240" h="936">
                  <a:moveTo>
                    <a:pt x="2240" y="936"/>
                  </a:moveTo>
                  <a:lnTo>
                    <a:pt x="0" y="936"/>
                  </a:lnTo>
                  <a:lnTo>
                    <a:pt x="112" y="0"/>
                  </a:lnTo>
                  <a:lnTo>
                    <a:pt x="1296" y="0"/>
                  </a:lnTo>
                  <a:lnTo>
                    <a:pt x="2240" y="936"/>
                  </a:lnTo>
                  <a:close/>
                </a:path>
              </a:pathLst>
            </a:custGeom>
            <a:solidFill>
              <a:srgbClr val="fce2a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Oval 144"/>
            <p:cNvSpPr/>
            <p:nvPr/>
          </p:nvSpPr>
          <p:spPr>
            <a:xfrm>
              <a:off x="4875120" y="3173400"/>
              <a:ext cx="200160" cy="200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0" name="Text Box 145"/>
          <p:cNvSpPr/>
          <p:nvPr/>
        </p:nvSpPr>
        <p:spPr>
          <a:xfrm>
            <a:off x="1927080" y="630360"/>
            <a:ext cx="49402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Trapezi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2000" fill="hold"/>
                                        <p:tgtEl>
                                          <p:spTgt spid="5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1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5862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5863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4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5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6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8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5869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4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5875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0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5881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6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5887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2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0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5901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5902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6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5907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9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0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2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5913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4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5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6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5919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2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3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24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5929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5930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34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5935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6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8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9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0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5941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2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3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4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5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6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5947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8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1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52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6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kit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7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5958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5959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4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5965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0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5971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6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5977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2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5983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8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6" name="Text Box 143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K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Freeform 145"/>
          <p:cNvSpPr/>
          <p:nvPr/>
        </p:nvSpPr>
        <p:spPr>
          <a:xfrm>
            <a:off x="3181320" y="2247840"/>
            <a:ext cx="2527200" cy="3449520"/>
          </a:xfrm>
          <a:custGeom>
            <a:avLst/>
            <a:gdLst/>
            <a:ahLst/>
            <a:rect l="l" t="t" r="r" b="b"/>
            <a:pathLst>
              <a:path w="1812" h="2472">
                <a:moveTo>
                  <a:pt x="900" y="2472"/>
                </a:moveTo>
                <a:lnTo>
                  <a:pt x="1812" y="864"/>
                </a:lnTo>
                <a:lnTo>
                  <a:pt x="900" y="0"/>
                </a:lnTo>
                <a:lnTo>
                  <a:pt x="0" y="870"/>
                </a:lnTo>
                <a:lnTo>
                  <a:pt x="900" y="2472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Freeform 150"/>
          <p:cNvSpPr/>
          <p:nvPr/>
        </p:nvSpPr>
        <p:spPr>
          <a:xfrm>
            <a:off x="3181320" y="2247840"/>
            <a:ext cx="2527200" cy="3449520"/>
          </a:xfrm>
          <a:custGeom>
            <a:avLst/>
            <a:gdLst/>
            <a:ahLst/>
            <a:rect l="l" t="t" r="r" b="b"/>
            <a:pathLst>
              <a:path w="1812" h="2472">
                <a:moveTo>
                  <a:pt x="900" y="2472"/>
                </a:moveTo>
                <a:lnTo>
                  <a:pt x="1812" y="864"/>
                </a:lnTo>
                <a:lnTo>
                  <a:pt x="900" y="0"/>
                </a:lnTo>
                <a:lnTo>
                  <a:pt x="0" y="870"/>
                </a:lnTo>
                <a:lnTo>
                  <a:pt x="900" y="2472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Oval 151"/>
          <p:cNvSpPr/>
          <p:nvPr/>
        </p:nvSpPr>
        <p:spPr>
          <a:xfrm>
            <a:off x="4330800" y="2387520"/>
            <a:ext cx="203040" cy="2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634680" y="5649480"/>
            <a:ext cx="27860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1" name="Text Box 2"/>
          <p:cNvSpPr/>
          <p:nvPr/>
        </p:nvSpPr>
        <p:spPr>
          <a:xfrm>
            <a:off x="5200560" y="130176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Text Box 3"/>
          <p:cNvSpPr/>
          <p:nvPr/>
        </p:nvSpPr>
        <p:spPr>
          <a:xfrm>
            <a:off x="4681440" y="192420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3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004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005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0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011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6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017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2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023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8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029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4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2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043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044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8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049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0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1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2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4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055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6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7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8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9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0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061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3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4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5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66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0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071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072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6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077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8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9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1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2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083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4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5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6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7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8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089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0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1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2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3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94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8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kit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9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100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101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6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107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2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113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8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119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4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125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0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8" name="Freeform 140"/>
          <p:cNvSpPr/>
          <p:nvPr/>
        </p:nvSpPr>
        <p:spPr>
          <a:xfrm>
            <a:off x="3181320" y="2247840"/>
            <a:ext cx="2527200" cy="3449520"/>
          </a:xfrm>
          <a:custGeom>
            <a:avLst/>
            <a:gdLst/>
            <a:ahLst/>
            <a:rect l="l" t="t" r="r" b="b"/>
            <a:pathLst>
              <a:path w="1812" h="2472">
                <a:moveTo>
                  <a:pt x="900" y="2472"/>
                </a:moveTo>
                <a:lnTo>
                  <a:pt x="1812" y="864"/>
                </a:lnTo>
                <a:lnTo>
                  <a:pt x="900" y="0"/>
                </a:lnTo>
                <a:lnTo>
                  <a:pt x="0" y="870"/>
                </a:lnTo>
                <a:lnTo>
                  <a:pt x="900" y="2472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9" name="Group 141"/>
          <p:cNvGrpSpPr/>
          <p:nvPr/>
        </p:nvGrpSpPr>
        <p:grpSpPr>
          <a:xfrm>
            <a:off x="3181320" y="2247840"/>
            <a:ext cx="2527200" cy="3449520"/>
            <a:chOff x="3181320" y="2247840"/>
            <a:chExt cx="2527200" cy="3449520"/>
          </a:xfrm>
        </p:grpSpPr>
        <p:sp>
          <p:nvSpPr>
            <p:cNvPr id="6140" name="Freeform 142"/>
            <p:cNvSpPr/>
            <p:nvPr/>
          </p:nvSpPr>
          <p:spPr>
            <a:xfrm>
              <a:off x="3181320" y="2247840"/>
              <a:ext cx="2527200" cy="3449520"/>
            </a:xfrm>
            <a:custGeom>
              <a:avLst/>
              <a:gdLst/>
              <a:ahLst/>
              <a:rect l="l" t="t" r="r" b="b"/>
              <a:pathLst>
                <a:path w="1812" h="2472">
                  <a:moveTo>
                    <a:pt x="900" y="2472"/>
                  </a:moveTo>
                  <a:lnTo>
                    <a:pt x="1812" y="864"/>
                  </a:lnTo>
                  <a:lnTo>
                    <a:pt x="900" y="0"/>
                  </a:lnTo>
                  <a:lnTo>
                    <a:pt x="0" y="870"/>
                  </a:lnTo>
                  <a:lnTo>
                    <a:pt x="900" y="247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Oval 143"/>
            <p:cNvSpPr/>
            <p:nvPr/>
          </p:nvSpPr>
          <p:spPr>
            <a:xfrm>
              <a:off x="4330800" y="2387520"/>
              <a:ext cx="203040" cy="20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2" name="Text Box 144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K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2000" fill="hold"/>
                                        <p:tgtEl>
                                          <p:spTgt spid="6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6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272"/>
          <p:cNvGrpSpPr/>
          <p:nvPr/>
        </p:nvGrpSpPr>
        <p:grpSpPr>
          <a:xfrm>
            <a:off x="1204920" y="1379520"/>
            <a:ext cx="1144440" cy="1873440"/>
            <a:chOff x="1204920" y="1379520"/>
            <a:chExt cx="1144440" cy="1873440"/>
          </a:xfrm>
        </p:grpSpPr>
        <p:grpSp>
          <p:nvGrpSpPr>
            <p:cNvPr id="663" name="Group 262"/>
            <p:cNvGrpSpPr/>
            <p:nvPr/>
          </p:nvGrpSpPr>
          <p:grpSpPr>
            <a:xfrm>
              <a:off x="1701720" y="1379520"/>
              <a:ext cx="149400" cy="1873440"/>
              <a:chOff x="1701720" y="1379520"/>
              <a:chExt cx="149400" cy="1873440"/>
            </a:xfrm>
          </p:grpSpPr>
          <p:sp>
            <p:nvSpPr>
              <p:cNvPr id="664" name="Rectangle 263"/>
              <p:cNvSpPr/>
              <p:nvPr/>
            </p:nvSpPr>
            <p:spPr>
              <a:xfrm>
                <a:off x="1701720" y="298548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64"/>
              <p:cNvSpPr/>
              <p:nvPr/>
            </p:nvSpPr>
            <p:spPr>
              <a:xfrm>
                <a:off x="1701720" y="271764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65"/>
              <p:cNvSpPr/>
              <p:nvPr/>
            </p:nvSpPr>
            <p:spPr>
              <a:xfrm>
                <a:off x="1701720" y="244980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66"/>
              <p:cNvSpPr/>
              <p:nvPr/>
            </p:nvSpPr>
            <p:spPr>
              <a:xfrm>
                <a:off x="1701720" y="218232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67"/>
              <p:cNvSpPr/>
              <p:nvPr/>
            </p:nvSpPr>
            <p:spPr>
              <a:xfrm>
                <a:off x="1701720" y="191484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68"/>
              <p:cNvSpPr/>
              <p:nvPr/>
            </p:nvSpPr>
            <p:spPr>
              <a:xfrm>
                <a:off x="1701720" y="164700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69"/>
              <p:cNvSpPr/>
              <p:nvPr/>
            </p:nvSpPr>
            <p:spPr>
              <a:xfrm>
                <a:off x="1701720" y="137952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Freeform 270"/>
            <p:cNvSpPr/>
            <p:nvPr/>
          </p:nvSpPr>
          <p:spPr>
            <a:xfrm>
              <a:off x="1852560" y="164952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71"/>
            <p:cNvSpPr/>
            <p:nvPr/>
          </p:nvSpPr>
          <p:spPr>
            <a:xfrm flipH="1">
              <a:off x="1204920" y="16477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 Box 2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75" name="Group 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76" name="AutoShape 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AutoShape 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utoShape 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82" name="AutoShape 1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AutoShape 1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AutoShape 1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utoShape 1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88" name="AutoShape 1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AutoShape 1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AutoShape 1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2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2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2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94" name="AutoShape 2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2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2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2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2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700" name="AutoShape 2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3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3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3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3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AutoShape 3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3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3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3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4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4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4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714" name="Group 4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715" name="AutoShape 4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4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AutoShape 4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4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Group 4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720" name="AutoShape 4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5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5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AutoShape 5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AutoShape 5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5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726" name="AutoShape 5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AutoShape 5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AutoShape 5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AutoShape 5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5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Group 6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732" name="AutoShape 6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AutoShape 6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AutoShape 6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AutoShape 6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AutoShape 6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7" name="AutoShape 6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6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6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6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7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742" name="Group 7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743" name="AutoShape 7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7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7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7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Group 7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748" name="AutoShape 7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AutoShape 7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AutoShape 7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8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8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3" name="Group 8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754" name="AutoShape 8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AutoShape 8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8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8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8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Group 8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760" name="AutoShape 8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AutoShape 9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9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9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9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AutoShape 9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9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9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9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98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770" name="Group 99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771" name="AutoShape 100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101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utoShape 102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AutoShape 103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104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05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777" name="AutoShape 106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107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AutoShape 108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AutoShape 109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110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111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783" name="AutoShape 112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AutoShape 113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AutoShape 114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AutoShape 115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AutoShape 116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117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789" name="AutoShape 118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19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0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121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122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123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795" name="AutoShape 124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AutoShape 125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126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127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AutoShape 128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AutoShape 129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130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131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32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133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134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135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136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AutoShape 184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738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85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249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811" name="Freeform 187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f97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88"/>
            <p:cNvSpPr/>
            <p:nvPr/>
          </p:nvSpPr>
          <p:spPr>
            <a:xfrm>
              <a:off x="1838880" y="4165560"/>
              <a:ext cx="277560" cy="4096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89"/>
            <p:cNvSpPr/>
            <p:nvPr/>
          </p:nvSpPr>
          <p:spPr>
            <a:xfrm>
              <a:off x="1767960" y="4715640"/>
              <a:ext cx="41544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90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91"/>
            <p:cNvSpPr/>
            <p:nvPr/>
          </p:nvSpPr>
          <p:spPr>
            <a:xfrm>
              <a:off x="1248840" y="4978440"/>
              <a:ext cx="49968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92"/>
            <p:cNvSpPr/>
            <p:nvPr/>
          </p:nvSpPr>
          <p:spPr>
            <a:xfrm>
              <a:off x="2206800" y="4978440"/>
              <a:ext cx="49824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194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818" name="Freeform 195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96"/>
            <p:cNvSpPr/>
            <p:nvPr/>
          </p:nvSpPr>
          <p:spPr>
            <a:xfrm>
              <a:off x="1838520" y="4165560"/>
              <a:ext cx="277920" cy="409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97"/>
            <p:cNvSpPr/>
            <p:nvPr/>
          </p:nvSpPr>
          <p:spPr>
            <a:xfrm>
              <a:off x="1767960" y="4715640"/>
              <a:ext cx="41580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98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9"/>
            <p:cNvSpPr/>
            <p:nvPr/>
          </p:nvSpPr>
          <p:spPr>
            <a:xfrm>
              <a:off x="1248480" y="4978440"/>
              <a:ext cx="50004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0"/>
            <p:cNvSpPr/>
            <p:nvPr/>
          </p:nvSpPr>
          <p:spPr>
            <a:xfrm>
              <a:off x="2206800" y="4978440"/>
              <a:ext cx="49860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73"/>
          <p:cNvGrpSpPr/>
          <p:nvPr/>
        </p:nvGrpSpPr>
        <p:grpSpPr>
          <a:xfrm>
            <a:off x="1204920" y="1379520"/>
            <a:ext cx="1144080" cy="1873440"/>
            <a:chOff x="1204920" y="1379520"/>
            <a:chExt cx="1144080" cy="1873440"/>
          </a:xfrm>
        </p:grpSpPr>
        <p:grpSp>
          <p:nvGrpSpPr>
            <p:cNvPr id="825" name="Group 239"/>
            <p:cNvGrpSpPr/>
            <p:nvPr/>
          </p:nvGrpSpPr>
          <p:grpSpPr>
            <a:xfrm>
              <a:off x="1701720" y="1379520"/>
              <a:ext cx="148680" cy="1873440"/>
              <a:chOff x="1701720" y="1379520"/>
              <a:chExt cx="148680" cy="1873440"/>
            </a:xfrm>
          </p:grpSpPr>
          <p:sp>
            <p:nvSpPr>
              <p:cNvPr id="826" name="Rectangle 240"/>
              <p:cNvSpPr/>
              <p:nvPr/>
            </p:nvSpPr>
            <p:spPr>
              <a:xfrm>
                <a:off x="1701720" y="298548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241"/>
              <p:cNvSpPr/>
              <p:nvPr/>
            </p:nvSpPr>
            <p:spPr>
              <a:xfrm>
                <a:off x="1701720" y="271764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242"/>
              <p:cNvSpPr/>
              <p:nvPr/>
            </p:nvSpPr>
            <p:spPr>
              <a:xfrm>
                <a:off x="1701720" y="244980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243"/>
              <p:cNvSpPr/>
              <p:nvPr/>
            </p:nvSpPr>
            <p:spPr>
              <a:xfrm>
                <a:off x="1701720" y="218232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244"/>
              <p:cNvSpPr/>
              <p:nvPr/>
            </p:nvSpPr>
            <p:spPr>
              <a:xfrm>
                <a:off x="1701720" y="191484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245"/>
              <p:cNvSpPr/>
              <p:nvPr/>
            </p:nvSpPr>
            <p:spPr>
              <a:xfrm>
                <a:off x="1701720" y="164700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246"/>
              <p:cNvSpPr/>
              <p:nvPr/>
            </p:nvSpPr>
            <p:spPr>
              <a:xfrm>
                <a:off x="1701720" y="137952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Freeform 247"/>
            <p:cNvSpPr/>
            <p:nvPr/>
          </p:nvSpPr>
          <p:spPr>
            <a:xfrm>
              <a:off x="1852200" y="16495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1"/>
            <p:cNvSpPr/>
            <p:nvPr/>
          </p:nvSpPr>
          <p:spPr>
            <a:xfrm flipH="1">
              <a:off x="1204920" y="164808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Text Box 274"/>
          <p:cNvSpPr/>
          <p:nvPr/>
        </p:nvSpPr>
        <p:spPr>
          <a:xfrm>
            <a:off x="2870280" y="1257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i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75"/>
          <p:cNvSpPr/>
          <p:nvPr/>
        </p:nvSpPr>
        <p:spPr>
          <a:xfrm>
            <a:off x="1238400" y="329400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77"/>
          <p:cNvSpPr/>
          <p:nvPr/>
        </p:nvSpPr>
        <p:spPr>
          <a:xfrm>
            <a:off x="6108840" y="1643040"/>
            <a:ext cx="185760" cy="185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278"/>
          <p:cNvGrpSpPr/>
          <p:nvPr/>
        </p:nvGrpSpPr>
        <p:grpSpPr>
          <a:xfrm>
            <a:off x="5678640" y="3900600"/>
            <a:ext cx="2084400" cy="2065320"/>
            <a:chOff x="5678640" y="3900600"/>
            <a:chExt cx="2084400" cy="2065320"/>
          </a:xfrm>
        </p:grpSpPr>
        <p:sp>
          <p:nvSpPr>
            <p:cNvPr id="839" name="Freeform 279"/>
            <p:cNvSpPr/>
            <p:nvPr/>
          </p:nvSpPr>
          <p:spPr>
            <a:xfrm>
              <a:off x="6764400" y="3900600"/>
              <a:ext cx="982800" cy="9907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80"/>
            <p:cNvSpPr/>
            <p:nvPr/>
          </p:nvSpPr>
          <p:spPr>
            <a:xfrm>
              <a:off x="6815520" y="3957840"/>
              <a:ext cx="868320" cy="8683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1"/>
            <p:cNvSpPr/>
            <p:nvPr/>
          </p:nvSpPr>
          <p:spPr>
            <a:xfrm>
              <a:off x="6931440" y="4068720"/>
              <a:ext cx="630000" cy="63684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2"/>
            <p:cNvSpPr/>
            <p:nvPr/>
          </p:nvSpPr>
          <p:spPr>
            <a:xfrm>
              <a:off x="5678640" y="3922920"/>
              <a:ext cx="1005120" cy="9730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83"/>
            <p:cNvSpPr/>
            <p:nvPr/>
          </p:nvSpPr>
          <p:spPr>
            <a:xfrm>
              <a:off x="5742360" y="3981600"/>
              <a:ext cx="884160" cy="84924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4"/>
            <p:cNvSpPr/>
            <p:nvPr/>
          </p:nvSpPr>
          <p:spPr>
            <a:xfrm>
              <a:off x="5864400" y="409104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85"/>
            <p:cNvSpPr/>
            <p:nvPr/>
          </p:nvSpPr>
          <p:spPr>
            <a:xfrm>
              <a:off x="5700960" y="4965840"/>
              <a:ext cx="971640" cy="100008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86"/>
            <p:cNvSpPr/>
            <p:nvPr/>
          </p:nvSpPr>
          <p:spPr>
            <a:xfrm>
              <a:off x="5759640" y="5023080"/>
              <a:ext cx="847800" cy="8794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87"/>
            <p:cNvSpPr/>
            <p:nvPr/>
          </p:nvSpPr>
          <p:spPr>
            <a:xfrm>
              <a:off x="5869080" y="5132520"/>
              <a:ext cx="619200" cy="647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8"/>
            <p:cNvSpPr/>
            <p:nvPr/>
          </p:nvSpPr>
          <p:spPr>
            <a:xfrm>
              <a:off x="6764400" y="4965840"/>
              <a:ext cx="998640" cy="97164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89"/>
            <p:cNvSpPr/>
            <p:nvPr/>
          </p:nvSpPr>
          <p:spPr>
            <a:xfrm>
              <a:off x="6821640" y="5023080"/>
              <a:ext cx="884160" cy="85068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90"/>
            <p:cNvSpPr/>
            <p:nvPr/>
          </p:nvSpPr>
          <p:spPr>
            <a:xfrm>
              <a:off x="6950160" y="513252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292"/>
          <p:cNvGrpSpPr/>
          <p:nvPr/>
        </p:nvGrpSpPr>
        <p:grpSpPr>
          <a:xfrm>
            <a:off x="5645160" y="3851280"/>
            <a:ext cx="2166480" cy="2149200"/>
            <a:chOff x="5645160" y="3851280"/>
            <a:chExt cx="2166480" cy="2149200"/>
          </a:xfrm>
        </p:grpSpPr>
        <p:sp>
          <p:nvSpPr>
            <p:cNvPr id="852" name="Freeform 293"/>
            <p:cNvSpPr/>
            <p:nvPr/>
          </p:nvSpPr>
          <p:spPr>
            <a:xfrm>
              <a:off x="6773760" y="3851280"/>
              <a:ext cx="1020600" cy="102996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94"/>
            <p:cNvSpPr/>
            <p:nvPr/>
          </p:nvSpPr>
          <p:spPr>
            <a:xfrm>
              <a:off x="6827040" y="3910680"/>
              <a:ext cx="901440" cy="90324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95"/>
            <p:cNvSpPr/>
            <p:nvPr/>
          </p:nvSpPr>
          <p:spPr>
            <a:xfrm>
              <a:off x="6947640" y="4026240"/>
              <a:ext cx="654120" cy="66240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96"/>
            <p:cNvSpPr/>
            <p:nvPr/>
          </p:nvSpPr>
          <p:spPr>
            <a:xfrm>
              <a:off x="5645160" y="3874320"/>
              <a:ext cx="1044360" cy="10126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97"/>
            <p:cNvSpPr/>
            <p:nvPr/>
          </p:nvSpPr>
          <p:spPr>
            <a:xfrm>
              <a:off x="5711040" y="3935520"/>
              <a:ext cx="918720" cy="88452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98"/>
            <p:cNvSpPr/>
            <p:nvPr/>
          </p:nvSpPr>
          <p:spPr>
            <a:xfrm>
              <a:off x="5837760" y="40496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99"/>
            <p:cNvSpPr/>
            <p:nvPr/>
          </p:nvSpPr>
          <p:spPr>
            <a:xfrm>
              <a:off x="5668560" y="4959360"/>
              <a:ext cx="1009440" cy="104112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00"/>
            <p:cNvSpPr/>
            <p:nvPr/>
          </p:nvSpPr>
          <p:spPr>
            <a:xfrm>
              <a:off x="5729400" y="5019120"/>
              <a:ext cx="881640" cy="91584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01"/>
            <p:cNvSpPr/>
            <p:nvPr/>
          </p:nvSpPr>
          <p:spPr>
            <a:xfrm>
              <a:off x="5843880" y="5133240"/>
              <a:ext cx="641880" cy="674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02"/>
            <p:cNvSpPr/>
            <p:nvPr/>
          </p:nvSpPr>
          <p:spPr>
            <a:xfrm>
              <a:off x="6773760" y="4959360"/>
              <a:ext cx="1037880" cy="10116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03"/>
            <p:cNvSpPr/>
            <p:nvPr/>
          </p:nvSpPr>
          <p:spPr>
            <a:xfrm>
              <a:off x="6833160" y="5019120"/>
              <a:ext cx="919080" cy="88596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04"/>
            <p:cNvSpPr/>
            <p:nvPr/>
          </p:nvSpPr>
          <p:spPr>
            <a:xfrm>
              <a:off x="6966360" y="51332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403200" y="5478480"/>
            <a:ext cx="31752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ho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4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145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146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1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152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7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158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2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3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164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5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9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170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5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3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184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185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9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190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1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2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3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4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5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196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7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8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9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0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1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202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3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4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5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6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7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1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212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213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7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218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9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1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2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3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224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5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6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7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8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9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230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1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2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3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4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35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9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hombus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0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241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242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3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4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5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7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248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9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0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3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254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9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260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5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266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1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9" name="Text Box 143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homb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0" name="AutoShape 144"/>
          <p:cNvSpPr/>
          <p:nvPr/>
        </p:nvSpPr>
        <p:spPr>
          <a:xfrm>
            <a:off x="3009960" y="2681280"/>
            <a:ext cx="3343320" cy="2517840"/>
          </a:xfrm>
          <a:prstGeom prst="parallelogram">
            <a:avLst>
              <a:gd name="adj" fmla="val 3319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1" name="Group 148"/>
          <p:cNvGrpSpPr/>
          <p:nvPr/>
        </p:nvGrpSpPr>
        <p:grpSpPr>
          <a:xfrm>
            <a:off x="3009960" y="2681280"/>
            <a:ext cx="3343320" cy="2517840"/>
            <a:chOff x="3009960" y="2681280"/>
            <a:chExt cx="3343320" cy="2517840"/>
          </a:xfrm>
        </p:grpSpPr>
        <p:sp>
          <p:nvSpPr>
            <p:cNvPr id="6282" name="AutoShape 145"/>
            <p:cNvSpPr/>
            <p:nvPr/>
          </p:nvSpPr>
          <p:spPr>
            <a:xfrm>
              <a:off x="3009960" y="2681280"/>
              <a:ext cx="3343320" cy="2517840"/>
            </a:xfrm>
            <a:prstGeom prst="parallelogram">
              <a:avLst>
                <a:gd name="adj" fmla="val 33196"/>
              </a:avLst>
            </a:prstGeom>
            <a:solidFill>
              <a:srgbClr val="93fa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Oval 147"/>
            <p:cNvSpPr/>
            <p:nvPr/>
          </p:nvSpPr>
          <p:spPr>
            <a:xfrm>
              <a:off x="5816520" y="2746440"/>
              <a:ext cx="282600" cy="282600"/>
            </a:xfrm>
            <a:prstGeom prst="ellipse">
              <a:avLst/>
            </a:prstGeom>
            <a:solidFill>
              <a:srgbClr val="93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4" name="Oval 149"/>
          <p:cNvSpPr/>
          <p:nvPr/>
        </p:nvSpPr>
        <p:spPr>
          <a:xfrm>
            <a:off x="5808600" y="2766960"/>
            <a:ext cx="262080" cy="262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6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Text Box 2"/>
          <p:cNvSpPr/>
          <p:nvPr/>
        </p:nvSpPr>
        <p:spPr>
          <a:xfrm>
            <a:off x="6267600" y="126360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6" name="Text Box 3"/>
          <p:cNvSpPr/>
          <p:nvPr/>
        </p:nvSpPr>
        <p:spPr>
          <a:xfrm>
            <a:off x="2465280" y="50817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7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288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289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4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295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0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301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6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307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2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313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5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6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7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8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6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327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328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2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333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6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7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8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339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0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1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2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3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4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345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6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7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8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50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4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355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356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7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8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9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0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361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2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3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4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5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6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367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8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9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0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1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2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373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4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5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6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7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78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2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hombus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3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384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385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6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8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9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0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391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2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6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397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2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403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4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5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8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409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3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4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2" name="Text Box 139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homb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3" name="AutoShape 140"/>
          <p:cNvSpPr/>
          <p:nvPr/>
        </p:nvSpPr>
        <p:spPr>
          <a:xfrm>
            <a:off x="3009960" y="2681280"/>
            <a:ext cx="3343320" cy="2517840"/>
          </a:xfrm>
          <a:prstGeom prst="parallelogram">
            <a:avLst>
              <a:gd name="adj" fmla="val 3319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4" name="Text Box 141"/>
          <p:cNvSpPr/>
          <p:nvPr/>
        </p:nvSpPr>
        <p:spPr>
          <a:xfrm>
            <a:off x="6423120" y="2347920"/>
            <a:ext cx="42840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5" name="Group 146"/>
          <p:cNvGrpSpPr/>
          <p:nvPr/>
        </p:nvGrpSpPr>
        <p:grpSpPr>
          <a:xfrm>
            <a:off x="3009960" y="2681280"/>
            <a:ext cx="3343320" cy="2517840"/>
            <a:chOff x="3009960" y="2681280"/>
            <a:chExt cx="3343320" cy="2517840"/>
          </a:xfrm>
        </p:grpSpPr>
        <p:grpSp>
          <p:nvGrpSpPr>
            <p:cNvPr id="6426" name="Group 142"/>
            <p:cNvGrpSpPr/>
            <p:nvPr/>
          </p:nvGrpSpPr>
          <p:grpSpPr>
            <a:xfrm>
              <a:off x="3009960" y="2681280"/>
              <a:ext cx="3343320" cy="2517840"/>
              <a:chOff x="3009960" y="2681280"/>
              <a:chExt cx="3343320" cy="2517840"/>
            </a:xfrm>
          </p:grpSpPr>
          <p:sp>
            <p:nvSpPr>
              <p:cNvPr id="6427" name="AutoShape 143"/>
              <p:cNvSpPr/>
              <p:nvPr/>
            </p:nvSpPr>
            <p:spPr>
              <a:xfrm>
                <a:off x="3009960" y="2681280"/>
                <a:ext cx="3343320" cy="2517840"/>
              </a:xfrm>
              <a:prstGeom prst="parallelogram">
                <a:avLst>
                  <a:gd name="adj" fmla="val 33196"/>
                </a:avLst>
              </a:prstGeom>
              <a:solidFill>
                <a:srgbClr val="93fa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Oval 144"/>
              <p:cNvSpPr/>
              <p:nvPr/>
            </p:nvSpPr>
            <p:spPr>
              <a:xfrm>
                <a:off x="5816520" y="2746440"/>
                <a:ext cx="282600" cy="282600"/>
              </a:xfrm>
              <a:prstGeom prst="ellipse">
                <a:avLst/>
              </a:prstGeom>
              <a:solidFill>
                <a:srgbClr val="93f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9" name="Oval 145"/>
            <p:cNvSpPr/>
            <p:nvPr/>
          </p:nvSpPr>
          <p:spPr>
            <a:xfrm>
              <a:off x="5808600" y="2766960"/>
              <a:ext cx="262080" cy="262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61" dur="2000" fill="hold"/>
                                        <p:tgtEl>
                                          <p:spTgt spid="6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68" dur="2000" fill="hold"/>
                                        <p:tgtEl>
                                          <p:spTgt spid="6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6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6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0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1" name="Group 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432" name="Group 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433" name="AutoShape 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AutoShape 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AutoShape 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AutoShape 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AutoShape 1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8" name="Group 1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439" name="AutoShape 1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0" name="AutoShape 1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1" name="AutoShape 1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2" name="AutoShape 1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3" name="AutoShape 1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4" name="Group 1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445" name="AutoShape 1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AutoShape 1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AutoShape 2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AutoShape 2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AutoShape 2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0" name="Group 2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451" name="AutoShape 2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AutoShape 2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AutoShape 2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AutoShape 2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AutoShape 2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6" name="Group 2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457" name="AutoShape 3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AutoShape 3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AutoShape 3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AutoShape 3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AutoShape 3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2" name="AutoShape 3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AutoShape 3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AutoShape 3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AutoShape 3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AutoShape 3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AutoShape 4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AutoShape 4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AutoShape 4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0" name="Group 4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471" name="Group 4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472" name="AutoShape 4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AutoShape 4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AutoShape 4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AutoShape 4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76" name="Group 4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477" name="AutoShape 5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8" name="AutoShape 5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9" name="AutoShape 5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0" name="AutoShape 5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1" name="AutoShape 5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2" name="Group 5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483" name="AutoShape 5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AutoShape 5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5" name="AutoShape 5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6" name="AutoShape 5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7" name="AutoShape 6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8" name="Group 6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489" name="AutoShape 6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0" name="AutoShape 6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1" name="AutoShape 6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2" name="AutoShape 6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3" name="AutoShape 6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94" name="AutoShape 6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AutoShape 6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AutoShape 6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AutoShape 7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8" name="Group 7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499" name="Group 7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500" name="AutoShape 7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AutoShape 7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AutoShape 7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AutoShape 7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4" name="Group 7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505" name="AutoShape 7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6" name="AutoShape 7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AutoShape 8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8" name="AutoShape 8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9" name="AutoShape 8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0" name="Group 8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511" name="AutoShape 8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2" name="AutoShape 8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3" name="AutoShape 8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4" name="AutoShape 8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5" name="AutoShape 8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6" name="Group 8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517" name="AutoShape 9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8" name="AutoShape 9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AutoShape 9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AutoShape 9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1" name="AutoShape 9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2" name="AutoShape 9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AutoShape 9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AutoShape 9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AutoShape 9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6" name="Text Box 99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llips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7" name="Group 100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528" name="Group 101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529" name="AutoShape 102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AutoShape 103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AutoShape 104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AutoShape 105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AutoShape 106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4" name="Group 107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535" name="AutoShape 108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AutoShape 109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AutoShape 110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AutoShape 111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AutoShape 112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0" name="Group 113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541" name="AutoShape 114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AutoShape 115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AutoShape 116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AutoShape 117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AutoShape 118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6" name="Group 119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547" name="AutoShape 120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AutoShape 121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AutoShape 122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AutoShape 123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AutoShape 124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2" name="Group 125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553" name="AutoShape 126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AutoShape 127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AutoShape 128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AutoShape 129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AutoShape 130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8" name="AutoShape 131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AutoShape 132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AutoShape 133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AutoShape 134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AutoShape 135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AutoShape 136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AutoShape 137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AutoShape 138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6" name="Text Box 139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llip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Oval 147"/>
          <p:cNvSpPr/>
          <p:nvPr/>
        </p:nvSpPr>
        <p:spPr>
          <a:xfrm rot="10800000">
            <a:off x="2557080" y="2746080"/>
            <a:ext cx="4040280" cy="2001600"/>
          </a:xfrm>
          <a:prstGeom prst="ellipse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Oval 148"/>
          <p:cNvSpPr/>
          <p:nvPr/>
        </p:nvSpPr>
        <p:spPr>
          <a:xfrm rot="10800000">
            <a:off x="2557080" y="2746080"/>
            <a:ext cx="4040280" cy="2001600"/>
          </a:xfrm>
          <a:prstGeom prst="ellipse">
            <a:avLst/>
          </a:prstGeom>
          <a:solidFill>
            <a:srgbClr val="fcdaa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Oval 150"/>
          <p:cNvSpPr/>
          <p:nvPr/>
        </p:nvSpPr>
        <p:spPr>
          <a:xfrm>
            <a:off x="6180120" y="3554280"/>
            <a:ext cx="295200" cy="295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0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Text Box 3"/>
          <p:cNvSpPr/>
          <p:nvPr/>
        </p:nvSpPr>
        <p:spPr>
          <a:xfrm>
            <a:off x="5808600" y="129852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2" name="Text Box 4"/>
          <p:cNvSpPr/>
          <p:nvPr/>
        </p:nvSpPr>
        <p:spPr>
          <a:xfrm>
            <a:off x="2046240" y="3519360"/>
            <a:ext cx="42876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3" name="Group 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574" name="Group 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575" name="AutoShape 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AutoShape 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AutoShape 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AutoShape 1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AutoShape 1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0" name="Group 1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581" name="AutoShape 1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AutoShape 1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AutoShape 1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4" name="AutoShape 1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AutoShape 1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6" name="Group 1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587" name="AutoShape 1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AutoShape 2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9" name="AutoShape 2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AutoShape 2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AutoShape 2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2" name="Group 2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593" name="AutoShape 2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AutoShape 2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AutoShape 2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AutoShape 2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AutoShape 2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8" name="Group 3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599" name="AutoShape 3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AutoShape 3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AutoShape 3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AutoShape 3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AutoShape 3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4" name="AutoShape 3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AutoShape 3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AutoShape 3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AutoShape 3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AutoShape 4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AutoShape 4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AutoShape 4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AutoShape 4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2" name="Group 4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613" name="Group 4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614" name="AutoShape 4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AutoShape 4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AutoShape 4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AutoShape 4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8" name="Group 5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619" name="AutoShape 5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AutoShape 5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AutoShape 5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2" name="AutoShape 5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3" name="AutoShape 5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4" name="Group 5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625" name="AutoShape 5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AutoShape 5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7" name="AutoShape 5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8" name="AutoShape 6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AutoShape 6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0" name="Group 6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631" name="AutoShape 6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2" name="AutoShape 6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3" name="AutoShape 6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4" name="AutoShape 6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AutoShape 6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36" name="AutoShape 6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AutoShape 6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AutoShape 7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AutoShape 7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0" name="Group 7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641" name="Group 7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642" name="AutoShape 7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AutoShape 7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AutoShape 7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AutoShape 7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6" name="Group 7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647" name="AutoShape 7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8" name="AutoShape 8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9" name="AutoShape 8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0" name="AutoShape 8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1" name="AutoShape 8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2" name="Group 8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653" name="AutoShape 8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4" name="AutoShape 8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5" name="AutoShape 8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6" name="AutoShape 8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7" name="AutoShape 8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8" name="Group 9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659" name="AutoShape 9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0" name="AutoShape 9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1" name="AutoShape 9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2" name="AutoShape 9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3" name="AutoShape 9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64" name="AutoShape 9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AutoShape 9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AutoShape 9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AutoShape 9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8" name="Text Box 100"/>
          <p:cNvSpPr/>
          <p:nvPr/>
        </p:nvSpPr>
        <p:spPr>
          <a:xfrm>
            <a:off x="468360" y="1359000"/>
            <a:ext cx="70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llipse has rotational symmetry of order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9" name="Group 101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670" name="Group 102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671" name="AutoShape 103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AutoShape 104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AutoShape 105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AutoShape 106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AutoShape 107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6" name="Group 108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677" name="AutoShape 109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AutoShape 110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AutoShape 111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AutoShape 112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AutoShape 113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14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683" name="AutoShape 115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AutoShape 116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AutoShape 117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6" name="AutoShape 118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7" name="AutoShape 119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8" name="Group 120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689" name="AutoShape 121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AutoShape 122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1" name="AutoShape 123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2" name="AutoShape 124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AutoShape 125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4" name="Group 126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695" name="AutoShape 127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6" name="AutoShape 128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7" name="AutoShape 129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8" name="AutoShape 130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AutoShape 131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0" name="AutoShape 132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AutoShape 133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AutoShape 134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AutoShape 135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AutoShape 136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AutoShape 137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AutoShape 138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AutoShape 139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8" name="Text Box 140"/>
          <p:cNvSpPr/>
          <p:nvPr/>
        </p:nvSpPr>
        <p:spPr>
          <a:xfrm>
            <a:off x="3421080" y="565200"/>
            <a:ext cx="25210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llip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9" name="Text Box 141"/>
          <p:cNvSpPr/>
          <p:nvPr/>
        </p:nvSpPr>
        <p:spPr>
          <a:xfrm>
            <a:off x="6737400" y="3506760"/>
            <a:ext cx="428400" cy="398880"/>
          </a:xfrm>
          <a:prstGeom prst="rect">
            <a:avLst/>
          </a:prstGeom>
          <a:solidFill>
            <a:srgbClr val="93b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0" name="Oval 142"/>
          <p:cNvSpPr/>
          <p:nvPr/>
        </p:nvSpPr>
        <p:spPr>
          <a:xfrm rot="10800000">
            <a:off x="2557080" y="2746080"/>
            <a:ext cx="4040280" cy="2001600"/>
          </a:xfrm>
          <a:prstGeom prst="ellipse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1" name="Group 143"/>
          <p:cNvGrpSpPr/>
          <p:nvPr/>
        </p:nvGrpSpPr>
        <p:grpSpPr>
          <a:xfrm>
            <a:off x="2557080" y="2746440"/>
            <a:ext cx="4040280" cy="2001600"/>
            <a:chOff x="2557080" y="2746440"/>
            <a:chExt cx="4040280" cy="2001600"/>
          </a:xfrm>
        </p:grpSpPr>
        <p:sp>
          <p:nvSpPr>
            <p:cNvPr id="6712" name="Oval 144"/>
            <p:cNvSpPr/>
            <p:nvPr/>
          </p:nvSpPr>
          <p:spPr>
            <a:xfrm rot="10800000">
              <a:off x="2557080" y="2746080"/>
              <a:ext cx="4040280" cy="2001600"/>
            </a:xfrm>
            <a:prstGeom prst="ellipse">
              <a:avLst/>
            </a:prstGeom>
            <a:solidFill>
              <a:srgbClr val="fcdaa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Oval 145"/>
            <p:cNvSpPr/>
            <p:nvPr/>
          </p:nvSpPr>
          <p:spPr>
            <a:xfrm>
              <a:off x="6180120" y="3554280"/>
              <a:ext cx="295200" cy="295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89" dur="2000" fill="hold"/>
                                        <p:tgtEl>
                                          <p:spTgt spid="6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6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96" dur="2000" fill="hold"/>
                                        <p:tgtEl>
                                          <p:spTgt spid="6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6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4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Question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5" name="Group 5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6716" name="Group 6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6717" name="AutoShape 7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8" name="AutoShape 8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9" name="AutoShape 9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AutoShape 10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AutoShape 11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2" name="Group 12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6723" name="AutoShape 13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4" name="AutoShape 14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5" name="AutoShape 15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AutoShape 16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7" name="AutoShape 17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8" name="Group 18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6729" name="AutoShape 19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0" name="AutoShape 20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1" name="AutoShape 21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2" name="AutoShape 22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3" name="AutoShape 23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4" name="Group 24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6735" name="AutoShape 25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6" name="AutoShape 26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7" name="AutoShape 27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8" name="AutoShape 28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9" name="AutoShape 29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0" name="Group 30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6741" name="AutoShape 31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2" name="AutoShape 32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3" name="AutoShape 33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4" name="AutoShape 34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5" name="AutoShape 35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6" name="AutoShape 36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AutoShape 37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AutoShape 38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AutoShape 39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AutoShape 40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AutoShape 41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AutoShape 42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AutoShape 43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4" name="Group 44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6755" name="Group 45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6756" name="AutoShape 46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7" name="AutoShape 47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8" name="AutoShape 48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AutoShape 49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60" name="Group 50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6761" name="AutoShape 51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2" name="AutoShape 52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AutoShape 53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AutoShape 54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AutoShape 55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6" name="Group 56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6767" name="AutoShape 57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8" name="AutoShape 58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9" name="AutoShape 59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0" name="AutoShape 60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1" name="AutoShape 61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2" name="Group 62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6773" name="AutoShape 63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4" name="AutoShape 64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AutoShape 65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6" name="AutoShape 66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7" name="AutoShape 67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8" name="AutoShape 68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AutoShape 69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AutoShape 70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AutoShape 71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2" name="Group 72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6783" name="Group 73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6784" name="AutoShape 74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5" name="AutoShape 75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6" name="AutoShape 76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7" name="AutoShape 77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8" name="Group 78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6789" name="AutoShape 79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AutoShape 80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AutoShape 81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AutoShape 82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AutoShape 83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4" name="Group 84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6795" name="AutoShape 85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6" name="AutoShape 86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7" name="AutoShape 87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AutoShape 88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AutoShape 89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0" name="Group 90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6801" name="AutoShape 91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2" name="AutoShape 92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3" name="AutoShape 93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4" name="AutoShape 94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5" name="AutoShape 95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06" name="AutoShape 96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AutoShape 97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AutoShape 98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AutoShape 99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0" name="Group 101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6811" name="Group 102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6812" name="AutoShape 103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3" name="AutoShape 104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4" name="AutoShape 105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5" name="AutoShape 106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6" name="AutoShape 107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7" name="Group 108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6818" name="AutoShape 109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9" name="AutoShape 110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0" name="AutoShape 111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1" name="AutoShape 112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2" name="AutoShape 113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3" name="Group 114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6824" name="AutoShape 115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5" name="AutoShape 116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6" name="AutoShape 117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7" name="AutoShape 118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8" name="AutoShape 119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9" name="Group 120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6830" name="AutoShape 121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1" name="AutoShape 122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2" name="AutoShape 123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3" name="AutoShape 124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4" name="AutoShape 125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5" name="Group 126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6836" name="AutoShape 127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7" name="AutoShape 128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8" name="AutoShape 129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9" name="AutoShape 130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0" name="AutoShape 131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1" name="AutoShape 132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AutoShape 133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AutoShape 134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AutoShape 135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AutoShape 136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AutoShape 137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AutoShape 138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AutoShape 139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9" name="Text Box 146"/>
          <p:cNvSpPr/>
          <p:nvPr/>
        </p:nvSpPr>
        <p:spPr>
          <a:xfrm>
            <a:off x="2228760" y="46836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Text Box 147"/>
          <p:cNvSpPr/>
          <p:nvPr/>
        </p:nvSpPr>
        <p:spPr>
          <a:xfrm>
            <a:off x="685800" y="106668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04d8"/>
                </a:solidFill>
                <a:latin typeface="Arial"/>
              </a:rPr>
              <a:t>State the order of rotational symmetry for each shape belo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Freeform 149"/>
          <p:cNvSpPr/>
          <p:nvPr/>
        </p:nvSpPr>
        <p:spPr>
          <a:xfrm>
            <a:off x="857160" y="1554120"/>
            <a:ext cx="1187640" cy="1389240"/>
          </a:xfrm>
          <a:custGeom>
            <a:avLst/>
            <a:gdLst/>
            <a:ahLst/>
            <a:rect l="l" t="t" r="r" b="b"/>
            <a:pathLst>
              <a:path w="2327" h="2724">
                <a:moveTo>
                  <a:pt x="772" y="2043"/>
                </a:moveTo>
                <a:lnTo>
                  <a:pt x="1166" y="2724"/>
                </a:lnTo>
                <a:lnTo>
                  <a:pt x="1555" y="2043"/>
                </a:lnTo>
                <a:lnTo>
                  <a:pt x="2327" y="2043"/>
                </a:lnTo>
                <a:lnTo>
                  <a:pt x="2322" y="2033"/>
                </a:lnTo>
                <a:lnTo>
                  <a:pt x="1425" y="2033"/>
                </a:lnTo>
                <a:lnTo>
                  <a:pt x="1171" y="2475"/>
                </a:lnTo>
                <a:lnTo>
                  <a:pt x="916" y="2033"/>
                </a:lnTo>
                <a:lnTo>
                  <a:pt x="1425" y="2033"/>
                </a:lnTo>
                <a:lnTo>
                  <a:pt x="2322" y="2033"/>
                </a:lnTo>
                <a:lnTo>
                  <a:pt x="2015" y="1487"/>
                </a:lnTo>
                <a:lnTo>
                  <a:pt x="1886" y="1487"/>
                </a:lnTo>
                <a:lnTo>
                  <a:pt x="2145" y="1928"/>
                </a:lnTo>
                <a:lnTo>
                  <a:pt x="1636" y="1928"/>
                </a:lnTo>
                <a:lnTo>
                  <a:pt x="1886" y="1487"/>
                </a:lnTo>
                <a:lnTo>
                  <a:pt x="2015" y="1487"/>
                </a:lnTo>
                <a:lnTo>
                  <a:pt x="1943" y="1362"/>
                </a:lnTo>
                <a:lnTo>
                  <a:pt x="2265" y="791"/>
                </a:lnTo>
                <a:lnTo>
                  <a:pt x="2130" y="791"/>
                </a:lnTo>
                <a:lnTo>
                  <a:pt x="1881" y="1232"/>
                </a:lnTo>
                <a:lnTo>
                  <a:pt x="1631" y="801"/>
                </a:lnTo>
                <a:lnTo>
                  <a:pt x="1497" y="801"/>
                </a:lnTo>
                <a:lnTo>
                  <a:pt x="1818" y="1357"/>
                </a:lnTo>
                <a:lnTo>
                  <a:pt x="1497" y="1918"/>
                </a:lnTo>
                <a:lnTo>
                  <a:pt x="849" y="1918"/>
                </a:lnTo>
                <a:lnTo>
                  <a:pt x="600" y="1482"/>
                </a:lnTo>
                <a:lnTo>
                  <a:pt x="465" y="1482"/>
                </a:lnTo>
                <a:lnTo>
                  <a:pt x="725" y="1923"/>
                </a:lnTo>
                <a:lnTo>
                  <a:pt x="216" y="1923"/>
                </a:lnTo>
                <a:lnTo>
                  <a:pt x="465" y="1482"/>
                </a:lnTo>
                <a:lnTo>
                  <a:pt x="600" y="1482"/>
                </a:lnTo>
                <a:lnTo>
                  <a:pt x="528" y="1357"/>
                </a:lnTo>
                <a:lnTo>
                  <a:pt x="849" y="801"/>
                </a:lnTo>
                <a:lnTo>
                  <a:pt x="1497" y="801"/>
                </a:lnTo>
                <a:lnTo>
                  <a:pt x="1631" y="801"/>
                </a:lnTo>
                <a:lnTo>
                  <a:pt x="1622" y="791"/>
                </a:lnTo>
                <a:lnTo>
                  <a:pt x="2130" y="791"/>
                </a:lnTo>
                <a:lnTo>
                  <a:pt x="2265" y="791"/>
                </a:lnTo>
                <a:lnTo>
                  <a:pt x="2274" y="777"/>
                </a:lnTo>
                <a:lnTo>
                  <a:pt x="710" y="777"/>
                </a:lnTo>
                <a:lnTo>
                  <a:pt x="461" y="1218"/>
                </a:lnTo>
                <a:lnTo>
                  <a:pt x="202" y="777"/>
                </a:lnTo>
                <a:lnTo>
                  <a:pt x="710" y="777"/>
                </a:lnTo>
                <a:lnTo>
                  <a:pt x="2274" y="777"/>
                </a:lnTo>
                <a:lnTo>
                  <a:pt x="2327" y="681"/>
                </a:lnTo>
                <a:lnTo>
                  <a:pt x="1555" y="681"/>
                </a:lnTo>
                <a:lnTo>
                  <a:pt x="1300" y="235"/>
                </a:lnTo>
                <a:lnTo>
                  <a:pt x="1166" y="235"/>
                </a:lnTo>
                <a:lnTo>
                  <a:pt x="1415" y="676"/>
                </a:lnTo>
                <a:lnTo>
                  <a:pt x="912" y="676"/>
                </a:lnTo>
                <a:lnTo>
                  <a:pt x="1166" y="235"/>
                </a:lnTo>
                <a:lnTo>
                  <a:pt x="1300" y="235"/>
                </a:lnTo>
                <a:lnTo>
                  <a:pt x="1171" y="0"/>
                </a:lnTo>
                <a:lnTo>
                  <a:pt x="777" y="681"/>
                </a:lnTo>
                <a:lnTo>
                  <a:pt x="0" y="681"/>
                </a:lnTo>
                <a:lnTo>
                  <a:pt x="384" y="1357"/>
                </a:lnTo>
                <a:lnTo>
                  <a:pt x="0" y="2043"/>
                </a:lnTo>
                <a:lnTo>
                  <a:pt x="772" y="2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2" name="Group 150"/>
          <p:cNvGrpSpPr/>
          <p:nvPr/>
        </p:nvGrpSpPr>
        <p:grpSpPr>
          <a:xfrm>
            <a:off x="2531880" y="1630440"/>
            <a:ext cx="1258560" cy="1258560"/>
            <a:chOff x="2531880" y="1630440"/>
            <a:chExt cx="1258560" cy="1258560"/>
          </a:xfrm>
        </p:grpSpPr>
        <p:grpSp>
          <p:nvGrpSpPr>
            <p:cNvPr id="6853" name="Group 151"/>
            <p:cNvGrpSpPr/>
            <p:nvPr/>
          </p:nvGrpSpPr>
          <p:grpSpPr>
            <a:xfrm>
              <a:off x="2531880" y="1631160"/>
              <a:ext cx="1257840" cy="1257840"/>
              <a:chOff x="2531880" y="1631160"/>
              <a:chExt cx="1257840" cy="1257840"/>
            </a:xfrm>
          </p:grpSpPr>
          <p:sp>
            <p:nvSpPr>
              <p:cNvPr id="6854" name="Freeform 152"/>
              <p:cNvSpPr/>
              <p:nvPr/>
            </p:nvSpPr>
            <p:spPr>
              <a:xfrm rot="5400000">
                <a:off x="3160800" y="2260080"/>
                <a:ext cx="629640" cy="628200"/>
              </a:xfrm>
              <a:custGeom>
                <a:avLst/>
                <a:gdLst/>
                <a:ahLst/>
                <a:rect l="l" t="t" r="r" b="b"/>
                <a:pathLst>
                  <a:path w="804" h="803">
                    <a:moveTo>
                      <a:pt x="804" y="803"/>
                    </a:moveTo>
                    <a:lnTo>
                      <a:pt x="790" y="641"/>
                    </a:lnTo>
                    <a:lnTo>
                      <a:pt x="740" y="493"/>
                    </a:lnTo>
                    <a:lnTo>
                      <a:pt x="670" y="352"/>
                    </a:lnTo>
                    <a:lnTo>
                      <a:pt x="571" y="233"/>
                    </a:lnTo>
                    <a:lnTo>
                      <a:pt x="452" y="134"/>
                    </a:lnTo>
                    <a:lnTo>
                      <a:pt x="311" y="63"/>
                    </a:lnTo>
                    <a:lnTo>
                      <a:pt x="163" y="14"/>
                    </a:lnTo>
                    <a:lnTo>
                      <a:pt x="0" y="0"/>
                    </a:lnTo>
                    <a:lnTo>
                      <a:pt x="0" y="803"/>
                    </a:lnTo>
                    <a:lnTo>
                      <a:pt x="804" y="8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5" name="Freeform 153"/>
              <p:cNvSpPr/>
              <p:nvPr/>
            </p:nvSpPr>
            <p:spPr>
              <a:xfrm rot="5400000">
                <a:off x="2531880" y="2259360"/>
                <a:ext cx="629640" cy="629640"/>
              </a:xfrm>
              <a:custGeom>
                <a:avLst/>
                <a:gdLst/>
                <a:ahLst/>
                <a:rect l="l" t="t" r="r" b="b"/>
                <a:pathLst>
                  <a:path w="804" h="804">
                    <a:moveTo>
                      <a:pt x="0" y="804"/>
                    </a:moveTo>
                    <a:lnTo>
                      <a:pt x="163" y="790"/>
                    </a:lnTo>
                    <a:lnTo>
                      <a:pt x="311" y="740"/>
                    </a:lnTo>
                    <a:lnTo>
                      <a:pt x="452" y="670"/>
                    </a:lnTo>
                    <a:lnTo>
                      <a:pt x="571" y="571"/>
                    </a:lnTo>
                    <a:lnTo>
                      <a:pt x="670" y="452"/>
                    </a:lnTo>
                    <a:lnTo>
                      <a:pt x="740" y="311"/>
                    </a:lnTo>
                    <a:lnTo>
                      <a:pt x="790" y="163"/>
                    </a:lnTo>
                    <a:lnTo>
                      <a:pt x="804" y="0"/>
                    </a:lnTo>
                    <a:lnTo>
                      <a:pt x="0" y="0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6" name="Freeform 154"/>
              <p:cNvSpPr/>
              <p:nvPr/>
            </p:nvSpPr>
            <p:spPr>
              <a:xfrm rot="5400000">
                <a:off x="2532600" y="1630440"/>
                <a:ext cx="628200" cy="629640"/>
              </a:xfrm>
              <a:custGeom>
                <a:avLst/>
                <a:gdLst/>
                <a:ahLst/>
                <a:rect l="l" t="t" r="r" b="b"/>
                <a:pathLst>
                  <a:path w="803" h="804">
                    <a:moveTo>
                      <a:pt x="0" y="0"/>
                    </a:moveTo>
                    <a:lnTo>
                      <a:pt x="14" y="163"/>
                    </a:lnTo>
                    <a:lnTo>
                      <a:pt x="63" y="311"/>
                    </a:lnTo>
                    <a:lnTo>
                      <a:pt x="134" y="452"/>
                    </a:lnTo>
                    <a:lnTo>
                      <a:pt x="233" y="571"/>
                    </a:lnTo>
                    <a:lnTo>
                      <a:pt x="352" y="670"/>
                    </a:lnTo>
                    <a:lnTo>
                      <a:pt x="493" y="740"/>
                    </a:lnTo>
                    <a:lnTo>
                      <a:pt x="641" y="790"/>
                    </a:lnTo>
                    <a:lnTo>
                      <a:pt x="803" y="804"/>
                    </a:lnTo>
                    <a:lnTo>
                      <a:pt x="80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7" name="Freeform 155"/>
              <p:cNvSpPr/>
              <p:nvPr/>
            </p:nvSpPr>
            <p:spPr>
              <a:xfrm rot="5400000">
                <a:off x="3161520" y="1631160"/>
                <a:ext cx="628200" cy="628200"/>
              </a:xfrm>
              <a:custGeom>
                <a:avLst/>
                <a:gdLst/>
                <a:ahLst/>
                <a:rect l="l" t="t" r="r" b="b"/>
                <a:pathLst>
                  <a:path w="803" h="803">
                    <a:moveTo>
                      <a:pt x="803" y="0"/>
                    </a:moveTo>
                    <a:lnTo>
                      <a:pt x="641" y="14"/>
                    </a:lnTo>
                    <a:lnTo>
                      <a:pt x="493" y="63"/>
                    </a:lnTo>
                    <a:lnTo>
                      <a:pt x="352" y="134"/>
                    </a:lnTo>
                    <a:lnTo>
                      <a:pt x="233" y="233"/>
                    </a:lnTo>
                    <a:lnTo>
                      <a:pt x="134" y="352"/>
                    </a:lnTo>
                    <a:lnTo>
                      <a:pt x="63" y="493"/>
                    </a:lnTo>
                    <a:lnTo>
                      <a:pt x="14" y="641"/>
                    </a:lnTo>
                    <a:lnTo>
                      <a:pt x="0" y="803"/>
                    </a:lnTo>
                    <a:lnTo>
                      <a:pt x="803" y="803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8" name="Group 156"/>
            <p:cNvGrpSpPr/>
            <p:nvPr/>
          </p:nvGrpSpPr>
          <p:grpSpPr>
            <a:xfrm>
              <a:off x="2532600" y="1630440"/>
              <a:ext cx="1257840" cy="1257840"/>
              <a:chOff x="2532600" y="1630440"/>
              <a:chExt cx="1257840" cy="1257840"/>
            </a:xfrm>
          </p:grpSpPr>
          <p:sp>
            <p:nvSpPr>
              <p:cNvPr id="6859" name="Freeform 157"/>
              <p:cNvSpPr/>
              <p:nvPr/>
            </p:nvSpPr>
            <p:spPr>
              <a:xfrm rot="5400000">
                <a:off x="3161520" y="2259360"/>
                <a:ext cx="629280" cy="628560"/>
              </a:xfrm>
              <a:custGeom>
                <a:avLst/>
                <a:gdLst/>
                <a:ahLst/>
                <a:rect l="l" t="t" r="r" b="b"/>
                <a:pathLst>
                  <a:path w="804" h="803">
                    <a:moveTo>
                      <a:pt x="804" y="803"/>
                    </a:moveTo>
                    <a:lnTo>
                      <a:pt x="790" y="641"/>
                    </a:lnTo>
                    <a:lnTo>
                      <a:pt x="740" y="493"/>
                    </a:lnTo>
                    <a:lnTo>
                      <a:pt x="670" y="352"/>
                    </a:lnTo>
                    <a:lnTo>
                      <a:pt x="571" y="233"/>
                    </a:lnTo>
                    <a:lnTo>
                      <a:pt x="452" y="134"/>
                    </a:lnTo>
                    <a:lnTo>
                      <a:pt x="311" y="63"/>
                    </a:lnTo>
                    <a:lnTo>
                      <a:pt x="163" y="14"/>
                    </a:lnTo>
                    <a:lnTo>
                      <a:pt x="0" y="0"/>
                    </a:lnTo>
                    <a:lnTo>
                      <a:pt x="0" y="803"/>
                    </a:lnTo>
                    <a:lnTo>
                      <a:pt x="804" y="80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0" name="Freeform 158"/>
              <p:cNvSpPr/>
              <p:nvPr/>
            </p:nvSpPr>
            <p:spPr>
              <a:xfrm rot="5400000">
                <a:off x="2532600" y="2259000"/>
                <a:ext cx="629280" cy="629280"/>
              </a:xfrm>
              <a:custGeom>
                <a:avLst/>
                <a:gdLst/>
                <a:ahLst/>
                <a:rect l="l" t="t" r="r" b="b"/>
                <a:pathLst>
                  <a:path w="804" h="804">
                    <a:moveTo>
                      <a:pt x="0" y="804"/>
                    </a:moveTo>
                    <a:lnTo>
                      <a:pt x="163" y="790"/>
                    </a:lnTo>
                    <a:lnTo>
                      <a:pt x="311" y="740"/>
                    </a:lnTo>
                    <a:lnTo>
                      <a:pt x="452" y="670"/>
                    </a:lnTo>
                    <a:lnTo>
                      <a:pt x="571" y="571"/>
                    </a:lnTo>
                    <a:lnTo>
                      <a:pt x="670" y="452"/>
                    </a:lnTo>
                    <a:lnTo>
                      <a:pt x="740" y="311"/>
                    </a:lnTo>
                    <a:lnTo>
                      <a:pt x="790" y="163"/>
                    </a:lnTo>
                    <a:lnTo>
                      <a:pt x="804" y="0"/>
                    </a:lnTo>
                    <a:lnTo>
                      <a:pt x="0" y="0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1" name="Freeform 159"/>
              <p:cNvSpPr/>
              <p:nvPr/>
            </p:nvSpPr>
            <p:spPr>
              <a:xfrm rot="5400000">
                <a:off x="2532960" y="1630080"/>
                <a:ext cx="628560" cy="629280"/>
              </a:xfrm>
              <a:custGeom>
                <a:avLst/>
                <a:gdLst/>
                <a:ahLst/>
                <a:rect l="l" t="t" r="r" b="b"/>
                <a:pathLst>
                  <a:path w="803" h="804">
                    <a:moveTo>
                      <a:pt x="0" y="0"/>
                    </a:moveTo>
                    <a:lnTo>
                      <a:pt x="14" y="163"/>
                    </a:lnTo>
                    <a:lnTo>
                      <a:pt x="63" y="311"/>
                    </a:lnTo>
                    <a:lnTo>
                      <a:pt x="134" y="452"/>
                    </a:lnTo>
                    <a:lnTo>
                      <a:pt x="233" y="571"/>
                    </a:lnTo>
                    <a:lnTo>
                      <a:pt x="352" y="670"/>
                    </a:lnTo>
                    <a:lnTo>
                      <a:pt x="493" y="740"/>
                    </a:lnTo>
                    <a:lnTo>
                      <a:pt x="641" y="790"/>
                    </a:lnTo>
                    <a:lnTo>
                      <a:pt x="803" y="804"/>
                    </a:lnTo>
                    <a:lnTo>
                      <a:pt x="80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2" name="Freeform 160"/>
              <p:cNvSpPr/>
              <p:nvPr/>
            </p:nvSpPr>
            <p:spPr>
              <a:xfrm rot="5400000">
                <a:off x="3161880" y="1630440"/>
                <a:ext cx="628560" cy="628560"/>
              </a:xfrm>
              <a:custGeom>
                <a:avLst/>
                <a:gdLst/>
                <a:ahLst/>
                <a:rect l="l" t="t" r="r" b="b"/>
                <a:pathLst>
                  <a:path w="803" h="803">
                    <a:moveTo>
                      <a:pt x="803" y="0"/>
                    </a:moveTo>
                    <a:lnTo>
                      <a:pt x="641" y="14"/>
                    </a:lnTo>
                    <a:lnTo>
                      <a:pt x="493" y="63"/>
                    </a:lnTo>
                    <a:lnTo>
                      <a:pt x="352" y="134"/>
                    </a:lnTo>
                    <a:lnTo>
                      <a:pt x="233" y="233"/>
                    </a:lnTo>
                    <a:lnTo>
                      <a:pt x="134" y="352"/>
                    </a:lnTo>
                    <a:lnTo>
                      <a:pt x="63" y="493"/>
                    </a:lnTo>
                    <a:lnTo>
                      <a:pt x="14" y="641"/>
                    </a:lnTo>
                    <a:lnTo>
                      <a:pt x="0" y="803"/>
                    </a:lnTo>
                    <a:lnTo>
                      <a:pt x="803" y="803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63" name="Group 161"/>
          <p:cNvGrpSpPr/>
          <p:nvPr/>
        </p:nvGrpSpPr>
        <p:grpSpPr>
          <a:xfrm>
            <a:off x="963720" y="3360600"/>
            <a:ext cx="1220760" cy="1220760"/>
            <a:chOff x="963720" y="3360600"/>
            <a:chExt cx="1220760" cy="1220760"/>
          </a:xfrm>
        </p:grpSpPr>
        <p:grpSp>
          <p:nvGrpSpPr>
            <p:cNvPr id="6864" name="Group 162"/>
            <p:cNvGrpSpPr/>
            <p:nvPr/>
          </p:nvGrpSpPr>
          <p:grpSpPr>
            <a:xfrm>
              <a:off x="963720" y="3360600"/>
              <a:ext cx="1220760" cy="1220760"/>
              <a:chOff x="963720" y="3360600"/>
              <a:chExt cx="1220760" cy="1220760"/>
            </a:xfrm>
          </p:grpSpPr>
          <p:sp>
            <p:nvSpPr>
              <p:cNvPr id="6865" name="Oval 163"/>
              <p:cNvSpPr/>
              <p:nvPr/>
            </p:nvSpPr>
            <p:spPr>
              <a:xfrm>
                <a:off x="963720" y="3360600"/>
                <a:ext cx="1220760" cy="1220760"/>
              </a:xfrm>
              <a:prstGeom prst="ellipse">
                <a:avLst/>
              </a:prstGeom>
              <a:noFill/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6" name="Line 164"/>
              <p:cNvSpPr/>
              <p:nvPr/>
            </p:nvSpPr>
            <p:spPr>
              <a:xfrm>
                <a:off x="1143720" y="3532320"/>
                <a:ext cx="851040" cy="864000"/>
              </a:xfrm>
              <a:prstGeom prst="line">
                <a:avLst/>
              </a:prstGeom>
              <a:ln w="7632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7" name="Group 165"/>
            <p:cNvGrpSpPr/>
            <p:nvPr/>
          </p:nvGrpSpPr>
          <p:grpSpPr>
            <a:xfrm>
              <a:off x="963720" y="3360600"/>
              <a:ext cx="1220760" cy="1220760"/>
              <a:chOff x="963720" y="3360600"/>
              <a:chExt cx="1220760" cy="1220760"/>
            </a:xfrm>
          </p:grpSpPr>
          <p:sp>
            <p:nvSpPr>
              <p:cNvPr id="6868" name="Oval 166"/>
              <p:cNvSpPr/>
              <p:nvPr/>
            </p:nvSpPr>
            <p:spPr>
              <a:xfrm>
                <a:off x="963720" y="3360600"/>
                <a:ext cx="1220760" cy="122076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9" name="Line 167"/>
              <p:cNvSpPr/>
              <p:nvPr/>
            </p:nvSpPr>
            <p:spPr>
              <a:xfrm>
                <a:off x="1143720" y="3532320"/>
                <a:ext cx="851040" cy="864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70" name="Group 198"/>
          <p:cNvGrpSpPr/>
          <p:nvPr/>
        </p:nvGrpSpPr>
        <p:grpSpPr>
          <a:xfrm>
            <a:off x="6481800" y="1893960"/>
            <a:ext cx="1780560" cy="957240"/>
            <a:chOff x="6481800" y="1893960"/>
            <a:chExt cx="1780560" cy="957240"/>
          </a:xfrm>
        </p:grpSpPr>
        <p:grpSp>
          <p:nvGrpSpPr>
            <p:cNvPr id="6871" name="Group 168"/>
            <p:cNvGrpSpPr/>
            <p:nvPr/>
          </p:nvGrpSpPr>
          <p:grpSpPr>
            <a:xfrm>
              <a:off x="6481800" y="1893960"/>
              <a:ext cx="1779120" cy="954000"/>
              <a:chOff x="6481800" y="1893960"/>
              <a:chExt cx="1779120" cy="954000"/>
            </a:xfrm>
          </p:grpSpPr>
          <p:grpSp>
            <p:nvGrpSpPr>
              <p:cNvPr id="6872" name="Group 169"/>
              <p:cNvGrpSpPr/>
              <p:nvPr/>
            </p:nvGrpSpPr>
            <p:grpSpPr>
              <a:xfrm>
                <a:off x="6481800" y="1893960"/>
                <a:ext cx="1779120" cy="954000"/>
                <a:chOff x="6481800" y="1893960"/>
                <a:chExt cx="1779120" cy="954000"/>
              </a:xfrm>
            </p:grpSpPr>
            <p:sp>
              <p:nvSpPr>
                <p:cNvPr id="6873" name="Freeform 170"/>
                <p:cNvSpPr/>
                <p:nvPr/>
              </p:nvSpPr>
              <p:spPr>
                <a:xfrm>
                  <a:off x="6481800" y="1897560"/>
                  <a:ext cx="888120" cy="95040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4" name="Freeform 171"/>
                <p:cNvSpPr/>
                <p:nvPr/>
              </p:nvSpPr>
              <p:spPr>
                <a:xfrm flipH="1">
                  <a:off x="7372440" y="1893960"/>
                  <a:ext cx="888120" cy="95040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5" name="Oval 172"/>
              <p:cNvSpPr/>
              <p:nvPr/>
            </p:nvSpPr>
            <p:spPr>
              <a:xfrm>
                <a:off x="7203600" y="2216880"/>
                <a:ext cx="329760" cy="32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76" name="Group 173"/>
              <p:cNvGrpSpPr/>
              <p:nvPr/>
            </p:nvGrpSpPr>
            <p:grpSpPr>
              <a:xfrm>
                <a:off x="7533360" y="2295000"/>
                <a:ext cx="721440" cy="171360"/>
                <a:chOff x="7533360" y="2295000"/>
                <a:chExt cx="721440" cy="171360"/>
              </a:xfrm>
            </p:grpSpPr>
            <p:sp>
              <p:nvSpPr>
                <p:cNvPr id="6877" name="Rectangle 174"/>
                <p:cNvSpPr/>
                <p:nvPr/>
              </p:nvSpPr>
              <p:spPr>
                <a:xfrm>
                  <a:off x="753336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8" name="Rectangle 175"/>
                <p:cNvSpPr/>
                <p:nvPr/>
              </p:nvSpPr>
              <p:spPr>
                <a:xfrm>
                  <a:off x="771912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9" name="Rectangle 176"/>
                <p:cNvSpPr/>
                <p:nvPr/>
              </p:nvSpPr>
              <p:spPr>
                <a:xfrm>
                  <a:off x="789408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177"/>
                <p:cNvSpPr/>
                <p:nvPr/>
              </p:nvSpPr>
              <p:spPr>
                <a:xfrm>
                  <a:off x="808020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1" name="Group 178"/>
              <p:cNvGrpSpPr/>
              <p:nvPr/>
            </p:nvGrpSpPr>
            <p:grpSpPr>
              <a:xfrm>
                <a:off x="6482160" y="2295000"/>
                <a:ext cx="721080" cy="171360"/>
                <a:chOff x="6482160" y="2295000"/>
                <a:chExt cx="721080" cy="171360"/>
              </a:xfrm>
            </p:grpSpPr>
            <p:sp>
              <p:nvSpPr>
                <p:cNvPr id="6882" name="Rectangle 179"/>
                <p:cNvSpPr/>
                <p:nvPr/>
              </p:nvSpPr>
              <p:spPr>
                <a:xfrm flipH="1">
                  <a:off x="702828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3" name="Rectangle 180"/>
                <p:cNvSpPr/>
                <p:nvPr/>
              </p:nvSpPr>
              <p:spPr>
                <a:xfrm flipH="1">
                  <a:off x="684216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4" name="Rectangle 181"/>
                <p:cNvSpPr/>
                <p:nvPr/>
              </p:nvSpPr>
              <p:spPr>
                <a:xfrm flipH="1">
                  <a:off x="666756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5" name="Rectangle 182"/>
                <p:cNvSpPr/>
                <p:nvPr/>
              </p:nvSpPr>
              <p:spPr>
                <a:xfrm flipV="1">
                  <a:off x="648216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86" name="Group 183"/>
            <p:cNvGrpSpPr/>
            <p:nvPr/>
          </p:nvGrpSpPr>
          <p:grpSpPr>
            <a:xfrm>
              <a:off x="6483240" y="1896840"/>
              <a:ext cx="1779120" cy="954360"/>
              <a:chOff x="6483240" y="1896840"/>
              <a:chExt cx="1779120" cy="954360"/>
            </a:xfrm>
          </p:grpSpPr>
          <p:grpSp>
            <p:nvGrpSpPr>
              <p:cNvPr id="6887" name="Group 184"/>
              <p:cNvGrpSpPr/>
              <p:nvPr/>
            </p:nvGrpSpPr>
            <p:grpSpPr>
              <a:xfrm>
                <a:off x="6483240" y="1896840"/>
                <a:ext cx="1779120" cy="954360"/>
                <a:chOff x="6483240" y="1896840"/>
                <a:chExt cx="1779120" cy="954360"/>
              </a:xfrm>
            </p:grpSpPr>
            <p:sp>
              <p:nvSpPr>
                <p:cNvPr id="6888" name="Freeform 185"/>
                <p:cNvSpPr/>
                <p:nvPr/>
              </p:nvSpPr>
              <p:spPr>
                <a:xfrm>
                  <a:off x="6483240" y="1900440"/>
                  <a:ext cx="888120" cy="95076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186"/>
                <p:cNvSpPr/>
                <p:nvPr/>
              </p:nvSpPr>
              <p:spPr>
                <a:xfrm flipH="1">
                  <a:off x="7373880" y="1896840"/>
                  <a:ext cx="888120" cy="95076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0" name="Oval 187"/>
              <p:cNvSpPr/>
              <p:nvPr/>
            </p:nvSpPr>
            <p:spPr>
              <a:xfrm>
                <a:off x="7205040" y="2220120"/>
                <a:ext cx="329760" cy="32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1" name="Group 188"/>
              <p:cNvGrpSpPr/>
              <p:nvPr/>
            </p:nvGrpSpPr>
            <p:grpSpPr>
              <a:xfrm>
                <a:off x="7534800" y="2298240"/>
                <a:ext cx="721440" cy="171360"/>
                <a:chOff x="7534800" y="2298240"/>
                <a:chExt cx="721440" cy="171360"/>
              </a:xfrm>
            </p:grpSpPr>
            <p:sp>
              <p:nvSpPr>
                <p:cNvPr id="6892" name="Rectangle 189"/>
                <p:cNvSpPr/>
                <p:nvPr/>
              </p:nvSpPr>
              <p:spPr>
                <a:xfrm>
                  <a:off x="753480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Rectangle 190"/>
                <p:cNvSpPr/>
                <p:nvPr/>
              </p:nvSpPr>
              <p:spPr>
                <a:xfrm>
                  <a:off x="772056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Rectangle 191"/>
                <p:cNvSpPr/>
                <p:nvPr/>
              </p:nvSpPr>
              <p:spPr>
                <a:xfrm>
                  <a:off x="789552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Rectangle 192"/>
                <p:cNvSpPr/>
                <p:nvPr/>
              </p:nvSpPr>
              <p:spPr>
                <a:xfrm>
                  <a:off x="808164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6" name="Group 193"/>
              <p:cNvGrpSpPr/>
              <p:nvPr/>
            </p:nvGrpSpPr>
            <p:grpSpPr>
              <a:xfrm>
                <a:off x="6483600" y="2298240"/>
                <a:ext cx="721080" cy="171360"/>
                <a:chOff x="6483600" y="2298240"/>
                <a:chExt cx="721080" cy="171360"/>
              </a:xfrm>
            </p:grpSpPr>
            <p:sp>
              <p:nvSpPr>
                <p:cNvPr id="6897" name="Rectangle 194"/>
                <p:cNvSpPr/>
                <p:nvPr/>
              </p:nvSpPr>
              <p:spPr>
                <a:xfrm flipH="1">
                  <a:off x="702972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195"/>
                <p:cNvSpPr/>
                <p:nvPr/>
              </p:nvSpPr>
              <p:spPr>
                <a:xfrm flipH="1">
                  <a:off x="684360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9" name="Rectangle 196"/>
                <p:cNvSpPr/>
                <p:nvPr/>
              </p:nvSpPr>
              <p:spPr>
                <a:xfrm flipH="1">
                  <a:off x="666900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0" name="Rectangle 197"/>
                <p:cNvSpPr/>
                <p:nvPr/>
              </p:nvSpPr>
              <p:spPr>
                <a:xfrm flipV="1">
                  <a:off x="648360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01" name="Group 199"/>
          <p:cNvGrpSpPr/>
          <p:nvPr/>
        </p:nvGrpSpPr>
        <p:grpSpPr>
          <a:xfrm>
            <a:off x="4507560" y="1060200"/>
            <a:ext cx="1766520" cy="1827360"/>
            <a:chOff x="4507560" y="1060200"/>
            <a:chExt cx="1766520" cy="1827360"/>
          </a:xfrm>
        </p:grpSpPr>
        <p:sp>
          <p:nvSpPr>
            <p:cNvPr id="6902" name="Freeform 200"/>
            <p:cNvSpPr/>
            <p:nvPr/>
          </p:nvSpPr>
          <p:spPr>
            <a:xfrm rot="3598800">
              <a:off x="4691520" y="1357920"/>
              <a:ext cx="1398600" cy="1231920"/>
            </a:xfrm>
            <a:custGeom>
              <a:avLst/>
              <a:gdLst/>
              <a:ahLst/>
              <a:rect l="l" t="t" r="r" b="b"/>
              <a:pathLst>
                <a:path w="2044" h="1799">
                  <a:moveTo>
                    <a:pt x="43" y="1799"/>
                  </a:moveTo>
                  <a:lnTo>
                    <a:pt x="2015" y="1799"/>
                  </a:lnTo>
                  <a:lnTo>
                    <a:pt x="2030" y="1799"/>
                  </a:lnTo>
                  <a:lnTo>
                    <a:pt x="2034" y="1789"/>
                  </a:lnTo>
                  <a:lnTo>
                    <a:pt x="2039" y="1785"/>
                  </a:lnTo>
                  <a:lnTo>
                    <a:pt x="2044" y="1780"/>
                  </a:lnTo>
                  <a:lnTo>
                    <a:pt x="2044" y="1770"/>
                  </a:lnTo>
                  <a:lnTo>
                    <a:pt x="2044" y="1765"/>
                  </a:lnTo>
                  <a:lnTo>
                    <a:pt x="2044" y="1761"/>
                  </a:lnTo>
                  <a:lnTo>
                    <a:pt x="2039" y="1756"/>
                  </a:lnTo>
                  <a:lnTo>
                    <a:pt x="2039" y="1751"/>
                  </a:lnTo>
                  <a:lnTo>
                    <a:pt x="2034" y="1746"/>
                  </a:lnTo>
                  <a:lnTo>
                    <a:pt x="1041" y="19"/>
                  </a:lnTo>
                  <a:lnTo>
                    <a:pt x="1036" y="15"/>
                  </a:lnTo>
                  <a:lnTo>
                    <a:pt x="1032" y="10"/>
                  </a:lnTo>
                  <a:lnTo>
                    <a:pt x="1027" y="5"/>
                  </a:lnTo>
                  <a:lnTo>
                    <a:pt x="1027" y="0"/>
                  </a:lnTo>
                  <a:lnTo>
                    <a:pt x="1022" y="0"/>
                  </a:lnTo>
                  <a:lnTo>
                    <a:pt x="1012" y="0"/>
                  </a:lnTo>
                  <a:lnTo>
                    <a:pt x="1008" y="0"/>
                  </a:lnTo>
                  <a:lnTo>
                    <a:pt x="1003" y="5"/>
                  </a:lnTo>
                  <a:lnTo>
                    <a:pt x="998" y="15"/>
                  </a:lnTo>
                  <a:lnTo>
                    <a:pt x="993" y="24"/>
                  </a:lnTo>
                  <a:lnTo>
                    <a:pt x="988" y="29"/>
                  </a:lnTo>
                  <a:lnTo>
                    <a:pt x="5" y="1741"/>
                  </a:lnTo>
                  <a:lnTo>
                    <a:pt x="0" y="1751"/>
                  </a:lnTo>
                  <a:lnTo>
                    <a:pt x="0" y="1761"/>
                  </a:lnTo>
                  <a:lnTo>
                    <a:pt x="0" y="1765"/>
                  </a:lnTo>
                  <a:lnTo>
                    <a:pt x="0" y="1775"/>
                  </a:lnTo>
                  <a:lnTo>
                    <a:pt x="5" y="1780"/>
                  </a:lnTo>
                  <a:lnTo>
                    <a:pt x="5" y="1785"/>
                  </a:lnTo>
                  <a:lnTo>
                    <a:pt x="14" y="1789"/>
                  </a:lnTo>
                  <a:lnTo>
                    <a:pt x="19" y="1794"/>
                  </a:lnTo>
                  <a:lnTo>
                    <a:pt x="24" y="1794"/>
                  </a:lnTo>
                  <a:lnTo>
                    <a:pt x="43" y="179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Freeform 201"/>
            <p:cNvSpPr/>
            <p:nvPr/>
          </p:nvSpPr>
          <p:spPr>
            <a:xfrm rot="3598800">
              <a:off x="4821840" y="1537920"/>
              <a:ext cx="1053720" cy="923040"/>
            </a:xfrm>
            <a:custGeom>
              <a:avLst/>
              <a:gdLst/>
              <a:ahLst/>
              <a:rect l="l" t="t" r="r" b="b"/>
              <a:pathLst>
                <a:path w="1540" h="1348">
                  <a:moveTo>
                    <a:pt x="34" y="1348"/>
                  </a:moveTo>
                  <a:lnTo>
                    <a:pt x="1516" y="1348"/>
                  </a:lnTo>
                  <a:lnTo>
                    <a:pt x="1526" y="1343"/>
                  </a:lnTo>
                  <a:lnTo>
                    <a:pt x="1531" y="1338"/>
                  </a:lnTo>
                  <a:lnTo>
                    <a:pt x="1536" y="1333"/>
                  </a:lnTo>
                  <a:lnTo>
                    <a:pt x="1536" y="1328"/>
                  </a:lnTo>
                  <a:lnTo>
                    <a:pt x="1540" y="1324"/>
                  </a:lnTo>
                  <a:lnTo>
                    <a:pt x="1540" y="1319"/>
                  </a:lnTo>
                  <a:lnTo>
                    <a:pt x="1540" y="1314"/>
                  </a:lnTo>
                  <a:lnTo>
                    <a:pt x="1536" y="1309"/>
                  </a:lnTo>
                  <a:lnTo>
                    <a:pt x="1536" y="1304"/>
                  </a:lnTo>
                  <a:lnTo>
                    <a:pt x="1531" y="1304"/>
                  </a:lnTo>
                  <a:lnTo>
                    <a:pt x="782" y="19"/>
                  </a:lnTo>
                  <a:lnTo>
                    <a:pt x="782" y="14"/>
                  </a:lnTo>
                  <a:lnTo>
                    <a:pt x="778" y="9"/>
                  </a:lnTo>
                  <a:lnTo>
                    <a:pt x="773" y="4"/>
                  </a:lnTo>
                  <a:lnTo>
                    <a:pt x="773" y="4"/>
                  </a:lnTo>
                  <a:lnTo>
                    <a:pt x="768" y="0"/>
                  </a:lnTo>
                  <a:lnTo>
                    <a:pt x="763" y="0"/>
                  </a:lnTo>
                  <a:lnTo>
                    <a:pt x="758" y="4"/>
                  </a:lnTo>
                  <a:lnTo>
                    <a:pt x="758" y="4"/>
                  </a:lnTo>
                  <a:lnTo>
                    <a:pt x="754" y="9"/>
                  </a:lnTo>
                  <a:lnTo>
                    <a:pt x="749" y="19"/>
                  </a:lnTo>
                  <a:lnTo>
                    <a:pt x="744" y="24"/>
                  </a:lnTo>
                  <a:lnTo>
                    <a:pt x="5" y="1300"/>
                  </a:lnTo>
                  <a:lnTo>
                    <a:pt x="0" y="1309"/>
                  </a:lnTo>
                  <a:lnTo>
                    <a:pt x="0" y="1314"/>
                  </a:lnTo>
                  <a:lnTo>
                    <a:pt x="0" y="1319"/>
                  </a:lnTo>
                  <a:lnTo>
                    <a:pt x="5" y="1324"/>
                  </a:lnTo>
                  <a:lnTo>
                    <a:pt x="5" y="1328"/>
                  </a:lnTo>
                  <a:lnTo>
                    <a:pt x="10" y="1333"/>
                  </a:lnTo>
                  <a:lnTo>
                    <a:pt x="10" y="1338"/>
                  </a:lnTo>
                  <a:lnTo>
                    <a:pt x="15" y="1343"/>
                  </a:lnTo>
                  <a:lnTo>
                    <a:pt x="19" y="1343"/>
                  </a:lnTo>
                  <a:lnTo>
                    <a:pt x="29" y="1348"/>
                  </a:lnTo>
                  <a:lnTo>
                    <a:pt x="34" y="1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Freeform 202"/>
            <p:cNvSpPr/>
            <p:nvPr/>
          </p:nvSpPr>
          <p:spPr>
            <a:xfrm rot="3598800">
              <a:off x="4946760" y="1715040"/>
              <a:ext cx="712080" cy="623520"/>
            </a:xfrm>
            <a:custGeom>
              <a:avLst/>
              <a:gdLst/>
              <a:ahLst/>
              <a:rect l="l" t="t" r="r" b="b"/>
              <a:pathLst>
                <a:path w="1041" h="911">
                  <a:moveTo>
                    <a:pt x="19" y="911"/>
                  </a:moveTo>
                  <a:lnTo>
                    <a:pt x="1027" y="911"/>
                  </a:lnTo>
                  <a:lnTo>
                    <a:pt x="1036" y="907"/>
                  </a:lnTo>
                  <a:lnTo>
                    <a:pt x="1041" y="902"/>
                  </a:lnTo>
                  <a:lnTo>
                    <a:pt x="1041" y="902"/>
                  </a:lnTo>
                  <a:lnTo>
                    <a:pt x="1041" y="897"/>
                  </a:lnTo>
                  <a:lnTo>
                    <a:pt x="1041" y="892"/>
                  </a:lnTo>
                  <a:lnTo>
                    <a:pt x="1041" y="892"/>
                  </a:lnTo>
                  <a:lnTo>
                    <a:pt x="1041" y="887"/>
                  </a:lnTo>
                  <a:lnTo>
                    <a:pt x="1041" y="887"/>
                  </a:lnTo>
                  <a:lnTo>
                    <a:pt x="1041" y="883"/>
                  </a:lnTo>
                  <a:lnTo>
                    <a:pt x="1041" y="883"/>
                  </a:lnTo>
                  <a:lnTo>
                    <a:pt x="532" y="14"/>
                  </a:lnTo>
                  <a:lnTo>
                    <a:pt x="528" y="10"/>
                  </a:lnTo>
                  <a:lnTo>
                    <a:pt x="528" y="5"/>
                  </a:lnTo>
                  <a:lnTo>
                    <a:pt x="523" y="5"/>
                  </a:lnTo>
                  <a:lnTo>
                    <a:pt x="523" y="0"/>
                  </a:lnTo>
                  <a:lnTo>
                    <a:pt x="518" y="0"/>
                  </a:lnTo>
                  <a:lnTo>
                    <a:pt x="513" y="5"/>
                  </a:lnTo>
                  <a:lnTo>
                    <a:pt x="513" y="5"/>
                  </a:lnTo>
                  <a:lnTo>
                    <a:pt x="508" y="10"/>
                  </a:lnTo>
                  <a:lnTo>
                    <a:pt x="508" y="14"/>
                  </a:lnTo>
                  <a:lnTo>
                    <a:pt x="504" y="14"/>
                  </a:lnTo>
                  <a:lnTo>
                    <a:pt x="0" y="878"/>
                  </a:lnTo>
                  <a:lnTo>
                    <a:pt x="0" y="883"/>
                  </a:lnTo>
                  <a:lnTo>
                    <a:pt x="0" y="887"/>
                  </a:lnTo>
                  <a:lnTo>
                    <a:pt x="0" y="892"/>
                  </a:lnTo>
                  <a:lnTo>
                    <a:pt x="0" y="897"/>
                  </a:lnTo>
                  <a:lnTo>
                    <a:pt x="0" y="897"/>
                  </a:lnTo>
                  <a:lnTo>
                    <a:pt x="0" y="902"/>
                  </a:lnTo>
                  <a:lnTo>
                    <a:pt x="4" y="902"/>
                  </a:lnTo>
                  <a:lnTo>
                    <a:pt x="9" y="907"/>
                  </a:lnTo>
                  <a:lnTo>
                    <a:pt x="9" y="907"/>
                  </a:lnTo>
                  <a:lnTo>
                    <a:pt x="19" y="911"/>
                  </a:lnTo>
                  <a:lnTo>
                    <a:pt x="19" y="9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Freeform 203"/>
            <p:cNvSpPr/>
            <p:nvPr/>
          </p:nvSpPr>
          <p:spPr>
            <a:xfrm rot="3598800">
              <a:off x="5083560" y="1914480"/>
              <a:ext cx="331560" cy="285480"/>
            </a:xfrm>
            <a:custGeom>
              <a:avLst/>
              <a:gdLst/>
              <a:ahLst/>
              <a:rect l="l" t="t" r="r" b="b"/>
              <a:pathLst>
                <a:path w="485" h="417">
                  <a:moveTo>
                    <a:pt x="10" y="417"/>
                  </a:moveTo>
                  <a:lnTo>
                    <a:pt x="480" y="417"/>
                  </a:lnTo>
                  <a:lnTo>
                    <a:pt x="480" y="417"/>
                  </a:lnTo>
                  <a:lnTo>
                    <a:pt x="485" y="417"/>
                  </a:lnTo>
                  <a:lnTo>
                    <a:pt x="485" y="412"/>
                  </a:lnTo>
                  <a:lnTo>
                    <a:pt x="485" y="412"/>
                  </a:lnTo>
                  <a:lnTo>
                    <a:pt x="485" y="408"/>
                  </a:lnTo>
                  <a:lnTo>
                    <a:pt x="485" y="408"/>
                  </a:lnTo>
                  <a:lnTo>
                    <a:pt x="250" y="5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35" y="5"/>
                  </a:lnTo>
                  <a:lnTo>
                    <a:pt x="235" y="5"/>
                  </a:lnTo>
                  <a:lnTo>
                    <a:pt x="0" y="403"/>
                  </a:lnTo>
                  <a:lnTo>
                    <a:pt x="0" y="408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5" y="417"/>
                  </a:lnTo>
                  <a:lnTo>
                    <a:pt x="5" y="417"/>
                  </a:lnTo>
                  <a:lnTo>
                    <a:pt x="10" y="417"/>
                  </a:lnTo>
                  <a:lnTo>
                    <a:pt x="10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06" name="Picture 204" descr=""/>
          <p:cNvPicPr/>
          <p:nvPr/>
        </p:nvPicPr>
        <p:blipFill>
          <a:blip r:embed="rId1"/>
          <a:stretch/>
        </p:blipFill>
        <p:spPr>
          <a:xfrm>
            <a:off x="2670120" y="3352680"/>
            <a:ext cx="1371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6907" name="Group 205"/>
          <p:cNvGrpSpPr/>
          <p:nvPr/>
        </p:nvGrpSpPr>
        <p:grpSpPr>
          <a:xfrm>
            <a:off x="6743880" y="3206880"/>
            <a:ext cx="1368360" cy="1366560"/>
            <a:chOff x="6743880" y="3206880"/>
            <a:chExt cx="1368360" cy="1366560"/>
          </a:xfrm>
        </p:grpSpPr>
        <p:sp>
          <p:nvSpPr>
            <p:cNvPr id="6908" name="Oval 206"/>
            <p:cNvSpPr/>
            <p:nvPr/>
          </p:nvSpPr>
          <p:spPr>
            <a:xfrm>
              <a:off x="6743880" y="3206880"/>
              <a:ext cx="1368360" cy="1366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9" name="Group 207"/>
            <p:cNvGrpSpPr/>
            <p:nvPr/>
          </p:nvGrpSpPr>
          <p:grpSpPr>
            <a:xfrm>
              <a:off x="6887880" y="3378600"/>
              <a:ext cx="1075320" cy="1033200"/>
              <a:chOff x="6887880" y="3378600"/>
              <a:chExt cx="1075320" cy="1033200"/>
            </a:xfrm>
          </p:grpSpPr>
          <p:grpSp>
            <p:nvGrpSpPr>
              <p:cNvPr id="6910" name="Group 208"/>
              <p:cNvGrpSpPr/>
              <p:nvPr/>
            </p:nvGrpSpPr>
            <p:grpSpPr>
              <a:xfrm>
                <a:off x="6887880" y="3378600"/>
                <a:ext cx="1075320" cy="1033200"/>
                <a:chOff x="6887880" y="3378600"/>
                <a:chExt cx="1075320" cy="1033200"/>
              </a:xfrm>
            </p:grpSpPr>
            <p:sp>
              <p:nvSpPr>
                <p:cNvPr id="6911" name="Rectangle 209"/>
                <p:cNvSpPr/>
                <p:nvPr/>
              </p:nvSpPr>
              <p:spPr>
                <a:xfrm rot="19384800">
                  <a:off x="7493760" y="403704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2" name="AutoShape 210"/>
                <p:cNvSpPr/>
                <p:nvPr/>
              </p:nvSpPr>
              <p:spPr>
                <a:xfrm rot="19384800">
                  <a:off x="7160040" y="3638520"/>
                  <a:ext cx="502920" cy="477360"/>
                </a:xfrm>
                <a:prstGeom prst="pentagon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3" name="Rectangle 211"/>
                <p:cNvSpPr/>
                <p:nvPr/>
              </p:nvSpPr>
              <p:spPr>
                <a:xfrm rot="20337000">
                  <a:off x="7611480" y="36180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4" name="Rectangle 212"/>
                <p:cNvSpPr/>
                <p:nvPr/>
              </p:nvSpPr>
              <p:spPr>
                <a:xfrm rot="18341400">
                  <a:off x="7061760" y="4044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213"/>
                <p:cNvSpPr/>
                <p:nvPr/>
              </p:nvSpPr>
              <p:spPr>
                <a:xfrm rot="3600">
                  <a:off x="7272360" y="3378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6" name="Rectangle 214"/>
                <p:cNvSpPr/>
                <p:nvPr/>
              </p:nvSpPr>
              <p:spPr>
                <a:xfrm rot="17211000">
                  <a:off x="6925320" y="3639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7" name="Oval 215"/>
              <p:cNvSpPr/>
              <p:nvPr/>
            </p:nvSpPr>
            <p:spPr>
              <a:xfrm rot="19384800">
                <a:off x="7349040" y="346644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8" name="Oval 216"/>
              <p:cNvSpPr/>
              <p:nvPr/>
            </p:nvSpPr>
            <p:spPr>
              <a:xfrm rot="19384800">
                <a:off x="6998760" y="37296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9" name="Oval 217"/>
              <p:cNvSpPr/>
              <p:nvPr/>
            </p:nvSpPr>
            <p:spPr>
              <a:xfrm rot="19384800">
                <a:off x="7691040" y="37026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0" name="Oval 218"/>
              <p:cNvSpPr/>
              <p:nvPr/>
            </p:nvSpPr>
            <p:spPr>
              <a:xfrm rot="19384800">
                <a:off x="7147080" y="412992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1" name="Oval 219"/>
              <p:cNvSpPr/>
              <p:nvPr/>
            </p:nvSpPr>
            <p:spPr>
              <a:xfrm rot="19384800">
                <a:off x="7566120" y="41202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22" name="Rectangle 220"/>
          <p:cNvSpPr/>
          <p:nvPr/>
        </p:nvSpPr>
        <p:spPr>
          <a:xfrm>
            <a:off x="4819680" y="3276720"/>
            <a:ext cx="876240" cy="12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3" name="Freeform 221"/>
          <p:cNvSpPr/>
          <p:nvPr/>
        </p:nvSpPr>
        <p:spPr>
          <a:xfrm rot="5400000">
            <a:off x="2716200" y="5126040"/>
            <a:ext cx="1039680" cy="1039680"/>
          </a:xfrm>
          <a:custGeom>
            <a:avLst/>
            <a:gdLst/>
            <a:ahLst/>
            <a:rect l="l" t="t" r="r" b="b"/>
            <a:pathLst>
              <a:path w="1608" h="1608">
                <a:moveTo>
                  <a:pt x="806" y="0"/>
                </a:moveTo>
                <a:lnTo>
                  <a:pt x="845" y="0"/>
                </a:lnTo>
                <a:lnTo>
                  <a:pt x="885" y="4"/>
                </a:lnTo>
                <a:lnTo>
                  <a:pt x="925" y="11"/>
                </a:lnTo>
                <a:lnTo>
                  <a:pt x="964" y="18"/>
                </a:lnTo>
                <a:lnTo>
                  <a:pt x="1004" y="25"/>
                </a:lnTo>
                <a:lnTo>
                  <a:pt x="1043" y="36"/>
                </a:lnTo>
                <a:lnTo>
                  <a:pt x="1079" y="50"/>
                </a:lnTo>
                <a:lnTo>
                  <a:pt x="1115" y="65"/>
                </a:lnTo>
                <a:lnTo>
                  <a:pt x="1151" y="79"/>
                </a:lnTo>
                <a:lnTo>
                  <a:pt x="1187" y="97"/>
                </a:lnTo>
                <a:lnTo>
                  <a:pt x="1219" y="115"/>
                </a:lnTo>
                <a:lnTo>
                  <a:pt x="1252" y="137"/>
                </a:lnTo>
                <a:lnTo>
                  <a:pt x="1284" y="162"/>
                </a:lnTo>
                <a:lnTo>
                  <a:pt x="1313" y="183"/>
                </a:lnTo>
                <a:lnTo>
                  <a:pt x="1345" y="209"/>
                </a:lnTo>
                <a:lnTo>
                  <a:pt x="1371" y="237"/>
                </a:lnTo>
                <a:lnTo>
                  <a:pt x="1399" y="263"/>
                </a:lnTo>
                <a:lnTo>
                  <a:pt x="1425" y="295"/>
                </a:lnTo>
                <a:lnTo>
                  <a:pt x="1446" y="324"/>
                </a:lnTo>
                <a:lnTo>
                  <a:pt x="1471" y="356"/>
                </a:lnTo>
                <a:lnTo>
                  <a:pt x="1493" y="389"/>
                </a:lnTo>
                <a:lnTo>
                  <a:pt x="1511" y="421"/>
                </a:lnTo>
                <a:lnTo>
                  <a:pt x="1529" y="457"/>
                </a:lnTo>
                <a:lnTo>
                  <a:pt x="1543" y="493"/>
                </a:lnTo>
                <a:lnTo>
                  <a:pt x="1558" y="529"/>
                </a:lnTo>
                <a:lnTo>
                  <a:pt x="1572" y="565"/>
                </a:lnTo>
                <a:lnTo>
                  <a:pt x="1583" y="604"/>
                </a:lnTo>
                <a:lnTo>
                  <a:pt x="1590" y="644"/>
                </a:lnTo>
                <a:lnTo>
                  <a:pt x="1597" y="683"/>
                </a:lnTo>
                <a:lnTo>
                  <a:pt x="1604" y="723"/>
                </a:lnTo>
                <a:lnTo>
                  <a:pt x="1608" y="763"/>
                </a:lnTo>
                <a:lnTo>
                  <a:pt x="1608" y="802"/>
                </a:lnTo>
                <a:lnTo>
                  <a:pt x="1608" y="845"/>
                </a:lnTo>
                <a:lnTo>
                  <a:pt x="1604" y="885"/>
                </a:lnTo>
                <a:lnTo>
                  <a:pt x="1597" y="925"/>
                </a:lnTo>
                <a:lnTo>
                  <a:pt x="1590" y="964"/>
                </a:lnTo>
                <a:lnTo>
                  <a:pt x="1583" y="1004"/>
                </a:lnTo>
                <a:lnTo>
                  <a:pt x="1572" y="1043"/>
                </a:lnTo>
                <a:lnTo>
                  <a:pt x="1558" y="1079"/>
                </a:lnTo>
                <a:lnTo>
                  <a:pt x="1543" y="1115"/>
                </a:lnTo>
                <a:lnTo>
                  <a:pt x="1529" y="1151"/>
                </a:lnTo>
                <a:lnTo>
                  <a:pt x="1511" y="1187"/>
                </a:lnTo>
                <a:lnTo>
                  <a:pt x="1493" y="1219"/>
                </a:lnTo>
                <a:lnTo>
                  <a:pt x="1471" y="1252"/>
                </a:lnTo>
                <a:lnTo>
                  <a:pt x="1446" y="1284"/>
                </a:lnTo>
                <a:lnTo>
                  <a:pt x="1425" y="1313"/>
                </a:lnTo>
                <a:lnTo>
                  <a:pt x="1399" y="1345"/>
                </a:lnTo>
                <a:lnTo>
                  <a:pt x="1371" y="1371"/>
                </a:lnTo>
                <a:lnTo>
                  <a:pt x="1345" y="1399"/>
                </a:lnTo>
                <a:lnTo>
                  <a:pt x="1313" y="1425"/>
                </a:lnTo>
                <a:lnTo>
                  <a:pt x="1284" y="1446"/>
                </a:lnTo>
                <a:lnTo>
                  <a:pt x="1252" y="1471"/>
                </a:lnTo>
                <a:lnTo>
                  <a:pt x="1219" y="1493"/>
                </a:lnTo>
                <a:lnTo>
                  <a:pt x="1187" y="1511"/>
                </a:lnTo>
                <a:lnTo>
                  <a:pt x="1151" y="1529"/>
                </a:lnTo>
                <a:lnTo>
                  <a:pt x="1115" y="1543"/>
                </a:lnTo>
                <a:lnTo>
                  <a:pt x="1079" y="1558"/>
                </a:lnTo>
                <a:lnTo>
                  <a:pt x="1043" y="1572"/>
                </a:lnTo>
                <a:lnTo>
                  <a:pt x="1004" y="1583"/>
                </a:lnTo>
                <a:lnTo>
                  <a:pt x="964" y="1590"/>
                </a:lnTo>
                <a:lnTo>
                  <a:pt x="925" y="1597"/>
                </a:lnTo>
                <a:lnTo>
                  <a:pt x="885" y="1604"/>
                </a:lnTo>
                <a:lnTo>
                  <a:pt x="845" y="1608"/>
                </a:lnTo>
                <a:lnTo>
                  <a:pt x="806" y="1608"/>
                </a:lnTo>
                <a:lnTo>
                  <a:pt x="763" y="1608"/>
                </a:lnTo>
                <a:lnTo>
                  <a:pt x="723" y="1604"/>
                </a:lnTo>
                <a:lnTo>
                  <a:pt x="683" y="1597"/>
                </a:lnTo>
                <a:lnTo>
                  <a:pt x="644" y="1590"/>
                </a:lnTo>
                <a:lnTo>
                  <a:pt x="604" y="1583"/>
                </a:lnTo>
                <a:lnTo>
                  <a:pt x="565" y="1572"/>
                </a:lnTo>
                <a:lnTo>
                  <a:pt x="529" y="1558"/>
                </a:lnTo>
                <a:lnTo>
                  <a:pt x="493" y="1543"/>
                </a:lnTo>
                <a:lnTo>
                  <a:pt x="457" y="1529"/>
                </a:lnTo>
                <a:lnTo>
                  <a:pt x="421" y="1511"/>
                </a:lnTo>
                <a:lnTo>
                  <a:pt x="389" y="1493"/>
                </a:lnTo>
                <a:lnTo>
                  <a:pt x="356" y="1471"/>
                </a:lnTo>
                <a:lnTo>
                  <a:pt x="324" y="1446"/>
                </a:lnTo>
                <a:lnTo>
                  <a:pt x="295" y="1425"/>
                </a:lnTo>
                <a:lnTo>
                  <a:pt x="263" y="1399"/>
                </a:lnTo>
                <a:lnTo>
                  <a:pt x="237" y="1371"/>
                </a:lnTo>
                <a:lnTo>
                  <a:pt x="209" y="1345"/>
                </a:lnTo>
                <a:lnTo>
                  <a:pt x="183" y="1313"/>
                </a:lnTo>
                <a:lnTo>
                  <a:pt x="162" y="1284"/>
                </a:lnTo>
                <a:lnTo>
                  <a:pt x="137" y="1252"/>
                </a:lnTo>
                <a:lnTo>
                  <a:pt x="115" y="1219"/>
                </a:lnTo>
                <a:lnTo>
                  <a:pt x="97" y="1187"/>
                </a:lnTo>
                <a:lnTo>
                  <a:pt x="79" y="1151"/>
                </a:lnTo>
                <a:lnTo>
                  <a:pt x="65" y="1115"/>
                </a:lnTo>
                <a:lnTo>
                  <a:pt x="50" y="1079"/>
                </a:lnTo>
                <a:lnTo>
                  <a:pt x="36" y="1043"/>
                </a:lnTo>
                <a:lnTo>
                  <a:pt x="25" y="1004"/>
                </a:lnTo>
                <a:lnTo>
                  <a:pt x="18" y="964"/>
                </a:lnTo>
                <a:lnTo>
                  <a:pt x="11" y="925"/>
                </a:lnTo>
                <a:lnTo>
                  <a:pt x="4" y="885"/>
                </a:lnTo>
                <a:lnTo>
                  <a:pt x="0" y="845"/>
                </a:lnTo>
                <a:lnTo>
                  <a:pt x="0" y="802"/>
                </a:lnTo>
                <a:lnTo>
                  <a:pt x="0" y="763"/>
                </a:lnTo>
                <a:lnTo>
                  <a:pt x="4" y="723"/>
                </a:lnTo>
                <a:lnTo>
                  <a:pt x="11" y="683"/>
                </a:lnTo>
                <a:lnTo>
                  <a:pt x="18" y="644"/>
                </a:lnTo>
                <a:lnTo>
                  <a:pt x="25" y="604"/>
                </a:lnTo>
                <a:lnTo>
                  <a:pt x="36" y="565"/>
                </a:lnTo>
                <a:lnTo>
                  <a:pt x="50" y="529"/>
                </a:lnTo>
                <a:lnTo>
                  <a:pt x="65" y="493"/>
                </a:lnTo>
                <a:lnTo>
                  <a:pt x="79" y="457"/>
                </a:lnTo>
                <a:lnTo>
                  <a:pt x="97" y="421"/>
                </a:lnTo>
                <a:lnTo>
                  <a:pt x="115" y="389"/>
                </a:lnTo>
                <a:lnTo>
                  <a:pt x="137" y="356"/>
                </a:lnTo>
                <a:lnTo>
                  <a:pt x="162" y="324"/>
                </a:lnTo>
                <a:lnTo>
                  <a:pt x="183" y="295"/>
                </a:lnTo>
                <a:lnTo>
                  <a:pt x="209" y="263"/>
                </a:lnTo>
                <a:lnTo>
                  <a:pt x="237" y="237"/>
                </a:lnTo>
                <a:lnTo>
                  <a:pt x="263" y="209"/>
                </a:lnTo>
                <a:lnTo>
                  <a:pt x="295" y="183"/>
                </a:lnTo>
                <a:lnTo>
                  <a:pt x="324" y="162"/>
                </a:lnTo>
                <a:lnTo>
                  <a:pt x="356" y="137"/>
                </a:lnTo>
                <a:lnTo>
                  <a:pt x="389" y="115"/>
                </a:lnTo>
                <a:lnTo>
                  <a:pt x="421" y="97"/>
                </a:lnTo>
                <a:lnTo>
                  <a:pt x="457" y="79"/>
                </a:lnTo>
                <a:lnTo>
                  <a:pt x="493" y="65"/>
                </a:lnTo>
                <a:lnTo>
                  <a:pt x="529" y="50"/>
                </a:lnTo>
                <a:lnTo>
                  <a:pt x="565" y="36"/>
                </a:lnTo>
                <a:lnTo>
                  <a:pt x="604" y="25"/>
                </a:lnTo>
                <a:lnTo>
                  <a:pt x="644" y="18"/>
                </a:lnTo>
                <a:lnTo>
                  <a:pt x="683" y="11"/>
                </a:lnTo>
                <a:lnTo>
                  <a:pt x="723" y="4"/>
                </a:lnTo>
                <a:lnTo>
                  <a:pt x="763" y="0"/>
                </a:lnTo>
                <a:lnTo>
                  <a:pt x="806" y="0"/>
                </a:lnTo>
                <a:close/>
                <a:moveTo>
                  <a:pt x="802" y="320"/>
                </a:moveTo>
                <a:lnTo>
                  <a:pt x="871" y="324"/>
                </a:lnTo>
                <a:lnTo>
                  <a:pt x="932" y="335"/>
                </a:lnTo>
                <a:lnTo>
                  <a:pt x="993" y="353"/>
                </a:lnTo>
                <a:lnTo>
                  <a:pt x="1054" y="374"/>
                </a:lnTo>
                <a:lnTo>
                  <a:pt x="1108" y="399"/>
                </a:lnTo>
                <a:lnTo>
                  <a:pt x="1162" y="432"/>
                </a:lnTo>
                <a:lnTo>
                  <a:pt x="1212" y="468"/>
                </a:lnTo>
                <a:lnTo>
                  <a:pt x="1259" y="511"/>
                </a:lnTo>
                <a:lnTo>
                  <a:pt x="1299" y="558"/>
                </a:lnTo>
                <a:lnTo>
                  <a:pt x="1338" y="608"/>
                </a:lnTo>
                <a:lnTo>
                  <a:pt x="1371" y="658"/>
                </a:lnTo>
                <a:lnTo>
                  <a:pt x="1396" y="716"/>
                </a:lnTo>
                <a:lnTo>
                  <a:pt x="1417" y="773"/>
                </a:lnTo>
                <a:lnTo>
                  <a:pt x="1435" y="835"/>
                </a:lnTo>
                <a:lnTo>
                  <a:pt x="1443" y="899"/>
                </a:lnTo>
                <a:lnTo>
                  <a:pt x="1446" y="964"/>
                </a:lnTo>
                <a:lnTo>
                  <a:pt x="1443" y="1029"/>
                </a:lnTo>
                <a:lnTo>
                  <a:pt x="1435" y="1094"/>
                </a:lnTo>
                <a:lnTo>
                  <a:pt x="1417" y="1155"/>
                </a:lnTo>
                <a:lnTo>
                  <a:pt x="1396" y="1216"/>
                </a:lnTo>
                <a:lnTo>
                  <a:pt x="1371" y="1270"/>
                </a:lnTo>
                <a:lnTo>
                  <a:pt x="1338" y="1324"/>
                </a:lnTo>
                <a:lnTo>
                  <a:pt x="1299" y="1374"/>
                </a:lnTo>
                <a:lnTo>
                  <a:pt x="1259" y="1417"/>
                </a:lnTo>
                <a:lnTo>
                  <a:pt x="1212" y="1461"/>
                </a:lnTo>
                <a:lnTo>
                  <a:pt x="1162" y="1496"/>
                </a:lnTo>
                <a:lnTo>
                  <a:pt x="1108" y="1529"/>
                </a:lnTo>
                <a:lnTo>
                  <a:pt x="1054" y="1558"/>
                </a:lnTo>
                <a:lnTo>
                  <a:pt x="993" y="1579"/>
                </a:lnTo>
                <a:lnTo>
                  <a:pt x="932" y="1594"/>
                </a:lnTo>
                <a:lnTo>
                  <a:pt x="871" y="1604"/>
                </a:lnTo>
                <a:lnTo>
                  <a:pt x="802" y="1608"/>
                </a:lnTo>
                <a:lnTo>
                  <a:pt x="737" y="1604"/>
                </a:lnTo>
                <a:lnTo>
                  <a:pt x="676" y="1594"/>
                </a:lnTo>
                <a:lnTo>
                  <a:pt x="615" y="1579"/>
                </a:lnTo>
                <a:lnTo>
                  <a:pt x="554" y="1558"/>
                </a:lnTo>
                <a:lnTo>
                  <a:pt x="500" y="1529"/>
                </a:lnTo>
                <a:lnTo>
                  <a:pt x="446" y="1496"/>
                </a:lnTo>
                <a:lnTo>
                  <a:pt x="396" y="1461"/>
                </a:lnTo>
                <a:lnTo>
                  <a:pt x="349" y="1417"/>
                </a:lnTo>
                <a:lnTo>
                  <a:pt x="309" y="1374"/>
                </a:lnTo>
                <a:lnTo>
                  <a:pt x="270" y="1324"/>
                </a:lnTo>
                <a:lnTo>
                  <a:pt x="237" y="1270"/>
                </a:lnTo>
                <a:lnTo>
                  <a:pt x="212" y="1216"/>
                </a:lnTo>
                <a:lnTo>
                  <a:pt x="191" y="1155"/>
                </a:lnTo>
                <a:lnTo>
                  <a:pt x="173" y="1094"/>
                </a:lnTo>
                <a:lnTo>
                  <a:pt x="165" y="1029"/>
                </a:lnTo>
                <a:lnTo>
                  <a:pt x="162" y="964"/>
                </a:lnTo>
                <a:lnTo>
                  <a:pt x="165" y="899"/>
                </a:lnTo>
                <a:lnTo>
                  <a:pt x="173" y="835"/>
                </a:lnTo>
                <a:lnTo>
                  <a:pt x="191" y="773"/>
                </a:lnTo>
                <a:lnTo>
                  <a:pt x="212" y="716"/>
                </a:lnTo>
                <a:lnTo>
                  <a:pt x="237" y="658"/>
                </a:lnTo>
                <a:lnTo>
                  <a:pt x="270" y="608"/>
                </a:lnTo>
                <a:lnTo>
                  <a:pt x="309" y="558"/>
                </a:lnTo>
                <a:lnTo>
                  <a:pt x="349" y="511"/>
                </a:lnTo>
                <a:lnTo>
                  <a:pt x="396" y="468"/>
                </a:lnTo>
                <a:lnTo>
                  <a:pt x="446" y="432"/>
                </a:lnTo>
                <a:lnTo>
                  <a:pt x="500" y="399"/>
                </a:lnTo>
                <a:lnTo>
                  <a:pt x="554" y="374"/>
                </a:lnTo>
                <a:lnTo>
                  <a:pt x="615" y="353"/>
                </a:lnTo>
                <a:lnTo>
                  <a:pt x="676" y="335"/>
                </a:lnTo>
                <a:lnTo>
                  <a:pt x="737" y="324"/>
                </a:lnTo>
                <a:lnTo>
                  <a:pt x="802" y="320"/>
                </a:lnTo>
                <a:close/>
                <a:moveTo>
                  <a:pt x="802" y="579"/>
                </a:moveTo>
                <a:lnTo>
                  <a:pt x="856" y="583"/>
                </a:lnTo>
                <a:lnTo>
                  <a:pt x="907" y="590"/>
                </a:lnTo>
                <a:lnTo>
                  <a:pt x="957" y="601"/>
                </a:lnTo>
                <a:lnTo>
                  <a:pt x="1004" y="619"/>
                </a:lnTo>
                <a:lnTo>
                  <a:pt x="1047" y="640"/>
                </a:lnTo>
                <a:lnTo>
                  <a:pt x="1090" y="669"/>
                </a:lnTo>
                <a:lnTo>
                  <a:pt x="1130" y="698"/>
                </a:lnTo>
                <a:lnTo>
                  <a:pt x="1166" y="730"/>
                </a:lnTo>
                <a:lnTo>
                  <a:pt x="1202" y="766"/>
                </a:lnTo>
                <a:lnTo>
                  <a:pt x="1230" y="806"/>
                </a:lnTo>
                <a:lnTo>
                  <a:pt x="1255" y="849"/>
                </a:lnTo>
                <a:lnTo>
                  <a:pt x="1277" y="896"/>
                </a:lnTo>
                <a:lnTo>
                  <a:pt x="1295" y="942"/>
                </a:lnTo>
                <a:lnTo>
                  <a:pt x="1309" y="989"/>
                </a:lnTo>
                <a:lnTo>
                  <a:pt x="1317" y="1043"/>
                </a:lnTo>
                <a:lnTo>
                  <a:pt x="1317" y="1094"/>
                </a:lnTo>
                <a:lnTo>
                  <a:pt x="1317" y="1148"/>
                </a:lnTo>
                <a:lnTo>
                  <a:pt x="1309" y="1198"/>
                </a:lnTo>
                <a:lnTo>
                  <a:pt x="1295" y="1245"/>
                </a:lnTo>
                <a:lnTo>
                  <a:pt x="1277" y="1295"/>
                </a:lnTo>
                <a:lnTo>
                  <a:pt x="1255" y="1338"/>
                </a:lnTo>
                <a:lnTo>
                  <a:pt x="1230" y="1381"/>
                </a:lnTo>
                <a:lnTo>
                  <a:pt x="1202" y="1421"/>
                </a:lnTo>
                <a:lnTo>
                  <a:pt x="1166" y="1457"/>
                </a:lnTo>
                <a:lnTo>
                  <a:pt x="1130" y="1489"/>
                </a:lnTo>
                <a:lnTo>
                  <a:pt x="1090" y="1522"/>
                </a:lnTo>
                <a:lnTo>
                  <a:pt x="1047" y="1547"/>
                </a:lnTo>
                <a:lnTo>
                  <a:pt x="1004" y="1568"/>
                </a:lnTo>
                <a:lnTo>
                  <a:pt x="957" y="1586"/>
                </a:lnTo>
                <a:lnTo>
                  <a:pt x="907" y="1597"/>
                </a:lnTo>
                <a:lnTo>
                  <a:pt x="856" y="1604"/>
                </a:lnTo>
                <a:lnTo>
                  <a:pt x="802" y="1608"/>
                </a:lnTo>
                <a:lnTo>
                  <a:pt x="752" y="1604"/>
                </a:lnTo>
                <a:lnTo>
                  <a:pt x="701" y="1597"/>
                </a:lnTo>
                <a:lnTo>
                  <a:pt x="651" y="1586"/>
                </a:lnTo>
                <a:lnTo>
                  <a:pt x="604" y="1568"/>
                </a:lnTo>
                <a:lnTo>
                  <a:pt x="561" y="1547"/>
                </a:lnTo>
                <a:lnTo>
                  <a:pt x="518" y="1522"/>
                </a:lnTo>
                <a:lnTo>
                  <a:pt x="478" y="1489"/>
                </a:lnTo>
                <a:lnTo>
                  <a:pt x="442" y="1457"/>
                </a:lnTo>
                <a:lnTo>
                  <a:pt x="406" y="1421"/>
                </a:lnTo>
                <a:lnTo>
                  <a:pt x="378" y="1381"/>
                </a:lnTo>
                <a:lnTo>
                  <a:pt x="353" y="1338"/>
                </a:lnTo>
                <a:lnTo>
                  <a:pt x="331" y="1295"/>
                </a:lnTo>
                <a:lnTo>
                  <a:pt x="313" y="1245"/>
                </a:lnTo>
                <a:lnTo>
                  <a:pt x="299" y="1198"/>
                </a:lnTo>
                <a:lnTo>
                  <a:pt x="291" y="1148"/>
                </a:lnTo>
                <a:lnTo>
                  <a:pt x="291" y="1094"/>
                </a:lnTo>
                <a:lnTo>
                  <a:pt x="291" y="1043"/>
                </a:lnTo>
                <a:lnTo>
                  <a:pt x="299" y="989"/>
                </a:lnTo>
                <a:lnTo>
                  <a:pt x="313" y="942"/>
                </a:lnTo>
                <a:lnTo>
                  <a:pt x="331" y="896"/>
                </a:lnTo>
                <a:lnTo>
                  <a:pt x="353" y="849"/>
                </a:lnTo>
                <a:lnTo>
                  <a:pt x="378" y="806"/>
                </a:lnTo>
                <a:lnTo>
                  <a:pt x="406" y="766"/>
                </a:lnTo>
                <a:lnTo>
                  <a:pt x="442" y="730"/>
                </a:lnTo>
                <a:lnTo>
                  <a:pt x="478" y="698"/>
                </a:lnTo>
                <a:lnTo>
                  <a:pt x="518" y="669"/>
                </a:lnTo>
                <a:lnTo>
                  <a:pt x="561" y="640"/>
                </a:lnTo>
                <a:lnTo>
                  <a:pt x="604" y="619"/>
                </a:lnTo>
                <a:lnTo>
                  <a:pt x="651" y="601"/>
                </a:lnTo>
                <a:lnTo>
                  <a:pt x="701" y="590"/>
                </a:lnTo>
                <a:lnTo>
                  <a:pt x="752" y="583"/>
                </a:lnTo>
                <a:lnTo>
                  <a:pt x="802" y="579"/>
                </a:lnTo>
                <a:close/>
                <a:moveTo>
                  <a:pt x="802" y="784"/>
                </a:moveTo>
                <a:lnTo>
                  <a:pt x="845" y="788"/>
                </a:lnTo>
                <a:lnTo>
                  <a:pt x="885" y="795"/>
                </a:lnTo>
                <a:lnTo>
                  <a:pt x="925" y="802"/>
                </a:lnTo>
                <a:lnTo>
                  <a:pt x="964" y="817"/>
                </a:lnTo>
                <a:lnTo>
                  <a:pt x="1000" y="835"/>
                </a:lnTo>
                <a:lnTo>
                  <a:pt x="1032" y="856"/>
                </a:lnTo>
                <a:lnTo>
                  <a:pt x="1065" y="881"/>
                </a:lnTo>
                <a:lnTo>
                  <a:pt x="1094" y="907"/>
                </a:lnTo>
                <a:lnTo>
                  <a:pt x="1122" y="935"/>
                </a:lnTo>
                <a:lnTo>
                  <a:pt x="1144" y="968"/>
                </a:lnTo>
                <a:lnTo>
                  <a:pt x="1166" y="1000"/>
                </a:lnTo>
                <a:lnTo>
                  <a:pt x="1184" y="1036"/>
                </a:lnTo>
                <a:lnTo>
                  <a:pt x="1198" y="1076"/>
                </a:lnTo>
                <a:lnTo>
                  <a:pt x="1205" y="1115"/>
                </a:lnTo>
                <a:lnTo>
                  <a:pt x="1212" y="1155"/>
                </a:lnTo>
                <a:lnTo>
                  <a:pt x="1216" y="1198"/>
                </a:lnTo>
                <a:lnTo>
                  <a:pt x="1212" y="1237"/>
                </a:lnTo>
                <a:lnTo>
                  <a:pt x="1205" y="1281"/>
                </a:lnTo>
                <a:lnTo>
                  <a:pt x="1198" y="1320"/>
                </a:lnTo>
                <a:lnTo>
                  <a:pt x="1184" y="1356"/>
                </a:lnTo>
                <a:lnTo>
                  <a:pt x="1166" y="1392"/>
                </a:lnTo>
                <a:lnTo>
                  <a:pt x="1144" y="1425"/>
                </a:lnTo>
                <a:lnTo>
                  <a:pt x="1122" y="1457"/>
                </a:lnTo>
                <a:lnTo>
                  <a:pt x="1094" y="1486"/>
                </a:lnTo>
                <a:lnTo>
                  <a:pt x="1065" y="1514"/>
                </a:lnTo>
                <a:lnTo>
                  <a:pt x="1032" y="1536"/>
                </a:lnTo>
                <a:lnTo>
                  <a:pt x="1000" y="1558"/>
                </a:lnTo>
                <a:lnTo>
                  <a:pt x="964" y="1576"/>
                </a:lnTo>
                <a:lnTo>
                  <a:pt x="925" y="1590"/>
                </a:lnTo>
                <a:lnTo>
                  <a:pt x="885" y="1601"/>
                </a:lnTo>
                <a:lnTo>
                  <a:pt x="845" y="1604"/>
                </a:lnTo>
                <a:lnTo>
                  <a:pt x="802" y="1608"/>
                </a:lnTo>
                <a:lnTo>
                  <a:pt x="763" y="1604"/>
                </a:lnTo>
                <a:lnTo>
                  <a:pt x="723" y="1601"/>
                </a:lnTo>
                <a:lnTo>
                  <a:pt x="683" y="1590"/>
                </a:lnTo>
                <a:lnTo>
                  <a:pt x="644" y="1576"/>
                </a:lnTo>
                <a:lnTo>
                  <a:pt x="608" y="1558"/>
                </a:lnTo>
                <a:lnTo>
                  <a:pt x="576" y="1536"/>
                </a:lnTo>
                <a:lnTo>
                  <a:pt x="543" y="1514"/>
                </a:lnTo>
                <a:lnTo>
                  <a:pt x="514" y="1486"/>
                </a:lnTo>
                <a:lnTo>
                  <a:pt x="486" y="1457"/>
                </a:lnTo>
                <a:lnTo>
                  <a:pt x="464" y="1425"/>
                </a:lnTo>
                <a:lnTo>
                  <a:pt x="442" y="1392"/>
                </a:lnTo>
                <a:lnTo>
                  <a:pt x="424" y="1356"/>
                </a:lnTo>
                <a:lnTo>
                  <a:pt x="410" y="1320"/>
                </a:lnTo>
                <a:lnTo>
                  <a:pt x="403" y="1281"/>
                </a:lnTo>
                <a:lnTo>
                  <a:pt x="396" y="1237"/>
                </a:lnTo>
                <a:lnTo>
                  <a:pt x="392" y="1198"/>
                </a:lnTo>
                <a:lnTo>
                  <a:pt x="396" y="1155"/>
                </a:lnTo>
                <a:lnTo>
                  <a:pt x="403" y="1115"/>
                </a:lnTo>
                <a:lnTo>
                  <a:pt x="410" y="1076"/>
                </a:lnTo>
                <a:lnTo>
                  <a:pt x="424" y="1036"/>
                </a:lnTo>
                <a:lnTo>
                  <a:pt x="442" y="1000"/>
                </a:lnTo>
                <a:lnTo>
                  <a:pt x="464" y="968"/>
                </a:lnTo>
                <a:lnTo>
                  <a:pt x="486" y="935"/>
                </a:lnTo>
                <a:lnTo>
                  <a:pt x="514" y="907"/>
                </a:lnTo>
                <a:lnTo>
                  <a:pt x="543" y="881"/>
                </a:lnTo>
                <a:lnTo>
                  <a:pt x="576" y="856"/>
                </a:lnTo>
                <a:lnTo>
                  <a:pt x="608" y="835"/>
                </a:lnTo>
                <a:lnTo>
                  <a:pt x="644" y="817"/>
                </a:lnTo>
                <a:lnTo>
                  <a:pt x="683" y="802"/>
                </a:lnTo>
                <a:lnTo>
                  <a:pt x="723" y="795"/>
                </a:lnTo>
                <a:lnTo>
                  <a:pt x="763" y="788"/>
                </a:lnTo>
                <a:lnTo>
                  <a:pt x="802" y="784"/>
                </a:lnTo>
                <a:close/>
                <a:moveTo>
                  <a:pt x="802" y="950"/>
                </a:moveTo>
                <a:lnTo>
                  <a:pt x="838" y="953"/>
                </a:lnTo>
                <a:lnTo>
                  <a:pt x="871" y="957"/>
                </a:lnTo>
                <a:lnTo>
                  <a:pt x="903" y="964"/>
                </a:lnTo>
                <a:lnTo>
                  <a:pt x="932" y="975"/>
                </a:lnTo>
                <a:lnTo>
                  <a:pt x="960" y="989"/>
                </a:lnTo>
                <a:lnTo>
                  <a:pt x="986" y="1007"/>
                </a:lnTo>
                <a:lnTo>
                  <a:pt x="1011" y="1025"/>
                </a:lnTo>
                <a:lnTo>
                  <a:pt x="1036" y="1047"/>
                </a:lnTo>
                <a:lnTo>
                  <a:pt x="1058" y="1072"/>
                </a:lnTo>
                <a:lnTo>
                  <a:pt x="1076" y="1097"/>
                </a:lnTo>
                <a:lnTo>
                  <a:pt x="1094" y="1122"/>
                </a:lnTo>
                <a:lnTo>
                  <a:pt x="1108" y="1151"/>
                </a:lnTo>
                <a:lnTo>
                  <a:pt x="1119" y="1184"/>
                </a:lnTo>
                <a:lnTo>
                  <a:pt x="1126" y="1212"/>
                </a:lnTo>
                <a:lnTo>
                  <a:pt x="1130" y="1245"/>
                </a:lnTo>
                <a:lnTo>
                  <a:pt x="1133" y="1281"/>
                </a:lnTo>
                <a:lnTo>
                  <a:pt x="1130" y="1313"/>
                </a:lnTo>
                <a:lnTo>
                  <a:pt x="1126" y="1345"/>
                </a:lnTo>
                <a:lnTo>
                  <a:pt x="1119" y="1378"/>
                </a:lnTo>
                <a:lnTo>
                  <a:pt x="1108" y="1407"/>
                </a:lnTo>
                <a:lnTo>
                  <a:pt x="1094" y="1435"/>
                </a:lnTo>
                <a:lnTo>
                  <a:pt x="1076" y="1464"/>
                </a:lnTo>
                <a:lnTo>
                  <a:pt x="1058" y="1489"/>
                </a:lnTo>
                <a:lnTo>
                  <a:pt x="1036" y="1511"/>
                </a:lnTo>
                <a:lnTo>
                  <a:pt x="1011" y="1532"/>
                </a:lnTo>
                <a:lnTo>
                  <a:pt x="986" y="1550"/>
                </a:lnTo>
                <a:lnTo>
                  <a:pt x="960" y="1568"/>
                </a:lnTo>
                <a:lnTo>
                  <a:pt x="932" y="1583"/>
                </a:lnTo>
                <a:lnTo>
                  <a:pt x="903" y="1594"/>
                </a:lnTo>
                <a:lnTo>
                  <a:pt x="871" y="1601"/>
                </a:lnTo>
                <a:lnTo>
                  <a:pt x="838" y="1608"/>
                </a:lnTo>
                <a:lnTo>
                  <a:pt x="802" y="1608"/>
                </a:lnTo>
                <a:lnTo>
                  <a:pt x="770" y="1608"/>
                </a:lnTo>
                <a:lnTo>
                  <a:pt x="737" y="1601"/>
                </a:lnTo>
                <a:lnTo>
                  <a:pt x="705" y="1594"/>
                </a:lnTo>
                <a:lnTo>
                  <a:pt x="676" y="1583"/>
                </a:lnTo>
                <a:lnTo>
                  <a:pt x="648" y="1568"/>
                </a:lnTo>
                <a:lnTo>
                  <a:pt x="622" y="1550"/>
                </a:lnTo>
                <a:lnTo>
                  <a:pt x="594" y="1532"/>
                </a:lnTo>
                <a:lnTo>
                  <a:pt x="572" y="1511"/>
                </a:lnTo>
                <a:lnTo>
                  <a:pt x="550" y="1489"/>
                </a:lnTo>
                <a:lnTo>
                  <a:pt x="532" y="1464"/>
                </a:lnTo>
                <a:lnTo>
                  <a:pt x="514" y="1435"/>
                </a:lnTo>
                <a:lnTo>
                  <a:pt x="500" y="1407"/>
                </a:lnTo>
                <a:lnTo>
                  <a:pt x="489" y="1378"/>
                </a:lnTo>
                <a:lnTo>
                  <a:pt x="482" y="1345"/>
                </a:lnTo>
                <a:lnTo>
                  <a:pt x="478" y="1313"/>
                </a:lnTo>
                <a:lnTo>
                  <a:pt x="475" y="1281"/>
                </a:lnTo>
                <a:lnTo>
                  <a:pt x="478" y="1245"/>
                </a:lnTo>
                <a:lnTo>
                  <a:pt x="482" y="1212"/>
                </a:lnTo>
                <a:lnTo>
                  <a:pt x="489" y="1184"/>
                </a:lnTo>
                <a:lnTo>
                  <a:pt x="500" y="1151"/>
                </a:lnTo>
                <a:lnTo>
                  <a:pt x="514" y="1122"/>
                </a:lnTo>
                <a:lnTo>
                  <a:pt x="532" y="1097"/>
                </a:lnTo>
                <a:lnTo>
                  <a:pt x="550" y="1072"/>
                </a:lnTo>
                <a:lnTo>
                  <a:pt x="572" y="1047"/>
                </a:lnTo>
                <a:lnTo>
                  <a:pt x="594" y="1025"/>
                </a:lnTo>
                <a:lnTo>
                  <a:pt x="622" y="1007"/>
                </a:lnTo>
                <a:lnTo>
                  <a:pt x="648" y="989"/>
                </a:lnTo>
                <a:lnTo>
                  <a:pt x="676" y="975"/>
                </a:lnTo>
                <a:lnTo>
                  <a:pt x="705" y="964"/>
                </a:lnTo>
                <a:lnTo>
                  <a:pt x="737" y="957"/>
                </a:lnTo>
                <a:lnTo>
                  <a:pt x="770" y="953"/>
                </a:lnTo>
                <a:lnTo>
                  <a:pt x="802" y="950"/>
                </a:lnTo>
                <a:close/>
                <a:moveTo>
                  <a:pt x="802" y="1083"/>
                </a:moveTo>
                <a:lnTo>
                  <a:pt x="831" y="1083"/>
                </a:lnTo>
                <a:lnTo>
                  <a:pt x="856" y="1086"/>
                </a:lnTo>
                <a:lnTo>
                  <a:pt x="881" y="1094"/>
                </a:lnTo>
                <a:lnTo>
                  <a:pt x="907" y="1104"/>
                </a:lnTo>
                <a:lnTo>
                  <a:pt x="928" y="1115"/>
                </a:lnTo>
                <a:lnTo>
                  <a:pt x="950" y="1126"/>
                </a:lnTo>
                <a:lnTo>
                  <a:pt x="971" y="1144"/>
                </a:lnTo>
                <a:lnTo>
                  <a:pt x="989" y="1158"/>
                </a:lnTo>
                <a:lnTo>
                  <a:pt x="1007" y="1180"/>
                </a:lnTo>
                <a:lnTo>
                  <a:pt x="1022" y="1198"/>
                </a:lnTo>
                <a:lnTo>
                  <a:pt x="1036" y="1219"/>
                </a:lnTo>
                <a:lnTo>
                  <a:pt x="1047" y="1245"/>
                </a:lnTo>
                <a:lnTo>
                  <a:pt x="1054" y="1266"/>
                </a:lnTo>
                <a:lnTo>
                  <a:pt x="1061" y="1291"/>
                </a:lnTo>
                <a:lnTo>
                  <a:pt x="1065" y="1320"/>
                </a:lnTo>
                <a:lnTo>
                  <a:pt x="1068" y="1345"/>
                </a:lnTo>
                <a:lnTo>
                  <a:pt x="1065" y="1371"/>
                </a:lnTo>
                <a:lnTo>
                  <a:pt x="1061" y="1399"/>
                </a:lnTo>
                <a:lnTo>
                  <a:pt x="1054" y="1425"/>
                </a:lnTo>
                <a:lnTo>
                  <a:pt x="1047" y="1446"/>
                </a:lnTo>
                <a:lnTo>
                  <a:pt x="1036" y="1471"/>
                </a:lnTo>
                <a:lnTo>
                  <a:pt x="1022" y="1493"/>
                </a:lnTo>
                <a:lnTo>
                  <a:pt x="1007" y="1511"/>
                </a:lnTo>
                <a:lnTo>
                  <a:pt x="989" y="1532"/>
                </a:lnTo>
                <a:lnTo>
                  <a:pt x="971" y="1547"/>
                </a:lnTo>
                <a:lnTo>
                  <a:pt x="950" y="1565"/>
                </a:lnTo>
                <a:lnTo>
                  <a:pt x="928" y="1576"/>
                </a:lnTo>
                <a:lnTo>
                  <a:pt x="907" y="1586"/>
                </a:lnTo>
                <a:lnTo>
                  <a:pt x="881" y="1597"/>
                </a:lnTo>
                <a:lnTo>
                  <a:pt x="856" y="1604"/>
                </a:lnTo>
                <a:lnTo>
                  <a:pt x="831" y="1608"/>
                </a:lnTo>
                <a:lnTo>
                  <a:pt x="802" y="1608"/>
                </a:lnTo>
                <a:lnTo>
                  <a:pt x="777" y="1608"/>
                </a:lnTo>
                <a:lnTo>
                  <a:pt x="752" y="1604"/>
                </a:lnTo>
                <a:lnTo>
                  <a:pt x="727" y="1597"/>
                </a:lnTo>
                <a:lnTo>
                  <a:pt x="701" y="1586"/>
                </a:lnTo>
                <a:lnTo>
                  <a:pt x="680" y="1576"/>
                </a:lnTo>
                <a:lnTo>
                  <a:pt x="658" y="1565"/>
                </a:lnTo>
                <a:lnTo>
                  <a:pt x="637" y="1547"/>
                </a:lnTo>
                <a:lnTo>
                  <a:pt x="619" y="1532"/>
                </a:lnTo>
                <a:lnTo>
                  <a:pt x="601" y="1511"/>
                </a:lnTo>
                <a:lnTo>
                  <a:pt x="586" y="1493"/>
                </a:lnTo>
                <a:lnTo>
                  <a:pt x="572" y="1471"/>
                </a:lnTo>
                <a:lnTo>
                  <a:pt x="561" y="1446"/>
                </a:lnTo>
                <a:lnTo>
                  <a:pt x="554" y="1425"/>
                </a:lnTo>
                <a:lnTo>
                  <a:pt x="547" y="1399"/>
                </a:lnTo>
                <a:lnTo>
                  <a:pt x="543" y="1371"/>
                </a:lnTo>
                <a:lnTo>
                  <a:pt x="540" y="1345"/>
                </a:lnTo>
                <a:lnTo>
                  <a:pt x="543" y="1320"/>
                </a:lnTo>
                <a:lnTo>
                  <a:pt x="547" y="1291"/>
                </a:lnTo>
                <a:lnTo>
                  <a:pt x="554" y="1266"/>
                </a:lnTo>
                <a:lnTo>
                  <a:pt x="561" y="1245"/>
                </a:lnTo>
                <a:lnTo>
                  <a:pt x="572" y="1219"/>
                </a:lnTo>
                <a:lnTo>
                  <a:pt x="586" y="1198"/>
                </a:lnTo>
                <a:lnTo>
                  <a:pt x="601" y="1180"/>
                </a:lnTo>
                <a:lnTo>
                  <a:pt x="619" y="1158"/>
                </a:lnTo>
                <a:lnTo>
                  <a:pt x="637" y="1144"/>
                </a:lnTo>
                <a:lnTo>
                  <a:pt x="658" y="1126"/>
                </a:lnTo>
                <a:lnTo>
                  <a:pt x="680" y="1115"/>
                </a:lnTo>
                <a:lnTo>
                  <a:pt x="701" y="1104"/>
                </a:lnTo>
                <a:lnTo>
                  <a:pt x="727" y="1094"/>
                </a:lnTo>
                <a:lnTo>
                  <a:pt x="752" y="1086"/>
                </a:lnTo>
                <a:lnTo>
                  <a:pt x="777" y="1083"/>
                </a:lnTo>
                <a:lnTo>
                  <a:pt x="802" y="1083"/>
                </a:lnTo>
                <a:close/>
                <a:moveTo>
                  <a:pt x="802" y="1187"/>
                </a:moveTo>
                <a:lnTo>
                  <a:pt x="824" y="1187"/>
                </a:lnTo>
                <a:lnTo>
                  <a:pt x="845" y="1191"/>
                </a:lnTo>
                <a:lnTo>
                  <a:pt x="867" y="1198"/>
                </a:lnTo>
                <a:lnTo>
                  <a:pt x="885" y="1205"/>
                </a:lnTo>
                <a:lnTo>
                  <a:pt x="903" y="1212"/>
                </a:lnTo>
                <a:lnTo>
                  <a:pt x="921" y="1223"/>
                </a:lnTo>
                <a:lnTo>
                  <a:pt x="939" y="1237"/>
                </a:lnTo>
                <a:lnTo>
                  <a:pt x="953" y="1248"/>
                </a:lnTo>
                <a:lnTo>
                  <a:pt x="968" y="1266"/>
                </a:lnTo>
                <a:lnTo>
                  <a:pt x="978" y="1281"/>
                </a:lnTo>
                <a:lnTo>
                  <a:pt x="989" y="1299"/>
                </a:lnTo>
                <a:lnTo>
                  <a:pt x="996" y="1317"/>
                </a:lnTo>
                <a:lnTo>
                  <a:pt x="1004" y="1335"/>
                </a:lnTo>
                <a:lnTo>
                  <a:pt x="1011" y="1356"/>
                </a:lnTo>
                <a:lnTo>
                  <a:pt x="1014" y="1378"/>
                </a:lnTo>
                <a:lnTo>
                  <a:pt x="1014" y="1399"/>
                </a:lnTo>
                <a:lnTo>
                  <a:pt x="1014" y="1421"/>
                </a:lnTo>
                <a:lnTo>
                  <a:pt x="1011" y="1439"/>
                </a:lnTo>
                <a:lnTo>
                  <a:pt x="1004" y="1461"/>
                </a:lnTo>
                <a:lnTo>
                  <a:pt x="996" y="1479"/>
                </a:lnTo>
                <a:lnTo>
                  <a:pt x="989" y="1496"/>
                </a:lnTo>
                <a:lnTo>
                  <a:pt x="978" y="1514"/>
                </a:lnTo>
                <a:lnTo>
                  <a:pt x="968" y="1532"/>
                </a:lnTo>
                <a:lnTo>
                  <a:pt x="953" y="1547"/>
                </a:lnTo>
                <a:lnTo>
                  <a:pt x="939" y="1561"/>
                </a:lnTo>
                <a:lnTo>
                  <a:pt x="921" y="1572"/>
                </a:lnTo>
                <a:lnTo>
                  <a:pt x="903" y="1583"/>
                </a:lnTo>
                <a:lnTo>
                  <a:pt x="885" y="1590"/>
                </a:lnTo>
                <a:lnTo>
                  <a:pt x="867" y="1597"/>
                </a:lnTo>
                <a:lnTo>
                  <a:pt x="845" y="1604"/>
                </a:lnTo>
                <a:lnTo>
                  <a:pt x="824" y="1608"/>
                </a:lnTo>
                <a:lnTo>
                  <a:pt x="802" y="1608"/>
                </a:lnTo>
                <a:lnTo>
                  <a:pt x="784" y="1608"/>
                </a:lnTo>
                <a:lnTo>
                  <a:pt x="763" y="1604"/>
                </a:lnTo>
                <a:lnTo>
                  <a:pt x="741" y="1597"/>
                </a:lnTo>
                <a:lnTo>
                  <a:pt x="723" y="1590"/>
                </a:lnTo>
                <a:lnTo>
                  <a:pt x="705" y="1583"/>
                </a:lnTo>
                <a:lnTo>
                  <a:pt x="687" y="1572"/>
                </a:lnTo>
                <a:lnTo>
                  <a:pt x="669" y="1561"/>
                </a:lnTo>
                <a:lnTo>
                  <a:pt x="655" y="1547"/>
                </a:lnTo>
                <a:lnTo>
                  <a:pt x="640" y="1532"/>
                </a:lnTo>
                <a:lnTo>
                  <a:pt x="630" y="1514"/>
                </a:lnTo>
                <a:lnTo>
                  <a:pt x="619" y="1496"/>
                </a:lnTo>
                <a:lnTo>
                  <a:pt x="612" y="1479"/>
                </a:lnTo>
                <a:lnTo>
                  <a:pt x="604" y="1461"/>
                </a:lnTo>
                <a:lnTo>
                  <a:pt x="597" y="1439"/>
                </a:lnTo>
                <a:lnTo>
                  <a:pt x="594" y="1421"/>
                </a:lnTo>
                <a:lnTo>
                  <a:pt x="594" y="1399"/>
                </a:lnTo>
                <a:lnTo>
                  <a:pt x="594" y="1378"/>
                </a:lnTo>
                <a:lnTo>
                  <a:pt x="597" y="1356"/>
                </a:lnTo>
                <a:lnTo>
                  <a:pt x="604" y="1335"/>
                </a:lnTo>
                <a:lnTo>
                  <a:pt x="612" y="1317"/>
                </a:lnTo>
                <a:lnTo>
                  <a:pt x="619" y="1299"/>
                </a:lnTo>
                <a:lnTo>
                  <a:pt x="630" y="1281"/>
                </a:lnTo>
                <a:lnTo>
                  <a:pt x="640" y="1266"/>
                </a:lnTo>
                <a:lnTo>
                  <a:pt x="655" y="1248"/>
                </a:lnTo>
                <a:lnTo>
                  <a:pt x="669" y="1237"/>
                </a:lnTo>
                <a:lnTo>
                  <a:pt x="687" y="1223"/>
                </a:lnTo>
                <a:lnTo>
                  <a:pt x="705" y="1212"/>
                </a:lnTo>
                <a:lnTo>
                  <a:pt x="723" y="1205"/>
                </a:lnTo>
                <a:lnTo>
                  <a:pt x="741" y="1198"/>
                </a:lnTo>
                <a:lnTo>
                  <a:pt x="763" y="1191"/>
                </a:lnTo>
                <a:lnTo>
                  <a:pt x="784" y="1187"/>
                </a:lnTo>
                <a:lnTo>
                  <a:pt x="802" y="1187"/>
                </a:lnTo>
                <a:close/>
                <a:moveTo>
                  <a:pt x="802" y="1273"/>
                </a:moveTo>
                <a:lnTo>
                  <a:pt x="838" y="1277"/>
                </a:lnTo>
                <a:lnTo>
                  <a:pt x="871" y="1284"/>
                </a:lnTo>
                <a:lnTo>
                  <a:pt x="899" y="1302"/>
                </a:lnTo>
                <a:lnTo>
                  <a:pt x="921" y="1320"/>
                </a:lnTo>
                <a:lnTo>
                  <a:pt x="942" y="1345"/>
                </a:lnTo>
                <a:lnTo>
                  <a:pt x="960" y="1374"/>
                </a:lnTo>
                <a:lnTo>
                  <a:pt x="968" y="1407"/>
                </a:lnTo>
                <a:lnTo>
                  <a:pt x="971" y="1439"/>
                </a:lnTo>
                <a:lnTo>
                  <a:pt x="968" y="1475"/>
                </a:lnTo>
                <a:lnTo>
                  <a:pt x="960" y="1504"/>
                </a:lnTo>
                <a:lnTo>
                  <a:pt x="942" y="1532"/>
                </a:lnTo>
                <a:lnTo>
                  <a:pt x="921" y="1558"/>
                </a:lnTo>
                <a:lnTo>
                  <a:pt x="899" y="1579"/>
                </a:lnTo>
                <a:lnTo>
                  <a:pt x="871" y="1594"/>
                </a:lnTo>
                <a:lnTo>
                  <a:pt x="838" y="1604"/>
                </a:lnTo>
                <a:lnTo>
                  <a:pt x="802" y="1608"/>
                </a:lnTo>
                <a:lnTo>
                  <a:pt x="770" y="1604"/>
                </a:lnTo>
                <a:lnTo>
                  <a:pt x="737" y="1594"/>
                </a:lnTo>
                <a:lnTo>
                  <a:pt x="709" y="1579"/>
                </a:lnTo>
                <a:lnTo>
                  <a:pt x="687" y="1558"/>
                </a:lnTo>
                <a:lnTo>
                  <a:pt x="666" y="1532"/>
                </a:lnTo>
                <a:lnTo>
                  <a:pt x="648" y="1504"/>
                </a:lnTo>
                <a:lnTo>
                  <a:pt x="640" y="1475"/>
                </a:lnTo>
                <a:lnTo>
                  <a:pt x="637" y="1439"/>
                </a:lnTo>
                <a:lnTo>
                  <a:pt x="640" y="1407"/>
                </a:lnTo>
                <a:lnTo>
                  <a:pt x="648" y="1374"/>
                </a:lnTo>
                <a:lnTo>
                  <a:pt x="666" y="1345"/>
                </a:lnTo>
                <a:lnTo>
                  <a:pt x="687" y="1320"/>
                </a:lnTo>
                <a:lnTo>
                  <a:pt x="709" y="1302"/>
                </a:lnTo>
                <a:lnTo>
                  <a:pt x="737" y="1284"/>
                </a:lnTo>
                <a:lnTo>
                  <a:pt x="770" y="1277"/>
                </a:lnTo>
                <a:lnTo>
                  <a:pt x="802" y="1273"/>
                </a:lnTo>
                <a:close/>
                <a:moveTo>
                  <a:pt x="802" y="1338"/>
                </a:moveTo>
                <a:lnTo>
                  <a:pt x="831" y="1342"/>
                </a:lnTo>
                <a:lnTo>
                  <a:pt x="856" y="1349"/>
                </a:lnTo>
                <a:lnTo>
                  <a:pt x="878" y="1363"/>
                </a:lnTo>
                <a:lnTo>
                  <a:pt x="899" y="1378"/>
                </a:lnTo>
                <a:lnTo>
                  <a:pt x="914" y="1399"/>
                </a:lnTo>
                <a:lnTo>
                  <a:pt x="928" y="1421"/>
                </a:lnTo>
                <a:lnTo>
                  <a:pt x="935" y="1446"/>
                </a:lnTo>
                <a:lnTo>
                  <a:pt x="939" y="1475"/>
                </a:lnTo>
                <a:lnTo>
                  <a:pt x="935" y="1500"/>
                </a:lnTo>
                <a:lnTo>
                  <a:pt x="928" y="1525"/>
                </a:lnTo>
                <a:lnTo>
                  <a:pt x="914" y="1550"/>
                </a:lnTo>
                <a:lnTo>
                  <a:pt x="899" y="1568"/>
                </a:lnTo>
                <a:lnTo>
                  <a:pt x="878" y="1586"/>
                </a:lnTo>
                <a:lnTo>
                  <a:pt x="856" y="1597"/>
                </a:lnTo>
                <a:lnTo>
                  <a:pt x="831" y="1604"/>
                </a:lnTo>
                <a:lnTo>
                  <a:pt x="802" y="1608"/>
                </a:lnTo>
                <a:lnTo>
                  <a:pt x="777" y="1604"/>
                </a:lnTo>
                <a:lnTo>
                  <a:pt x="752" y="1597"/>
                </a:lnTo>
                <a:lnTo>
                  <a:pt x="730" y="1586"/>
                </a:lnTo>
                <a:lnTo>
                  <a:pt x="709" y="1568"/>
                </a:lnTo>
                <a:lnTo>
                  <a:pt x="694" y="1550"/>
                </a:lnTo>
                <a:lnTo>
                  <a:pt x="680" y="1525"/>
                </a:lnTo>
                <a:lnTo>
                  <a:pt x="673" y="1500"/>
                </a:lnTo>
                <a:lnTo>
                  <a:pt x="669" y="1475"/>
                </a:lnTo>
                <a:lnTo>
                  <a:pt x="673" y="1446"/>
                </a:lnTo>
                <a:lnTo>
                  <a:pt x="680" y="1421"/>
                </a:lnTo>
                <a:lnTo>
                  <a:pt x="694" y="1399"/>
                </a:lnTo>
                <a:lnTo>
                  <a:pt x="709" y="1378"/>
                </a:lnTo>
                <a:lnTo>
                  <a:pt x="730" y="1363"/>
                </a:lnTo>
                <a:lnTo>
                  <a:pt x="752" y="1349"/>
                </a:lnTo>
                <a:lnTo>
                  <a:pt x="777" y="1342"/>
                </a:lnTo>
                <a:lnTo>
                  <a:pt x="802" y="133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4" name="Picture 222" descr="Shape 274"/>
          <p:cNvPicPr/>
          <p:nvPr/>
        </p:nvPicPr>
        <p:blipFill>
          <a:blip r:embed="rId2"/>
          <a:stretch/>
        </p:blipFill>
        <p:spPr>
          <a:xfrm>
            <a:off x="1060560" y="517536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6925" name="Picture 223" descr="Snowflake 28"/>
          <p:cNvPicPr/>
          <p:nvPr/>
        </p:nvPicPr>
        <p:blipFill>
          <a:blip r:embed="rId3"/>
          <a:stretch/>
        </p:blipFill>
        <p:spPr>
          <a:xfrm>
            <a:off x="4724280" y="5100480"/>
            <a:ext cx="1181160" cy="1109880"/>
          </a:xfrm>
          <a:prstGeom prst="rect">
            <a:avLst/>
          </a:prstGeom>
          <a:ln w="0">
            <a:noFill/>
          </a:ln>
        </p:spPr>
      </p:pic>
      <p:sp>
        <p:nvSpPr>
          <p:cNvPr id="6926" name="AutoShape 224"/>
          <p:cNvSpPr/>
          <p:nvPr/>
        </p:nvSpPr>
        <p:spPr>
          <a:xfrm>
            <a:off x="6934320" y="5029200"/>
            <a:ext cx="1181160" cy="11811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Text Box 226"/>
          <p:cNvSpPr/>
          <p:nvPr/>
        </p:nvSpPr>
        <p:spPr>
          <a:xfrm>
            <a:off x="419040" y="14288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8" name="Text Box 227"/>
          <p:cNvSpPr/>
          <p:nvPr/>
        </p:nvSpPr>
        <p:spPr>
          <a:xfrm>
            <a:off x="2101680" y="143496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9" name="Text Box 228"/>
          <p:cNvSpPr/>
          <p:nvPr/>
        </p:nvSpPr>
        <p:spPr>
          <a:xfrm>
            <a:off x="3860640" y="14414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Text Box 229"/>
          <p:cNvSpPr/>
          <p:nvPr/>
        </p:nvSpPr>
        <p:spPr>
          <a:xfrm>
            <a:off x="6229440" y="144792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1" name="Text Box 230"/>
          <p:cNvSpPr/>
          <p:nvPr/>
        </p:nvSpPr>
        <p:spPr>
          <a:xfrm>
            <a:off x="44460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Text Box 231"/>
          <p:cNvSpPr/>
          <p:nvPr/>
        </p:nvSpPr>
        <p:spPr>
          <a:xfrm>
            <a:off x="2413080" y="321300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3" name="Text Box 232"/>
          <p:cNvSpPr/>
          <p:nvPr/>
        </p:nvSpPr>
        <p:spPr>
          <a:xfrm>
            <a:off x="4038480" y="32004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Text Box 233"/>
          <p:cNvSpPr/>
          <p:nvPr/>
        </p:nvSpPr>
        <p:spPr>
          <a:xfrm>
            <a:off x="619776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5" name="Text Box 234"/>
          <p:cNvSpPr/>
          <p:nvPr/>
        </p:nvSpPr>
        <p:spPr>
          <a:xfrm>
            <a:off x="419040" y="491508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6" name="Text Box 235"/>
          <p:cNvSpPr/>
          <p:nvPr/>
        </p:nvSpPr>
        <p:spPr>
          <a:xfrm>
            <a:off x="2209680" y="48960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Text Box 236"/>
          <p:cNvSpPr/>
          <p:nvPr/>
        </p:nvSpPr>
        <p:spPr>
          <a:xfrm>
            <a:off x="4102200" y="49402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8" name="Text Box 237"/>
          <p:cNvSpPr/>
          <p:nvPr/>
        </p:nvSpPr>
        <p:spPr>
          <a:xfrm>
            <a:off x="6280200" y="494676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Text Box 238"/>
          <p:cNvSpPr/>
          <p:nvPr/>
        </p:nvSpPr>
        <p:spPr>
          <a:xfrm>
            <a:off x="952560" y="28576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Text Box 239"/>
          <p:cNvSpPr/>
          <p:nvPr/>
        </p:nvSpPr>
        <p:spPr>
          <a:xfrm>
            <a:off x="2717640" y="28735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Text Box 240"/>
          <p:cNvSpPr/>
          <p:nvPr/>
        </p:nvSpPr>
        <p:spPr>
          <a:xfrm>
            <a:off x="4657680" y="28512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Text Box 241"/>
          <p:cNvSpPr/>
          <p:nvPr/>
        </p:nvSpPr>
        <p:spPr>
          <a:xfrm>
            <a:off x="6864480" y="28256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Text Box 242"/>
          <p:cNvSpPr/>
          <p:nvPr/>
        </p:nvSpPr>
        <p:spPr>
          <a:xfrm>
            <a:off x="1054080" y="46069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Text Box 243"/>
          <p:cNvSpPr/>
          <p:nvPr/>
        </p:nvSpPr>
        <p:spPr>
          <a:xfrm>
            <a:off x="2813040" y="45943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Text Box 244"/>
          <p:cNvSpPr/>
          <p:nvPr/>
        </p:nvSpPr>
        <p:spPr>
          <a:xfrm>
            <a:off x="4762440" y="45813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Text Box 245"/>
          <p:cNvSpPr/>
          <p:nvPr/>
        </p:nvSpPr>
        <p:spPr>
          <a:xfrm>
            <a:off x="6940440" y="45784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Text Box 246"/>
          <p:cNvSpPr/>
          <p:nvPr/>
        </p:nvSpPr>
        <p:spPr>
          <a:xfrm>
            <a:off x="1012680" y="61466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Text Box 247"/>
          <p:cNvSpPr/>
          <p:nvPr/>
        </p:nvSpPr>
        <p:spPr>
          <a:xfrm>
            <a:off x="2714760" y="61531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Text Box 248"/>
          <p:cNvSpPr/>
          <p:nvPr/>
        </p:nvSpPr>
        <p:spPr>
          <a:xfrm>
            <a:off x="4816440" y="61786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Text Box 249"/>
          <p:cNvSpPr/>
          <p:nvPr/>
        </p:nvSpPr>
        <p:spPr>
          <a:xfrm>
            <a:off x="7013520" y="61848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6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6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6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6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6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6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6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1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shee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2" name="Text Box 137"/>
          <p:cNvSpPr/>
          <p:nvPr/>
        </p:nvSpPr>
        <p:spPr>
          <a:xfrm>
            <a:off x="2228760" y="46836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3" name="Text Box 138"/>
          <p:cNvSpPr/>
          <p:nvPr/>
        </p:nvSpPr>
        <p:spPr>
          <a:xfrm>
            <a:off x="685800" y="106668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 the order of rotational symmetry for each shape belo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4" name="Freeform 139"/>
          <p:cNvSpPr/>
          <p:nvPr/>
        </p:nvSpPr>
        <p:spPr>
          <a:xfrm>
            <a:off x="857160" y="1554120"/>
            <a:ext cx="1187640" cy="1389240"/>
          </a:xfrm>
          <a:custGeom>
            <a:avLst/>
            <a:gdLst/>
            <a:ahLst/>
            <a:rect l="l" t="t" r="r" b="b"/>
            <a:pathLst>
              <a:path w="2327" h="2724">
                <a:moveTo>
                  <a:pt x="772" y="2043"/>
                </a:moveTo>
                <a:lnTo>
                  <a:pt x="1166" y="2724"/>
                </a:lnTo>
                <a:lnTo>
                  <a:pt x="1555" y="2043"/>
                </a:lnTo>
                <a:lnTo>
                  <a:pt x="2327" y="2043"/>
                </a:lnTo>
                <a:lnTo>
                  <a:pt x="2322" y="2033"/>
                </a:lnTo>
                <a:lnTo>
                  <a:pt x="1425" y="2033"/>
                </a:lnTo>
                <a:lnTo>
                  <a:pt x="1171" y="2475"/>
                </a:lnTo>
                <a:lnTo>
                  <a:pt x="916" y="2033"/>
                </a:lnTo>
                <a:lnTo>
                  <a:pt x="1425" y="2033"/>
                </a:lnTo>
                <a:lnTo>
                  <a:pt x="2322" y="2033"/>
                </a:lnTo>
                <a:lnTo>
                  <a:pt x="2015" y="1487"/>
                </a:lnTo>
                <a:lnTo>
                  <a:pt x="1886" y="1487"/>
                </a:lnTo>
                <a:lnTo>
                  <a:pt x="2145" y="1928"/>
                </a:lnTo>
                <a:lnTo>
                  <a:pt x="1636" y="1928"/>
                </a:lnTo>
                <a:lnTo>
                  <a:pt x="1886" y="1487"/>
                </a:lnTo>
                <a:lnTo>
                  <a:pt x="2015" y="1487"/>
                </a:lnTo>
                <a:lnTo>
                  <a:pt x="1943" y="1362"/>
                </a:lnTo>
                <a:lnTo>
                  <a:pt x="2265" y="791"/>
                </a:lnTo>
                <a:lnTo>
                  <a:pt x="2130" y="791"/>
                </a:lnTo>
                <a:lnTo>
                  <a:pt x="1881" y="1232"/>
                </a:lnTo>
                <a:lnTo>
                  <a:pt x="1631" y="801"/>
                </a:lnTo>
                <a:lnTo>
                  <a:pt x="1497" y="801"/>
                </a:lnTo>
                <a:lnTo>
                  <a:pt x="1818" y="1357"/>
                </a:lnTo>
                <a:lnTo>
                  <a:pt x="1497" y="1918"/>
                </a:lnTo>
                <a:lnTo>
                  <a:pt x="849" y="1918"/>
                </a:lnTo>
                <a:lnTo>
                  <a:pt x="600" y="1482"/>
                </a:lnTo>
                <a:lnTo>
                  <a:pt x="465" y="1482"/>
                </a:lnTo>
                <a:lnTo>
                  <a:pt x="725" y="1923"/>
                </a:lnTo>
                <a:lnTo>
                  <a:pt x="216" y="1923"/>
                </a:lnTo>
                <a:lnTo>
                  <a:pt x="465" y="1482"/>
                </a:lnTo>
                <a:lnTo>
                  <a:pt x="600" y="1482"/>
                </a:lnTo>
                <a:lnTo>
                  <a:pt x="528" y="1357"/>
                </a:lnTo>
                <a:lnTo>
                  <a:pt x="849" y="801"/>
                </a:lnTo>
                <a:lnTo>
                  <a:pt x="1497" y="801"/>
                </a:lnTo>
                <a:lnTo>
                  <a:pt x="1631" y="801"/>
                </a:lnTo>
                <a:lnTo>
                  <a:pt x="1622" y="791"/>
                </a:lnTo>
                <a:lnTo>
                  <a:pt x="2130" y="791"/>
                </a:lnTo>
                <a:lnTo>
                  <a:pt x="2265" y="791"/>
                </a:lnTo>
                <a:lnTo>
                  <a:pt x="2274" y="777"/>
                </a:lnTo>
                <a:lnTo>
                  <a:pt x="710" y="777"/>
                </a:lnTo>
                <a:lnTo>
                  <a:pt x="461" y="1218"/>
                </a:lnTo>
                <a:lnTo>
                  <a:pt x="202" y="777"/>
                </a:lnTo>
                <a:lnTo>
                  <a:pt x="710" y="777"/>
                </a:lnTo>
                <a:lnTo>
                  <a:pt x="2274" y="777"/>
                </a:lnTo>
                <a:lnTo>
                  <a:pt x="2327" y="681"/>
                </a:lnTo>
                <a:lnTo>
                  <a:pt x="1555" y="681"/>
                </a:lnTo>
                <a:lnTo>
                  <a:pt x="1300" y="235"/>
                </a:lnTo>
                <a:lnTo>
                  <a:pt x="1166" y="235"/>
                </a:lnTo>
                <a:lnTo>
                  <a:pt x="1415" y="676"/>
                </a:lnTo>
                <a:lnTo>
                  <a:pt x="912" y="676"/>
                </a:lnTo>
                <a:lnTo>
                  <a:pt x="1166" y="235"/>
                </a:lnTo>
                <a:lnTo>
                  <a:pt x="1300" y="235"/>
                </a:lnTo>
                <a:lnTo>
                  <a:pt x="1171" y="0"/>
                </a:lnTo>
                <a:lnTo>
                  <a:pt x="777" y="681"/>
                </a:lnTo>
                <a:lnTo>
                  <a:pt x="0" y="681"/>
                </a:lnTo>
                <a:lnTo>
                  <a:pt x="384" y="1357"/>
                </a:lnTo>
                <a:lnTo>
                  <a:pt x="0" y="2043"/>
                </a:lnTo>
                <a:lnTo>
                  <a:pt x="772" y="2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5" name="Group 140"/>
          <p:cNvGrpSpPr/>
          <p:nvPr/>
        </p:nvGrpSpPr>
        <p:grpSpPr>
          <a:xfrm>
            <a:off x="2531880" y="1630440"/>
            <a:ext cx="1258560" cy="1258560"/>
            <a:chOff x="2531880" y="1630440"/>
            <a:chExt cx="1258560" cy="1258560"/>
          </a:xfrm>
        </p:grpSpPr>
        <p:grpSp>
          <p:nvGrpSpPr>
            <p:cNvPr id="6956" name="Group 141"/>
            <p:cNvGrpSpPr/>
            <p:nvPr/>
          </p:nvGrpSpPr>
          <p:grpSpPr>
            <a:xfrm>
              <a:off x="2531880" y="1631160"/>
              <a:ext cx="1257840" cy="1257840"/>
              <a:chOff x="2531880" y="1631160"/>
              <a:chExt cx="1257840" cy="1257840"/>
            </a:xfrm>
          </p:grpSpPr>
          <p:sp>
            <p:nvSpPr>
              <p:cNvPr id="6957" name="Freeform 142"/>
              <p:cNvSpPr/>
              <p:nvPr/>
            </p:nvSpPr>
            <p:spPr>
              <a:xfrm rot="5400000">
                <a:off x="3160800" y="2260080"/>
                <a:ext cx="629640" cy="628200"/>
              </a:xfrm>
              <a:custGeom>
                <a:avLst/>
                <a:gdLst/>
                <a:ahLst/>
                <a:rect l="l" t="t" r="r" b="b"/>
                <a:pathLst>
                  <a:path w="804" h="803">
                    <a:moveTo>
                      <a:pt x="804" y="803"/>
                    </a:moveTo>
                    <a:lnTo>
                      <a:pt x="790" y="641"/>
                    </a:lnTo>
                    <a:lnTo>
                      <a:pt x="740" y="493"/>
                    </a:lnTo>
                    <a:lnTo>
                      <a:pt x="670" y="352"/>
                    </a:lnTo>
                    <a:lnTo>
                      <a:pt x="571" y="233"/>
                    </a:lnTo>
                    <a:lnTo>
                      <a:pt x="452" y="134"/>
                    </a:lnTo>
                    <a:lnTo>
                      <a:pt x="311" y="63"/>
                    </a:lnTo>
                    <a:lnTo>
                      <a:pt x="163" y="14"/>
                    </a:lnTo>
                    <a:lnTo>
                      <a:pt x="0" y="0"/>
                    </a:lnTo>
                    <a:lnTo>
                      <a:pt x="0" y="803"/>
                    </a:lnTo>
                    <a:lnTo>
                      <a:pt x="804" y="8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Freeform 143"/>
              <p:cNvSpPr/>
              <p:nvPr/>
            </p:nvSpPr>
            <p:spPr>
              <a:xfrm rot="5400000">
                <a:off x="2531880" y="2259360"/>
                <a:ext cx="629640" cy="629640"/>
              </a:xfrm>
              <a:custGeom>
                <a:avLst/>
                <a:gdLst/>
                <a:ahLst/>
                <a:rect l="l" t="t" r="r" b="b"/>
                <a:pathLst>
                  <a:path w="804" h="804">
                    <a:moveTo>
                      <a:pt x="0" y="804"/>
                    </a:moveTo>
                    <a:lnTo>
                      <a:pt x="163" y="790"/>
                    </a:lnTo>
                    <a:lnTo>
                      <a:pt x="311" y="740"/>
                    </a:lnTo>
                    <a:lnTo>
                      <a:pt x="452" y="670"/>
                    </a:lnTo>
                    <a:lnTo>
                      <a:pt x="571" y="571"/>
                    </a:lnTo>
                    <a:lnTo>
                      <a:pt x="670" y="452"/>
                    </a:lnTo>
                    <a:lnTo>
                      <a:pt x="740" y="311"/>
                    </a:lnTo>
                    <a:lnTo>
                      <a:pt x="790" y="163"/>
                    </a:lnTo>
                    <a:lnTo>
                      <a:pt x="804" y="0"/>
                    </a:lnTo>
                    <a:lnTo>
                      <a:pt x="0" y="0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9" name="Freeform 144"/>
              <p:cNvSpPr/>
              <p:nvPr/>
            </p:nvSpPr>
            <p:spPr>
              <a:xfrm rot="5400000">
                <a:off x="2532600" y="1630440"/>
                <a:ext cx="628200" cy="629640"/>
              </a:xfrm>
              <a:custGeom>
                <a:avLst/>
                <a:gdLst/>
                <a:ahLst/>
                <a:rect l="l" t="t" r="r" b="b"/>
                <a:pathLst>
                  <a:path w="803" h="804">
                    <a:moveTo>
                      <a:pt x="0" y="0"/>
                    </a:moveTo>
                    <a:lnTo>
                      <a:pt x="14" y="163"/>
                    </a:lnTo>
                    <a:lnTo>
                      <a:pt x="63" y="311"/>
                    </a:lnTo>
                    <a:lnTo>
                      <a:pt x="134" y="452"/>
                    </a:lnTo>
                    <a:lnTo>
                      <a:pt x="233" y="571"/>
                    </a:lnTo>
                    <a:lnTo>
                      <a:pt x="352" y="670"/>
                    </a:lnTo>
                    <a:lnTo>
                      <a:pt x="493" y="740"/>
                    </a:lnTo>
                    <a:lnTo>
                      <a:pt x="641" y="790"/>
                    </a:lnTo>
                    <a:lnTo>
                      <a:pt x="803" y="804"/>
                    </a:lnTo>
                    <a:lnTo>
                      <a:pt x="80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0" name="Freeform 145"/>
              <p:cNvSpPr/>
              <p:nvPr/>
            </p:nvSpPr>
            <p:spPr>
              <a:xfrm rot="5400000">
                <a:off x="3161520" y="1631160"/>
                <a:ext cx="628200" cy="628200"/>
              </a:xfrm>
              <a:custGeom>
                <a:avLst/>
                <a:gdLst/>
                <a:ahLst/>
                <a:rect l="l" t="t" r="r" b="b"/>
                <a:pathLst>
                  <a:path w="803" h="803">
                    <a:moveTo>
                      <a:pt x="803" y="0"/>
                    </a:moveTo>
                    <a:lnTo>
                      <a:pt x="641" y="14"/>
                    </a:lnTo>
                    <a:lnTo>
                      <a:pt x="493" y="63"/>
                    </a:lnTo>
                    <a:lnTo>
                      <a:pt x="352" y="134"/>
                    </a:lnTo>
                    <a:lnTo>
                      <a:pt x="233" y="233"/>
                    </a:lnTo>
                    <a:lnTo>
                      <a:pt x="134" y="352"/>
                    </a:lnTo>
                    <a:lnTo>
                      <a:pt x="63" y="493"/>
                    </a:lnTo>
                    <a:lnTo>
                      <a:pt x="14" y="641"/>
                    </a:lnTo>
                    <a:lnTo>
                      <a:pt x="0" y="803"/>
                    </a:lnTo>
                    <a:lnTo>
                      <a:pt x="803" y="803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1" name="Group 146"/>
            <p:cNvGrpSpPr/>
            <p:nvPr/>
          </p:nvGrpSpPr>
          <p:grpSpPr>
            <a:xfrm>
              <a:off x="2532600" y="1630440"/>
              <a:ext cx="1257840" cy="1257840"/>
              <a:chOff x="2532600" y="1630440"/>
              <a:chExt cx="1257840" cy="1257840"/>
            </a:xfrm>
          </p:grpSpPr>
          <p:sp>
            <p:nvSpPr>
              <p:cNvPr id="6962" name="Freeform 147"/>
              <p:cNvSpPr/>
              <p:nvPr/>
            </p:nvSpPr>
            <p:spPr>
              <a:xfrm rot="5400000">
                <a:off x="3161520" y="2259360"/>
                <a:ext cx="629280" cy="628560"/>
              </a:xfrm>
              <a:custGeom>
                <a:avLst/>
                <a:gdLst/>
                <a:ahLst/>
                <a:rect l="l" t="t" r="r" b="b"/>
                <a:pathLst>
                  <a:path w="804" h="803">
                    <a:moveTo>
                      <a:pt x="804" y="803"/>
                    </a:moveTo>
                    <a:lnTo>
                      <a:pt x="790" y="641"/>
                    </a:lnTo>
                    <a:lnTo>
                      <a:pt x="740" y="493"/>
                    </a:lnTo>
                    <a:lnTo>
                      <a:pt x="670" y="352"/>
                    </a:lnTo>
                    <a:lnTo>
                      <a:pt x="571" y="233"/>
                    </a:lnTo>
                    <a:lnTo>
                      <a:pt x="452" y="134"/>
                    </a:lnTo>
                    <a:lnTo>
                      <a:pt x="311" y="63"/>
                    </a:lnTo>
                    <a:lnTo>
                      <a:pt x="163" y="14"/>
                    </a:lnTo>
                    <a:lnTo>
                      <a:pt x="0" y="0"/>
                    </a:lnTo>
                    <a:lnTo>
                      <a:pt x="0" y="803"/>
                    </a:lnTo>
                    <a:lnTo>
                      <a:pt x="804" y="80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3" name="Freeform 148"/>
              <p:cNvSpPr/>
              <p:nvPr/>
            </p:nvSpPr>
            <p:spPr>
              <a:xfrm rot="5400000">
                <a:off x="2532600" y="2259000"/>
                <a:ext cx="629280" cy="629280"/>
              </a:xfrm>
              <a:custGeom>
                <a:avLst/>
                <a:gdLst/>
                <a:ahLst/>
                <a:rect l="l" t="t" r="r" b="b"/>
                <a:pathLst>
                  <a:path w="804" h="804">
                    <a:moveTo>
                      <a:pt x="0" y="804"/>
                    </a:moveTo>
                    <a:lnTo>
                      <a:pt x="163" y="790"/>
                    </a:lnTo>
                    <a:lnTo>
                      <a:pt x="311" y="740"/>
                    </a:lnTo>
                    <a:lnTo>
                      <a:pt x="452" y="670"/>
                    </a:lnTo>
                    <a:lnTo>
                      <a:pt x="571" y="571"/>
                    </a:lnTo>
                    <a:lnTo>
                      <a:pt x="670" y="452"/>
                    </a:lnTo>
                    <a:lnTo>
                      <a:pt x="740" y="311"/>
                    </a:lnTo>
                    <a:lnTo>
                      <a:pt x="790" y="163"/>
                    </a:lnTo>
                    <a:lnTo>
                      <a:pt x="804" y="0"/>
                    </a:lnTo>
                    <a:lnTo>
                      <a:pt x="0" y="0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Freeform 149"/>
              <p:cNvSpPr/>
              <p:nvPr/>
            </p:nvSpPr>
            <p:spPr>
              <a:xfrm rot="5400000">
                <a:off x="2532960" y="1630080"/>
                <a:ext cx="628560" cy="629280"/>
              </a:xfrm>
              <a:custGeom>
                <a:avLst/>
                <a:gdLst/>
                <a:ahLst/>
                <a:rect l="l" t="t" r="r" b="b"/>
                <a:pathLst>
                  <a:path w="803" h="804">
                    <a:moveTo>
                      <a:pt x="0" y="0"/>
                    </a:moveTo>
                    <a:lnTo>
                      <a:pt x="14" y="163"/>
                    </a:lnTo>
                    <a:lnTo>
                      <a:pt x="63" y="311"/>
                    </a:lnTo>
                    <a:lnTo>
                      <a:pt x="134" y="452"/>
                    </a:lnTo>
                    <a:lnTo>
                      <a:pt x="233" y="571"/>
                    </a:lnTo>
                    <a:lnTo>
                      <a:pt x="352" y="670"/>
                    </a:lnTo>
                    <a:lnTo>
                      <a:pt x="493" y="740"/>
                    </a:lnTo>
                    <a:lnTo>
                      <a:pt x="641" y="790"/>
                    </a:lnTo>
                    <a:lnTo>
                      <a:pt x="803" y="804"/>
                    </a:lnTo>
                    <a:lnTo>
                      <a:pt x="80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Freeform 150"/>
              <p:cNvSpPr/>
              <p:nvPr/>
            </p:nvSpPr>
            <p:spPr>
              <a:xfrm rot="5400000">
                <a:off x="3161880" y="1630440"/>
                <a:ext cx="628560" cy="628560"/>
              </a:xfrm>
              <a:custGeom>
                <a:avLst/>
                <a:gdLst/>
                <a:ahLst/>
                <a:rect l="l" t="t" r="r" b="b"/>
                <a:pathLst>
                  <a:path w="803" h="803">
                    <a:moveTo>
                      <a:pt x="803" y="0"/>
                    </a:moveTo>
                    <a:lnTo>
                      <a:pt x="641" y="14"/>
                    </a:lnTo>
                    <a:lnTo>
                      <a:pt x="493" y="63"/>
                    </a:lnTo>
                    <a:lnTo>
                      <a:pt x="352" y="134"/>
                    </a:lnTo>
                    <a:lnTo>
                      <a:pt x="233" y="233"/>
                    </a:lnTo>
                    <a:lnTo>
                      <a:pt x="134" y="352"/>
                    </a:lnTo>
                    <a:lnTo>
                      <a:pt x="63" y="493"/>
                    </a:lnTo>
                    <a:lnTo>
                      <a:pt x="14" y="641"/>
                    </a:lnTo>
                    <a:lnTo>
                      <a:pt x="0" y="803"/>
                    </a:lnTo>
                    <a:lnTo>
                      <a:pt x="803" y="803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6" name="Group 151"/>
          <p:cNvGrpSpPr/>
          <p:nvPr/>
        </p:nvGrpSpPr>
        <p:grpSpPr>
          <a:xfrm>
            <a:off x="963720" y="3360600"/>
            <a:ext cx="1220760" cy="1220760"/>
            <a:chOff x="963720" y="3360600"/>
            <a:chExt cx="1220760" cy="1220760"/>
          </a:xfrm>
        </p:grpSpPr>
        <p:grpSp>
          <p:nvGrpSpPr>
            <p:cNvPr id="6967" name="Group 152"/>
            <p:cNvGrpSpPr/>
            <p:nvPr/>
          </p:nvGrpSpPr>
          <p:grpSpPr>
            <a:xfrm>
              <a:off x="963720" y="3360600"/>
              <a:ext cx="1220760" cy="1220760"/>
              <a:chOff x="963720" y="3360600"/>
              <a:chExt cx="1220760" cy="1220760"/>
            </a:xfrm>
          </p:grpSpPr>
          <p:sp>
            <p:nvSpPr>
              <p:cNvPr id="6968" name="Oval 153"/>
              <p:cNvSpPr/>
              <p:nvPr/>
            </p:nvSpPr>
            <p:spPr>
              <a:xfrm>
                <a:off x="963720" y="3360600"/>
                <a:ext cx="1220760" cy="1220760"/>
              </a:xfrm>
              <a:prstGeom prst="ellipse">
                <a:avLst/>
              </a:prstGeom>
              <a:noFill/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9" name="Line 154"/>
              <p:cNvSpPr/>
              <p:nvPr/>
            </p:nvSpPr>
            <p:spPr>
              <a:xfrm>
                <a:off x="1143720" y="3532320"/>
                <a:ext cx="851040" cy="864000"/>
              </a:xfrm>
              <a:prstGeom prst="line">
                <a:avLst/>
              </a:prstGeom>
              <a:ln w="7632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0" name="Group 155"/>
            <p:cNvGrpSpPr/>
            <p:nvPr/>
          </p:nvGrpSpPr>
          <p:grpSpPr>
            <a:xfrm>
              <a:off x="963720" y="3360600"/>
              <a:ext cx="1220760" cy="1220760"/>
              <a:chOff x="963720" y="3360600"/>
              <a:chExt cx="1220760" cy="1220760"/>
            </a:xfrm>
          </p:grpSpPr>
          <p:sp>
            <p:nvSpPr>
              <p:cNvPr id="6971" name="Oval 156"/>
              <p:cNvSpPr/>
              <p:nvPr/>
            </p:nvSpPr>
            <p:spPr>
              <a:xfrm>
                <a:off x="963720" y="3360600"/>
                <a:ext cx="1220760" cy="122076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2" name="Line 157"/>
              <p:cNvSpPr/>
              <p:nvPr/>
            </p:nvSpPr>
            <p:spPr>
              <a:xfrm>
                <a:off x="1143720" y="3532320"/>
                <a:ext cx="851040" cy="864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73" name="Group 158"/>
          <p:cNvGrpSpPr/>
          <p:nvPr/>
        </p:nvGrpSpPr>
        <p:grpSpPr>
          <a:xfrm>
            <a:off x="6481800" y="1893960"/>
            <a:ext cx="1780560" cy="957240"/>
            <a:chOff x="6481800" y="1893960"/>
            <a:chExt cx="1780560" cy="957240"/>
          </a:xfrm>
        </p:grpSpPr>
        <p:grpSp>
          <p:nvGrpSpPr>
            <p:cNvPr id="6974" name="Group 159"/>
            <p:cNvGrpSpPr/>
            <p:nvPr/>
          </p:nvGrpSpPr>
          <p:grpSpPr>
            <a:xfrm>
              <a:off x="6481800" y="1893960"/>
              <a:ext cx="1779120" cy="954000"/>
              <a:chOff x="6481800" y="1893960"/>
              <a:chExt cx="1779120" cy="954000"/>
            </a:xfrm>
          </p:grpSpPr>
          <p:grpSp>
            <p:nvGrpSpPr>
              <p:cNvPr id="6975" name="Group 160"/>
              <p:cNvGrpSpPr/>
              <p:nvPr/>
            </p:nvGrpSpPr>
            <p:grpSpPr>
              <a:xfrm>
                <a:off x="6481800" y="1893960"/>
                <a:ext cx="1779120" cy="954000"/>
                <a:chOff x="6481800" y="1893960"/>
                <a:chExt cx="1779120" cy="954000"/>
              </a:xfrm>
            </p:grpSpPr>
            <p:sp>
              <p:nvSpPr>
                <p:cNvPr id="6976" name="Freeform 161"/>
                <p:cNvSpPr/>
                <p:nvPr/>
              </p:nvSpPr>
              <p:spPr>
                <a:xfrm>
                  <a:off x="6481800" y="1897560"/>
                  <a:ext cx="888120" cy="95040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7" name="Freeform 162"/>
                <p:cNvSpPr/>
                <p:nvPr/>
              </p:nvSpPr>
              <p:spPr>
                <a:xfrm flipH="1">
                  <a:off x="7372440" y="1893960"/>
                  <a:ext cx="888120" cy="95040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8" name="Oval 163"/>
              <p:cNvSpPr/>
              <p:nvPr/>
            </p:nvSpPr>
            <p:spPr>
              <a:xfrm>
                <a:off x="7203600" y="2216880"/>
                <a:ext cx="329760" cy="32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79" name="Group 164"/>
              <p:cNvGrpSpPr/>
              <p:nvPr/>
            </p:nvGrpSpPr>
            <p:grpSpPr>
              <a:xfrm>
                <a:off x="7533360" y="2295000"/>
                <a:ext cx="721440" cy="171360"/>
                <a:chOff x="7533360" y="2295000"/>
                <a:chExt cx="721440" cy="171360"/>
              </a:xfrm>
            </p:grpSpPr>
            <p:sp>
              <p:nvSpPr>
                <p:cNvPr id="6980" name="Rectangle 165"/>
                <p:cNvSpPr/>
                <p:nvPr/>
              </p:nvSpPr>
              <p:spPr>
                <a:xfrm>
                  <a:off x="753336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1" name="Rectangle 166"/>
                <p:cNvSpPr/>
                <p:nvPr/>
              </p:nvSpPr>
              <p:spPr>
                <a:xfrm>
                  <a:off x="771912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2" name="Rectangle 167"/>
                <p:cNvSpPr/>
                <p:nvPr/>
              </p:nvSpPr>
              <p:spPr>
                <a:xfrm>
                  <a:off x="789408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3" name="Rectangle 168"/>
                <p:cNvSpPr/>
                <p:nvPr/>
              </p:nvSpPr>
              <p:spPr>
                <a:xfrm>
                  <a:off x="808020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4" name="Group 169"/>
              <p:cNvGrpSpPr/>
              <p:nvPr/>
            </p:nvGrpSpPr>
            <p:grpSpPr>
              <a:xfrm>
                <a:off x="6482160" y="2295000"/>
                <a:ext cx="721080" cy="171360"/>
                <a:chOff x="6482160" y="2295000"/>
                <a:chExt cx="721080" cy="171360"/>
              </a:xfrm>
            </p:grpSpPr>
            <p:sp>
              <p:nvSpPr>
                <p:cNvPr id="6985" name="Rectangle 170"/>
                <p:cNvSpPr/>
                <p:nvPr/>
              </p:nvSpPr>
              <p:spPr>
                <a:xfrm flipH="1">
                  <a:off x="702828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6" name="Rectangle 171"/>
                <p:cNvSpPr/>
                <p:nvPr/>
              </p:nvSpPr>
              <p:spPr>
                <a:xfrm flipH="1">
                  <a:off x="684216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7" name="Rectangle 172"/>
                <p:cNvSpPr/>
                <p:nvPr/>
              </p:nvSpPr>
              <p:spPr>
                <a:xfrm flipH="1">
                  <a:off x="6667560" y="229500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8" name="Rectangle 173"/>
                <p:cNvSpPr/>
                <p:nvPr/>
              </p:nvSpPr>
              <p:spPr>
                <a:xfrm flipV="1">
                  <a:off x="6482160" y="229500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9" name="Group 174"/>
            <p:cNvGrpSpPr/>
            <p:nvPr/>
          </p:nvGrpSpPr>
          <p:grpSpPr>
            <a:xfrm>
              <a:off x="6483240" y="1896840"/>
              <a:ext cx="1779120" cy="954360"/>
              <a:chOff x="6483240" y="1896840"/>
              <a:chExt cx="1779120" cy="954360"/>
            </a:xfrm>
          </p:grpSpPr>
          <p:grpSp>
            <p:nvGrpSpPr>
              <p:cNvPr id="6990" name="Group 175"/>
              <p:cNvGrpSpPr/>
              <p:nvPr/>
            </p:nvGrpSpPr>
            <p:grpSpPr>
              <a:xfrm>
                <a:off x="6483240" y="1896840"/>
                <a:ext cx="1779120" cy="954360"/>
                <a:chOff x="6483240" y="1896840"/>
                <a:chExt cx="1779120" cy="954360"/>
              </a:xfrm>
            </p:grpSpPr>
            <p:sp>
              <p:nvSpPr>
                <p:cNvPr id="6991" name="Freeform 176"/>
                <p:cNvSpPr/>
                <p:nvPr/>
              </p:nvSpPr>
              <p:spPr>
                <a:xfrm>
                  <a:off x="6483240" y="1900440"/>
                  <a:ext cx="888120" cy="95076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2" name="Freeform 177"/>
                <p:cNvSpPr/>
                <p:nvPr/>
              </p:nvSpPr>
              <p:spPr>
                <a:xfrm flipH="1">
                  <a:off x="7373880" y="1896840"/>
                  <a:ext cx="888120" cy="950760"/>
                </a:xfrm>
                <a:custGeom>
                  <a:avLst/>
                  <a:gdLst/>
                  <a:ahLst/>
                  <a:rect l="l" t="t" r="r" b="b"/>
                  <a:pathLst>
                    <a:path w="1048" h="1056">
                      <a:moveTo>
                        <a:pt x="1048" y="720"/>
                      </a:moveTo>
                      <a:lnTo>
                        <a:pt x="704" y="1056"/>
                      </a:lnTo>
                      <a:lnTo>
                        <a:pt x="0" y="1056"/>
                      </a:lnTo>
                      <a:lnTo>
                        <a:pt x="0" y="0"/>
                      </a:lnTo>
                      <a:lnTo>
                        <a:pt x="688" y="0"/>
                      </a:lnTo>
                      <a:lnTo>
                        <a:pt x="1048" y="36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3" name="Oval 178"/>
              <p:cNvSpPr/>
              <p:nvPr/>
            </p:nvSpPr>
            <p:spPr>
              <a:xfrm>
                <a:off x="7205040" y="2220120"/>
                <a:ext cx="329760" cy="32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4" name="Group 179"/>
              <p:cNvGrpSpPr/>
              <p:nvPr/>
            </p:nvGrpSpPr>
            <p:grpSpPr>
              <a:xfrm>
                <a:off x="7534800" y="2298240"/>
                <a:ext cx="721440" cy="171360"/>
                <a:chOff x="7534800" y="2298240"/>
                <a:chExt cx="721440" cy="171360"/>
              </a:xfrm>
            </p:grpSpPr>
            <p:sp>
              <p:nvSpPr>
                <p:cNvPr id="6995" name="Rectangle 180"/>
                <p:cNvSpPr/>
                <p:nvPr/>
              </p:nvSpPr>
              <p:spPr>
                <a:xfrm>
                  <a:off x="753480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Rectangle 181"/>
                <p:cNvSpPr/>
                <p:nvPr/>
              </p:nvSpPr>
              <p:spPr>
                <a:xfrm>
                  <a:off x="772056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Rectangle 182"/>
                <p:cNvSpPr/>
                <p:nvPr/>
              </p:nvSpPr>
              <p:spPr>
                <a:xfrm>
                  <a:off x="789552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Rectangle 183"/>
                <p:cNvSpPr/>
                <p:nvPr/>
              </p:nvSpPr>
              <p:spPr>
                <a:xfrm>
                  <a:off x="808164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9" name="Group 184"/>
              <p:cNvGrpSpPr/>
              <p:nvPr/>
            </p:nvGrpSpPr>
            <p:grpSpPr>
              <a:xfrm>
                <a:off x="6483600" y="2298240"/>
                <a:ext cx="721080" cy="171360"/>
                <a:chOff x="6483600" y="2298240"/>
                <a:chExt cx="721080" cy="171360"/>
              </a:xfrm>
            </p:grpSpPr>
            <p:sp>
              <p:nvSpPr>
                <p:cNvPr id="7000" name="Rectangle 185"/>
                <p:cNvSpPr/>
                <p:nvPr/>
              </p:nvSpPr>
              <p:spPr>
                <a:xfrm flipH="1">
                  <a:off x="702972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Rectangle 186"/>
                <p:cNvSpPr/>
                <p:nvPr/>
              </p:nvSpPr>
              <p:spPr>
                <a:xfrm flipH="1">
                  <a:off x="684360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Rectangle 187"/>
                <p:cNvSpPr/>
                <p:nvPr/>
              </p:nvSpPr>
              <p:spPr>
                <a:xfrm flipH="1">
                  <a:off x="6669000" y="2298240"/>
                  <a:ext cx="174600" cy="1713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188"/>
                <p:cNvSpPr/>
                <p:nvPr/>
              </p:nvSpPr>
              <p:spPr>
                <a:xfrm flipV="1">
                  <a:off x="6483600" y="2298240"/>
                  <a:ext cx="174600" cy="171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4" name="Group 189"/>
          <p:cNvGrpSpPr/>
          <p:nvPr/>
        </p:nvGrpSpPr>
        <p:grpSpPr>
          <a:xfrm>
            <a:off x="4507560" y="1060200"/>
            <a:ext cx="1766520" cy="1827360"/>
            <a:chOff x="4507560" y="1060200"/>
            <a:chExt cx="1766520" cy="1827360"/>
          </a:xfrm>
        </p:grpSpPr>
        <p:sp>
          <p:nvSpPr>
            <p:cNvPr id="7005" name="Freeform 190"/>
            <p:cNvSpPr/>
            <p:nvPr/>
          </p:nvSpPr>
          <p:spPr>
            <a:xfrm rot="3598800">
              <a:off x="4691520" y="1357920"/>
              <a:ext cx="1398600" cy="1231920"/>
            </a:xfrm>
            <a:custGeom>
              <a:avLst/>
              <a:gdLst/>
              <a:ahLst/>
              <a:rect l="l" t="t" r="r" b="b"/>
              <a:pathLst>
                <a:path w="2044" h="1799">
                  <a:moveTo>
                    <a:pt x="43" y="1799"/>
                  </a:moveTo>
                  <a:lnTo>
                    <a:pt x="2015" y="1799"/>
                  </a:lnTo>
                  <a:lnTo>
                    <a:pt x="2030" y="1799"/>
                  </a:lnTo>
                  <a:lnTo>
                    <a:pt x="2034" y="1789"/>
                  </a:lnTo>
                  <a:lnTo>
                    <a:pt x="2039" y="1785"/>
                  </a:lnTo>
                  <a:lnTo>
                    <a:pt x="2044" y="1780"/>
                  </a:lnTo>
                  <a:lnTo>
                    <a:pt x="2044" y="1770"/>
                  </a:lnTo>
                  <a:lnTo>
                    <a:pt x="2044" y="1765"/>
                  </a:lnTo>
                  <a:lnTo>
                    <a:pt x="2044" y="1761"/>
                  </a:lnTo>
                  <a:lnTo>
                    <a:pt x="2039" y="1756"/>
                  </a:lnTo>
                  <a:lnTo>
                    <a:pt x="2039" y="1751"/>
                  </a:lnTo>
                  <a:lnTo>
                    <a:pt x="2034" y="1746"/>
                  </a:lnTo>
                  <a:lnTo>
                    <a:pt x="1041" y="19"/>
                  </a:lnTo>
                  <a:lnTo>
                    <a:pt x="1036" y="15"/>
                  </a:lnTo>
                  <a:lnTo>
                    <a:pt x="1032" y="10"/>
                  </a:lnTo>
                  <a:lnTo>
                    <a:pt x="1027" y="5"/>
                  </a:lnTo>
                  <a:lnTo>
                    <a:pt x="1027" y="0"/>
                  </a:lnTo>
                  <a:lnTo>
                    <a:pt x="1022" y="0"/>
                  </a:lnTo>
                  <a:lnTo>
                    <a:pt x="1012" y="0"/>
                  </a:lnTo>
                  <a:lnTo>
                    <a:pt x="1008" y="0"/>
                  </a:lnTo>
                  <a:lnTo>
                    <a:pt x="1003" y="5"/>
                  </a:lnTo>
                  <a:lnTo>
                    <a:pt x="998" y="15"/>
                  </a:lnTo>
                  <a:lnTo>
                    <a:pt x="993" y="24"/>
                  </a:lnTo>
                  <a:lnTo>
                    <a:pt x="988" y="29"/>
                  </a:lnTo>
                  <a:lnTo>
                    <a:pt x="5" y="1741"/>
                  </a:lnTo>
                  <a:lnTo>
                    <a:pt x="0" y="1751"/>
                  </a:lnTo>
                  <a:lnTo>
                    <a:pt x="0" y="1761"/>
                  </a:lnTo>
                  <a:lnTo>
                    <a:pt x="0" y="1765"/>
                  </a:lnTo>
                  <a:lnTo>
                    <a:pt x="0" y="1775"/>
                  </a:lnTo>
                  <a:lnTo>
                    <a:pt x="5" y="1780"/>
                  </a:lnTo>
                  <a:lnTo>
                    <a:pt x="5" y="1785"/>
                  </a:lnTo>
                  <a:lnTo>
                    <a:pt x="14" y="1789"/>
                  </a:lnTo>
                  <a:lnTo>
                    <a:pt x="19" y="1794"/>
                  </a:lnTo>
                  <a:lnTo>
                    <a:pt x="24" y="1794"/>
                  </a:lnTo>
                  <a:lnTo>
                    <a:pt x="43" y="179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Freeform 191"/>
            <p:cNvSpPr/>
            <p:nvPr/>
          </p:nvSpPr>
          <p:spPr>
            <a:xfrm rot="3598800">
              <a:off x="4821840" y="1537920"/>
              <a:ext cx="1053720" cy="923040"/>
            </a:xfrm>
            <a:custGeom>
              <a:avLst/>
              <a:gdLst/>
              <a:ahLst/>
              <a:rect l="l" t="t" r="r" b="b"/>
              <a:pathLst>
                <a:path w="1540" h="1348">
                  <a:moveTo>
                    <a:pt x="34" y="1348"/>
                  </a:moveTo>
                  <a:lnTo>
                    <a:pt x="1516" y="1348"/>
                  </a:lnTo>
                  <a:lnTo>
                    <a:pt x="1526" y="1343"/>
                  </a:lnTo>
                  <a:lnTo>
                    <a:pt x="1531" y="1338"/>
                  </a:lnTo>
                  <a:lnTo>
                    <a:pt x="1536" y="1333"/>
                  </a:lnTo>
                  <a:lnTo>
                    <a:pt x="1536" y="1328"/>
                  </a:lnTo>
                  <a:lnTo>
                    <a:pt x="1540" y="1324"/>
                  </a:lnTo>
                  <a:lnTo>
                    <a:pt x="1540" y="1319"/>
                  </a:lnTo>
                  <a:lnTo>
                    <a:pt x="1540" y="1314"/>
                  </a:lnTo>
                  <a:lnTo>
                    <a:pt x="1536" y="1309"/>
                  </a:lnTo>
                  <a:lnTo>
                    <a:pt x="1536" y="1304"/>
                  </a:lnTo>
                  <a:lnTo>
                    <a:pt x="1531" y="1304"/>
                  </a:lnTo>
                  <a:lnTo>
                    <a:pt x="782" y="19"/>
                  </a:lnTo>
                  <a:lnTo>
                    <a:pt x="782" y="14"/>
                  </a:lnTo>
                  <a:lnTo>
                    <a:pt x="778" y="9"/>
                  </a:lnTo>
                  <a:lnTo>
                    <a:pt x="773" y="4"/>
                  </a:lnTo>
                  <a:lnTo>
                    <a:pt x="773" y="4"/>
                  </a:lnTo>
                  <a:lnTo>
                    <a:pt x="768" y="0"/>
                  </a:lnTo>
                  <a:lnTo>
                    <a:pt x="763" y="0"/>
                  </a:lnTo>
                  <a:lnTo>
                    <a:pt x="758" y="4"/>
                  </a:lnTo>
                  <a:lnTo>
                    <a:pt x="758" y="4"/>
                  </a:lnTo>
                  <a:lnTo>
                    <a:pt x="754" y="9"/>
                  </a:lnTo>
                  <a:lnTo>
                    <a:pt x="749" y="19"/>
                  </a:lnTo>
                  <a:lnTo>
                    <a:pt x="744" y="24"/>
                  </a:lnTo>
                  <a:lnTo>
                    <a:pt x="5" y="1300"/>
                  </a:lnTo>
                  <a:lnTo>
                    <a:pt x="0" y="1309"/>
                  </a:lnTo>
                  <a:lnTo>
                    <a:pt x="0" y="1314"/>
                  </a:lnTo>
                  <a:lnTo>
                    <a:pt x="0" y="1319"/>
                  </a:lnTo>
                  <a:lnTo>
                    <a:pt x="5" y="1324"/>
                  </a:lnTo>
                  <a:lnTo>
                    <a:pt x="5" y="1328"/>
                  </a:lnTo>
                  <a:lnTo>
                    <a:pt x="10" y="1333"/>
                  </a:lnTo>
                  <a:lnTo>
                    <a:pt x="10" y="1338"/>
                  </a:lnTo>
                  <a:lnTo>
                    <a:pt x="15" y="1343"/>
                  </a:lnTo>
                  <a:lnTo>
                    <a:pt x="19" y="1343"/>
                  </a:lnTo>
                  <a:lnTo>
                    <a:pt x="29" y="1348"/>
                  </a:lnTo>
                  <a:lnTo>
                    <a:pt x="34" y="13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Freeform 192"/>
            <p:cNvSpPr/>
            <p:nvPr/>
          </p:nvSpPr>
          <p:spPr>
            <a:xfrm rot="3598800">
              <a:off x="4946760" y="1715040"/>
              <a:ext cx="712080" cy="623520"/>
            </a:xfrm>
            <a:custGeom>
              <a:avLst/>
              <a:gdLst/>
              <a:ahLst/>
              <a:rect l="l" t="t" r="r" b="b"/>
              <a:pathLst>
                <a:path w="1041" h="911">
                  <a:moveTo>
                    <a:pt x="19" y="911"/>
                  </a:moveTo>
                  <a:lnTo>
                    <a:pt x="1027" y="911"/>
                  </a:lnTo>
                  <a:lnTo>
                    <a:pt x="1036" y="907"/>
                  </a:lnTo>
                  <a:lnTo>
                    <a:pt x="1041" y="902"/>
                  </a:lnTo>
                  <a:lnTo>
                    <a:pt x="1041" y="902"/>
                  </a:lnTo>
                  <a:lnTo>
                    <a:pt x="1041" y="897"/>
                  </a:lnTo>
                  <a:lnTo>
                    <a:pt x="1041" y="892"/>
                  </a:lnTo>
                  <a:lnTo>
                    <a:pt x="1041" y="892"/>
                  </a:lnTo>
                  <a:lnTo>
                    <a:pt x="1041" y="887"/>
                  </a:lnTo>
                  <a:lnTo>
                    <a:pt x="1041" y="887"/>
                  </a:lnTo>
                  <a:lnTo>
                    <a:pt x="1041" y="883"/>
                  </a:lnTo>
                  <a:lnTo>
                    <a:pt x="1041" y="883"/>
                  </a:lnTo>
                  <a:lnTo>
                    <a:pt x="532" y="14"/>
                  </a:lnTo>
                  <a:lnTo>
                    <a:pt x="528" y="10"/>
                  </a:lnTo>
                  <a:lnTo>
                    <a:pt x="528" y="5"/>
                  </a:lnTo>
                  <a:lnTo>
                    <a:pt x="523" y="5"/>
                  </a:lnTo>
                  <a:lnTo>
                    <a:pt x="523" y="0"/>
                  </a:lnTo>
                  <a:lnTo>
                    <a:pt x="518" y="0"/>
                  </a:lnTo>
                  <a:lnTo>
                    <a:pt x="513" y="5"/>
                  </a:lnTo>
                  <a:lnTo>
                    <a:pt x="513" y="5"/>
                  </a:lnTo>
                  <a:lnTo>
                    <a:pt x="508" y="10"/>
                  </a:lnTo>
                  <a:lnTo>
                    <a:pt x="508" y="14"/>
                  </a:lnTo>
                  <a:lnTo>
                    <a:pt x="504" y="14"/>
                  </a:lnTo>
                  <a:lnTo>
                    <a:pt x="0" y="878"/>
                  </a:lnTo>
                  <a:lnTo>
                    <a:pt x="0" y="883"/>
                  </a:lnTo>
                  <a:lnTo>
                    <a:pt x="0" y="887"/>
                  </a:lnTo>
                  <a:lnTo>
                    <a:pt x="0" y="892"/>
                  </a:lnTo>
                  <a:lnTo>
                    <a:pt x="0" y="897"/>
                  </a:lnTo>
                  <a:lnTo>
                    <a:pt x="0" y="897"/>
                  </a:lnTo>
                  <a:lnTo>
                    <a:pt x="0" y="902"/>
                  </a:lnTo>
                  <a:lnTo>
                    <a:pt x="4" y="902"/>
                  </a:lnTo>
                  <a:lnTo>
                    <a:pt x="9" y="907"/>
                  </a:lnTo>
                  <a:lnTo>
                    <a:pt x="9" y="907"/>
                  </a:lnTo>
                  <a:lnTo>
                    <a:pt x="19" y="911"/>
                  </a:lnTo>
                  <a:lnTo>
                    <a:pt x="19" y="9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8" name="Freeform 193"/>
            <p:cNvSpPr/>
            <p:nvPr/>
          </p:nvSpPr>
          <p:spPr>
            <a:xfrm rot="3598800">
              <a:off x="5083560" y="1914480"/>
              <a:ext cx="331560" cy="285480"/>
            </a:xfrm>
            <a:custGeom>
              <a:avLst/>
              <a:gdLst/>
              <a:ahLst/>
              <a:rect l="l" t="t" r="r" b="b"/>
              <a:pathLst>
                <a:path w="485" h="417">
                  <a:moveTo>
                    <a:pt x="10" y="417"/>
                  </a:moveTo>
                  <a:lnTo>
                    <a:pt x="480" y="417"/>
                  </a:lnTo>
                  <a:lnTo>
                    <a:pt x="480" y="417"/>
                  </a:lnTo>
                  <a:lnTo>
                    <a:pt x="485" y="417"/>
                  </a:lnTo>
                  <a:lnTo>
                    <a:pt x="485" y="412"/>
                  </a:lnTo>
                  <a:lnTo>
                    <a:pt x="485" y="412"/>
                  </a:lnTo>
                  <a:lnTo>
                    <a:pt x="485" y="408"/>
                  </a:lnTo>
                  <a:lnTo>
                    <a:pt x="485" y="408"/>
                  </a:lnTo>
                  <a:lnTo>
                    <a:pt x="250" y="5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35" y="5"/>
                  </a:lnTo>
                  <a:lnTo>
                    <a:pt x="235" y="5"/>
                  </a:lnTo>
                  <a:lnTo>
                    <a:pt x="0" y="403"/>
                  </a:lnTo>
                  <a:lnTo>
                    <a:pt x="0" y="408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5" y="417"/>
                  </a:lnTo>
                  <a:lnTo>
                    <a:pt x="5" y="417"/>
                  </a:lnTo>
                  <a:lnTo>
                    <a:pt x="10" y="417"/>
                  </a:lnTo>
                  <a:lnTo>
                    <a:pt x="10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09" name="Picture 194" descr=""/>
          <p:cNvPicPr/>
          <p:nvPr/>
        </p:nvPicPr>
        <p:blipFill>
          <a:blip r:embed="rId1"/>
          <a:stretch/>
        </p:blipFill>
        <p:spPr>
          <a:xfrm>
            <a:off x="2670120" y="3352680"/>
            <a:ext cx="1371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7010" name="Group 195"/>
          <p:cNvGrpSpPr/>
          <p:nvPr/>
        </p:nvGrpSpPr>
        <p:grpSpPr>
          <a:xfrm>
            <a:off x="6743880" y="3206880"/>
            <a:ext cx="1368360" cy="1366560"/>
            <a:chOff x="6743880" y="3206880"/>
            <a:chExt cx="1368360" cy="1366560"/>
          </a:xfrm>
        </p:grpSpPr>
        <p:sp>
          <p:nvSpPr>
            <p:cNvPr id="7011" name="Oval 196"/>
            <p:cNvSpPr/>
            <p:nvPr/>
          </p:nvSpPr>
          <p:spPr>
            <a:xfrm>
              <a:off x="6743880" y="3206880"/>
              <a:ext cx="1368360" cy="1366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2" name="Group 197"/>
            <p:cNvGrpSpPr/>
            <p:nvPr/>
          </p:nvGrpSpPr>
          <p:grpSpPr>
            <a:xfrm>
              <a:off x="6887880" y="3378600"/>
              <a:ext cx="1075320" cy="1033200"/>
              <a:chOff x="6887880" y="3378600"/>
              <a:chExt cx="1075320" cy="1033200"/>
            </a:xfrm>
          </p:grpSpPr>
          <p:grpSp>
            <p:nvGrpSpPr>
              <p:cNvPr id="7013" name="Group 198"/>
              <p:cNvGrpSpPr/>
              <p:nvPr/>
            </p:nvGrpSpPr>
            <p:grpSpPr>
              <a:xfrm>
                <a:off x="6887880" y="3378600"/>
                <a:ext cx="1075320" cy="1033200"/>
                <a:chOff x="6887880" y="3378600"/>
                <a:chExt cx="1075320" cy="1033200"/>
              </a:xfrm>
            </p:grpSpPr>
            <p:sp>
              <p:nvSpPr>
                <p:cNvPr id="7014" name="Rectangle 199"/>
                <p:cNvSpPr/>
                <p:nvPr/>
              </p:nvSpPr>
              <p:spPr>
                <a:xfrm rot="19384800">
                  <a:off x="7493760" y="403704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5" name="AutoShape 200"/>
                <p:cNvSpPr/>
                <p:nvPr/>
              </p:nvSpPr>
              <p:spPr>
                <a:xfrm rot="19384800">
                  <a:off x="7160040" y="3638520"/>
                  <a:ext cx="502920" cy="477360"/>
                </a:xfrm>
                <a:prstGeom prst="pentagon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6" name="Rectangle 201"/>
                <p:cNvSpPr/>
                <p:nvPr/>
              </p:nvSpPr>
              <p:spPr>
                <a:xfrm rot="20337000">
                  <a:off x="7611480" y="36180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7" name="Rectangle 202"/>
                <p:cNvSpPr/>
                <p:nvPr/>
              </p:nvSpPr>
              <p:spPr>
                <a:xfrm rot="18341400">
                  <a:off x="7061760" y="4044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03"/>
                <p:cNvSpPr/>
                <p:nvPr/>
              </p:nvSpPr>
              <p:spPr>
                <a:xfrm rot="3600">
                  <a:off x="7272360" y="3378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9" name="Rectangle 204"/>
                <p:cNvSpPr/>
                <p:nvPr/>
              </p:nvSpPr>
              <p:spPr>
                <a:xfrm rot="17211000">
                  <a:off x="6925320" y="3639600"/>
                  <a:ext cx="306720" cy="306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0" name="Oval 205"/>
              <p:cNvSpPr/>
              <p:nvPr/>
            </p:nvSpPr>
            <p:spPr>
              <a:xfrm rot="19384800">
                <a:off x="7349040" y="346644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Oval 206"/>
              <p:cNvSpPr/>
              <p:nvPr/>
            </p:nvSpPr>
            <p:spPr>
              <a:xfrm rot="19384800">
                <a:off x="6998760" y="37296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Oval 207"/>
              <p:cNvSpPr/>
              <p:nvPr/>
            </p:nvSpPr>
            <p:spPr>
              <a:xfrm rot="19384800">
                <a:off x="7691040" y="37026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Oval 208"/>
              <p:cNvSpPr/>
              <p:nvPr/>
            </p:nvSpPr>
            <p:spPr>
              <a:xfrm rot="19384800">
                <a:off x="7147080" y="412992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Oval 209"/>
              <p:cNvSpPr/>
              <p:nvPr/>
            </p:nvSpPr>
            <p:spPr>
              <a:xfrm rot="19384800">
                <a:off x="7566120" y="4120200"/>
                <a:ext cx="146160" cy="1458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25" name="Rectangle 210"/>
          <p:cNvSpPr/>
          <p:nvPr/>
        </p:nvSpPr>
        <p:spPr>
          <a:xfrm>
            <a:off x="4819680" y="3276720"/>
            <a:ext cx="876240" cy="12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Freeform 211"/>
          <p:cNvSpPr/>
          <p:nvPr/>
        </p:nvSpPr>
        <p:spPr>
          <a:xfrm rot="5400000">
            <a:off x="2716200" y="5126040"/>
            <a:ext cx="1039680" cy="1039680"/>
          </a:xfrm>
          <a:custGeom>
            <a:avLst/>
            <a:gdLst/>
            <a:ahLst/>
            <a:rect l="l" t="t" r="r" b="b"/>
            <a:pathLst>
              <a:path w="1608" h="1608">
                <a:moveTo>
                  <a:pt x="806" y="0"/>
                </a:moveTo>
                <a:lnTo>
                  <a:pt x="845" y="0"/>
                </a:lnTo>
                <a:lnTo>
                  <a:pt x="885" y="4"/>
                </a:lnTo>
                <a:lnTo>
                  <a:pt x="925" y="11"/>
                </a:lnTo>
                <a:lnTo>
                  <a:pt x="964" y="18"/>
                </a:lnTo>
                <a:lnTo>
                  <a:pt x="1004" y="25"/>
                </a:lnTo>
                <a:lnTo>
                  <a:pt x="1043" y="36"/>
                </a:lnTo>
                <a:lnTo>
                  <a:pt x="1079" y="50"/>
                </a:lnTo>
                <a:lnTo>
                  <a:pt x="1115" y="65"/>
                </a:lnTo>
                <a:lnTo>
                  <a:pt x="1151" y="79"/>
                </a:lnTo>
                <a:lnTo>
                  <a:pt x="1187" y="97"/>
                </a:lnTo>
                <a:lnTo>
                  <a:pt x="1219" y="115"/>
                </a:lnTo>
                <a:lnTo>
                  <a:pt x="1252" y="137"/>
                </a:lnTo>
                <a:lnTo>
                  <a:pt x="1284" y="162"/>
                </a:lnTo>
                <a:lnTo>
                  <a:pt x="1313" y="183"/>
                </a:lnTo>
                <a:lnTo>
                  <a:pt x="1345" y="209"/>
                </a:lnTo>
                <a:lnTo>
                  <a:pt x="1371" y="237"/>
                </a:lnTo>
                <a:lnTo>
                  <a:pt x="1399" y="263"/>
                </a:lnTo>
                <a:lnTo>
                  <a:pt x="1425" y="295"/>
                </a:lnTo>
                <a:lnTo>
                  <a:pt x="1446" y="324"/>
                </a:lnTo>
                <a:lnTo>
                  <a:pt x="1471" y="356"/>
                </a:lnTo>
                <a:lnTo>
                  <a:pt x="1493" y="389"/>
                </a:lnTo>
                <a:lnTo>
                  <a:pt x="1511" y="421"/>
                </a:lnTo>
                <a:lnTo>
                  <a:pt x="1529" y="457"/>
                </a:lnTo>
                <a:lnTo>
                  <a:pt x="1543" y="493"/>
                </a:lnTo>
                <a:lnTo>
                  <a:pt x="1558" y="529"/>
                </a:lnTo>
                <a:lnTo>
                  <a:pt x="1572" y="565"/>
                </a:lnTo>
                <a:lnTo>
                  <a:pt x="1583" y="604"/>
                </a:lnTo>
                <a:lnTo>
                  <a:pt x="1590" y="644"/>
                </a:lnTo>
                <a:lnTo>
                  <a:pt x="1597" y="683"/>
                </a:lnTo>
                <a:lnTo>
                  <a:pt x="1604" y="723"/>
                </a:lnTo>
                <a:lnTo>
                  <a:pt x="1608" y="763"/>
                </a:lnTo>
                <a:lnTo>
                  <a:pt x="1608" y="802"/>
                </a:lnTo>
                <a:lnTo>
                  <a:pt x="1608" y="845"/>
                </a:lnTo>
                <a:lnTo>
                  <a:pt x="1604" y="885"/>
                </a:lnTo>
                <a:lnTo>
                  <a:pt x="1597" y="925"/>
                </a:lnTo>
                <a:lnTo>
                  <a:pt x="1590" y="964"/>
                </a:lnTo>
                <a:lnTo>
                  <a:pt x="1583" y="1004"/>
                </a:lnTo>
                <a:lnTo>
                  <a:pt x="1572" y="1043"/>
                </a:lnTo>
                <a:lnTo>
                  <a:pt x="1558" y="1079"/>
                </a:lnTo>
                <a:lnTo>
                  <a:pt x="1543" y="1115"/>
                </a:lnTo>
                <a:lnTo>
                  <a:pt x="1529" y="1151"/>
                </a:lnTo>
                <a:lnTo>
                  <a:pt x="1511" y="1187"/>
                </a:lnTo>
                <a:lnTo>
                  <a:pt x="1493" y="1219"/>
                </a:lnTo>
                <a:lnTo>
                  <a:pt x="1471" y="1252"/>
                </a:lnTo>
                <a:lnTo>
                  <a:pt x="1446" y="1284"/>
                </a:lnTo>
                <a:lnTo>
                  <a:pt x="1425" y="1313"/>
                </a:lnTo>
                <a:lnTo>
                  <a:pt x="1399" y="1345"/>
                </a:lnTo>
                <a:lnTo>
                  <a:pt x="1371" y="1371"/>
                </a:lnTo>
                <a:lnTo>
                  <a:pt x="1345" y="1399"/>
                </a:lnTo>
                <a:lnTo>
                  <a:pt x="1313" y="1425"/>
                </a:lnTo>
                <a:lnTo>
                  <a:pt x="1284" y="1446"/>
                </a:lnTo>
                <a:lnTo>
                  <a:pt x="1252" y="1471"/>
                </a:lnTo>
                <a:lnTo>
                  <a:pt x="1219" y="1493"/>
                </a:lnTo>
                <a:lnTo>
                  <a:pt x="1187" y="1511"/>
                </a:lnTo>
                <a:lnTo>
                  <a:pt x="1151" y="1529"/>
                </a:lnTo>
                <a:lnTo>
                  <a:pt x="1115" y="1543"/>
                </a:lnTo>
                <a:lnTo>
                  <a:pt x="1079" y="1558"/>
                </a:lnTo>
                <a:lnTo>
                  <a:pt x="1043" y="1572"/>
                </a:lnTo>
                <a:lnTo>
                  <a:pt x="1004" y="1583"/>
                </a:lnTo>
                <a:lnTo>
                  <a:pt x="964" y="1590"/>
                </a:lnTo>
                <a:lnTo>
                  <a:pt x="925" y="1597"/>
                </a:lnTo>
                <a:lnTo>
                  <a:pt x="885" y="1604"/>
                </a:lnTo>
                <a:lnTo>
                  <a:pt x="845" y="1608"/>
                </a:lnTo>
                <a:lnTo>
                  <a:pt x="806" y="1608"/>
                </a:lnTo>
                <a:lnTo>
                  <a:pt x="763" y="1608"/>
                </a:lnTo>
                <a:lnTo>
                  <a:pt x="723" y="1604"/>
                </a:lnTo>
                <a:lnTo>
                  <a:pt x="683" y="1597"/>
                </a:lnTo>
                <a:lnTo>
                  <a:pt x="644" y="1590"/>
                </a:lnTo>
                <a:lnTo>
                  <a:pt x="604" y="1583"/>
                </a:lnTo>
                <a:lnTo>
                  <a:pt x="565" y="1572"/>
                </a:lnTo>
                <a:lnTo>
                  <a:pt x="529" y="1558"/>
                </a:lnTo>
                <a:lnTo>
                  <a:pt x="493" y="1543"/>
                </a:lnTo>
                <a:lnTo>
                  <a:pt x="457" y="1529"/>
                </a:lnTo>
                <a:lnTo>
                  <a:pt x="421" y="1511"/>
                </a:lnTo>
                <a:lnTo>
                  <a:pt x="389" y="1493"/>
                </a:lnTo>
                <a:lnTo>
                  <a:pt x="356" y="1471"/>
                </a:lnTo>
                <a:lnTo>
                  <a:pt x="324" y="1446"/>
                </a:lnTo>
                <a:lnTo>
                  <a:pt x="295" y="1425"/>
                </a:lnTo>
                <a:lnTo>
                  <a:pt x="263" y="1399"/>
                </a:lnTo>
                <a:lnTo>
                  <a:pt x="237" y="1371"/>
                </a:lnTo>
                <a:lnTo>
                  <a:pt x="209" y="1345"/>
                </a:lnTo>
                <a:lnTo>
                  <a:pt x="183" y="1313"/>
                </a:lnTo>
                <a:lnTo>
                  <a:pt x="162" y="1284"/>
                </a:lnTo>
                <a:lnTo>
                  <a:pt x="137" y="1252"/>
                </a:lnTo>
                <a:lnTo>
                  <a:pt x="115" y="1219"/>
                </a:lnTo>
                <a:lnTo>
                  <a:pt x="97" y="1187"/>
                </a:lnTo>
                <a:lnTo>
                  <a:pt x="79" y="1151"/>
                </a:lnTo>
                <a:lnTo>
                  <a:pt x="65" y="1115"/>
                </a:lnTo>
                <a:lnTo>
                  <a:pt x="50" y="1079"/>
                </a:lnTo>
                <a:lnTo>
                  <a:pt x="36" y="1043"/>
                </a:lnTo>
                <a:lnTo>
                  <a:pt x="25" y="1004"/>
                </a:lnTo>
                <a:lnTo>
                  <a:pt x="18" y="964"/>
                </a:lnTo>
                <a:lnTo>
                  <a:pt x="11" y="925"/>
                </a:lnTo>
                <a:lnTo>
                  <a:pt x="4" y="885"/>
                </a:lnTo>
                <a:lnTo>
                  <a:pt x="0" y="845"/>
                </a:lnTo>
                <a:lnTo>
                  <a:pt x="0" y="802"/>
                </a:lnTo>
                <a:lnTo>
                  <a:pt x="0" y="763"/>
                </a:lnTo>
                <a:lnTo>
                  <a:pt x="4" y="723"/>
                </a:lnTo>
                <a:lnTo>
                  <a:pt x="11" y="683"/>
                </a:lnTo>
                <a:lnTo>
                  <a:pt x="18" y="644"/>
                </a:lnTo>
                <a:lnTo>
                  <a:pt x="25" y="604"/>
                </a:lnTo>
                <a:lnTo>
                  <a:pt x="36" y="565"/>
                </a:lnTo>
                <a:lnTo>
                  <a:pt x="50" y="529"/>
                </a:lnTo>
                <a:lnTo>
                  <a:pt x="65" y="493"/>
                </a:lnTo>
                <a:lnTo>
                  <a:pt x="79" y="457"/>
                </a:lnTo>
                <a:lnTo>
                  <a:pt x="97" y="421"/>
                </a:lnTo>
                <a:lnTo>
                  <a:pt x="115" y="389"/>
                </a:lnTo>
                <a:lnTo>
                  <a:pt x="137" y="356"/>
                </a:lnTo>
                <a:lnTo>
                  <a:pt x="162" y="324"/>
                </a:lnTo>
                <a:lnTo>
                  <a:pt x="183" y="295"/>
                </a:lnTo>
                <a:lnTo>
                  <a:pt x="209" y="263"/>
                </a:lnTo>
                <a:lnTo>
                  <a:pt x="237" y="237"/>
                </a:lnTo>
                <a:lnTo>
                  <a:pt x="263" y="209"/>
                </a:lnTo>
                <a:lnTo>
                  <a:pt x="295" y="183"/>
                </a:lnTo>
                <a:lnTo>
                  <a:pt x="324" y="162"/>
                </a:lnTo>
                <a:lnTo>
                  <a:pt x="356" y="137"/>
                </a:lnTo>
                <a:lnTo>
                  <a:pt x="389" y="115"/>
                </a:lnTo>
                <a:lnTo>
                  <a:pt x="421" y="97"/>
                </a:lnTo>
                <a:lnTo>
                  <a:pt x="457" y="79"/>
                </a:lnTo>
                <a:lnTo>
                  <a:pt x="493" y="65"/>
                </a:lnTo>
                <a:lnTo>
                  <a:pt x="529" y="50"/>
                </a:lnTo>
                <a:lnTo>
                  <a:pt x="565" y="36"/>
                </a:lnTo>
                <a:lnTo>
                  <a:pt x="604" y="25"/>
                </a:lnTo>
                <a:lnTo>
                  <a:pt x="644" y="18"/>
                </a:lnTo>
                <a:lnTo>
                  <a:pt x="683" y="11"/>
                </a:lnTo>
                <a:lnTo>
                  <a:pt x="723" y="4"/>
                </a:lnTo>
                <a:lnTo>
                  <a:pt x="763" y="0"/>
                </a:lnTo>
                <a:lnTo>
                  <a:pt x="806" y="0"/>
                </a:lnTo>
                <a:close/>
                <a:moveTo>
                  <a:pt x="802" y="320"/>
                </a:moveTo>
                <a:lnTo>
                  <a:pt x="871" y="324"/>
                </a:lnTo>
                <a:lnTo>
                  <a:pt x="932" y="335"/>
                </a:lnTo>
                <a:lnTo>
                  <a:pt x="993" y="353"/>
                </a:lnTo>
                <a:lnTo>
                  <a:pt x="1054" y="374"/>
                </a:lnTo>
                <a:lnTo>
                  <a:pt x="1108" y="399"/>
                </a:lnTo>
                <a:lnTo>
                  <a:pt x="1162" y="432"/>
                </a:lnTo>
                <a:lnTo>
                  <a:pt x="1212" y="468"/>
                </a:lnTo>
                <a:lnTo>
                  <a:pt x="1259" y="511"/>
                </a:lnTo>
                <a:lnTo>
                  <a:pt x="1299" y="558"/>
                </a:lnTo>
                <a:lnTo>
                  <a:pt x="1338" y="608"/>
                </a:lnTo>
                <a:lnTo>
                  <a:pt x="1371" y="658"/>
                </a:lnTo>
                <a:lnTo>
                  <a:pt x="1396" y="716"/>
                </a:lnTo>
                <a:lnTo>
                  <a:pt x="1417" y="773"/>
                </a:lnTo>
                <a:lnTo>
                  <a:pt x="1435" y="835"/>
                </a:lnTo>
                <a:lnTo>
                  <a:pt x="1443" y="899"/>
                </a:lnTo>
                <a:lnTo>
                  <a:pt x="1446" y="964"/>
                </a:lnTo>
                <a:lnTo>
                  <a:pt x="1443" y="1029"/>
                </a:lnTo>
                <a:lnTo>
                  <a:pt x="1435" y="1094"/>
                </a:lnTo>
                <a:lnTo>
                  <a:pt x="1417" y="1155"/>
                </a:lnTo>
                <a:lnTo>
                  <a:pt x="1396" y="1216"/>
                </a:lnTo>
                <a:lnTo>
                  <a:pt x="1371" y="1270"/>
                </a:lnTo>
                <a:lnTo>
                  <a:pt x="1338" y="1324"/>
                </a:lnTo>
                <a:lnTo>
                  <a:pt x="1299" y="1374"/>
                </a:lnTo>
                <a:lnTo>
                  <a:pt x="1259" y="1417"/>
                </a:lnTo>
                <a:lnTo>
                  <a:pt x="1212" y="1461"/>
                </a:lnTo>
                <a:lnTo>
                  <a:pt x="1162" y="1496"/>
                </a:lnTo>
                <a:lnTo>
                  <a:pt x="1108" y="1529"/>
                </a:lnTo>
                <a:lnTo>
                  <a:pt x="1054" y="1558"/>
                </a:lnTo>
                <a:lnTo>
                  <a:pt x="993" y="1579"/>
                </a:lnTo>
                <a:lnTo>
                  <a:pt x="932" y="1594"/>
                </a:lnTo>
                <a:lnTo>
                  <a:pt x="871" y="1604"/>
                </a:lnTo>
                <a:lnTo>
                  <a:pt x="802" y="1608"/>
                </a:lnTo>
                <a:lnTo>
                  <a:pt x="737" y="1604"/>
                </a:lnTo>
                <a:lnTo>
                  <a:pt x="676" y="1594"/>
                </a:lnTo>
                <a:lnTo>
                  <a:pt x="615" y="1579"/>
                </a:lnTo>
                <a:lnTo>
                  <a:pt x="554" y="1558"/>
                </a:lnTo>
                <a:lnTo>
                  <a:pt x="500" y="1529"/>
                </a:lnTo>
                <a:lnTo>
                  <a:pt x="446" y="1496"/>
                </a:lnTo>
                <a:lnTo>
                  <a:pt x="396" y="1461"/>
                </a:lnTo>
                <a:lnTo>
                  <a:pt x="349" y="1417"/>
                </a:lnTo>
                <a:lnTo>
                  <a:pt x="309" y="1374"/>
                </a:lnTo>
                <a:lnTo>
                  <a:pt x="270" y="1324"/>
                </a:lnTo>
                <a:lnTo>
                  <a:pt x="237" y="1270"/>
                </a:lnTo>
                <a:lnTo>
                  <a:pt x="212" y="1216"/>
                </a:lnTo>
                <a:lnTo>
                  <a:pt x="191" y="1155"/>
                </a:lnTo>
                <a:lnTo>
                  <a:pt x="173" y="1094"/>
                </a:lnTo>
                <a:lnTo>
                  <a:pt x="165" y="1029"/>
                </a:lnTo>
                <a:lnTo>
                  <a:pt x="162" y="964"/>
                </a:lnTo>
                <a:lnTo>
                  <a:pt x="165" y="899"/>
                </a:lnTo>
                <a:lnTo>
                  <a:pt x="173" y="835"/>
                </a:lnTo>
                <a:lnTo>
                  <a:pt x="191" y="773"/>
                </a:lnTo>
                <a:lnTo>
                  <a:pt x="212" y="716"/>
                </a:lnTo>
                <a:lnTo>
                  <a:pt x="237" y="658"/>
                </a:lnTo>
                <a:lnTo>
                  <a:pt x="270" y="608"/>
                </a:lnTo>
                <a:lnTo>
                  <a:pt x="309" y="558"/>
                </a:lnTo>
                <a:lnTo>
                  <a:pt x="349" y="511"/>
                </a:lnTo>
                <a:lnTo>
                  <a:pt x="396" y="468"/>
                </a:lnTo>
                <a:lnTo>
                  <a:pt x="446" y="432"/>
                </a:lnTo>
                <a:lnTo>
                  <a:pt x="500" y="399"/>
                </a:lnTo>
                <a:lnTo>
                  <a:pt x="554" y="374"/>
                </a:lnTo>
                <a:lnTo>
                  <a:pt x="615" y="353"/>
                </a:lnTo>
                <a:lnTo>
                  <a:pt x="676" y="335"/>
                </a:lnTo>
                <a:lnTo>
                  <a:pt x="737" y="324"/>
                </a:lnTo>
                <a:lnTo>
                  <a:pt x="802" y="320"/>
                </a:lnTo>
                <a:close/>
                <a:moveTo>
                  <a:pt x="802" y="579"/>
                </a:moveTo>
                <a:lnTo>
                  <a:pt x="856" y="583"/>
                </a:lnTo>
                <a:lnTo>
                  <a:pt x="907" y="590"/>
                </a:lnTo>
                <a:lnTo>
                  <a:pt x="957" y="601"/>
                </a:lnTo>
                <a:lnTo>
                  <a:pt x="1004" y="619"/>
                </a:lnTo>
                <a:lnTo>
                  <a:pt x="1047" y="640"/>
                </a:lnTo>
                <a:lnTo>
                  <a:pt x="1090" y="669"/>
                </a:lnTo>
                <a:lnTo>
                  <a:pt x="1130" y="698"/>
                </a:lnTo>
                <a:lnTo>
                  <a:pt x="1166" y="730"/>
                </a:lnTo>
                <a:lnTo>
                  <a:pt x="1202" y="766"/>
                </a:lnTo>
                <a:lnTo>
                  <a:pt x="1230" y="806"/>
                </a:lnTo>
                <a:lnTo>
                  <a:pt x="1255" y="849"/>
                </a:lnTo>
                <a:lnTo>
                  <a:pt x="1277" y="896"/>
                </a:lnTo>
                <a:lnTo>
                  <a:pt x="1295" y="942"/>
                </a:lnTo>
                <a:lnTo>
                  <a:pt x="1309" y="989"/>
                </a:lnTo>
                <a:lnTo>
                  <a:pt x="1317" y="1043"/>
                </a:lnTo>
                <a:lnTo>
                  <a:pt x="1317" y="1094"/>
                </a:lnTo>
                <a:lnTo>
                  <a:pt x="1317" y="1148"/>
                </a:lnTo>
                <a:lnTo>
                  <a:pt x="1309" y="1198"/>
                </a:lnTo>
                <a:lnTo>
                  <a:pt x="1295" y="1245"/>
                </a:lnTo>
                <a:lnTo>
                  <a:pt x="1277" y="1295"/>
                </a:lnTo>
                <a:lnTo>
                  <a:pt x="1255" y="1338"/>
                </a:lnTo>
                <a:lnTo>
                  <a:pt x="1230" y="1381"/>
                </a:lnTo>
                <a:lnTo>
                  <a:pt x="1202" y="1421"/>
                </a:lnTo>
                <a:lnTo>
                  <a:pt x="1166" y="1457"/>
                </a:lnTo>
                <a:lnTo>
                  <a:pt x="1130" y="1489"/>
                </a:lnTo>
                <a:lnTo>
                  <a:pt x="1090" y="1522"/>
                </a:lnTo>
                <a:lnTo>
                  <a:pt x="1047" y="1547"/>
                </a:lnTo>
                <a:lnTo>
                  <a:pt x="1004" y="1568"/>
                </a:lnTo>
                <a:lnTo>
                  <a:pt x="957" y="1586"/>
                </a:lnTo>
                <a:lnTo>
                  <a:pt x="907" y="1597"/>
                </a:lnTo>
                <a:lnTo>
                  <a:pt x="856" y="1604"/>
                </a:lnTo>
                <a:lnTo>
                  <a:pt x="802" y="1608"/>
                </a:lnTo>
                <a:lnTo>
                  <a:pt x="752" y="1604"/>
                </a:lnTo>
                <a:lnTo>
                  <a:pt x="701" y="1597"/>
                </a:lnTo>
                <a:lnTo>
                  <a:pt x="651" y="1586"/>
                </a:lnTo>
                <a:lnTo>
                  <a:pt x="604" y="1568"/>
                </a:lnTo>
                <a:lnTo>
                  <a:pt x="561" y="1547"/>
                </a:lnTo>
                <a:lnTo>
                  <a:pt x="518" y="1522"/>
                </a:lnTo>
                <a:lnTo>
                  <a:pt x="478" y="1489"/>
                </a:lnTo>
                <a:lnTo>
                  <a:pt x="442" y="1457"/>
                </a:lnTo>
                <a:lnTo>
                  <a:pt x="406" y="1421"/>
                </a:lnTo>
                <a:lnTo>
                  <a:pt x="378" y="1381"/>
                </a:lnTo>
                <a:lnTo>
                  <a:pt x="353" y="1338"/>
                </a:lnTo>
                <a:lnTo>
                  <a:pt x="331" y="1295"/>
                </a:lnTo>
                <a:lnTo>
                  <a:pt x="313" y="1245"/>
                </a:lnTo>
                <a:lnTo>
                  <a:pt x="299" y="1198"/>
                </a:lnTo>
                <a:lnTo>
                  <a:pt x="291" y="1148"/>
                </a:lnTo>
                <a:lnTo>
                  <a:pt x="291" y="1094"/>
                </a:lnTo>
                <a:lnTo>
                  <a:pt x="291" y="1043"/>
                </a:lnTo>
                <a:lnTo>
                  <a:pt x="299" y="989"/>
                </a:lnTo>
                <a:lnTo>
                  <a:pt x="313" y="942"/>
                </a:lnTo>
                <a:lnTo>
                  <a:pt x="331" y="896"/>
                </a:lnTo>
                <a:lnTo>
                  <a:pt x="353" y="849"/>
                </a:lnTo>
                <a:lnTo>
                  <a:pt x="378" y="806"/>
                </a:lnTo>
                <a:lnTo>
                  <a:pt x="406" y="766"/>
                </a:lnTo>
                <a:lnTo>
                  <a:pt x="442" y="730"/>
                </a:lnTo>
                <a:lnTo>
                  <a:pt x="478" y="698"/>
                </a:lnTo>
                <a:lnTo>
                  <a:pt x="518" y="669"/>
                </a:lnTo>
                <a:lnTo>
                  <a:pt x="561" y="640"/>
                </a:lnTo>
                <a:lnTo>
                  <a:pt x="604" y="619"/>
                </a:lnTo>
                <a:lnTo>
                  <a:pt x="651" y="601"/>
                </a:lnTo>
                <a:lnTo>
                  <a:pt x="701" y="590"/>
                </a:lnTo>
                <a:lnTo>
                  <a:pt x="752" y="583"/>
                </a:lnTo>
                <a:lnTo>
                  <a:pt x="802" y="579"/>
                </a:lnTo>
                <a:close/>
                <a:moveTo>
                  <a:pt x="802" y="784"/>
                </a:moveTo>
                <a:lnTo>
                  <a:pt x="845" y="788"/>
                </a:lnTo>
                <a:lnTo>
                  <a:pt x="885" y="795"/>
                </a:lnTo>
                <a:lnTo>
                  <a:pt x="925" y="802"/>
                </a:lnTo>
                <a:lnTo>
                  <a:pt x="964" y="817"/>
                </a:lnTo>
                <a:lnTo>
                  <a:pt x="1000" y="835"/>
                </a:lnTo>
                <a:lnTo>
                  <a:pt x="1032" y="856"/>
                </a:lnTo>
                <a:lnTo>
                  <a:pt x="1065" y="881"/>
                </a:lnTo>
                <a:lnTo>
                  <a:pt x="1094" y="907"/>
                </a:lnTo>
                <a:lnTo>
                  <a:pt x="1122" y="935"/>
                </a:lnTo>
                <a:lnTo>
                  <a:pt x="1144" y="968"/>
                </a:lnTo>
                <a:lnTo>
                  <a:pt x="1166" y="1000"/>
                </a:lnTo>
                <a:lnTo>
                  <a:pt x="1184" y="1036"/>
                </a:lnTo>
                <a:lnTo>
                  <a:pt x="1198" y="1076"/>
                </a:lnTo>
                <a:lnTo>
                  <a:pt x="1205" y="1115"/>
                </a:lnTo>
                <a:lnTo>
                  <a:pt x="1212" y="1155"/>
                </a:lnTo>
                <a:lnTo>
                  <a:pt x="1216" y="1198"/>
                </a:lnTo>
                <a:lnTo>
                  <a:pt x="1212" y="1237"/>
                </a:lnTo>
                <a:lnTo>
                  <a:pt x="1205" y="1281"/>
                </a:lnTo>
                <a:lnTo>
                  <a:pt x="1198" y="1320"/>
                </a:lnTo>
                <a:lnTo>
                  <a:pt x="1184" y="1356"/>
                </a:lnTo>
                <a:lnTo>
                  <a:pt x="1166" y="1392"/>
                </a:lnTo>
                <a:lnTo>
                  <a:pt x="1144" y="1425"/>
                </a:lnTo>
                <a:lnTo>
                  <a:pt x="1122" y="1457"/>
                </a:lnTo>
                <a:lnTo>
                  <a:pt x="1094" y="1486"/>
                </a:lnTo>
                <a:lnTo>
                  <a:pt x="1065" y="1514"/>
                </a:lnTo>
                <a:lnTo>
                  <a:pt x="1032" y="1536"/>
                </a:lnTo>
                <a:lnTo>
                  <a:pt x="1000" y="1558"/>
                </a:lnTo>
                <a:lnTo>
                  <a:pt x="964" y="1576"/>
                </a:lnTo>
                <a:lnTo>
                  <a:pt x="925" y="1590"/>
                </a:lnTo>
                <a:lnTo>
                  <a:pt x="885" y="1601"/>
                </a:lnTo>
                <a:lnTo>
                  <a:pt x="845" y="1604"/>
                </a:lnTo>
                <a:lnTo>
                  <a:pt x="802" y="1608"/>
                </a:lnTo>
                <a:lnTo>
                  <a:pt x="763" y="1604"/>
                </a:lnTo>
                <a:lnTo>
                  <a:pt x="723" y="1601"/>
                </a:lnTo>
                <a:lnTo>
                  <a:pt x="683" y="1590"/>
                </a:lnTo>
                <a:lnTo>
                  <a:pt x="644" y="1576"/>
                </a:lnTo>
                <a:lnTo>
                  <a:pt x="608" y="1558"/>
                </a:lnTo>
                <a:lnTo>
                  <a:pt x="576" y="1536"/>
                </a:lnTo>
                <a:lnTo>
                  <a:pt x="543" y="1514"/>
                </a:lnTo>
                <a:lnTo>
                  <a:pt x="514" y="1486"/>
                </a:lnTo>
                <a:lnTo>
                  <a:pt x="486" y="1457"/>
                </a:lnTo>
                <a:lnTo>
                  <a:pt x="464" y="1425"/>
                </a:lnTo>
                <a:lnTo>
                  <a:pt x="442" y="1392"/>
                </a:lnTo>
                <a:lnTo>
                  <a:pt x="424" y="1356"/>
                </a:lnTo>
                <a:lnTo>
                  <a:pt x="410" y="1320"/>
                </a:lnTo>
                <a:lnTo>
                  <a:pt x="403" y="1281"/>
                </a:lnTo>
                <a:lnTo>
                  <a:pt x="396" y="1237"/>
                </a:lnTo>
                <a:lnTo>
                  <a:pt x="392" y="1198"/>
                </a:lnTo>
                <a:lnTo>
                  <a:pt x="396" y="1155"/>
                </a:lnTo>
                <a:lnTo>
                  <a:pt x="403" y="1115"/>
                </a:lnTo>
                <a:lnTo>
                  <a:pt x="410" y="1076"/>
                </a:lnTo>
                <a:lnTo>
                  <a:pt x="424" y="1036"/>
                </a:lnTo>
                <a:lnTo>
                  <a:pt x="442" y="1000"/>
                </a:lnTo>
                <a:lnTo>
                  <a:pt x="464" y="968"/>
                </a:lnTo>
                <a:lnTo>
                  <a:pt x="486" y="935"/>
                </a:lnTo>
                <a:lnTo>
                  <a:pt x="514" y="907"/>
                </a:lnTo>
                <a:lnTo>
                  <a:pt x="543" y="881"/>
                </a:lnTo>
                <a:lnTo>
                  <a:pt x="576" y="856"/>
                </a:lnTo>
                <a:lnTo>
                  <a:pt x="608" y="835"/>
                </a:lnTo>
                <a:lnTo>
                  <a:pt x="644" y="817"/>
                </a:lnTo>
                <a:lnTo>
                  <a:pt x="683" y="802"/>
                </a:lnTo>
                <a:lnTo>
                  <a:pt x="723" y="795"/>
                </a:lnTo>
                <a:lnTo>
                  <a:pt x="763" y="788"/>
                </a:lnTo>
                <a:lnTo>
                  <a:pt x="802" y="784"/>
                </a:lnTo>
                <a:close/>
                <a:moveTo>
                  <a:pt x="802" y="950"/>
                </a:moveTo>
                <a:lnTo>
                  <a:pt x="838" y="953"/>
                </a:lnTo>
                <a:lnTo>
                  <a:pt x="871" y="957"/>
                </a:lnTo>
                <a:lnTo>
                  <a:pt x="903" y="964"/>
                </a:lnTo>
                <a:lnTo>
                  <a:pt x="932" y="975"/>
                </a:lnTo>
                <a:lnTo>
                  <a:pt x="960" y="989"/>
                </a:lnTo>
                <a:lnTo>
                  <a:pt x="986" y="1007"/>
                </a:lnTo>
                <a:lnTo>
                  <a:pt x="1011" y="1025"/>
                </a:lnTo>
                <a:lnTo>
                  <a:pt x="1036" y="1047"/>
                </a:lnTo>
                <a:lnTo>
                  <a:pt x="1058" y="1072"/>
                </a:lnTo>
                <a:lnTo>
                  <a:pt x="1076" y="1097"/>
                </a:lnTo>
                <a:lnTo>
                  <a:pt x="1094" y="1122"/>
                </a:lnTo>
                <a:lnTo>
                  <a:pt x="1108" y="1151"/>
                </a:lnTo>
                <a:lnTo>
                  <a:pt x="1119" y="1184"/>
                </a:lnTo>
                <a:lnTo>
                  <a:pt x="1126" y="1212"/>
                </a:lnTo>
                <a:lnTo>
                  <a:pt x="1130" y="1245"/>
                </a:lnTo>
                <a:lnTo>
                  <a:pt x="1133" y="1281"/>
                </a:lnTo>
                <a:lnTo>
                  <a:pt x="1130" y="1313"/>
                </a:lnTo>
                <a:lnTo>
                  <a:pt x="1126" y="1345"/>
                </a:lnTo>
                <a:lnTo>
                  <a:pt x="1119" y="1378"/>
                </a:lnTo>
                <a:lnTo>
                  <a:pt x="1108" y="1407"/>
                </a:lnTo>
                <a:lnTo>
                  <a:pt x="1094" y="1435"/>
                </a:lnTo>
                <a:lnTo>
                  <a:pt x="1076" y="1464"/>
                </a:lnTo>
                <a:lnTo>
                  <a:pt x="1058" y="1489"/>
                </a:lnTo>
                <a:lnTo>
                  <a:pt x="1036" y="1511"/>
                </a:lnTo>
                <a:lnTo>
                  <a:pt x="1011" y="1532"/>
                </a:lnTo>
                <a:lnTo>
                  <a:pt x="986" y="1550"/>
                </a:lnTo>
                <a:lnTo>
                  <a:pt x="960" y="1568"/>
                </a:lnTo>
                <a:lnTo>
                  <a:pt x="932" y="1583"/>
                </a:lnTo>
                <a:lnTo>
                  <a:pt x="903" y="1594"/>
                </a:lnTo>
                <a:lnTo>
                  <a:pt x="871" y="1601"/>
                </a:lnTo>
                <a:lnTo>
                  <a:pt x="838" y="1608"/>
                </a:lnTo>
                <a:lnTo>
                  <a:pt x="802" y="1608"/>
                </a:lnTo>
                <a:lnTo>
                  <a:pt x="770" y="1608"/>
                </a:lnTo>
                <a:lnTo>
                  <a:pt x="737" y="1601"/>
                </a:lnTo>
                <a:lnTo>
                  <a:pt x="705" y="1594"/>
                </a:lnTo>
                <a:lnTo>
                  <a:pt x="676" y="1583"/>
                </a:lnTo>
                <a:lnTo>
                  <a:pt x="648" y="1568"/>
                </a:lnTo>
                <a:lnTo>
                  <a:pt x="622" y="1550"/>
                </a:lnTo>
                <a:lnTo>
                  <a:pt x="594" y="1532"/>
                </a:lnTo>
                <a:lnTo>
                  <a:pt x="572" y="1511"/>
                </a:lnTo>
                <a:lnTo>
                  <a:pt x="550" y="1489"/>
                </a:lnTo>
                <a:lnTo>
                  <a:pt x="532" y="1464"/>
                </a:lnTo>
                <a:lnTo>
                  <a:pt x="514" y="1435"/>
                </a:lnTo>
                <a:lnTo>
                  <a:pt x="500" y="1407"/>
                </a:lnTo>
                <a:lnTo>
                  <a:pt x="489" y="1378"/>
                </a:lnTo>
                <a:lnTo>
                  <a:pt x="482" y="1345"/>
                </a:lnTo>
                <a:lnTo>
                  <a:pt x="478" y="1313"/>
                </a:lnTo>
                <a:lnTo>
                  <a:pt x="475" y="1281"/>
                </a:lnTo>
                <a:lnTo>
                  <a:pt x="478" y="1245"/>
                </a:lnTo>
                <a:lnTo>
                  <a:pt x="482" y="1212"/>
                </a:lnTo>
                <a:lnTo>
                  <a:pt x="489" y="1184"/>
                </a:lnTo>
                <a:lnTo>
                  <a:pt x="500" y="1151"/>
                </a:lnTo>
                <a:lnTo>
                  <a:pt x="514" y="1122"/>
                </a:lnTo>
                <a:lnTo>
                  <a:pt x="532" y="1097"/>
                </a:lnTo>
                <a:lnTo>
                  <a:pt x="550" y="1072"/>
                </a:lnTo>
                <a:lnTo>
                  <a:pt x="572" y="1047"/>
                </a:lnTo>
                <a:lnTo>
                  <a:pt x="594" y="1025"/>
                </a:lnTo>
                <a:lnTo>
                  <a:pt x="622" y="1007"/>
                </a:lnTo>
                <a:lnTo>
                  <a:pt x="648" y="989"/>
                </a:lnTo>
                <a:lnTo>
                  <a:pt x="676" y="975"/>
                </a:lnTo>
                <a:lnTo>
                  <a:pt x="705" y="964"/>
                </a:lnTo>
                <a:lnTo>
                  <a:pt x="737" y="957"/>
                </a:lnTo>
                <a:lnTo>
                  <a:pt x="770" y="953"/>
                </a:lnTo>
                <a:lnTo>
                  <a:pt x="802" y="950"/>
                </a:lnTo>
                <a:close/>
                <a:moveTo>
                  <a:pt x="802" y="1083"/>
                </a:moveTo>
                <a:lnTo>
                  <a:pt x="831" y="1083"/>
                </a:lnTo>
                <a:lnTo>
                  <a:pt x="856" y="1086"/>
                </a:lnTo>
                <a:lnTo>
                  <a:pt x="881" y="1094"/>
                </a:lnTo>
                <a:lnTo>
                  <a:pt x="907" y="1104"/>
                </a:lnTo>
                <a:lnTo>
                  <a:pt x="928" y="1115"/>
                </a:lnTo>
                <a:lnTo>
                  <a:pt x="950" y="1126"/>
                </a:lnTo>
                <a:lnTo>
                  <a:pt x="971" y="1144"/>
                </a:lnTo>
                <a:lnTo>
                  <a:pt x="989" y="1158"/>
                </a:lnTo>
                <a:lnTo>
                  <a:pt x="1007" y="1180"/>
                </a:lnTo>
                <a:lnTo>
                  <a:pt x="1022" y="1198"/>
                </a:lnTo>
                <a:lnTo>
                  <a:pt x="1036" y="1219"/>
                </a:lnTo>
                <a:lnTo>
                  <a:pt x="1047" y="1245"/>
                </a:lnTo>
                <a:lnTo>
                  <a:pt x="1054" y="1266"/>
                </a:lnTo>
                <a:lnTo>
                  <a:pt x="1061" y="1291"/>
                </a:lnTo>
                <a:lnTo>
                  <a:pt x="1065" y="1320"/>
                </a:lnTo>
                <a:lnTo>
                  <a:pt x="1068" y="1345"/>
                </a:lnTo>
                <a:lnTo>
                  <a:pt x="1065" y="1371"/>
                </a:lnTo>
                <a:lnTo>
                  <a:pt x="1061" y="1399"/>
                </a:lnTo>
                <a:lnTo>
                  <a:pt x="1054" y="1425"/>
                </a:lnTo>
                <a:lnTo>
                  <a:pt x="1047" y="1446"/>
                </a:lnTo>
                <a:lnTo>
                  <a:pt x="1036" y="1471"/>
                </a:lnTo>
                <a:lnTo>
                  <a:pt x="1022" y="1493"/>
                </a:lnTo>
                <a:lnTo>
                  <a:pt x="1007" y="1511"/>
                </a:lnTo>
                <a:lnTo>
                  <a:pt x="989" y="1532"/>
                </a:lnTo>
                <a:lnTo>
                  <a:pt x="971" y="1547"/>
                </a:lnTo>
                <a:lnTo>
                  <a:pt x="950" y="1565"/>
                </a:lnTo>
                <a:lnTo>
                  <a:pt x="928" y="1576"/>
                </a:lnTo>
                <a:lnTo>
                  <a:pt x="907" y="1586"/>
                </a:lnTo>
                <a:lnTo>
                  <a:pt x="881" y="1597"/>
                </a:lnTo>
                <a:lnTo>
                  <a:pt x="856" y="1604"/>
                </a:lnTo>
                <a:lnTo>
                  <a:pt x="831" y="1608"/>
                </a:lnTo>
                <a:lnTo>
                  <a:pt x="802" y="1608"/>
                </a:lnTo>
                <a:lnTo>
                  <a:pt x="777" y="1608"/>
                </a:lnTo>
                <a:lnTo>
                  <a:pt x="752" y="1604"/>
                </a:lnTo>
                <a:lnTo>
                  <a:pt x="727" y="1597"/>
                </a:lnTo>
                <a:lnTo>
                  <a:pt x="701" y="1586"/>
                </a:lnTo>
                <a:lnTo>
                  <a:pt x="680" y="1576"/>
                </a:lnTo>
                <a:lnTo>
                  <a:pt x="658" y="1565"/>
                </a:lnTo>
                <a:lnTo>
                  <a:pt x="637" y="1547"/>
                </a:lnTo>
                <a:lnTo>
                  <a:pt x="619" y="1532"/>
                </a:lnTo>
                <a:lnTo>
                  <a:pt x="601" y="1511"/>
                </a:lnTo>
                <a:lnTo>
                  <a:pt x="586" y="1493"/>
                </a:lnTo>
                <a:lnTo>
                  <a:pt x="572" y="1471"/>
                </a:lnTo>
                <a:lnTo>
                  <a:pt x="561" y="1446"/>
                </a:lnTo>
                <a:lnTo>
                  <a:pt x="554" y="1425"/>
                </a:lnTo>
                <a:lnTo>
                  <a:pt x="547" y="1399"/>
                </a:lnTo>
                <a:lnTo>
                  <a:pt x="543" y="1371"/>
                </a:lnTo>
                <a:lnTo>
                  <a:pt x="540" y="1345"/>
                </a:lnTo>
                <a:lnTo>
                  <a:pt x="543" y="1320"/>
                </a:lnTo>
                <a:lnTo>
                  <a:pt x="547" y="1291"/>
                </a:lnTo>
                <a:lnTo>
                  <a:pt x="554" y="1266"/>
                </a:lnTo>
                <a:lnTo>
                  <a:pt x="561" y="1245"/>
                </a:lnTo>
                <a:lnTo>
                  <a:pt x="572" y="1219"/>
                </a:lnTo>
                <a:lnTo>
                  <a:pt x="586" y="1198"/>
                </a:lnTo>
                <a:lnTo>
                  <a:pt x="601" y="1180"/>
                </a:lnTo>
                <a:lnTo>
                  <a:pt x="619" y="1158"/>
                </a:lnTo>
                <a:lnTo>
                  <a:pt x="637" y="1144"/>
                </a:lnTo>
                <a:lnTo>
                  <a:pt x="658" y="1126"/>
                </a:lnTo>
                <a:lnTo>
                  <a:pt x="680" y="1115"/>
                </a:lnTo>
                <a:lnTo>
                  <a:pt x="701" y="1104"/>
                </a:lnTo>
                <a:lnTo>
                  <a:pt x="727" y="1094"/>
                </a:lnTo>
                <a:lnTo>
                  <a:pt x="752" y="1086"/>
                </a:lnTo>
                <a:lnTo>
                  <a:pt x="777" y="1083"/>
                </a:lnTo>
                <a:lnTo>
                  <a:pt x="802" y="1083"/>
                </a:lnTo>
                <a:close/>
                <a:moveTo>
                  <a:pt x="802" y="1187"/>
                </a:moveTo>
                <a:lnTo>
                  <a:pt x="824" y="1187"/>
                </a:lnTo>
                <a:lnTo>
                  <a:pt x="845" y="1191"/>
                </a:lnTo>
                <a:lnTo>
                  <a:pt x="867" y="1198"/>
                </a:lnTo>
                <a:lnTo>
                  <a:pt x="885" y="1205"/>
                </a:lnTo>
                <a:lnTo>
                  <a:pt x="903" y="1212"/>
                </a:lnTo>
                <a:lnTo>
                  <a:pt x="921" y="1223"/>
                </a:lnTo>
                <a:lnTo>
                  <a:pt x="939" y="1237"/>
                </a:lnTo>
                <a:lnTo>
                  <a:pt x="953" y="1248"/>
                </a:lnTo>
                <a:lnTo>
                  <a:pt x="968" y="1266"/>
                </a:lnTo>
                <a:lnTo>
                  <a:pt x="978" y="1281"/>
                </a:lnTo>
                <a:lnTo>
                  <a:pt x="989" y="1299"/>
                </a:lnTo>
                <a:lnTo>
                  <a:pt x="996" y="1317"/>
                </a:lnTo>
                <a:lnTo>
                  <a:pt x="1004" y="1335"/>
                </a:lnTo>
                <a:lnTo>
                  <a:pt x="1011" y="1356"/>
                </a:lnTo>
                <a:lnTo>
                  <a:pt x="1014" y="1378"/>
                </a:lnTo>
                <a:lnTo>
                  <a:pt x="1014" y="1399"/>
                </a:lnTo>
                <a:lnTo>
                  <a:pt x="1014" y="1421"/>
                </a:lnTo>
                <a:lnTo>
                  <a:pt x="1011" y="1439"/>
                </a:lnTo>
                <a:lnTo>
                  <a:pt x="1004" y="1461"/>
                </a:lnTo>
                <a:lnTo>
                  <a:pt x="996" y="1479"/>
                </a:lnTo>
                <a:lnTo>
                  <a:pt x="989" y="1496"/>
                </a:lnTo>
                <a:lnTo>
                  <a:pt x="978" y="1514"/>
                </a:lnTo>
                <a:lnTo>
                  <a:pt x="968" y="1532"/>
                </a:lnTo>
                <a:lnTo>
                  <a:pt x="953" y="1547"/>
                </a:lnTo>
                <a:lnTo>
                  <a:pt x="939" y="1561"/>
                </a:lnTo>
                <a:lnTo>
                  <a:pt x="921" y="1572"/>
                </a:lnTo>
                <a:lnTo>
                  <a:pt x="903" y="1583"/>
                </a:lnTo>
                <a:lnTo>
                  <a:pt x="885" y="1590"/>
                </a:lnTo>
                <a:lnTo>
                  <a:pt x="867" y="1597"/>
                </a:lnTo>
                <a:lnTo>
                  <a:pt x="845" y="1604"/>
                </a:lnTo>
                <a:lnTo>
                  <a:pt x="824" y="1608"/>
                </a:lnTo>
                <a:lnTo>
                  <a:pt x="802" y="1608"/>
                </a:lnTo>
                <a:lnTo>
                  <a:pt x="784" y="1608"/>
                </a:lnTo>
                <a:lnTo>
                  <a:pt x="763" y="1604"/>
                </a:lnTo>
                <a:lnTo>
                  <a:pt x="741" y="1597"/>
                </a:lnTo>
                <a:lnTo>
                  <a:pt x="723" y="1590"/>
                </a:lnTo>
                <a:lnTo>
                  <a:pt x="705" y="1583"/>
                </a:lnTo>
                <a:lnTo>
                  <a:pt x="687" y="1572"/>
                </a:lnTo>
                <a:lnTo>
                  <a:pt x="669" y="1561"/>
                </a:lnTo>
                <a:lnTo>
                  <a:pt x="655" y="1547"/>
                </a:lnTo>
                <a:lnTo>
                  <a:pt x="640" y="1532"/>
                </a:lnTo>
                <a:lnTo>
                  <a:pt x="630" y="1514"/>
                </a:lnTo>
                <a:lnTo>
                  <a:pt x="619" y="1496"/>
                </a:lnTo>
                <a:lnTo>
                  <a:pt x="612" y="1479"/>
                </a:lnTo>
                <a:lnTo>
                  <a:pt x="604" y="1461"/>
                </a:lnTo>
                <a:lnTo>
                  <a:pt x="597" y="1439"/>
                </a:lnTo>
                <a:lnTo>
                  <a:pt x="594" y="1421"/>
                </a:lnTo>
                <a:lnTo>
                  <a:pt x="594" y="1399"/>
                </a:lnTo>
                <a:lnTo>
                  <a:pt x="594" y="1378"/>
                </a:lnTo>
                <a:lnTo>
                  <a:pt x="597" y="1356"/>
                </a:lnTo>
                <a:lnTo>
                  <a:pt x="604" y="1335"/>
                </a:lnTo>
                <a:lnTo>
                  <a:pt x="612" y="1317"/>
                </a:lnTo>
                <a:lnTo>
                  <a:pt x="619" y="1299"/>
                </a:lnTo>
                <a:lnTo>
                  <a:pt x="630" y="1281"/>
                </a:lnTo>
                <a:lnTo>
                  <a:pt x="640" y="1266"/>
                </a:lnTo>
                <a:lnTo>
                  <a:pt x="655" y="1248"/>
                </a:lnTo>
                <a:lnTo>
                  <a:pt x="669" y="1237"/>
                </a:lnTo>
                <a:lnTo>
                  <a:pt x="687" y="1223"/>
                </a:lnTo>
                <a:lnTo>
                  <a:pt x="705" y="1212"/>
                </a:lnTo>
                <a:lnTo>
                  <a:pt x="723" y="1205"/>
                </a:lnTo>
                <a:lnTo>
                  <a:pt x="741" y="1198"/>
                </a:lnTo>
                <a:lnTo>
                  <a:pt x="763" y="1191"/>
                </a:lnTo>
                <a:lnTo>
                  <a:pt x="784" y="1187"/>
                </a:lnTo>
                <a:lnTo>
                  <a:pt x="802" y="1187"/>
                </a:lnTo>
                <a:close/>
                <a:moveTo>
                  <a:pt x="802" y="1273"/>
                </a:moveTo>
                <a:lnTo>
                  <a:pt x="838" y="1277"/>
                </a:lnTo>
                <a:lnTo>
                  <a:pt x="871" y="1284"/>
                </a:lnTo>
                <a:lnTo>
                  <a:pt x="899" y="1302"/>
                </a:lnTo>
                <a:lnTo>
                  <a:pt x="921" y="1320"/>
                </a:lnTo>
                <a:lnTo>
                  <a:pt x="942" y="1345"/>
                </a:lnTo>
                <a:lnTo>
                  <a:pt x="960" y="1374"/>
                </a:lnTo>
                <a:lnTo>
                  <a:pt x="968" y="1407"/>
                </a:lnTo>
                <a:lnTo>
                  <a:pt x="971" y="1439"/>
                </a:lnTo>
                <a:lnTo>
                  <a:pt x="968" y="1475"/>
                </a:lnTo>
                <a:lnTo>
                  <a:pt x="960" y="1504"/>
                </a:lnTo>
                <a:lnTo>
                  <a:pt x="942" y="1532"/>
                </a:lnTo>
                <a:lnTo>
                  <a:pt x="921" y="1558"/>
                </a:lnTo>
                <a:lnTo>
                  <a:pt x="899" y="1579"/>
                </a:lnTo>
                <a:lnTo>
                  <a:pt x="871" y="1594"/>
                </a:lnTo>
                <a:lnTo>
                  <a:pt x="838" y="1604"/>
                </a:lnTo>
                <a:lnTo>
                  <a:pt x="802" y="1608"/>
                </a:lnTo>
                <a:lnTo>
                  <a:pt x="770" y="1604"/>
                </a:lnTo>
                <a:lnTo>
                  <a:pt x="737" y="1594"/>
                </a:lnTo>
                <a:lnTo>
                  <a:pt x="709" y="1579"/>
                </a:lnTo>
                <a:lnTo>
                  <a:pt x="687" y="1558"/>
                </a:lnTo>
                <a:lnTo>
                  <a:pt x="666" y="1532"/>
                </a:lnTo>
                <a:lnTo>
                  <a:pt x="648" y="1504"/>
                </a:lnTo>
                <a:lnTo>
                  <a:pt x="640" y="1475"/>
                </a:lnTo>
                <a:lnTo>
                  <a:pt x="637" y="1439"/>
                </a:lnTo>
                <a:lnTo>
                  <a:pt x="640" y="1407"/>
                </a:lnTo>
                <a:lnTo>
                  <a:pt x="648" y="1374"/>
                </a:lnTo>
                <a:lnTo>
                  <a:pt x="666" y="1345"/>
                </a:lnTo>
                <a:lnTo>
                  <a:pt x="687" y="1320"/>
                </a:lnTo>
                <a:lnTo>
                  <a:pt x="709" y="1302"/>
                </a:lnTo>
                <a:lnTo>
                  <a:pt x="737" y="1284"/>
                </a:lnTo>
                <a:lnTo>
                  <a:pt x="770" y="1277"/>
                </a:lnTo>
                <a:lnTo>
                  <a:pt x="802" y="1273"/>
                </a:lnTo>
                <a:close/>
                <a:moveTo>
                  <a:pt x="802" y="1338"/>
                </a:moveTo>
                <a:lnTo>
                  <a:pt x="831" y="1342"/>
                </a:lnTo>
                <a:lnTo>
                  <a:pt x="856" y="1349"/>
                </a:lnTo>
                <a:lnTo>
                  <a:pt x="878" y="1363"/>
                </a:lnTo>
                <a:lnTo>
                  <a:pt x="899" y="1378"/>
                </a:lnTo>
                <a:lnTo>
                  <a:pt x="914" y="1399"/>
                </a:lnTo>
                <a:lnTo>
                  <a:pt x="928" y="1421"/>
                </a:lnTo>
                <a:lnTo>
                  <a:pt x="935" y="1446"/>
                </a:lnTo>
                <a:lnTo>
                  <a:pt x="939" y="1475"/>
                </a:lnTo>
                <a:lnTo>
                  <a:pt x="935" y="1500"/>
                </a:lnTo>
                <a:lnTo>
                  <a:pt x="928" y="1525"/>
                </a:lnTo>
                <a:lnTo>
                  <a:pt x="914" y="1550"/>
                </a:lnTo>
                <a:lnTo>
                  <a:pt x="899" y="1568"/>
                </a:lnTo>
                <a:lnTo>
                  <a:pt x="878" y="1586"/>
                </a:lnTo>
                <a:lnTo>
                  <a:pt x="856" y="1597"/>
                </a:lnTo>
                <a:lnTo>
                  <a:pt x="831" y="1604"/>
                </a:lnTo>
                <a:lnTo>
                  <a:pt x="802" y="1608"/>
                </a:lnTo>
                <a:lnTo>
                  <a:pt x="777" y="1604"/>
                </a:lnTo>
                <a:lnTo>
                  <a:pt x="752" y="1597"/>
                </a:lnTo>
                <a:lnTo>
                  <a:pt x="730" y="1586"/>
                </a:lnTo>
                <a:lnTo>
                  <a:pt x="709" y="1568"/>
                </a:lnTo>
                <a:lnTo>
                  <a:pt x="694" y="1550"/>
                </a:lnTo>
                <a:lnTo>
                  <a:pt x="680" y="1525"/>
                </a:lnTo>
                <a:lnTo>
                  <a:pt x="673" y="1500"/>
                </a:lnTo>
                <a:lnTo>
                  <a:pt x="669" y="1475"/>
                </a:lnTo>
                <a:lnTo>
                  <a:pt x="673" y="1446"/>
                </a:lnTo>
                <a:lnTo>
                  <a:pt x="680" y="1421"/>
                </a:lnTo>
                <a:lnTo>
                  <a:pt x="694" y="1399"/>
                </a:lnTo>
                <a:lnTo>
                  <a:pt x="709" y="1378"/>
                </a:lnTo>
                <a:lnTo>
                  <a:pt x="730" y="1363"/>
                </a:lnTo>
                <a:lnTo>
                  <a:pt x="752" y="1349"/>
                </a:lnTo>
                <a:lnTo>
                  <a:pt x="777" y="1342"/>
                </a:lnTo>
                <a:lnTo>
                  <a:pt x="802" y="133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7" name="Picture 212" descr="Shape 274"/>
          <p:cNvPicPr/>
          <p:nvPr/>
        </p:nvPicPr>
        <p:blipFill>
          <a:blip r:embed="rId2"/>
          <a:stretch/>
        </p:blipFill>
        <p:spPr>
          <a:xfrm>
            <a:off x="1060560" y="517536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7028" name="Picture 213" descr="Snowflake 28"/>
          <p:cNvPicPr/>
          <p:nvPr/>
        </p:nvPicPr>
        <p:blipFill>
          <a:blip r:embed="rId3"/>
          <a:stretch/>
        </p:blipFill>
        <p:spPr>
          <a:xfrm>
            <a:off x="4724280" y="5100480"/>
            <a:ext cx="1181160" cy="1109880"/>
          </a:xfrm>
          <a:prstGeom prst="rect">
            <a:avLst/>
          </a:prstGeom>
          <a:ln w="0">
            <a:noFill/>
          </a:ln>
        </p:spPr>
      </p:pic>
      <p:sp>
        <p:nvSpPr>
          <p:cNvPr id="7029" name="AutoShape 214"/>
          <p:cNvSpPr/>
          <p:nvPr/>
        </p:nvSpPr>
        <p:spPr>
          <a:xfrm>
            <a:off x="6934320" y="5029200"/>
            <a:ext cx="1181160" cy="11811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0" name="Text Box 215"/>
          <p:cNvSpPr/>
          <p:nvPr/>
        </p:nvSpPr>
        <p:spPr>
          <a:xfrm>
            <a:off x="419040" y="14288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1" name="Text Box 216"/>
          <p:cNvSpPr/>
          <p:nvPr/>
        </p:nvSpPr>
        <p:spPr>
          <a:xfrm>
            <a:off x="2101680" y="143496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2" name="Text Box 217"/>
          <p:cNvSpPr/>
          <p:nvPr/>
        </p:nvSpPr>
        <p:spPr>
          <a:xfrm>
            <a:off x="3860640" y="14414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3" name="Text Box 218"/>
          <p:cNvSpPr/>
          <p:nvPr/>
        </p:nvSpPr>
        <p:spPr>
          <a:xfrm>
            <a:off x="6229440" y="144792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4" name="Text Box 219"/>
          <p:cNvSpPr/>
          <p:nvPr/>
        </p:nvSpPr>
        <p:spPr>
          <a:xfrm>
            <a:off x="44460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5" name="Text Box 220"/>
          <p:cNvSpPr/>
          <p:nvPr/>
        </p:nvSpPr>
        <p:spPr>
          <a:xfrm>
            <a:off x="2413080" y="321300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6" name="Text Box 221"/>
          <p:cNvSpPr/>
          <p:nvPr/>
        </p:nvSpPr>
        <p:spPr>
          <a:xfrm>
            <a:off x="4038480" y="32004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7" name="Text Box 222"/>
          <p:cNvSpPr/>
          <p:nvPr/>
        </p:nvSpPr>
        <p:spPr>
          <a:xfrm>
            <a:off x="619776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8" name="Text Box 223"/>
          <p:cNvSpPr/>
          <p:nvPr/>
        </p:nvSpPr>
        <p:spPr>
          <a:xfrm>
            <a:off x="431640" y="48132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9" name="Text Box 224"/>
          <p:cNvSpPr/>
          <p:nvPr/>
        </p:nvSpPr>
        <p:spPr>
          <a:xfrm>
            <a:off x="2209680" y="48960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0" name="Text Box 225"/>
          <p:cNvSpPr/>
          <p:nvPr/>
        </p:nvSpPr>
        <p:spPr>
          <a:xfrm>
            <a:off x="4102200" y="49402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1" name="Text Box 226"/>
          <p:cNvSpPr/>
          <p:nvPr/>
        </p:nvSpPr>
        <p:spPr>
          <a:xfrm>
            <a:off x="6280200" y="494676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2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Question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3" name="Group 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7044" name="Group 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7045" name="AutoShape 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AutoShape 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AutoShape 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AutoShape 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AutoShape 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0" name="Group 1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7051" name="AutoShape 1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AutoShape 1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AutoShape 1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AutoShape 1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AutoShape 1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6" name="Group 1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7057" name="AutoShape 1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AutoShape 1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AutoShape 1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AutoShape 2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AutoShape 2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2" name="Group 2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7063" name="AutoShape 2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AutoShape 2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AutoShape 2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AutoShape 2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AutoShape 2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8" name="Group 2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7069" name="AutoShape 2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AutoShape 3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AutoShape 3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AutoShape 3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AutoShape 3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4" name="AutoShape 3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AutoShape 3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6" name="AutoShape 3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7" name="AutoShape 3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AutoShape 3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AutoShape 3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AutoShape 4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AutoShape 4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2" name="Group 4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7083" name="Group 4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7084" name="AutoShape 4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5" name="AutoShape 4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6" name="AutoShape 4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7" name="AutoShape 4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88" name="Group 4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7089" name="AutoShape 4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0" name="AutoShape 5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1" name="AutoShape 5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2" name="AutoShape 5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3" name="AutoShape 5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4" name="Group 5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7095" name="AutoShape 5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AutoShape 5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AutoShape 5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AutoShape 5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5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0" name="Group 6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7101" name="AutoShape 6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AutoShape 6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AutoShape 6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AutoShape 6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5" name="AutoShape 6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06" name="AutoShape 6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AutoShape 6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AutoShape 6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AutoShape 6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0" name="Group 7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7111" name="Group 7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7112" name="AutoShape 7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AutoShape 7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AutoShape 7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AutoShape 7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16" name="Group 7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7117" name="AutoShape 7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8" name="AutoShape 7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9" name="AutoShape 7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0" name="AutoShape 8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1" name="AutoShape 8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2" name="Group 8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7123" name="AutoShape 8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4" name="AutoShape 8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5" name="AutoShape 8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6" name="AutoShape 8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7" name="AutoShape 8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8" name="Group 8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7129" name="AutoShape 8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0" name="AutoShape 9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1" name="AutoShape 9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2" name="AutoShape 9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3" name="AutoShape 9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34" name="AutoShape 9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5" name="AutoShape 9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6" name="AutoShape 9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7" name="AutoShape 9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8" name="Group 98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7139" name="Group 99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7140" name="AutoShape 100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AutoShape 101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AutoShape 102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AutoShape 103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AutoShape 104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5" name="Group 105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7146" name="AutoShape 106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AutoShape 107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AutoShape 108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AutoShape 109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AutoShape 110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1" name="Group 111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7152" name="AutoShape 112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AutoShape 113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AutoShape 114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AutoShape 115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AutoShape 116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7" name="Group 117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7158" name="AutoShape 118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AutoShape 119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AutoShape 120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AutoShape 121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AutoShape 122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3" name="Group 123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7164" name="AutoShape 124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AutoShape 125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AutoShape 126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AutoShape 127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AutoShape 128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9" name="AutoShape 129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0" name="AutoShape 130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1" name="AutoShape 131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2" name="AutoShape 132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3" name="AutoShape 133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4" name="AutoShape 134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5" name="AutoShape 135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6" name="AutoShape 136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7" name="Text Box 137"/>
          <p:cNvSpPr/>
          <p:nvPr/>
        </p:nvSpPr>
        <p:spPr>
          <a:xfrm>
            <a:off x="2228760" y="46836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8" name="Text Box 138"/>
          <p:cNvSpPr/>
          <p:nvPr/>
        </p:nvSpPr>
        <p:spPr>
          <a:xfrm>
            <a:off x="685800" y="106668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04d8"/>
                </a:solidFill>
                <a:latin typeface="Arial"/>
              </a:rPr>
              <a:t>State the order of rotational symmetry for each shape belo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9" name="Text Box 215"/>
          <p:cNvSpPr/>
          <p:nvPr/>
        </p:nvSpPr>
        <p:spPr>
          <a:xfrm>
            <a:off x="419040" y="14288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0" name="Text Box 216"/>
          <p:cNvSpPr/>
          <p:nvPr/>
        </p:nvSpPr>
        <p:spPr>
          <a:xfrm>
            <a:off x="2101680" y="143496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1" name="Text Box 217"/>
          <p:cNvSpPr/>
          <p:nvPr/>
        </p:nvSpPr>
        <p:spPr>
          <a:xfrm>
            <a:off x="3860640" y="14414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2" name="Text Box 218"/>
          <p:cNvSpPr/>
          <p:nvPr/>
        </p:nvSpPr>
        <p:spPr>
          <a:xfrm>
            <a:off x="6229440" y="144792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3" name="Text Box 219"/>
          <p:cNvSpPr/>
          <p:nvPr/>
        </p:nvSpPr>
        <p:spPr>
          <a:xfrm>
            <a:off x="44460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4" name="Text Box 220"/>
          <p:cNvSpPr/>
          <p:nvPr/>
        </p:nvSpPr>
        <p:spPr>
          <a:xfrm>
            <a:off x="2413080" y="321300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5" name="Text Box 221"/>
          <p:cNvSpPr/>
          <p:nvPr/>
        </p:nvSpPr>
        <p:spPr>
          <a:xfrm>
            <a:off x="4038480" y="32004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6" name="Text Box 222"/>
          <p:cNvSpPr/>
          <p:nvPr/>
        </p:nvSpPr>
        <p:spPr>
          <a:xfrm>
            <a:off x="619776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7" name="Text Box 223"/>
          <p:cNvSpPr/>
          <p:nvPr/>
        </p:nvSpPr>
        <p:spPr>
          <a:xfrm>
            <a:off x="431640" y="490212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8" name="Text Box 224"/>
          <p:cNvSpPr/>
          <p:nvPr/>
        </p:nvSpPr>
        <p:spPr>
          <a:xfrm>
            <a:off x="2209680" y="48960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9" name="Text Box 225"/>
          <p:cNvSpPr/>
          <p:nvPr/>
        </p:nvSpPr>
        <p:spPr>
          <a:xfrm>
            <a:off x="4102200" y="49402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0" name="Text Box 226"/>
          <p:cNvSpPr/>
          <p:nvPr/>
        </p:nvSpPr>
        <p:spPr>
          <a:xfrm>
            <a:off x="6280200" y="494676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1" name="Text Box 227"/>
          <p:cNvSpPr/>
          <p:nvPr/>
        </p:nvSpPr>
        <p:spPr>
          <a:xfrm>
            <a:off x="952560" y="28576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2" name="Text Box 228"/>
          <p:cNvSpPr/>
          <p:nvPr/>
        </p:nvSpPr>
        <p:spPr>
          <a:xfrm>
            <a:off x="2717640" y="28735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3" name="Text Box 229"/>
          <p:cNvSpPr/>
          <p:nvPr/>
        </p:nvSpPr>
        <p:spPr>
          <a:xfrm>
            <a:off x="4657680" y="28512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4" name="Text Box 230"/>
          <p:cNvSpPr/>
          <p:nvPr/>
        </p:nvSpPr>
        <p:spPr>
          <a:xfrm>
            <a:off x="6864480" y="28256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5" name="Text Box 231"/>
          <p:cNvSpPr/>
          <p:nvPr/>
        </p:nvSpPr>
        <p:spPr>
          <a:xfrm>
            <a:off x="1054080" y="46069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6" name="Text Box 232"/>
          <p:cNvSpPr/>
          <p:nvPr/>
        </p:nvSpPr>
        <p:spPr>
          <a:xfrm>
            <a:off x="2813040" y="45943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7" name="Text Box 233"/>
          <p:cNvSpPr/>
          <p:nvPr/>
        </p:nvSpPr>
        <p:spPr>
          <a:xfrm>
            <a:off x="4762440" y="45813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8" name="Text Box 234"/>
          <p:cNvSpPr/>
          <p:nvPr/>
        </p:nvSpPr>
        <p:spPr>
          <a:xfrm>
            <a:off x="6940440" y="45784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9" name="Text Box 235"/>
          <p:cNvSpPr/>
          <p:nvPr/>
        </p:nvSpPr>
        <p:spPr>
          <a:xfrm>
            <a:off x="1012680" y="61466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0" name="Text Box 236"/>
          <p:cNvSpPr/>
          <p:nvPr/>
        </p:nvSpPr>
        <p:spPr>
          <a:xfrm>
            <a:off x="2714760" y="61531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1" name="Text Box 237"/>
          <p:cNvSpPr/>
          <p:nvPr/>
        </p:nvSpPr>
        <p:spPr>
          <a:xfrm>
            <a:off x="4816440" y="61786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2" name="Text Box 238"/>
          <p:cNvSpPr/>
          <p:nvPr/>
        </p:nvSpPr>
        <p:spPr>
          <a:xfrm>
            <a:off x="7013520" y="618480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3" name="Group 239"/>
          <p:cNvGrpSpPr/>
          <p:nvPr/>
        </p:nvGrpSpPr>
        <p:grpSpPr>
          <a:xfrm>
            <a:off x="946080" y="1860480"/>
            <a:ext cx="922320" cy="914040"/>
            <a:chOff x="946080" y="1860480"/>
            <a:chExt cx="922320" cy="914040"/>
          </a:xfrm>
        </p:grpSpPr>
        <p:sp>
          <p:nvSpPr>
            <p:cNvPr id="7204" name="Freeform 240"/>
            <p:cNvSpPr/>
            <p:nvPr/>
          </p:nvSpPr>
          <p:spPr>
            <a:xfrm>
              <a:off x="1426680" y="1860480"/>
              <a:ext cx="434520" cy="4381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5" name="Freeform 241"/>
            <p:cNvSpPr/>
            <p:nvPr/>
          </p:nvSpPr>
          <p:spPr>
            <a:xfrm>
              <a:off x="1449360" y="1885680"/>
              <a:ext cx="383760" cy="3841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6" name="Freeform 242"/>
            <p:cNvSpPr/>
            <p:nvPr/>
          </p:nvSpPr>
          <p:spPr>
            <a:xfrm>
              <a:off x="1500480" y="1934640"/>
              <a:ext cx="278280" cy="28188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7" name="Freeform 243"/>
            <p:cNvSpPr/>
            <p:nvPr/>
          </p:nvSpPr>
          <p:spPr>
            <a:xfrm>
              <a:off x="946080" y="1870200"/>
              <a:ext cx="444600" cy="43092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8" name="Freeform 244"/>
            <p:cNvSpPr/>
            <p:nvPr/>
          </p:nvSpPr>
          <p:spPr>
            <a:xfrm>
              <a:off x="973800" y="1896120"/>
              <a:ext cx="390960" cy="37620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9" name="Freeform 245"/>
            <p:cNvSpPr/>
            <p:nvPr/>
          </p:nvSpPr>
          <p:spPr>
            <a:xfrm>
              <a:off x="1027800" y="1944720"/>
              <a:ext cx="285840" cy="27432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0" name="Freeform 246"/>
            <p:cNvSpPr/>
            <p:nvPr/>
          </p:nvSpPr>
          <p:spPr>
            <a:xfrm>
              <a:off x="955800" y="2331720"/>
              <a:ext cx="429480" cy="44280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1" name="Freeform 247"/>
            <p:cNvSpPr/>
            <p:nvPr/>
          </p:nvSpPr>
          <p:spPr>
            <a:xfrm>
              <a:off x="981720" y="2357280"/>
              <a:ext cx="375120" cy="38952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2" name="Freeform 248"/>
            <p:cNvSpPr/>
            <p:nvPr/>
          </p:nvSpPr>
          <p:spPr>
            <a:xfrm>
              <a:off x="1030680" y="2405880"/>
              <a:ext cx="273240" cy="28692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3" name="Freeform 249"/>
            <p:cNvSpPr/>
            <p:nvPr/>
          </p:nvSpPr>
          <p:spPr>
            <a:xfrm>
              <a:off x="1426680" y="2331720"/>
              <a:ext cx="441720" cy="4302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4" name="Freeform 250"/>
            <p:cNvSpPr/>
            <p:nvPr/>
          </p:nvSpPr>
          <p:spPr>
            <a:xfrm>
              <a:off x="1451880" y="2357280"/>
              <a:ext cx="391320" cy="37692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5" name="Freeform 251"/>
            <p:cNvSpPr/>
            <p:nvPr/>
          </p:nvSpPr>
          <p:spPr>
            <a:xfrm>
              <a:off x="1508400" y="2405880"/>
              <a:ext cx="285840" cy="27432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6" name="Group 252"/>
          <p:cNvGrpSpPr/>
          <p:nvPr/>
        </p:nvGrpSpPr>
        <p:grpSpPr>
          <a:xfrm>
            <a:off x="2798280" y="1876320"/>
            <a:ext cx="893880" cy="890640"/>
            <a:chOff x="2798280" y="1876320"/>
            <a:chExt cx="893880" cy="890640"/>
          </a:xfrm>
        </p:grpSpPr>
        <p:sp>
          <p:nvSpPr>
            <p:cNvPr id="7217" name="Rectangle 253"/>
            <p:cNvSpPr/>
            <p:nvPr/>
          </p:nvSpPr>
          <p:spPr>
            <a:xfrm flipH="1" rot="5400000">
              <a:off x="2799360" y="1874520"/>
              <a:ext cx="890640" cy="8938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8" name="Freeform 254"/>
            <p:cNvSpPr/>
            <p:nvPr/>
          </p:nvSpPr>
          <p:spPr>
            <a:xfrm flipH="1" rot="5400000">
              <a:off x="2879280" y="1961640"/>
              <a:ext cx="733680" cy="733320"/>
            </a:xfrm>
            <a:custGeom>
              <a:avLst/>
              <a:gdLst/>
              <a:ahLst/>
              <a:rect l="l" t="t" r="r" b="b"/>
              <a:pathLst>
                <a:path w="1032" h="1031">
                  <a:moveTo>
                    <a:pt x="0" y="508"/>
                  </a:moveTo>
                  <a:lnTo>
                    <a:pt x="0" y="0"/>
                  </a:lnTo>
                  <a:lnTo>
                    <a:pt x="1032" y="0"/>
                  </a:lnTo>
                  <a:lnTo>
                    <a:pt x="1032" y="1031"/>
                  </a:lnTo>
                  <a:lnTo>
                    <a:pt x="523" y="1031"/>
                  </a:lnTo>
                  <a:lnTo>
                    <a:pt x="523" y="508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9" name="Freeform 255"/>
            <p:cNvSpPr/>
            <p:nvPr/>
          </p:nvSpPr>
          <p:spPr>
            <a:xfrm flipH="1" rot="5400000">
              <a:off x="3374640" y="2453400"/>
              <a:ext cx="112680" cy="11232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159" y="82"/>
                  </a:moveTo>
                  <a:lnTo>
                    <a:pt x="159" y="96"/>
                  </a:lnTo>
                  <a:lnTo>
                    <a:pt x="154" y="110"/>
                  </a:lnTo>
                  <a:lnTo>
                    <a:pt x="149" y="125"/>
                  </a:lnTo>
                  <a:lnTo>
                    <a:pt x="140" y="134"/>
                  </a:lnTo>
                  <a:lnTo>
                    <a:pt x="125" y="144"/>
                  </a:lnTo>
                  <a:lnTo>
                    <a:pt x="116" y="154"/>
                  </a:lnTo>
                  <a:lnTo>
                    <a:pt x="101" y="158"/>
                  </a:lnTo>
                  <a:lnTo>
                    <a:pt x="82" y="158"/>
                  </a:lnTo>
                  <a:lnTo>
                    <a:pt x="68" y="158"/>
                  </a:lnTo>
                  <a:lnTo>
                    <a:pt x="53" y="154"/>
                  </a:lnTo>
                  <a:lnTo>
                    <a:pt x="39" y="144"/>
                  </a:lnTo>
                  <a:lnTo>
                    <a:pt x="24" y="134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5" y="96"/>
                  </a:lnTo>
                  <a:lnTo>
                    <a:pt x="0" y="82"/>
                  </a:lnTo>
                  <a:lnTo>
                    <a:pt x="5" y="62"/>
                  </a:lnTo>
                  <a:lnTo>
                    <a:pt x="10" y="48"/>
                  </a:lnTo>
                  <a:lnTo>
                    <a:pt x="15" y="34"/>
                  </a:lnTo>
                  <a:lnTo>
                    <a:pt x="24" y="24"/>
                  </a:lnTo>
                  <a:lnTo>
                    <a:pt x="39" y="14"/>
                  </a:lnTo>
                  <a:lnTo>
                    <a:pt x="53" y="5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101" y="0"/>
                  </a:lnTo>
                  <a:lnTo>
                    <a:pt x="116" y="5"/>
                  </a:lnTo>
                  <a:lnTo>
                    <a:pt x="125" y="14"/>
                  </a:lnTo>
                  <a:lnTo>
                    <a:pt x="140" y="24"/>
                  </a:lnTo>
                  <a:lnTo>
                    <a:pt x="149" y="34"/>
                  </a:lnTo>
                  <a:lnTo>
                    <a:pt x="154" y="48"/>
                  </a:lnTo>
                  <a:lnTo>
                    <a:pt x="159" y="62"/>
                  </a:lnTo>
                  <a:lnTo>
                    <a:pt x="159" y="8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0" name="Freeform 256"/>
            <p:cNvSpPr/>
            <p:nvPr/>
          </p:nvSpPr>
          <p:spPr>
            <a:xfrm flipH="1" rot="5400000">
              <a:off x="3016800" y="2088360"/>
              <a:ext cx="112320" cy="1123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81"/>
                  </a:moveTo>
                  <a:lnTo>
                    <a:pt x="158" y="96"/>
                  </a:lnTo>
                  <a:lnTo>
                    <a:pt x="153" y="110"/>
                  </a:lnTo>
                  <a:lnTo>
                    <a:pt x="148" y="124"/>
                  </a:lnTo>
                  <a:lnTo>
                    <a:pt x="139" y="134"/>
                  </a:lnTo>
                  <a:lnTo>
                    <a:pt x="124" y="144"/>
                  </a:lnTo>
                  <a:lnTo>
                    <a:pt x="115" y="153"/>
                  </a:lnTo>
                  <a:lnTo>
                    <a:pt x="100" y="158"/>
                  </a:lnTo>
                  <a:lnTo>
                    <a:pt x="81" y="158"/>
                  </a:lnTo>
                  <a:lnTo>
                    <a:pt x="67" y="158"/>
                  </a:lnTo>
                  <a:lnTo>
                    <a:pt x="48" y="153"/>
                  </a:lnTo>
                  <a:lnTo>
                    <a:pt x="33" y="144"/>
                  </a:lnTo>
                  <a:lnTo>
                    <a:pt x="24" y="134"/>
                  </a:lnTo>
                  <a:lnTo>
                    <a:pt x="14" y="124"/>
                  </a:lnTo>
                  <a:lnTo>
                    <a:pt x="9" y="110"/>
                  </a:lnTo>
                  <a:lnTo>
                    <a:pt x="5" y="96"/>
                  </a:lnTo>
                  <a:lnTo>
                    <a:pt x="0" y="81"/>
                  </a:lnTo>
                  <a:lnTo>
                    <a:pt x="5" y="62"/>
                  </a:lnTo>
                  <a:lnTo>
                    <a:pt x="9" y="48"/>
                  </a:lnTo>
                  <a:lnTo>
                    <a:pt x="14" y="33"/>
                  </a:lnTo>
                  <a:lnTo>
                    <a:pt x="24" y="24"/>
                  </a:lnTo>
                  <a:lnTo>
                    <a:pt x="33" y="14"/>
                  </a:lnTo>
                  <a:lnTo>
                    <a:pt x="48" y="4"/>
                  </a:lnTo>
                  <a:lnTo>
                    <a:pt x="67" y="0"/>
                  </a:lnTo>
                  <a:lnTo>
                    <a:pt x="81" y="0"/>
                  </a:lnTo>
                  <a:lnTo>
                    <a:pt x="100" y="0"/>
                  </a:lnTo>
                  <a:lnTo>
                    <a:pt x="115" y="4"/>
                  </a:lnTo>
                  <a:lnTo>
                    <a:pt x="124" y="14"/>
                  </a:lnTo>
                  <a:lnTo>
                    <a:pt x="139" y="24"/>
                  </a:lnTo>
                  <a:lnTo>
                    <a:pt x="148" y="33"/>
                  </a:lnTo>
                  <a:lnTo>
                    <a:pt x="153" y="48"/>
                  </a:lnTo>
                  <a:lnTo>
                    <a:pt x="158" y="62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1" name="Oval 257"/>
          <p:cNvSpPr/>
          <p:nvPr/>
        </p:nvSpPr>
        <p:spPr>
          <a:xfrm rot="10800000">
            <a:off x="4379400" y="1859040"/>
            <a:ext cx="176868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2" name="Group 258"/>
          <p:cNvGrpSpPr/>
          <p:nvPr/>
        </p:nvGrpSpPr>
        <p:grpSpPr>
          <a:xfrm>
            <a:off x="6946920" y="1797120"/>
            <a:ext cx="990720" cy="990360"/>
            <a:chOff x="6946920" y="1797120"/>
            <a:chExt cx="990720" cy="990360"/>
          </a:xfrm>
        </p:grpSpPr>
        <p:sp>
          <p:nvSpPr>
            <p:cNvPr id="7223" name="Freeform 259"/>
            <p:cNvSpPr/>
            <p:nvPr/>
          </p:nvSpPr>
          <p:spPr>
            <a:xfrm>
              <a:off x="6979680" y="1810800"/>
              <a:ext cx="925920" cy="893880"/>
            </a:xfrm>
            <a:custGeom>
              <a:avLst/>
              <a:gdLst/>
              <a:ahLst/>
              <a:rect l="l" t="t" r="r" b="b"/>
              <a:pathLst>
                <a:path w="1416" h="1368">
                  <a:moveTo>
                    <a:pt x="0" y="520"/>
                  </a:moveTo>
                  <a:lnTo>
                    <a:pt x="1416" y="524"/>
                  </a:lnTo>
                  <a:lnTo>
                    <a:pt x="280" y="1368"/>
                  </a:lnTo>
                  <a:lnTo>
                    <a:pt x="708" y="0"/>
                  </a:lnTo>
                  <a:lnTo>
                    <a:pt x="1136" y="1364"/>
                  </a:lnTo>
                  <a:lnTo>
                    <a:pt x="0" y="52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4" name="Oval 260"/>
            <p:cNvSpPr/>
            <p:nvPr/>
          </p:nvSpPr>
          <p:spPr>
            <a:xfrm>
              <a:off x="6946920" y="1797120"/>
              <a:ext cx="990720" cy="9903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5" name="AutoShape 262"/>
          <p:cNvSpPr/>
          <p:nvPr/>
        </p:nvSpPr>
        <p:spPr>
          <a:xfrm>
            <a:off x="609480" y="3797280"/>
            <a:ext cx="1876680" cy="797040"/>
          </a:xfrm>
          <a:prstGeom prst="parallelogram">
            <a:avLst>
              <a:gd name="adj" fmla="val 5886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6" name="Group 264"/>
          <p:cNvGrpSpPr/>
          <p:nvPr/>
        </p:nvGrpSpPr>
        <p:grpSpPr>
          <a:xfrm>
            <a:off x="2851200" y="3571920"/>
            <a:ext cx="1054080" cy="1054080"/>
            <a:chOff x="2851200" y="3571920"/>
            <a:chExt cx="1054080" cy="1054080"/>
          </a:xfrm>
        </p:grpSpPr>
        <p:sp>
          <p:nvSpPr>
            <p:cNvPr id="7227" name="Freeform 265"/>
            <p:cNvSpPr/>
            <p:nvPr/>
          </p:nvSpPr>
          <p:spPr>
            <a:xfrm>
              <a:off x="2851200" y="3571920"/>
              <a:ext cx="1054080" cy="1054080"/>
            </a:xfrm>
            <a:custGeom>
              <a:avLst/>
              <a:gdLst/>
              <a:ahLst/>
              <a:rect l="l" t="t" r="r" b="b"/>
              <a:pathLst>
                <a:path w="1560" h="1560">
                  <a:moveTo>
                    <a:pt x="2" y="834"/>
                  </a:moveTo>
                  <a:lnTo>
                    <a:pt x="6" y="874"/>
                  </a:lnTo>
                  <a:lnTo>
                    <a:pt x="11" y="914"/>
                  </a:lnTo>
                  <a:lnTo>
                    <a:pt x="19" y="952"/>
                  </a:lnTo>
                  <a:lnTo>
                    <a:pt x="29" y="991"/>
                  </a:lnTo>
                  <a:lnTo>
                    <a:pt x="40" y="1027"/>
                  </a:lnTo>
                  <a:lnTo>
                    <a:pt x="54" y="1064"/>
                  </a:lnTo>
                  <a:lnTo>
                    <a:pt x="68" y="1099"/>
                  </a:lnTo>
                  <a:lnTo>
                    <a:pt x="84" y="1133"/>
                  </a:lnTo>
                  <a:lnTo>
                    <a:pt x="103" y="1166"/>
                  </a:lnTo>
                  <a:lnTo>
                    <a:pt x="122" y="1199"/>
                  </a:lnTo>
                  <a:lnTo>
                    <a:pt x="143" y="1230"/>
                  </a:lnTo>
                  <a:lnTo>
                    <a:pt x="165" y="1260"/>
                  </a:lnTo>
                  <a:lnTo>
                    <a:pt x="189" y="1290"/>
                  </a:lnTo>
                  <a:lnTo>
                    <a:pt x="215" y="1317"/>
                  </a:lnTo>
                  <a:lnTo>
                    <a:pt x="241" y="1343"/>
                  </a:lnTo>
                  <a:lnTo>
                    <a:pt x="268" y="1369"/>
                  </a:lnTo>
                  <a:lnTo>
                    <a:pt x="328" y="1415"/>
                  </a:lnTo>
                  <a:lnTo>
                    <a:pt x="358" y="1437"/>
                  </a:lnTo>
                  <a:lnTo>
                    <a:pt x="390" y="1456"/>
                  </a:lnTo>
                  <a:lnTo>
                    <a:pt x="423" y="1473"/>
                  </a:lnTo>
                  <a:lnTo>
                    <a:pt x="458" y="1490"/>
                  </a:lnTo>
                  <a:lnTo>
                    <a:pt x="492" y="1505"/>
                  </a:lnTo>
                  <a:lnTo>
                    <a:pt x="527" y="1518"/>
                  </a:lnTo>
                  <a:lnTo>
                    <a:pt x="564" y="1529"/>
                  </a:lnTo>
                  <a:lnTo>
                    <a:pt x="600" y="1539"/>
                  </a:lnTo>
                  <a:lnTo>
                    <a:pt x="638" y="1547"/>
                  </a:lnTo>
                  <a:lnTo>
                    <a:pt x="677" y="1553"/>
                  </a:lnTo>
                  <a:lnTo>
                    <a:pt x="716" y="1558"/>
                  </a:lnTo>
                  <a:lnTo>
                    <a:pt x="754" y="1559"/>
                  </a:lnTo>
                  <a:lnTo>
                    <a:pt x="794" y="1560"/>
                  </a:lnTo>
                  <a:lnTo>
                    <a:pt x="834" y="1558"/>
                  </a:lnTo>
                  <a:lnTo>
                    <a:pt x="874" y="1554"/>
                  </a:lnTo>
                  <a:lnTo>
                    <a:pt x="914" y="1549"/>
                  </a:lnTo>
                  <a:lnTo>
                    <a:pt x="952" y="1541"/>
                  </a:lnTo>
                  <a:lnTo>
                    <a:pt x="991" y="1531"/>
                  </a:lnTo>
                  <a:lnTo>
                    <a:pt x="1027" y="1520"/>
                  </a:lnTo>
                  <a:lnTo>
                    <a:pt x="1064" y="1506"/>
                  </a:lnTo>
                  <a:lnTo>
                    <a:pt x="1099" y="1492"/>
                  </a:lnTo>
                  <a:lnTo>
                    <a:pt x="1133" y="1476"/>
                  </a:lnTo>
                  <a:lnTo>
                    <a:pt x="1166" y="1457"/>
                  </a:lnTo>
                  <a:lnTo>
                    <a:pt x="1199" y="1438"/>
                  </a:lnTo>
                  <a:lnTo>
                    <a:pt x="1230" y="1417"/>
                  </a:lnTo>
                  <a:lnTo>
                    <a:pt x="1260" y="1395"/>
                  </a:lnTo>
                  <a:lnTo>
                    <a:pt x="1290" y="1371"/>
                  </a:lnTo>
                  <a:lnTo>
                    <a:pt x="1317" y="1345"/>
                  </a:lnTo>
                  <a:lnTo>
                    <a:pt x="1343" y="1319"/>
                  </a:lnTo>
                  <a:lnTo>
                    <a:pt x="1369" y="1292"/>
                  </a:lnTo>
                  <a:lnTo>
                    <a:pt x="1415" y="1232"/>
                  </a:lnTo>
                  <a:lnTo>
                    <a:pt x="1437" y="1202"/>
                  </a:lnTo>
                  <a:lnTo>
                    <a:pt x="1456" y="1170"/>
                  </a:lnTo>
                  <a:lnTo>
                    <a:pt x="1473" y="1137"/>
                  </a:lnTo>
                  <a:lnTo>
                    <a:pt x="1490" y="1102"/>
                  </a:lnTo>
                  <a:lnTo>
                    <a:pt x="1505" y="1068"/>
                  </a:lnTo>
                  <a:lnTo>
                    <a:pt x="1518" y="1033"/>
                  </a:lnTo>
                  <a:lnTo>
                    <a:pt x="1529" y="996"/>
                  </a:lnTo>
                  <a:lnTo>
                    <a:pt x="1539" y="960"/>
                  </a:lnTo>
                  <a:lnTo>
                    <a:pt x="1547" y="922"/>
                  </a:lnTo>
                  <a:lnTo>
                    <a:pt x="1553" y="883"/>
                  </a:lnTo>
                  <a:lnTo>
                    <a:pt x="1558" y="844"/>
                  </a:lnTo>
                  <a:lnTo>
                    <a:pt x="1559" y="806"/>
                  </a:lnTo>
                  <a:lnTo>
                    <a:pt x="1560" y="766"/>
                  </a:lnTo>
                  <a:lnTo>
                    <a:pt x="1558" y="726"/>
                  </a:lnTo>
                  <a:lnTo>
                    <a:pt x="1554" y="686"/>
                  </a:lnTo>
                  <a:lnTo>
                    <a:pt x="1549" y="646"/>
                  </a:lnTo>
                  <a:lnTo>
                    <a:pt x="1541" y="608"/>
                  </a:lnTo>
                  <a:lnTo>
                    <a:pt x="1531" y="569"/>
                  </a:lnTo>
                  <a:lnTo>
                    <a:pt x="1520" y="533"/>
                  </a:lnTo>
                  <a:lnTo>
                    <a:pt x="1506" y="496"/>
                  </a:lnTo>
                  <a:lnTo>
                    <a:pt x="1492" y="461"/>
                  </a:lnTo>
                  <a:lnTo>
                    <a:pt x="1476" y="427"/>
                  </a:lnTo>
                  <a:lnTo>
                    <a:pt x="1457" y="394"/>
                  </a:lnTo>
                  <a:lnTo>
                    <a:pt x="1438" y="361"/>
                  </a:lnTo>
                  <a:lnTo>
                    <a:pt x="1417" y="330"/>
                  </a:lnTo>
                  <a:lnTo>
                    <a:pt x="1395" y="300"/>
                  </a:lnTo>
                  <a:lnTo>
                    <a:pt x="1371" y="270"/>
                  </a:lnTo>
                  <a:lnTo>
                    <a:pt x="1345" y="243"/>
                  </a:lnTo>
                  <a:lnTo>
                    <a:pt x="1319" y="217"/>
                  </a:lnTo>
                  <a:lnTo>
                    <a:pt x="1292" y="192"/>
                  </a:lnTo>
                  <a:lnTo>
                    <a:pt x="1262" y="168"/>
                  </a:lnTo>
                  <a:lnTo>
                    <a:pt x="1232" y="145"/>
                  </a:lnTo>
                  <a:lnTo>
                    <a:pt x="1202" y="123"/>
                  </a:lnTo>
                  <a:lnTo>
                    <a:pt x="1170" y="104"/>
                  </a:lnTo>
                  <a:lnTo>
                    <a:pt x="1137" y="87"/>
                  </a:lnTo>
                  <a:lnTo>
                    <a:pt x="1102" y="70"/>
                  </a:lnTo>
                  <a:lnTo>
                    <a:pt x="1068" y="55"/>
                  </a:lnTo>
                  <a:lnTo>
                    <a:pt x="1033" y="42"/>
                  </a:lnTo>
                  <a:lnTo>
                    <a:pt x="996" y="31"/>
                  </a:lnTo>
                  <a:lnTo>
                    <a:pt x="960" y="21"/>
                  </a:lnTo>
                  <a:lnTo>
                    <a:pt x="922" y="13"/>
                  </a:lnTo>
                  <a:lnTo>
                    <a:pt x="883" y="7"/>
                  </a:lnTo>
                  <a:lnTo>
                    <a:pt x="844" y="2"/>
                  </a:lnTo>
                  <a:lnTo>
                    <a:pt x="806" y="1"/>
                  </a:lnTo>
                  <a:lnTo>
                    <a:pt x="766" y="0"/>
                  </a:lnTo>
                  <a:lnTo>
                    <a:pt x="726" y="2"/>
                  </a:lnTo>
                  <a:lnTo>
                    <a:pt x="686" y="6"/>
                  </a:lnTo>
                  <a:lnTo>
                    <a:pt x="646" y="11"/>
                  </a:lnTo>
                  <a:lnTo>
                    <a:pt x="608" y="19"/>
                  </a:lnTo>
                  <a:lnTo>
                    <a:pt x="569" y="29"/>
                  </a:lnTo>
                  <a:lnTo>
                    <a:pt x="533" y="40"/>
                  </a:lnTo>
                  <a:lnTo>
                    <a:pt x="496" y="54"/>
                  </a:lnTo>
                  <a:lnTo>
                    <a:pt x="461" y="68"/>
                  </a:lnTo>
                  <a:lnTo>
                    <a:pt x="427" y="84"/>
                  </a:lnTo>
                  <a:lnTo>
                    <a:pt x="394" y="103"/>
                  </a:lnTo>
                  <a:lnTo>
                    <a:pt x="361" y="122"/>
                  </a:lnTo>
                  <a:lnTo>
                    <a:pt x="330" y="143"/>
                  </a:lnTo>
                  <a:lnTo>
                    <a:pt x="300" y="165"/>
                  </a:lnTo>
                  <a:lnTo>
                    <a:pt x="270" y="189"/>
                  </a:lnTo>
                  <a:lnTo>
                    <a:pt x="243" y="215"/>
                  </a:lnTo>
                  <a:lnTo>
                    <a:pt x="217" y="241"/>
                  </a:lnTo>
                  <a:lnTo>
                    <a:pt x="192" y="268"/>
                  </a:lnTo>
                  <a:lnTo>
                    <a:pt x="168" y="298"/>
                  </a:lnTo>
                  <a:lnTo>
                    <a:pt x="145" y="328"/>
                  </a:lnTo>
                  <a:lnTo>
                    <a:pt x="123" y="358"/>
                  </a:lnTo>
                  <a:lnTo>
                    <a:pt x="104" y="390"/>
                  </a:lnTo>
                  <a:lnTo>
                    <a:pt x="87" y="423"/>
                  </a:lnTo>
                  <a:lnTo>
                    <a:pt x="70" y="458"/>
                  </a:lnTo>
                  <a:lnTo>
                    <a:pt x="55" y="492"/>
                  </a:lnTo>
                  <a:lnTo>
                    <a:pt x="42" y="527"/>
                  </a:lnTo>
                  <a:lnTo>
                    <a:pt x="31" y="564"/>
                  </a:lnTo>
                  <a:lnTo>
                    <a:pt x="21" y="600"/>
                  </a:lnTo>
                  <a:lnTo>
                    <a:pt x="13" y="638"/>
                  </a:lnTo>
                  <a:lnTo>
                    <a:pt x="7" y="677"/>
                  </a:lnTo>
                  <a:lnTo>
                    <a:pt x="2" y="716"/>
                  </a:lnTo>
                  <a:lnTo>
                    <a:pt x="1" y="754"/>
                  </a:lnTo>
                  <a:lnTo>
                    <a:pt x="0" y="794"/>
                  </a:lnTo>
                  <a:lnTo>
                    <a:pt x="2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8" name="Freeform 266"/>
            <p:cNvSpPr/>
            <p:nvPr/>
          </p:nvSpPr>
          <p:spPr>
            <a:xfrm>
              <a:off x="2959200" y="3679920"/>
              <a:ext cx="833040" cy="831600"/>
            </a:xfrm>
            <a:custGeom>
              <a:avLst/>
              <a:gdLst/>
              <a:ahLst/>
              <a:rect l="l" t="t" r="r" b="b"/>
              <a:pathLst>
                <a:path w="1233" h="1231">
                  <a:moveTo>
                    <a:pt x="1" y="658"/>
                  </a:moveTo>
                  <a:lnTo>
                    <a:pt x="4" y="690"/>
                  </a:lnTo>
                  <a:lnTo>
                    <a:pt x="9" y="721"/>
                  </a:lnTo>
                  <a:lnTo>
                    <a:pt x="15" y="752"/>
                  </a:lnTo>
                  <a:lnTo>
                    <a:pt x="21" y="781"/>
                  </a:lnTo>
                  <a:lnTo>
                    <a:pt x="41" y="840"/>
                  </a:lnTo>
                  <a:lnTo>
                    <a:pt x="66" y="894"/>
                  </a:lnTo>
                  <a:lnTo>
                    <a:pt x="96" y="946"/>
                  </a:lnTo>
                  <a:lnTo>
                    <a:pt x="130" y="995"/>
                  </a:lnTo>
                  <a:lnTo>
                    <a:pt x="169" y="1039"/>
                  </a:lnTo>
                  <a:lnTo>
                    <a:pt x="211" y="1080"/>
                  </a:lnTo>
                  <a:lnTo>
                    <a:pt x="258" y="1117"/>
                  </a:lnTo>
                  <a:lnTo>
                    <a:pt x="308" y="1149"/>
                  </a:lnTo>
                  <a:lnTo>
                    <a:pt x="360" y="1176"/>
                  </a:lnTo>
                  <a:lnTo>
                    <a:pt x="416" y="1198"/>
                  </a:lnTo>
                  <a:lnTo>
                    <a:pt x="474" y="1215"/>
                  </a:lnTo>
                  <a:lnTo>
                    <a:pt x="534" y="1227"/>
                  </a:lnTo>
                  <a:lnTo>
                    <a:pt x="597" y="1231"/>
                  </a:lnTo>
                  <a:lnTo>
                    <a:pt x="627" y="1231"/>
                  </a:lnTo>
                  <a:lnTo>
                    <a:pt x="659" y="1230"/>
                  </a:lnTo>
                  <a:lnTo>
                    <a:pt x="691" y="1227"/>
                  </a:lnTo>
                  <a:lnTo>
                    <a:pt x="722" y="1222"/>
                  </a:lnTo>
                  <a:lnTo>
                    <a:pt x="753" y="1216"/>
                  </a:lnTo>
                  <a:lnTo>
                    <a:pt x="783" y="1209"/>
                  </a:lnTo>
                  <a:lnTo>
                    <a:pt x="841" y="1190"/>
                  </a:lnTo>
                  <a:lnTo>
                    <a:pt x="896" y="1165"/>
                  </a:lnTo>
                  <a:lnTo>
                    <a:pt x="948" y="1135"/>
                  </a:lnTo>
                  <a:lnTo>
                    <a:pt x="996" y="1101"/>
                  </a:lnTo>
                  <a:lnTo>
                    <a:pt x="1041" y="1062"/>
                  </a:lnTo>
                  <a:lnTo>
                    <a:pt x="1082" y="1020"/>
                  </a:lnTo>
                  <a:lnTo>
                    <a:pt x="1118" y="973"/>
                  </a:lnTo>
                  <a:lnTo>
                    <a:pt x="1151" y="923"/>
                  </a:lnTo>
                  <a:lnTo>
                    <a:pt x="1177" y="870"/>
                  </a:lnTo>
                  <a:lnTo>
                    <a:pt x="1200" y="815"/>
                  </a:lnTo>
                  <a:lnTo>
                    <a:pt x="1217" y="758"/>
                  </a:lnTo>
                  <a:lnTo>
                    <a:pt x="1228" y="697"/>
                  </a:lnTo>
                  <a:lnTo>
                    <a:pt x="1233" y="635"/>
                  </a:lnTo>
                  <a:lnTo>
                    <a:pt x="1233" y="605"/>
                  </a:lnTo>
                  <a:lnTo>
                    <a:pt x="1232" y="573"/>
                  </a:lnTo>
                  <a:lnTo>
                    <a:pt x="1229" y="541"/>
                  </a:lnTo>
                  <a:lnTo>
                    <a:pt x="1224" y="510"/>
                  </a:lnTo>
                  <a:lnTo>
                    <a:pt x="1219" y="479"/>
                  </a:lnTo>
                  <a:lnTo>
                    <a:pt x="1211" y="449"/>
                  </a:lnTo>
                  <a:lnTo>
                    <a:pt x="1191" y="391"/>
                  </a:lnTo>
                  <a:lnTo>
                    <a:pt x="1167" y="336"/>
                  </a:lnTo>
                  <a:lnTo>
                    <a:pt x="1138" y="285"/>
                  </a:lnTo>
                  <a:lnTo>
                    <a:pt x="1102" y="236"/>
                  </a:lnTo>
                  <a:lnTo>
                    <a:pt x="1063" y="191"/>
                  </a:lnTo>
                  <a:lnTo>
                    <a:pt x="1021" y="150"/>
                  </a:lnTo>
                  <a:lnTo>
                    <a:pt x="974" y="114"/>
                  </a:lnTo>
                  <a:lnTo>
                    <a:pt x="924" y="82"/>
                  </a:lnTo>
                  <a:lnTo>
                    <a:pt x="872" y="55"/>
                  </a:lnTo>
                  <a:lnTo>
                    <a:pt x="816" y="33"/>
                  </a:lnTo>
                  <a:lnTo>
                    <a:pt x="758" y="16"/>
                  </a:lnTo>
                  <a:lnTo>
                    <a:pt x="698" y="4"/>
                  </a:lnTo>
                  <a:lnTo>
                    <a:pt x="635" y="0"/>
                  </a:lnTo>
                  <a:lnTo>
                    <a:pt x="605" y="0"/>
                  </a:lnTo>
                  <a:lnTo>
                    <a:pt x="573" y="1"/>
                  </a:lnTo>
                  <a:lnTo>
                    <a:pt x="541" y="4"/>
                  </a:lnTo>
                  <a:lnTo>
                    <a:pt x="510" y="9"/>
                  </a:lnTo>
                  <a:lnTo>
                    <a:pt x="479" y="15"/>
                  </a:lnTo>
                  <a:lnTo>
                    <a:pt x="449" y="23"/>
                  </a:lnTo>
                  <a:lnTo>
                    <a:pt x="391" y="42"/>
                  </a:lnTo>
                  <a:lnTo>
                    <a:pt x="336" y="66"/>
                  </a:lnTo>
                  <a:lnTo>
                    <a:pt x="285" y="96"/>
                  </a:lnTo>
                  <a:lnTo>
                    <a:pt x="236" y="130"/>
                  </a:lnTo>
                  <a:lnTo>
                    <a:pt x="191" y="169"/>
                  </a:lnTo>
                  <a:lnTo>
                    <a:pt x="150" y="212"/>
                  </a:lnTo>
                  <a:lnTo>
                    <a:pt x="114" y="258"/>
                  </a:lnTo>
                  <a:lnTo>
                    <a:pt x="82" y="308"/>
                  </a:lnTo>
                  <a:lnTo>
                    <a:pt x="55" y="360"/>
                  </a:lnTo>
                  <a:lnTo>
                    <a:pt x="33" y="416"/>
                  </a:lnTo>
                  <a:lnTo>
                    <a:pt x="16" y="473"/>
                  </a:lnTo>
                  <a:lnTo>
                    <a:pt x="4" y="534"/>
                  </a:lnTo>
                  <a:lnTo>
                    <a:pt x="0" y="595"/>
                  </a:lnTo>
                  <a:lnTo>
                    <a:pt x="0" y="626"/>
                  </a:lnTo>
                  <a:lnTo>
                    <a:pt x="1" y="6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9" name="Freeform 267"/>
            <p:cNvSpPr/>
            <p:nvPr/>
          </p:nvSpPr>
          <p:spPr>
            <a:xfrm>
              <a:off x="3079440" y="3810240"/>
              <a:ext cx="159120" cy="142200"/>
            </a:xfrm>
            <a:custGeom>
              <a:avLst/>
              <a:gdLst/>
              <a:ahLst/>
              <a:rect l="l" t="t" r="r" b="b"/>
              <a:pathLst>
                <a:path w="236" h="211">
                  <a:moveTo>
                    <a:pt x="71" y="191"/>
                  </a:moveTo>
                  <a:lnTo>
                    <a:pt x="93" y="202"/>
                  </a:lnTo>
                  <a:lnTo>
                    <a:pt x="116" y="208"/>
                  </a:lnTo>
                  <a:lnTo>
                    <a:pt x="139" y="211"/>
                  </a:lnTo>
                  <a:lnTo>
                    <a:pt x="161" y="208"/>
                  </a:lnTo>
                  <a:lnTo>
                    <a:pt x="181" y="203"/>
                  </a:lnTo>
                  <a:lnTo>
                    <a:pt x="198" y="194"/>
                  </a:lnTo>
                  <a:lnTo>
                    <a:pt x="214" y="181"/>
                  </a:lnTo>
                  <a:lnTo>
                    <a:pt x="226" y="165"/>
                  </a:lnTo>
                  <a:lnTo>
                    <a:pt x="234" y="147"/>
                  </a:lnTo>
                  <a:lnTo>
                    <a:pt x="236" y="126"/>
                  </a:lnTo>
                  <a:lnTo>
                    <a:pt x="234" y="107"/>
                  </a:lnTo>
                  <a:lnTo>
                    <a:pt x="228" y="86"/>
                  </a:lnTo>
                  <a:lnTo>
                    <a:pt x="218" y="67"/>
                  </a:lnTo>
                  <a:lnTo>
                    <a:pt x="204" y="49"/>
                  </a:lnTo>
                  <a:lnTo>
                    <a:pt x="186" y="33"/>
                  </a:lnTo>
                  <a:lnTo>
                    <a:pt x="165" y="19"/>
                  </a:lnTo>
                  <a:lnTo>
                    <a:pt x="142" y="9"/>
                  </a:lnTo>
                  <a:lnTo>
                    <a:pt x="120" y="2"/>
                  </a:lnTo>
                  <a:lnTo>
                    <a:pt x="97" y="0"/>
                  </a:lnTo>
                  <a:lnTo>
                    <a:pt x="75" y="2"/>
                  </a:lnTo>
                  <a:lnTo>
                    <a:pt x="55" y="8"/>
                  </a:lnTo>
                  <a:lnTo>
                    <a:pt x="37" y="17"/>
                  </a:lnTo>
                  <a:lnTo>
                    <a:pt x="21" y="29"/>
                  </a:lnTo>
                  <a:lnTo>
                    <a:pt x="10" y="45"/>
                  </a:lnTo>
                  <a:lnTo>
                    <a:pt x="3" y="64"/>
                  </a:lnTo>
                  <a:lnTo>
                    <a:pt x="0" y="84"/>
                  </a:lnTo>
                  <a:lnTo>
                    <a:pt x="2" y="103"/>
                  </a:lnTo>
                  <a:lnTo>
                    <a:pt x="8" y="124"/>
                  </a:lnTo>
                  <a:lnTo>
                    <a:pt x="18" y="143"/>
                  </a:lnTo>
                  <a:lnTo>
                    <a:pt x="32" y="162"/>
                  </a:lnTo>
                  <a:lnTo>
                    <a:pt x="50" y="178"/>
                  </a:lnTo>
                  <a:lnTo>
                    <a:pt x="7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0" name="Freeform 268"/>
            <p:cNvSpPr/>
            <p:nvPr/>
          </p:nvSpPr>
          <p:spPr>
            <a:xfrm>
              <a:off x="3513240" y="3803760"/>
              <a:ext cx="155160" cy="145800"/>
            </a:xfrm>
            <a:custGeom>
              <a:avLst/>
              <a:gdLst/>
              <a:ahLst/>
              <a:rect l="l" t="t" r="r" b="b"/>
              <a:pathLst>
                <a:path w="230" h="216">
                  <a:moveTo>
                    <a:pt x="56" y="30"/>
                  </a:moveTo>
                  <a:lnTo>
                    <a:pt x="38" y="47"/>
                  </a:lnTo>
                  <a:lnTo>
                    <a:pt x="22" y="66"/>
                  </a:lnTo>
                  <a:lnTo>
                    <a:pt x="11" y="85"/>
                  </a:lnTo>
                  <a:lnTo>
                    <a:pt x="4" y="105"/>
                  </a:lnTo>
                  <a:lnTo>
                    <a:pt x="0" y="126"/>
                  </a:lnTo>
                  <a:lnTo>
                    <a:pt x="0" y="147"/>
                  </a:lnTo>
                  <a:lnTo>
                    <a:pt x="6" y="165"/>
                  </a:lnTo>
                  <a:lnTo>
                    <a:pt x="16" y="182"/>
                  </a:lnTo>
                  <a:lnTo>
                    <a:pt x="30" y="197"/>
                  </a:lnTo>
                  <a:lnTo>
                    <a:pt x="47" y="207"/>
                  </a:lnTo>
                  <a:lnTo>
                    <a:pt x="65" y="213"/>
                  </a:lnTo>
                  <a:lnTo>
                    <a:pt x="87" y="216"/>
                  </a:lnTo>
                  <a:lnTo>
                    <a:pt x="109" y="215"/>
                  </a:lnTo>
                  <a:lnTo>
                    <a:pt x="130" y="209"/>
                  </a:lnTo>
                  <a:lnTo>
                    <a:pt x="152" y="200"/>
                  </a:lnTo>
                  <a:lnTo>
                    <a:pt x="174" y="187"/>
                  </a:lnTo>
                  <a:lnTo>
                    <a:pt x="192" y="169"/>
                  </a:lnTo>
                  <a:lnTo>
                    <a:pt x="208" y="151"/>
                  </a:lnTo>
                  <a:lnTo>
                    <a:pt x="219" y="132"/>
                  </a:lnTo>
                  <a:lnTo>
                    <a:pt x="226" y="111"/>
                  </a:lnTo>
                  <a:lnTo>
                    <a:pt x="230" y="91"/>
                  </a:lnTo>
                  <a:lnTo>
                    <a:pt x="229" y="70"/>
                  </a:lnTo>
                  <a:lnTo>
                    <a:pt x="224" y="51"/>
                  </a:lnTo>
                  <a:lnTo>
                    <a:pt x="214" y="34"/>
                  </a:lnTo>
                  <a:lnTo>
                    <a:pt x="200" y="19"/>
                  </a:lnTo>
                  <a:lnTo>
                    <a:pt x="183" y="8"/>
                  </a:lnTo>
                  <a:lnTo>
                    <a:pt x="163" y="3"/>
                  </a:lnTo>
                  <a:lnTo>
                    <a:pt x="143" y="0"/>
                  </a:lnTo>
                  <a:lnTo>
                    <a:pt x="121" y="2"/>
                  </a:lnTo>
                  <a:lnTo>
                    <a:pt x="98" y="7"/>
                  </a:lnTo>
                  <a:lnTo>
                    <a:pt x="77" y="16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1" name="Freeform 269"/>
            <p:cNvSpPr/>
            <p:nvPr/>
          </p:nvSpPr>
          <p:spPr>
            <a:xfrm>
              <a:off x="3508560" y="4243320"/>
              <a:ext cx="159840" cy="141120"/>
            </a:xfrm>
            <a:custGeom>
              <a:avLst/>
              <a:gdLst/>
              <a:ahLst/>
              <a:rect l="l" t="t" r="r" b="b"/>
              <a:pathLst>
                <a:path w="237" h="209">
                  <a:moveTo>
                    <a:pt x="71" y="191"/>
                  </a:moveTo>
                  <a:lnTo>
                    <a:pt x="94" y="201"/>
                  </a:lnTo>
                  <a:lnTo>
                    <a:pt x="117" y="207"/>
                  </a:lnTo>
                  <a:lnTo>
                    <a:pt x="140" y="209"/>
                  </a:lnTo>
                  <a:lnTo>
                    <a:pt x="161" y="208"/>
                  </a:lnTo>
                  <a:lnTo>
                    <a:pt x="182" y="202"/>
                  </a:lnTo>
                  <a:lnTo>
                    <a:pt x="199" y="193"/>
                  </a:lnTo>
                  <a:lnTo>
                    <a:pt x="215" y="180"/>
                  </a:lnTo>
                  <a:lnTo>
                    <a:pt x="226" y="164"/>
                  </a:lnTo>
                  <a:lnTo>
                    <a:pt x="233" y="146"/>
                  </a:lnTo>
                  <a:lnTo>
                    <a:pt x="237" y="127"/>
                  </a:lnTo>
                  <a:lnTo>
                    <a:pt x="234" y="106"/>
                  </a:lnTo>
                  <a:lnTo>
                    <a:pt x="229" y="87"/>
                  </a:lnTo>
                  <a:lnTo>
                    <a:pt x="218" y="67"/>
                  </a:lnTo>
                  <a:lnTo>
                    <a:pt x="204" y="49"/>
                  </a:lnTo>
                  <a:lnTo>
                    <a:pt x="186" y="33"/>
                  </a:lnTo>
                  <a:lnTo>
                    <a:pt x="166" y="19"/>
                  </a:lnTo>
                  <a:lnTo>
                    <a:pt x="143" y="9"/>
                  </a:lnTo>
                  <a:lnTo>
                    <a:pt x="120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5" y="7"/>
                  </a:lnTo>
                  <a:lnTo>
                    <a:pt x="38" y="16"/>
                  </a:lnTo>
                  <a:lnTo>
                    <a:pt x="22" y="29"/>
                  </a:lnTo>
                  <a:lnTo>
                    <a:pt x="11" y="44"/>
                  </a:lnTo>
                  <a:lnTo>
                    <a:pt x="4" y="63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3"/>
                  </a:lnTo>
                  <a:lnTo>
                    <a:pt x="19" y="143"/>
                  </a:lnTo>
                  <a:lnTo>
                    <a:pt x="34" y="161"/>
                  </a:lnTo>
                  <a:lnTo>
                    <a:pt x="51" y="177"/>
                  </a:lnTo>
                  <a:lnTo>
                    <a:pt x="7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2" name="Freeform 270"/>
            <p:cNvSpPr/>
            <p:nvPr/>
          </p:nvSpPr>
          <p:spPr>
            <a:xfrm>
              <a:off x="3079440" y="4246920"/>
              <a:ext cx="153720" cy="145440"/>
            </a:xfrm>
            <a:custGeom>
              <a:avLst/>
              <a:gdLst/>
              <a:ahLst/>
              <a:rect l="l" t="t" r="r" b="b"/>
              <a:pathLst>
                <a:path w="228" h="215">
                  <a:moveTo>
                    <a:pt x="55" y="28"/>
                  </a:moveTo>
                  <a:lnTo>
                    <a:pt x="36" y="45"/>
                  </a:lnTo>
                  <a:lnTo>
                    <a:pt x="21" y="63"/>
                  </a:lnTo>
                  <a:lnTo>
                    <a:pt x="10" y="83"/>
                  </a:lnTo>
                  <a:lnTo>
                    <a:pt x="3" y="103"/>
                  </a:lnTo>
                  <a:lnTo>
                    <a:pt x="0" y="124"/>
                  </a:lnTo>
                  <a:lnTo>
                    <a:pt x="0" y="144"/>
                  </a:lnTo>
                  <a:lnTo>
                    <a:pt x="5" y="164"/>
                  </a:lnTo>
                  <a:lnTo>
                    <a:pt x="16" y="181"/>
                  </a:lnTo>
                  <a:lnTo>
                    <a:pt x="29" y="196"/>
                  </a:lnTo>
                  <a:lnTo>
                    <a:pt x="47" y="206"/>
                  </a:lnTo>
                  <a:lnTo>
                    <a:pt x="66" y="213"/>
                  </a:lnTo>
                  <a:lnTo>
                    <a:pt x="87" y="215"/>
                  </a:lnTo>
                  <a:lnTo>
                    <a:pt x="108" y="214"/>
                  </a:lnTo>
                  <a:lnTo>
                    <a:pt x="131" y="208"/>
                  </a:lnTo>
                  <a:lnTo>
                    <a:pt x="153" y="199"/>
                  </a:lnTo>
                  <a:lnTo>
                    <a:pt x="173" y="187"/>
                  </a:lnTo>
                  <a:lnTo>
                    <a:pt x="192" y="170"/>
                  </a:lnTo>
                  <a:lnTo>
                    <a:pt x="206" y="151"/>
                  </a:lnTo>
                  <a:lnTo>
                    <a:pt x="218" y="132"/>
                  </a:lnTo>
                  <a:lnTo>
                    <a:pt x="225" y="111"/>
                  </a:lnTo>
                  <a:lnTo>
                    <a:pt x="228" y="91"/>
                  </a:lnTo>
                  <a:lnTo>
                    <a:pt x="227" y="70"/>
                  </a:lnTo>
                  <a:lnTo>
                    <a:pt x="222" y="51"/>
                  </a:lnTo>
                  <a:lnTo>
                    <a:pt x="212" y="34"/>
                  </a:lnTo>
                  <a:lnTo>
                    <a:pt x="198" y="19"/>
                  </a:lnTo>
                  <a:lnTo>
                    <a:pt x="181" y="9"/>
                  </a:lnTo>
                  <a:lnTo>
                    <a:pt x="162" y="2"/>
                  </a:lnTo>
                  <a:lnTo>
                    <a:pt x="141" y="0"/>
                  </a:lnTo>
                  <a:lnTo>
                    <a:pt x="120" y="1"/>
                  </a:lnTo>
                  <a:lnTo>
                    <a:pt x="97" y="6"/>
                  </a:lnTo>
                  <a:lnTo>
                    <a:pt x="75" y="16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3" name="Rectangle 271"/>
            <p:cNvSpPr/>
            <p:nvPr/>
          </p:nvSpPr>
          <p:spPr>
            <a:xfrm>
              <a:off x="3320640" y="3644640"/>
              <a:ext cx="108000" cy="90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4" name="Rectangle 272"/>
            <p:cNvSpPr/>
            <p:nvPr/>
          </p:nvSpPr>
          <p:spPr>
            <a:xfrm>
              <a:off x="2913120" y="4054320"/>
              <a:ext cx="904680" cy="10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5" name="Group 273"/>
          <p:cNvGrpSpPr/>
          <p:nvPr/>
        </p:nvGrpSpPr>
        <p:grpSpPr>
          <a:xfrm>
            <a:off x="896760" y="5027760"/>
            <a:ext cx="1221120" cy="1220760"/>
            <a:chOff x="896760" y="5027760"/>
            <a:chExt cx="1221120" cy="1220760"/>
          </a:xfrm>
        </p:grpSpPr>
        <p:sp>
          <p:nvSpPr>
            <p:cNvPr id="7236" name="Oval 274"/>
            <p:cNvSpPr/>
            <p:nvPr/>
          </p:nvSpPr>
          <p:spPr>
            <a:xfrm>
              <a:off x="896760" y="5027760"/>
              <a:ext cx="1221120" cy="12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7" name="Group 275"/>
            <p:cNvGrpSpPr/>
            <p:nvPr/>
          </p:nvGrpSpPr>
          <p:grpSpPr>
            <a:xfrm>
              <a:off x="922680" y="5037840"/>
              <a:ext cx="1163520" cy="1107000"/>
              <a:chOff x="922680" y="5037840"/>
              <a:chExt cx="1163520" cy="1107000"/>
            </a:xfrm>
          </p:grpSpPr>
          <p:sp>
            <p:nvSpPr>
              <p:cNvPr id="7238" name="AutoShape 276"/>
              <p:cNvSpPr/>
              <p:nvPr/>
            </p:nvSpPr>
            <p:spPr>
              <a:xfrm>
                <a:off x="924480" y="5039640"/>
                <a:ext cx="1161720" cy="110376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9" name="AutoShape 277"/>
              <p:cNvSpPr/>
              <p:nvPr/>
            </p:nvSpPr>
            <p:spPr>
              <a:xfrm>
                <a:off x="924480" y="5039640"/>
                <a:ext cx="1161720" cy="110376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0" name="Line 278"/>
              <p:cNvSpPr/>
              <p:nvPr/>
            </p:nvSpPr>
            <p:spPr>
              <a:xfrm>
                <a:off x="924480" y="5460480"/>
                <a:ext cx="116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1" name="Line 279"/>
              <p:cNvSpPr/>
              <p:nvPr/>
            </p:nvSpPr>
            <p:spPr>
              <a:xfrm>
                <a:off x="922680" y="5462280"/>
                <a:ext cx="93852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2" name="Line 280"/>
              <p:cNvSpPr/>
              <p:nvPr/>
            </p:nvSpPr>
            <p:spPr>
              <a:xfrm flipH="1">
                <a:off x="1148760" y="5460840"/>
                <a:ext cx="936360" cy="68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3" name="Line 281"/>
              <p:cNvSpPr/>
              <p:nvPr/>
            </p:nvSpPr>
            <p:spPr>
              <a:xfrm flipH="1" flipV="1">
                <a:off x="1504440" y="5040000"/>
                <a:ext cx="354600" cy="11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4" name="Line 282"/>
              <p:cNvSpPr/>
              <p:nvPr/>
            </p:nvSpPr>
            <p:spPr>
              <a:xfrm flipV="1">
                <a:off x="1152000" y="5038200"/>
                <a:ext cx="352800" cy="109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5" name="Freeform 283"/>
              <p:cNvSpPr/>
              <p:nvPr/>
            </p:nvSpPr>
            <p:spPr>
              <a:xfrm>
                <a:off x="1284840" y="5460480"/>
                <a:ext cx="438120" cy="424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6" name="Freeform 284"/>
              <p:cNvSpPr/>
              <p:nvPr/>
            </p:nvSpPr>
            <p:spPr>
              <a:xfrm>
                <a:off x="1369440" y="5039640"/>
                <a:ext cx="271440" cy="41940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7" name="Freeform 285"/>
              <p:cNvSpPr/>
              <p:nvPr/>
            </p:nvSpPr>
            <p:spPr>
              <a:xfrm>
                <a:off x="1640880" y="5457960"/>
                <a:ext cx="444960" cy="26316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8" name="Freeform 286"/>
              <p:cNvSpPr/>
              <p:nvPr/>
            </p:nvSpPr>
            <p:spPr>
              <a:xfrm>
                <a:off x="1507680" y="5724720"/>
                <a:ext cx="352080" cy="41724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9" name="Freeform 287"/>
              <p:cNvSpPr/>
              <p:nvPr/>
            </p:nvSpPr>
            <p:spPr>
              <a:xfrm>
                <a:off x="1149840" y="5723640"/>
                <a:ext cx="355320" cy="41868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0" name="Freeform 288"/>
              <p:cNvSpPr/>
              <p:nvPr/>
            </p:nvSpPr>
            <p:spPr>
              <a:xfrm>
                <a:off x="924480" y="5459400"/>
                <a:ext cx="442800" cy="26532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1" name="Freeform 289"/>
              <p:cNvSpPr/>
              <p:nvPr/>
            </p:nvSpPr>
            <p:spPr>
              <a:xfrm>
                <a:off x="1505880" y="5037840"/>
                <a:ext cx="577800" cy="419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2" name="Freeform 290"/>
              <p:cNvSpPr/>
              <p:nvPr/>
            </p:nvSpPr>
            <p:spPr>
              <a:xfrm>
                <a:off x="1726560" y="5458680"/>
                <a:ext cx="358920" cy="68292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3" name="Freeform 291"/>
              <p:cNvSpPr/>
              <p:nvPr/>
            </p:nvSpPr>
            <p:spPr>
              <a:xfrm>
                <a:off x="1150560" y="5886360"/>
                <a:ext cx="709200" cy="25848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4" name="Freeform 292"/>
              <p:cNvSpPr/>
              <p:nvPr/>
            </p:nvSpPr>
            <p:spPr>
              <a:xfrm>
                <a:off x="925920" y="5460480"/>
                <a:ext cx="357120" cy="68112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5" name="Freeform 293"/>
              <p:cNvSpPr/>
              <p:nvPr/>
            </p:nvSpPr>
            <p:spPr>
              <a:xfrm>
                <a:off x="925920" y="5037840"/>
                <a:ext cx="576000" cy="42264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56" name="Group 294"/>
          <p:cNvGrpSpPr/>
          <p:nvPr/>
        </p:nvGrpSpPr>
        <p:grpSpPr>
          <a:xfrm>
            <a:off x="4672080" y="3476520"/>
            <a:ext cx="1136520" cy="1136880"/>
            <a:chOff x="4672080" y="3476520"/>
            <a:chExt cx="1136520" cy="1136880"/>
          </a:xfrm>
        </p:grpSpPr>
        <p:sp>
          <p:nvSpPr>
            <p:cNvPr id="7257" name="Freeform 295"/>
            <p:cNvSpPr/>
            <p:nvPr/>
          </p:nvSpPr>
          <p:spPr>
            <a:xfrm>
              <a:off x="4771800" y="3493080"/>
              <a:ext cx="953280" cy="110700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8" name="Oval 296"/>
            <p:cNvSpPr/>
            <p:nvPr/>
          </p:nvSpPr>
          <p:spPr>
            <a:xfrm>
              <a:off x="4672080" y="3476520"/>
              <a:ext cx="1136520" cy="11368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9" name="AutoShape 297"/>
          <p:cNvSpPr/>
          <p:nvPr/>
        </p:nvSpPr>
        <p:spPr>
          <a:xfrm>
            <a:off x="6781680" y="3403440"/>
            <a:ext cx="1381320" cy="1194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0" name="Group 298"/>
          <p:cNvGrpSpPr/>
          <p:nvPr/>
        </p:nvGrpSpPr>
        <p:grpSpPr>
          <a:xfrm>
            <a:off x="2762280" y="5130720"/>
            <a:ext cx="1028520" cy="1028880"/>
            <a:chOff x="2762280" y="5130720"/>
            <a:chExt cx="1028520" cy="1028880"/>
          </a:xfrm>
        </p:grpSpPr>
        <p:sp>
          <p:nvSpPr>
            <p:cNvPr id="7261" name="Oval 299"/>
            <p:cNvSpPr/>
            <p:nvPr/>
          </p:nvSpPr>
          <p:spPr>
            <a:xfrm>
              <a:off x="2762280" y="5130720"/>
              <a:ext cx="1028520" cy="102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2" name="Freeform 300"/>
            <p:cNvSpPr/>
            <p:nvPr/>
          </p:nvSpPr>
          <p:spPr>
            <a:xfrm>
              <a:off x="2878920" y="5239800"/>
              <a:ext cx="801360" cy="800280"/>
            </a:xfrm>
            <a:custGeom>
              <a:avLst/>
              <a:gdLst/>
              <a:ahLst/>
              <a:rect l="l" t="t" r="r" b="b"/>
              <a:pathLst>
                <a:path w="3116" h="3112">
                  <a:moveTo>
                    <a:pt x="3116" y="2662"/>
                  </a:moveTo>
                  <a:lnTo>
                    <a:pt x="3112" y="2677"/>
                  </a:lnTo>
                  <a:lnTo>
                    <a:pt x="3102" y="2699"/>
                  </a:lnTo>
                  <a:lnTo>
                    <a:pt x="3085" y="2726"/>
                  </a:lnTo>
                  <a:lnTo>
                    <a:pt x="3063" y="2759"/>
                  </a:lnTo>
                  <a:lnTo>
                    <a:pt x="3038" y="2795"/>
                  </a:lnTo>
                  <a:lnTo>
                    <a:pt x="3006" y="2832"/>
                  </a:lnTo>
                  <a:lnTo>
                    <a:pt x="2938" y="2910"/>
                  </a:lnTo>
                  <a:lnTo>
                    <a:pt x="2863" y="2986"/>
                  </a:lnTo>
                  <a:lnTo>
                    <a:pt x="2826" y="3020"/>
                  </a:lnTo>
                  <a:lnTo>
                    <a:pt x="2789" y="3051"/>
                  </a:lnTo>
                  <a:lnTo>
                    <a:pt x="2754" y="3076"/>
                  </a:lnTo>
                  <a:lnTo>
                    <a:pt x="2721" y="3094"/>
                  </a:lnTo>
                  <a:lnTo>
                    <a:pt x="2689" y="3108"/>
                  </a:lnTo>
                  <a:lnTo>
                    <a:pt x="2664" y="3112"/>
                  </a:lnTo>
                  <a:lnTo>
                    <a:pt x="0" y="450"/>
                  </a:lnTo>
                  <a:lnTo>
                    <a:pt x="4" y="434"/>
                  </a:lnTo>
                  <a:lnTo>
                    <a:pt x="18" y="413"/>
                  </a:lnTo>
                  <a:lnTo>
                    <a:pt x="35" y="385"/>
                  </a:lnTo>
                  <a:lnTo>
                    <a:pt x="61" y="352"/>
                  </a:lnTo>
                  <a:lnTo>
                    <a:pt x="92" y="317"/>
                  </a:lnTo>
                  <a:lnTo>
                    <a:pt x="125" y="280"/>
                  </a:lnTo>
                  <a:lnTo>
                    <a:pt x="202" y="201"/>
                  </a:lnTo>
                  <a:lnTo>
                    <a:pt x="280" y="125"/>
                  </a:lnTo>
                  <a:lnTo>
                    <a:pt x="319" y="92"/>
                  </a:lnTo>
                  <a:lnTo>
                    <a:pt x="354" y="60"/>
                  </a:lnTo>
                  <a:lnTo>
                    <a:pt x="386" y="35"/>
                  </a:lnTo>
                  <a:lnTo>
                    <a:pt x="415" y="17"/>
                  </a:lnTo>
                  <a:lnTo>
                    <a:pt x="437" y="4"/>
                  </a:lnTo>
                  <a:lnTo>
                    <a:pt x="452" y="0"/>
                  </a:lnTo>
                  <a:lnTo>
                    <a:pt x="3116" y="26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3" name="Freeform 301"/>
            <p:cNvSpPr/>
            <p:nvPr/>
          </p:nvSpPr>
          <p:spPr>
            <a:xfrm>
              <a:off x="2878920" y="5239800"/>
              <a:ext cx="801360" cy="800280"/>
            </a:xfrm>
            <a:custGeom>
              <a:avLst/>
              <a:gdLst/>
              <a:ahLst/>
              <a:rect l="l" t="t" r="r" b="b"/>
              <a:pathLst>
                <a:path w="3116" h="3112">
                  <a:moveTo>
                    <a:pt x="0" y="2662"/>
                  </a:moveTo>
                  <a:lnTo>
                    <a:pt x="4" y="2677"/>
                  </a:lnTo>
                  <a:lnTo>
                    <a:pt x="14" y="2699"/>
                  </a:lnTo>
                  <a:lnTo>
                    <a:pt x="31" y="2726"/>
                  </a:lnTo>
                  <a:lnTo>
                    <a:pt x="53" y="2759"/>
                  </a:lnTo>
                  <a:lnTo>
                    <a:pt x="78" y="2795"/>
                  </a:lnTo>
                  <a:lnTo>
                    <a:pt x="110" y="2832"/>
                  </a:lnTo>
                  <a:lnTo>
                    <a:pt x="178" y="2910"/>
                  </a:lnTo>
                  <a:lnTo>
                    <a:pt x="253" y="2986"/>
                  </a:lnTo>
                  <a:lnTo>
                    <a:pt x="290" y="3020"/>
                  </a:lnTo>
                  <a:lnTo>
                    <a:pt x="327" y="3051"/>
                  </a:lnTo>
                  <a:lnTo>
                    <a:pt x="362" y="3076"/>
                  </a:lnTo>
                  <a:lnTo>
                    <a:pt x="395" y="3094"/>
                  </a:lnTo>
                  <a:lnTo>
                    <a:pt x="427" y="3108"/>
                  </a:lnTo>
                  <a:lnTo>
                    <a:pt x="452" y="3112"/>
                  </a:lnTo>
                  <a:lnTo>
                    <a:pt x="3116" y="450"/>
                  </a:lnTo>
                  <a:lnTo>
                    <a:pt x="3112" y="434"/>
                  </a:lnTo>
                  <a:lnTo>
                    <a:pt x="3098" y="413"/>
                  </a:lnTo>
                  <a:lnTo>
                    <a:pt x="3081" y="385"/>
                  </a:lnTo>
                  <a:lnTo>
                    <a:pt x="3055" y="352"/>
                  </a:lnTo>
                  <a:lnTo>
                    <a:pt x="3024" y="317"/>
                  </a:lnTo>
                  <a:lnTo>
                    <a:pt x="2991" y="280"/>
                  </a:lnTo>
                  <a:lnTo>
                    <a:pt x="2914" y="201"/>
                  </a:lnTo>
                  <a:lnTo>
                    <a:pt x="2836" y="125"/>
                  </a:lnTo>
                  <a:lnTo>
                    <a:pt x="2797" y="92"/>
                  </a:lnTo>
                  <a:lnTo>
                    <a:pt x="2762" y="60"/>
                  </a:lnTo>
                  <a:lnTo>
                    <a:pt x="2730" y="35"/>
                  </a:lnTo>
                  <a:lnTo>
                    <a:pt x="2701" y="17"/>
                  </a:lnTo>
                  <a:lnTo>
                    <a:pt x="2680" y="4"/>
                  </a:lnTo>
                  <a:lnTo>
                    <a:pt x="2664" y="0"/>
                  </a:lnTo>
                  <a:lnTo>
                    <a:pt x="0" y="26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4" name="Group 302"/>
          <p:cNvGrpSpPr/>
          <p:nvPr/>
        </p:nvGrpSpPr>
        <p:grpSpPr>
          <a:xfrm>
            <a:off x="4753080" y="5067360"/>
            <a:ext cx="1087200" cy="1087200"/>
            <a:chOff x="4753080" y="5067360"/>
            <a:chExt cx="1087200" cy="1087200"/>
          </a:xfrm>
        </p:grpSpPr>
        <p:sp>
          <p:nvSpPr>
            <p:cNvPr id="7265" name="Freeform 303"/>
            <p:cNvSpPr/>
            <p:nvPr/>
          </p:nvSpPr>
          <p:spPr>
            <a:xfrm>
              <a:off x="4753080" y="5067360"/>
              <a:ext cx="1087200" cy="1087200"/>
            </a:xfrm>
            <a:custGeom>
              <a:avLst/>
              <a:gdLst/>
              <a:ahLst/>
              <a:rect l="l" t="t" r="r" b="b"/>
              <a:pathLst>
                <a:path w="2083" h="2082">
                  <a:moveTo>
                    <a:pt x="557" y="1679"/>
                  </a:moveTo>
                  <a:lnTo>
                    <a:pt x="557" y="2082"/>
                  </a:lnTo>
                  <a:lnTo>
                    <a:pt x="417" y="2082"/>
                  </a:lnTo>
                  <a:lnTo>
                    <a:pt x="417" y="1679"/>
                  </a:lnTo>
                  <a:lnTo>
                    <a:pt x="72" y="1880"/>
                  </a:lnTo>
                  <a:lnTo>
                    <a:pt x="0" y="1760"/>
                  </a:lnTo>
                  <a:lnTo>
                    <a:pt x="345" y="1559"/>
                  </a:lnTo>
                  <a:lnTo>
                    <a:pt x="0" y="1362"/>
                  </a:lnTo>
                  <a:lnTo>
                    <a:pt x="72" y="1237"/>
                  </a:lnTo>
                  <a:lnTo>
                    <a:pt x="417" y="1439"/>
                  </a:lnTo>
                  <a:lnTo>
                    <a:pt x="417" y="1041"/>
                  </a:lnTo>
                  <a:lnTo>
                    <a:pt x="557" y="1041"/>
                  </a:lnTo>
                  <a:lnTo>
                    <a:pt x="557" y="1439"/>
                  </a:lnTo>
                  <a:lnTo>
                    <a:pt x="902" y="1237"/>
                  </a:lnTo>
                  <a:lnTo>
                    <a:pt x="974" y="1362"/>
                  </a:lnTo>
                  <a:lnTo>
                    <a:pt x="624" y="1559"/>
                  </a:lnTo>
                  <a:lnTo>
                    <a:pt x="974" y="1760"/>
                  </a:lnTo>
                  <a:lnTo>
                    <a:pt x="902" y="1880"/>
                  </a:lnTo>
                  <a:lnTo>
                    <a:pt x="557" y="1679"/>
                  </a:lnTo>
                  <a:close/>
                  <a:moveTo>
                    <a:pt x="1665" y="1679"/>
                  </a:moveTo>
                  <a:lnTo>
                    <a:pt x="1665" y="2082"/>
                  </a:lnTo>
                  <a:lnTo>
                    <a:pt x="1526" y="2082"/>
                  </a:lnTo>
                  <a:lnTo>
                    <a:pt x="1526" y="1679"/>
                  </a:lnTo>
                  <a:lnTo>
                    <a:pt x="1180" y="1880"/>
                  </a:lnTo>
                  <a:lnTo>
                    <a:pt x="1108" y="1760"/>
                  </a:lnTo>
                  <a:lnTo>
                    <a:pt x="1459" y="1559"/>
                  </a:lnTo>
                  <a:lnTo>
                    <a:pt x="1108" y="1362"/>
                  </a:lnTo>
                  <a:lnTo>
                    <a:pt x="1180" y="1237"/>
                  </a:lnTo>
                  <a:lnTo>
                    <a:pt x="1526" y="1439"/>
                  </a:lnTo>
                  <a:lnTo>
                    <a:pt x="1526" y="1041"/>
                  </a:lnTo>
                  <a:lnTo>
                    <a:pt x="1665" y="1041"/>
                  </a:lnTo>
                  <a:lnTo>
                    <a:pt x="1665" y="1439"/>
                  </a:lnTo>
                  <a:lnTo>
                    <a:pt x="2011" y="1237"/>
                  </a:lnTo>
                  <a:lnTo>
                    <a:pt x="2083" y="1362"/>
                  </a:lnTo>
                  <a:lnTo>
                    <a:pt x="1732" y="1559"/>
                  </a:lnTo>
                  <a:lnTo>
                    <a:pt x="2083" y="1760"/>
                  </a:lnTo>
                  <a:lnTo>
                    <a:pt x="2011" y="1880"/>
                  </a:lnTo>
                  <a:lnTo>
                    <a:pt x="1665" y="1679"/>
                  </a:lnTo>
                  <a:close/>
                  <a:moveTo>
                    <a:pt x="1108" y="638"/>
                  </a:moveTo>
                  <a:lnTo>
                    <a:pt x="1108" y="1041"/>
                  </a:lnTo>
                  <a:lnTo>
                    <a:pt x="974" y="1041"/>
                  </a:lnTo>
                  <a:lnTo>
                    <a:pt x="974" y="638"/>
                  </a:lnTo>
                  <a:lnTo>
                    <a:pt x="624" y="839"/>
                  </a:lnTo>
                  <a:lnTo>
                    <a:pt x="557" y="719"/>
                  </a:lnTo>
                  <a:lnTo>
                    <a:pt x="902" y="518"/>
                  </a:lnTo>
                  <a:lnTo>
                    <a:pt x="557" y="321"/>
                  </a:lnTo>
                  <a:lnTo>
                    <a:pt x="624" y="197"/>
                  </a:lnTo>
                  <a:lnTo>
                    <a:pt x="974" y="398"/>
                  </a:lnTo>
                  <a:lnTo>
                    <a:pt x="974" y="0"/>
                  </a:lnTo>
                  <a:lnTo>
                    <a:pt x="1108" y="0"/>
                  </a:lnTo>
                  <a:lnTo>
                    <a:pt x="1108" y="398"/>
                  </a:lnTo>
                  <a:lnTo>
                    <a:pt x="1459" y="197"/>
                  </a:lnTo>
                  <a:lnTo>
                    <a:pt x="1526" y="321"/>
                  </a:lnTo>
                  <a:lnTo>
                    <a:pt x="1180" y="518"/>
                  </a:lnTo>
                  <a:lnTo>
                    <a:pt x="1526" y="719"/>
                  </a:lnTo>
                  <a:lnTo>
                    <a:pt x="1459" y="839"/>
                  </a:lnTo>
                  <a:lnTo>
                    <a:pt x="1108" y="6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6" name="Freeform 304"/>
            <p:cNvSpPr/>
            <p:nvPr/>
          </p:nvSpPr>
          <p:spPr>
            <a:xfrm>
              <a:off x="4753080" y="5610960"/>
              <a:ext cx="508320" cy="543600"/>
            </a:xfrm>
            <a:custGeom>
              <a:avLst/>
              <a:gdLst/>
              <a:ahLst/>
              <a:rect l="l" t="t" r="r" b="b"/>
              <a:pathLst>
                <a:path w="974" h="1041">
                  <a:moveTo>
                    <a:pt x="557" y="638"/>
                  </a:moveTo>
                  <a:lnTo>
                    <a:pt x="557" y="1041"/>
                  </a:lnTo>
                  <a:lnTo>
                    <a:pt x="417" y="1041"/>
                  </a:lnTo>
                  <a:lnTo>
                    <a:pt x="417" y="638"/>
                  </a:lnTo>
                  <a:lnTo>
                    <a:pt x="72" y="839"/>
                  </a:lnTo>
                  <a:lnTo>
                    <a:pt x="0" y="719"/>
                  </a:lnTo>
                  <a:lnTo>
                    <a:pt x="345" y="518"/>
                  </a:lnTo>
                  <a:lnTo>
                    <a:pt x="0" y="321"/>
                  </a:lnTo>
                  <a:lnTo>
                    <a:pt x="72" y="196"/>
                  </a:lnTo>
                  <a:lnTo>
                    <a:pt x="417" y="398"/>
                  </a:lnTo>
                  <a:lnTo>
                    <a:pt x="417" y="0"/>
                  </a:lnTo>
                  <a:lnTo>
                    <a:pt x="557" y="0"/>
                  </a:lnTo>
                  <a:lnTo>
                    <a:pt x="557" y="398"/>
                  </a:lnTo>
                  <a:lnTo>
                    <a:pt x="902" y="196"/>
                  </a:lnTo>
                  <a:lnTo>
                    <a:pt x="974" y="321"/>
                  </a:lnTo>
                  <a:lnTo>
                    <a:pt x="624" y="518"/>
                  </a:lnTo>
                  <a:lnTo>
                    <a:pt x="974" y="719"/>
                  </a:lnTo>
                  <a:lnTo>
                    <a:pt x="902" y="839"/>
                  </a:lnTo>
                  <a:lnTo>
                    <a:pt x="557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7" name="Freeform 305"/>
            <p:cNvSpPr/>
            <p:nvPr/>
          </p:nvSpPr>
          <p:spPr>
            <a:xfrm>
              <a:off x="5331240" y="5610960"/>
              <a:ext cx="508680" cy="543600"/>
            </a:xfrm>
            <a:custGeom>
              <a:avLst/>
              <a:gdLst/>
              <a:ahLst/>
              <a:rect l="l" t="t" r="r" b="b"/>
              <a:pathLst>
                <a:path w="975" h="1041">
                  <a:moveTo>
                    <a:pt x="557" y="638"/>
                  </a:moveTo>
                  <a:lnTo>
                    <a:pt x="557" y="1041"/>
                  </a:lnTo>
                  <a:lnTo>
                    <a:pt x="418" y="1041"/>
                  </a:lnTo>
                  <a:lnTo>
                    <a:pt x="418" y="638"/>
                  </a:lnTo>
                  <a:lnTo>
                    <a:pt x="72" y="839"/>
                  </a:lnTo>
                  <a:lnTo>
                    <a:pt x="0" y="719"/>
                  </a:lnTo>
                  <a:lnTo>
                    <a:pt x="351" y="518"/>
                  </a:lnTo>
                  <a:lnTo>
                    <a:pt x="0" y="321"/>
                  </a:lnTo>
                  <a:lnTo>
                    <a:pt x="72" y="196"/>
                  </a:lnTo>
                  <a:lnTo>
                    <a:pt x="418" y="398"/>
                  </a:lnTo>
                  <a:lnTo>
                    <a:pt x="418" y="0"/>
                  </a:lnTo>
                  <a:lnTo>
                    <a:pt x="557" y="0"/>
                  </a:lnTo>
                  <a:lnTo>
                    <a:pt x="557" y="398"/>
                  </a:lnTo>
                  <a:lnTo>
                    <a:pt x="903" y="196"/>
                  </a:lnTo>
                  <a:lnTo>
                    <a:pt x="975" y="321"/>
                  </a:lnTo>
                  <a:lnTo>
                    <a:pt x="624" y="518"/>
                  </a:lnTo>
                  <a:lnTo>
                    <a:pt x="975" y="719"/>
                  </a:lnTo>
                  <a:lnTo>
                    <a:pt x="903" y="839"/>
                  </a:lnTo>
                  <a:lnTo>
                    <a:pt x="557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8" name="Freeform 306"/>
            <p:cNvSpPr/>
            <p:nvPr/>
          </p:nvSpPr>
          <p:spPr>
            <a:xfrm>
              <a:off x="5043600" y="5067360"/>
              <a:ext cx="505800" cy="543600"/>
            </a:xfrm>
            <a:custGeom>
              <a:avLst/>
              <a:gdLst/>
              <a:ahLst/>
              <a:rect l="l" t="t" r="r" b="b"/>
              <a:pathLst>
                <a:path w="969" h="1041">
                  <a:moveTo>
                    <a:pt x="551" y="638"/>
                  </a:moveTo>
                  <a:lnTo>
                    <a:pt x="551" y="1041"/>
                  </a:lnTo>
                  <a:lnTo>
                    <a:pt x="417" y="1041"/>
                  </a:lnTo>
                  <a:lnTo>
                    <a:pt x="417" y="638"/>
                  </a:lnTo>
                  <a:lnTo>
                    <a:pt x="67" y="839"/>
                  </a:lnTo>
                  <a:lnTo>
                    <a:pt x="0" y="719"/>
                  </a:lnTo>
                  <a:lnTo>
                    <a:pt x="345" y="518"/>
                  </a:lnTo>
                  <a:lnTo>
                    <a:pt x="0" y="321"/>
                  </a:lnTo>
                  <a:lnTo>
                    <a:pt x="67" y="197"/>
                  </a:lnTo>
                  <a:lnTo>
                    <a:pt x="417" y="398"/>
                  </a:lnTo>
                  <a:lnTo>
                    <a:pt x="417" y="0"/>
                  </a:lnTo>
                  <a:lnTo>
                    <a:pt x="551" y="0"/>
                  </a:lnTo>
                  <a:lnTo>
                    <a:pt x="551" y="398"/>
                  </a:lnTo>
                  <a:lnTo>
                    <a:pt x="902" y="197"/>
                  </a:lnTo>
                  <a:lnTo>
                    <a:pt x="969" y="321"/>
                  </a:lnTo>
                  <a:lnTo>
                    <a:pt x="623" y="518"/>
                  </a:lnTo>
                  <a:lnTo>
                    <a:pt x="969" y="719"/>
                  </a:lnTo>
                  <a:lnTo>
                    <a:pt x="902" y="839"/>
                  </a:lnTo>
                  <a:lnTo>
                    <a:pt x="551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9" name="Group 307"/>
          <p:cNvGrpSpPr/>
          <p:nvPr/>
        </p:nvGrpSpPr>
        <p:grpSpPr>
          <a:xfrm>
            <a:off x="7011720" y="5121360"/>
            <a:ext cx="920520" cy="920520"/>
            <a:chOff x="7011720" y="5121360"/>
            <a:chExt cx="920520" cy="920520"/>
          </a:xfrm>
        </p:grpSpPr>
        <p:sp>
          <p:nvSpPr>
            <p:cNvPr id="7270" name="Rectangle 308"/>
            <p:cNvSpPr/>
            <p:nvPr/>
          </p:nvSpPr>
          <p:spPr>
            <a:xfrm rot="5400000">
              <a:off x="7011720" y="5121360"/>
              <a:ext cx="920520" cy="9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1" name="Freeform 309"/>
            <p:cNvSpPr/>
            <p:nvPr/>
          </p:nvSpPr>
          <p:spPr>
            <a:xfrm rot="5400000">
              <a:off x="7096680" y="5198760"/>
              <a:ext cx="761040" cy="761400"/>
            </a:xfrm>
            <a:custGeom>
              <a:avLst/>
              <a:gdLst/>
              <a:ahLst/>
              <a:rect l="l" t="t" r="r" b="b"/>
              <a:pathLst>
                <a:path w="1075" h="1075">
                  <a:moveTo>
                    <a:pt x="0" y="418"/>
                  </a:moveTo>
                  <a:lnTo>
                    <a:pt x="0" y="0"/>
                  </a:lnTo>
                  <a:lnTo>
                    <a:pt x="1075" y="0"/>
                  </a:lnTo>
                  <a:lnTo>
                    <a:pt x="1075" y="1075"/>
                  </a:lnTo>
                  <a:lnTo>
                    <a:pt x="648" y="1075"/>
                  </a:lnTo>
                  <a:lnTo>
                    <a:pt x="643" y="1012"/>
                  </a:lnTo>
                  <a:lnTo>
                    <a:pt x="633" y="950"/>
                  </a:lnTo>
                  <a:lnTo>
                    <a:pt x="600" y="825"/>
                  </a:lnTo>
                  <a:lnTo>
                    <a:pt x="542" y="715"/>
                  </a:lnTo>
                  <a:lnTo>
                    <a:pt x="461" y="614"/>
                  </a:lnTo>
                  <a:lnTo>
                    <a:pt x="365" y="537"/>
                  </a:lnTo>
                  <a:lnTo>
                    <a:pt x="254" y="475"/>
                  </a:lnTo>
                  <a:lnTo>
                    <a:pt x="130" y="437"/>
                  </a:lnTo>
                  <a:lnTo>
                    <a:pt x="67" y="427"/>
                  </a:lnTo>
                  <a:lnTo>
                    <a:pt x="0" y="422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2" name="Rectangle 310"/>
            <p:cNvSpPr/>
            <p:nvPr/>
          </p:nvSpPr>
          <p:spPr>
            <a:xfrm rot="5400000">
              <a:off x="7090200" y="5195160"/>
              <a:ext cx="152640" cy="15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7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7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7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7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7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7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7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7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7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7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7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7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3" name="PlaceHolder 1"/>
          <p:cNvSpPr>
            <a:spLocks noGrp="1"/>
          </p:cNvSpPr>
          <p:nvPr>
            <p:ph type="title"/>
          </p:nvPr>
        </p:nvSpPr>
        <p:spPr>
          <a:xfrm>
            <a:off x="345600" y="5597640"/>
            <a:ext cx="42656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shee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4" name="Text Box 137"/>
          <p:cNvSpPr/>
          <p:nvPr/>
        </p:nvSpPr>
        <p:spPr>
          <a:xfrm>
            <a:off x="2228760" y="46836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5" name="Text Box 138"/>
          <p:cNvSpPr/>
          <p:nvPr/>
        </p:nvSpPr>
        <p:spPr>
          <a:xfrm>
            <a:off x="685800" y="1066680"/>
            <a:ext cx="763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 the order of rotational symmetry for each shape belo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6" name="Text Box 139"/>
          <p:cNvSpPr/>
          <p:nvPr/>
        </p:nvSpPr>
        <p:spPr>
          <a:xfrm>
            <a:off x="419040" y="14288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7" name="Text Box 140"/>
          <p:cNvSpPr/>
          <p:nvPr/>
        </p:nvSpPr>
        <p:spPr>
          <a:xfrm>
            <a:off x="2101680" y="143496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Text Box 141"/>
          <p:cNvSpPr/>
          <p:nvPr/>
        </p:nvSpPr>
        <p:spPr>
          <a:xfrm>
            <a:off x="3860640" y="144144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Text Box 142"/>
          <p:cNvSpPr/>
          <p:nvPr/>
        </p:nvSpPr>
        <p:spPr>
          <a:xfrm>
            <a:off x="6229440" y="144792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Text Box 143"/>
          <p:cNvSpPr/>
          <p:nvPr/>
        </p:nvSpPr>
        <p:spPr>
          <a:xfrm>
            <a:off x="44460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Text Box 144"/>
          <p:cNvSpPr/>
          <p:nvPr/>
        </p:nvSpPr>
        <p:spPr>
          <a:xfrm>
            <a:off x="2413080" y="321300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Text Box 145"/>
          <p:cNvSpPr/>
          <p:nvPr/>
        </p:nvSpPr>
        <p:spPr>
          <a:xfrm>
            <a:off x="4038480" y="32004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Text Box 146"/>
          <p:cNvSpPr/>
          <p:nvPr/>
        </p:nvSpPr>
        <p:spPr>
          <a:xfrm>
            <a:off x="6197760" y="32068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Text Box 147"/>
          <p:cNvSpPr/>
          <p:nvPr/>
        </p:nvSpPr>
        <p:spPr>
          <a:xfrm>
            <a:off x="431640" y="48132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Text Box 148"/>
          <p:cNvSpPr/>
          <p:nvPr/>
        </p:nvSpPr>
        <p:spPr>
          <a:xfrm>
            <a:off x="2209680" y="4896000"/>
            <a:ext cx="55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Text Box 149"/>
          <p:cNvSpPr/>
          <p:nvPr/>
        </p:nvSpPr>
        <p:spPr>
          <a:xfrm>
            <a:off x="4102200" y="494028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Text Box 150"/>
          <p:cNvSpPr/>
          <p:nvPr/>
        </p:nvSpPr>
        <p:spPr>
          <a:xfrm>
            <a:off x="6280200" y="4946760"/>
            <a:ext cx="55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8" name="Group 163"/>
          <p:cNvGrpSpPr/>
          <p:nvPr/>
        </p:nvGrpSpPr>
        <p:grpSpPr>
          <a:xfrm>
            <a:off x="946080" y="1860480"/>
            <a:ext cx="922320" cy="914040"/>
            <a:chOff x="946080" y="1860480"/>
            <a:chExt cx="922320" cy="914040"/>
          </a:xfrm>
        </p:grpSpPr>
        <p:sp>
          <p:nvSpPr>
            <p:cNvPr id="7289" name="Freeform 164"/>
            <p:cNvSpPr/>
            <p:nvPr/>
          </p:nvSpPr>
          <p:spPr>
            <a:xfrm>
              <a:off x="1426680" y="1860480"/>
              <a:ext cx="434520" cy="4381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0" name="Freeform 165"/>
            <p:cNvSpPr/>
            <p:nvPr/>
          </p:nvSpPr>
          <p:spPr>
            <a:xfrm>
              <a:off x="1449360" y="1885680"/>
              <a:ext cx="383760" cy="3841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1" name="Freeform 166"/>
            <p:cNvSpPr/>
            <p:nvPr/>
          </p:nvSpPr>
          <p:spPr>
            <a:xfrm>
              <a:off x="1500480" y="1934640"/>
              <a:ext cx="278280" cy="28188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2" name="Freeform 167"/>
            <p:cNvSpPr/>
            <p:nvPr/>
          </p:nvSpPr>
          <p:spPr>
            <a:xfrm>
              <a:off x="946080" y="1870200"/>
              <a:ext cx="444600" cy="43092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3" name="Freeform 168"/>
            <p:cNvSpPr/>
            <p:nvPr/>
          </p:nvSpPr>
          <p:spPr>
            <a:xfrm>
              <a:off x="973800" y="1896120"/>
              <a:ext cx="390960" cy="37620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4" name="Freeform 169"/>
            <p:cNvSpPr/>
            <p:nvPr/>
          </p:nvSpPr>
          <p:spPr>
            <a:xfrm>
              <a:off x="1027800" y="1944720"/>
              <a:ext cx="285840" cy="27432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5" name="Freeform 170"/>
            <p:cNvSpPr/>
            <p:nvPr/>
          </p:nvSpPr>
          <p:spPr>
            <a:xfrm>
              <a:off x="955800" y="2331720"/>
              <a:ext cx="429480" cy="44280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6" name="Freeform 171"/>
            <p:cNvSpPr/>
            <p:nvPr/>
          </p:nvSpPr>
          <p:spPr>
            <a:xfrm>
              <a:off x="981720" y="2357280"/>
              <a:ext cx="375120" cy="38952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7" name="Freeform 172"/>
            <p:cNvSpPr/>
            <p:nvPr/>
          </p:nvSpPr>
          <p:spPr>
            <a:xfrm>
              <a:off x="1030680" y="2405880"/>
              <a:ext cx="273240" cy="28692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8" name="Freeform 173"/>
            <p:cNvSpPr/>
            <p:nvPr/>
          </p:nvSpPr>
          <p:spPr>
            <a:xfrm>
              <a:off x="1426680" y="2331720"/>
              <a:ext cx="441720" cy="4302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9" name="Freeform 174"/>
            <p:cNvSpPr/>
            <p:nvPr/>
          </p:nvSpPr>
          <p:spPr>
            <a:xfrm>
              <a:off x="1451880" y="2357280"/>
              <a:ext cx="391320" cy="37692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0" name="Freeform 175"/>
            <p:cNvSpPr/>
            <p:nvPr/>
          </p:nvSpPr>
          <p:spPr>
            <a:xfrm>
              <a:off x="1508400" y="2405880"/>
              <a:ext cx="285840" cy="27432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1" name="Group 176"/>
          <p:cNvGrpSpPr/>
          <p:nvPr/>
        </p:nvGrpSpPr>
        <p:grpSpPr>
          <a:xfrm>
            <a:off x="2798280" y="1876320"/>
            <a:ext cx="893880" cy="890640"/>
            <a:chOff x="2798280" y="1876320"/>
            <a:chExt cx="893880" cy="890640"/>
          </a:xfrm>
        </p:grpSpPr>
        <p:sp>
          <p:nvSpPr>
            <p:cNvPr id="7302" name="Rectangle 177"/>
            <p:cNvSpPr/>
            <p:nvPr/>
          </p:nvSpPr>
          <p:spPr>
            <a:xfrm flipH="1" rot="5400000">
              <a:off x="2799360" y="1874520"/>
              <a:ext cx="890640" cy="8938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3" name="Freeform 178"/>
            <p:cNvSpPr/>
            <p:nvPr/>
          </p:nvSpPr>
          <p:spPr>
            <a:xfrm flipH="1" rot="5400000">
              <a:off x="2879280" y="1961640"/>
              <a:ext cx="733680" cy="733320"/>
            </a:xfrm>
            <a:custGeom>
              <a:avLst/>
              <a:gdLst/>
              <a:ahLst/>
              <a:rect l="l" t="t" r="r" b="b"/>
              <a:pathLst>
                <a:path w="1032" h="1031">
                  <a:moveTo>
                    <a:pt x="0" y="508"/>
                  </a:moveTo>
                  <a:lnTo>
                    <a:pt x="0" y="0"/>
                  </a:lnTo>
                  <a:lnTo>
                    <a:pt x="1032" y="0"/>
                  </a:lnTo>
                  <a:lnTo>
                    <a:pt x="1032" y="1031"/>
                  </a:lnTo>
                  <a:lnTo>
                    <a:pt x="523" y="1031"/>
                  </a:lnTo>
                  <a:lnTo>
                    <a:pt x="523" y="508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4" name="Freeform 179"/>
            <p:cNvSpPr/>
            <p:nvPr/>
          </p:nvSpPr>
          <p:spPr>
            <a:xfrm flipH="1" rot="5400000">
              <a:off x="3374640" y="2453400"/>
              <a:ext cx="112680" cy="11232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159" y="82"/>
                  </a:moveTo>
                  <a:lnTo>
                    <a:pt x="159" y="96"/>
                  </a:lnTo>
                  <a:lnTo>
                    <a:pt x="154" y="110"/>
                  </a:lnTo>
                  <a:lnTo>
                    <a:pt x="149" y="125"/>
                  </a:lnTo>
                  <a:lnTo>
                    <a:pt x="140" y="134"/>
                  </a:lnTo>
                  <a:lnTo>
                    <a:pt x="125" y="144"/>
                  </a:lnTo>
                  <a:lnTo>
                    <a:pt x="116" y="154"/>
                  </a:lnTo>
                  <a:lnTo>
                    <a:pt x="101" y="158"/>
                  </a:lnTo>
                  <a:lnTo>
                    <a:pt x="82" y="158"/>
                  </a:lnTo>
                  <a:lnTo>
                    <a:pt x="68" y="158"/>
                  </a:lnTo>
                  <a:lnTo>
                    <a:pt x="53" y="154"/>
                  </a:lnTo>
                  <a:lnTo>
                    <a:pt x="39" y="144"/>
                  </a:lnTo>
                  <a:lnTo>
                    <a:pt x="24" y="134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5" y="96"/>
                  </a:lnTo>
                  <a:lnTo>
                    <a:pt x="0" y="82"/>
                  </a:lnTo>
                  <a:lnTo>
                    <a:pt x="5" y="62"/>
                  </a:lnTo>
                  <a:lnTo>
                    <a:pt x="10" y="48"/>
                  </a:lnTo>
                  <a:lnTo>
                    <a:pt x="15" y="34"/>
                  </a:lnTo>
                  <a:lnTo>
                    <a:pt x="24" y="24"/>
                  </a:lnTo>
                  <a:lnTo>
                    <a:pt x="39" y="14"/>
                  </a:lnTo>
                  <a:lnTo>
                    <a:pt x="53" y="5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101" y="0"/>
                  </a:lnTo>
                  <a:lnTo>
                    <a:pt x="116" y="5"/>
                  </a:lnTo>
                  <a:lnTo>
                    <a:pt x="125" y="14"/>
                  </a:lnTo>
                  <a:lnTo>
                    <a:pt x="140" y="24"/>
                  </a:lnTo>
                  <a:lnTo>
                    <a:pt x="149" y="34"/>
                  </a:lnTo>
                  <a:lnTo>
                    <a:pt x="154" y="48"/>
                  </a:lnTo>
                  <a:lnTo>
                    <a:pt x="159" y="62"/>
                  </a:lnTo>
                  <a:lnTo>
                    <a:pt x="159" y="8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5" name="Freeform 180"/>
            <p:cNvSpPr/>
            <p:nvPr/>
          </p:nvSpPr>
          <p:spPr>
            <a:xfrm flipH="1" rot="5400000">
              <a:off x="3016800" y="2088360"/>
              <a:ext cx="112320" cy="1123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81"/>
                  </a:moveTo>
                  <a:lnTo>
                    <a:pt x="158" y="96"/>
                  </a:lnTo>
                  <a:lnTo>
                    <a:pt x="153" y="110"/>
                  </a:lnTo>
                  <a:lnTo>
                    <a:pt x="148" y="124"/>
                  </a:lnTo>
                  <a:lnTo>
                    <a:pt x="139" y="134"/>
                  </a:lnTo>
                  <a:lnTo>
                    <a:pt x="124" y="144"/>
                  </a:lnTo>
                  <a:lnTo>
                    <a:pt x="115" y="153"/>
                  </a:lnTo>
                  <a:lnTo>
                    <a:pt x="100" y="158"/>
                  </a:lnTo>
                  <a:lnTo>
                    <a:pt x="81" y="158"/>
                  </a:lnTo>
                  <a:lnTo>
                    <a:pt x="67" y="158"/>
                  </a:lnTo>
                  <a:lnTo>
                    <a:pt x="48" y="153"/>
                  </a:lnTo>
                  <a:lnTo>
                    <a:pt x="33" y="144"/>
                  </a:lnTo>
                  <a:lnTo>
                    <a:pt x="24" y="134"/>
                  </a:lnTo>
                  <a:lnTo>
                    <a:pt x="14" y="124"/>
                  </a:lnTo>
                  <a:lnTo>
                    <a:pt x="9" y="110"/>
                  </a:lnTo>
                  <a:lnTo>
                    <a:pt x="5" y="96"/>
                  </a:lnTo>
                  <a:lnTo>
                    <a:pt x="0" y="81"/>
                  </a:lnTo>
                  <a:lnTo>
                    <a:pt x="5" y="62"/>
                  </a:lnTo>
                  <a:lnTo>
                    <a:pt x="9" y="48"/>
                  </a:lnTo>
                  <a:lnTo>
                    <a:pt x="14" y="33"/>
                  </a:lnTo>
                  <a:lnTo>
                    <a:pt x="24" y="24"/>
                  </a:lnTo>
                  <a:lnTo>
                    <a:pt x="33" y="14"/>
                  </a:lnTo>
                  <a:lnTo>
                    <a:pt x="48" y="4"/>
                  </a:lnTo>
                  <a:lnTo>
                    <a:pt x="67" y="0"/>
                  </a:lnTo>
                  <a:lnTo>
                    <a:pt x="81" y="0"/>
                  </a:lnTo>
                  <a:lnTo>
                    <a:pt x="100" y="0"/>
                  </a:lnTo>
                  <a:lnTo>
                    <a:pt x="115" y="4"/>
                  </a:lnTo>
                  <a:lnTo>
                    <a:pt x="124" y="14"/>
                  </a:lnTo>
                  <a:lnTo>
                    <a:pt x="139" y="24"/>
                  </a:lnTo>
                  <a:lnTo>
                    <a:pt x="148" y="33"/>
                  </a:lnTo>
                  <a:lnTo>
                    <a:pt x="153" y="48"/>
                  </a:lnTo>
                  <a:lnTo>
                    <a:pt x="158" y="62"/>
                  </a:lnTo>
                  <a:lnTo>
                    <a:pt x="158" y="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6" name="Oval 181"/>
          <p:cNvSpPr/>
          <p:nvPr/>
        </p:nvSpPr>
        <p:spPr>
          <a:xfrm rot="10800000">
            <a:off x="4379400" y="1859040"/>
            <a:ext cx="176868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7" name="Group 182"/>
          <p:cNvGrpSpPr/>
          <p:nvPr/>
        </p:nvGrpSpPr>
        <p:grpSpPr>
          <a:xfrm>
            <a:off x="6946920" y="1797120"/>
            <a:ext cx="990720" cy="990360"/>
            <a:chOff x="6946920" y="1797120"/>
            <a:chExt cx="990720" cy="990360"/>
          </a:xfrm>
        </p:grpSpPr>
        <p:sp>
          <p:nvSpPr>
            <p:cNvPr id="7308" name="Freeform 183"/>
            <p:cNvSpPr/>
            <p:nvPr/>
          </p:nvSpPr>
          <p:spPr>
            <a:xfrm>
              <a:off x="6979680" y="1810800"/>
              <a:ext cx="925920" cy="893880"/>
            </a:xfrm>
            <a:custGeom>
              <a:avLst/>
              <a:gdLst/>
              <a:ahLst/>
              <a:rect l="l" t="t" r="r" b="b"/>
              <a:pathLst>
                <a:path w="1416" h="1368">
                  <a:moveTo>
                    <a:pt x="0" y="520"/>
                  </a:moveTo>
                  <a:lnTo>
                    <a:pt x="1416" y="524"/>
                  </a:lnTo>
                  <a:lnTo>
                    <a:pt x="280" y="1368"/>
                  </a:lnTo>
                  <a:lnTo>
                    <a:pt x="708" y="0"/>
                  </a:lnTo>
                  <a:lnTo>
                    <a:pt x="1136" y="1364"/>
                  </a:lnTo>
                  <a:lnTo>
                    <a:pt x="0" y="52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9" name="Oval 184"/>
            <p:cNvSpPr/>
            <p:nvPr/>
          </p:nvSpPr>
          <p:spPr>
            <a:xfrm>
              <a:off x="6946920" y="1797120"/>
              <a:ext cx="990720" cy="9903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0" name="AutoShape 185"/>
          <p:cNvSpPr/>
          <p:nvPr/>
        </p:nvSpPr>
        <p:spPr>
          <a:xfrm>
            <a:off x="609480" y="3797280"/>
            <a:ext cx="1876680" cy="797040"/>
          </a:xfrm>
          <a:prstGeom prst="parallelogram">
            <a:avLst>
              <a:gd name="adj" fmla="val 5886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1" name="Group 186"/>
          <p:cNvGrpSpPr/>
          <p:nvPr/>
        </p:nvGrpSpPr>
        <p:grpSpPr>
          <a:xfrm>
            <a:off x="2851200" y="3571920"/>
            <a:ext cx="1054080" cy="1054080"/>
            <a:chOff x="2851200" y="3571920"/>
            <a:chExt cx="1054080" cy="1054080"/>
          </a:xfrm>
        </p:grpSpPr>
        <p:sp>
          <p:nvSpPr>
            <p:cNvPr id="7312" name="Freeform 187"/>
            <p:cNvSpPr/>
            <p:nvPr/>
          </p:nvSpPr>
          <p:spPr>
            <a:xfrm>
              <a:off x="2851200" y="3571920"/>
              <a:ext cx="1054080" cy="1054080"/>
            </a:xfrm>
            <a:custGeom>
              <a:avLst/>
              <a:gdLst/>
              <a:ahLst/>
              <a:rect l="l" t="t" r="r" b="b"/>
              <a:pathLst>
                <a:path w="1560" h="1560">
                  <a:moveTo>
                    <a:pt x="2" y="834"/>
                  </a:moveTo>
                  <a:lnTo>
                    <a:pt x="6" y="874"/>
                  </a:lnTo>
                  <a:lnTo>
                    <a:pt x="11" y="914"/>
                  </a:lnTo>
                  <a:lnTo>
                    <a:pt x="19" y="952"/>
                  </a:lnTo>
                  <a:lnTo>
                    <a:pt x="29" y="991"/>
                  </a:lnTo>
                  <a:lnTo>
                    <a:pt x="40" y="1027"/>
                  </a:lnTo>
                  <a:lnTo>
                    <a:pt x="54" y="1064"/>
                  </a:lnTo>
                  <a:lnTo>
                    <a:pt x="68" y="1099"/>
                  </a:lnTo>
                  <a:lnTo>
                    <a:pt x="84" y="1133"/>
                  </a:lnTo>
                  <a:lnTo>
                    <a:pt x="103" y="1166"/>
                  </a:lnTo>
                  <a:lnTo>
                    <a:pt x="122" y="1199"/>
                  </a:lnTo>
                  <a:lnTo>
                    <a:pt x="143" y="1230"/>
                  </a:lnTo>
                  <a:lnTo>
                    <a:pt x="165" y="1260"/>
                  </a:lnTo>
                  <a:lnTo>
                    <a:pt x="189" y="1290"/>
                  </a:lnTo>
                  <a:lnTo>
                    <a:pt x="215" y="1317"/>
                  </a:lnTo>
                  <a:lnTo>
                    <a:pt x="241" y="1343"/>
                  </a:lnTo>
                  <a:lnTo>
                    <a:pt x="268" y="1369"/>
                  </a:lnTo>
                  <a:lnTo>
                    <a:pt x="328" y="1415"/>
                  </a:lnTo>
                  <a:lnTo>
                    <a:pt x="358" y="1437"/>
                  </a:lnTo>
                  <a:lnTo>
                    <a:pt x="390" y="1456"/>
                  </a:lnTo>
                  <a:lnTo>
                    <a:pt x="423" y="1473"/>
                  </a:lnTo>
                  <a:lnTo>
                    <a:pt x="458" y="1490"/>
                  </a:lnTo>
                  <a:lnTo>
                    <a:pt x="492" y="1505"/>
                  </a:lnTo>
                  <a:lnTo>
                    <a:pt x="527" y="1518"/>
                  </a:lnTo>
                  <a:lnTo>
                    <a:pt x="564" y="1529"/>
                  </a:lnTo>
                  <a:lnTo>
                    <a:pt x="600" y="1539"/>
                  </a:lnTo>
                  <a:lnTo>
                    <a:pt x="638" y="1547"/>
                  </a:lnTo>
                  <a:lnTo>
                    <a:pt x="677" y="1553"/>
                  </a:lnTo>
                  <a:lnTo>
                    <a:pt x="716" y="1558"/>
                  </a:lnTo>
                  <a:lnTo>
                    <a:pt x="754" y="1559"/>
                  </a:lnTo>
                  <a:lnTo>
                    <a:pt x="794" y="1560"/>
                  </a:lnTo>
                  <a:lnTo>
                    <a:pt x="834" y="1558"/>
                  </a:lnTo>
                  <a:lnTo>
                    <a:pt x="874" y="1554"/>
                  </a:lnTo>
                  <a:lnTo>
                    <a:pt x="914" y="1549"/>
                  </a:lnTo>
                  <a:lnTo>
                    <a:pt x="952" y="1541"/>
                  </a:lnTo>
                  <a:lnTo>
                    <a:pt x="991" y="1531"/>
                  </a:lnTo>
                  <a:lnTo>
                    <a:pt x="1027" y="1520"/>
                  </a:lnTo>
                  <a:lnTo>
                    <a:pt x="1064" y="1506"/>
                  </a:lnTo>
                  <a:lnTo>
                    <a:pt x="1099" y="1492"/>
                  </a:lnTo>
                  <a:lnTo>
                    <a:pt x="1133" y="1476"/>
                  </a:lnTo>
                  <a:lnTo>
                    <a:pt x="1166" y="1457"/>
                  </a:lnTo>
                  <a:lnTo>
                    <a:pt x="1199" y="1438"/>
                  </a:lnTo>
                  <a:lnTo>
                    <a:pt x="1230" y="1417"/>
                  </a:lnTo>
                  <a:lnTo>
                    <a:pt x="1260" y="1395"/>
                  </a:lnTo>
                  <a:lnTo>
                    <a:pt x="1290" y="1371"/>
                  </a:lnTo>
                  <a:lnTo>
                    <a:pt x="1317" y="1345"/>
                  </a:lnTo>
                  <a:lnTo>
                    <a:pt x="1343" y="1319"/>
                  </a:lnTo>
                  <a:lnTo>
                    <a:pt x="1369" y="1292"/>
                  </a:lnTo>
                  <a:lnTo>
                    <a:pt x="1415" y="1232"/>
                  </a:lnTo>
                  <a:lnTo>
                    <a:pt x="1437" y="1202"/>
                  </a:lnTo>
                  <a:lnTo>
                    <a:pt x="1456" y="1170"/>
                  </a:lnTo>
                  <a:lnTo>
                    <a:pt x="1473" y="1137"/>
                  </a:lnTo>
                  <a:lnTo>
                    <a:pt x="1490" y="1102"/>
                  </a:lnTo>
                  <a:lnTo>
                    <a:pt x="1505" y="1068"/>
                  </a:lnTo>
                  <a:lnTo>
                    <a:pt x="1518" y="1033"/>
                  </a:lnTo>
                  <a:lnTo>
                    <a:pt x="1529" y="996"/>
                  </a:lnTo>
                  <a:lnTo>
                    <a:pt x="1539" y="960"/>
                  </a:lnTo>
                  <a:lnTo>
                    <a:pt x="1547" y="922"/>
                  </a:lnTo>
                  <a:lnTo>
                    <a:pt x="1553" y="883"/>
                  </a:lnTo>
                  <a:lnTo>
                    <a:pt x="1558" y="844"/>
                  </a:lnTo>
                  <a:lnTo>
                    <a:pt x="1559" y="806"/>
                  </a:lnTo>
                  <a:lnTo>
                    <a:pt x="1560" y="766"/>
                  </a:lnTo>
                  <a:lnTo>
                    <a:pt x="1558" y="726"/>
                  </a:lnTo>
                  <a:lnTo>
                    <a:pt x="1554" y="686"/>
                  </a:lnTo>
                  <a:lnTo>
                    <a:pt x="1549" y="646"/>
                  </a:lnTo>
                  <a:lnTo>
                    <a:pt x="1541" y="608"/>
                  </a:lnTo>
                  <a:lnTo>
                    <a:pt x="1531" y="569"/>
                  </a:lnTo>
                  <a:lnTo>
                    <a:pt x="1520" y="533"/>
                  </a:lnTo>
                  <a:lnTo>
                    <a:pt x="1506" y="496"/>
                  </a:lnTo>
                  <a:lnTo>
                    <a:pt x="1492" y="461"/>
                  </a:lnTo>
                  <a:lnTo>
                    <a:pt x="1476" y="427"/>
                  </a:lnTo>
                  <a:lnTo>
                    <a:pt x="1457" y="394"/>
                  </a:lnTo>
                  <a:lnTo>
                    <a:pt x="1438" y="361"/>
                  </a:lnTo>
                  <a:lnTo>
                    <a:pt x="1417" y="330"/>
                  </a:lnTo>
                  <a:lnTo>
                    <a:pt x="1395" y="300"/>
                  </a:lnTo>
                  <a:lnTo>
                    <a:pt x="1371" y="270"/>
                  </a:lnTo>
                  <a:lnTo>
                    <a:pt x="1345" y="243"/>
                  </a:lnTo>
                  <a:lnTo>
                    <a:pt x="1319" y="217"/>
                  </a:lnTo>
                  <a:lnTo>
                    <a:pt x="1292" y="192"/>
                  </a:lnTo>
                  <a:lnTo>
                    <a:pt x="1262" y="168"/>
                  </a:lnTo>
                  <a:lnTo>
                    <a:pt x="1232" y="145"/>
                  </a:lnTo>
                  <a:lnTo>
                    <a:pt x="1202" y="123"/>
                  </a:lnTo>
                  <a:lnTo>
                    <a:pt x="1170" y="104"/>
                  </a:lnTo>
                  <a:lnTo>
                    <a:pt x="1137" y="87"/>
                  </a:lnTo>
                  <a:lnTo>
                    <a:pt x="1102" y="70"/>
                  </a:lnTo>
                  <a:lnTo>
                    <a:pt x="1068" y="55"/>
                  </a:lnTo>
                  <a:lnTo>
                    <a:pt x="1033" y="42"/>
                  </a:lnTo>
                  <a:lnTo>
                    <a:pt x="996" y="31"/>
                  </a:lnTo>
                  <a:lnTo>
                    <a:pt x="960" y="21"/>
                  </a:lnTo>
                  <a:lnTo>
                    <a:pt x="922" y="13"/>
                  </a:lnTo>
                  <a:lnTo>
                    <a:pt x="883" y="7"/>
                  </a:lnTo>
                  <a:lnTo>
                    <a:pt x="844" y="2"/>
                  </a:lnTo>
                  <a:lnTo>
                    <a:pt x="806" y="1"/>
                  </a:lnTo>
                  <a:lnTo>
                    <a:pt x="766" y="0"/>
                  </a:lnTo>
                  <a:lnTo>
                    <a:pt x="726" y="2"/>
                  </a:lnTo>
                  <a:lnTo>
                    <a:pt x="686" y="6"/>
                  </a:lnTo>
                  <a:lnTo>
                    <a:pt x="646" y="11"/>
                  </a:lnTo>
                  <a:lnTo>
                    <a:pt x="608" y="19"/>
                  </a:lnTo>
                  <a:lnTo>
                    <a:pt x="569" y="29"/>
                  </a:lnTo>
                  <a:lnTo>
                    <a:pt x="533" y="40"/>
                  </a:lnTo>
                  <a:lnTo>
                    <a:pt x="496" y="54"/>
                  </a:lnTo>
                  <a:lnTo>
                    <a:pt x="461" y="68"/>
                  </a:lnTo>
                  <a:lnTo>
                    <a:pt x="427" y="84"/>
                  </a:lnTo>
                  <a:lnTo>
                    <a:pt x="394" y="103"/>
                  </a:lnTo>
                  <a:lnTo>
                    <a:pt x="361" y="122"/>
                  </a:lnTo>
                  <a:lnTo>
                    <a:pt x="330" y="143"/>
                  </a:lnTo>
                  <a:lnTo>
                    <a:pt x="300" y="165"/>
                  </a:lnTo>
                  <a:lnTo>
                    <a:pt x="270" y="189"/>
                  </a:lnTo>
                  <a:lnTo>
                    <a:pt x="243" y="215"/>
                  </a:lnTo>
                  <a:lnTo>
                    <a:pt x="217" y="241"/>
                  </a:lnTo>
                  <a:lnTo>
                    <a:pt x="192" y="268"/>
                  </a:lnTo>
                  <a:lnTo>
                    <a:pt x="168" y="298"/>
                  </a:lnTo>
                  <a:lnTo>
                    <a:pt x="145" y="328"/>
                  </a:lnTo>
                  <a:lnTo>
                    <a:pt x="123" y="358"/>
                  </a:lnTo>
                  <a:lnTo>
                    <a:pt x="104" y="390"/>
                  </a:lnTo>
                  <a:lnTo>
                    <a:pt x="87" y="423"/>
                  </a:lnTo>
                  <a:lnTo>
                    <a:pt x="70" y="458"/>
                  </a:lnTo>
                  <a:lnTo>
                    <a:pt x="55" y="492"/>
                  </a:lnTo>
                  <a:lnTo>
                    <a:pt x="42" y="527"/>
                  </a:lnTo>
                  <a:lnTo>
                    <a:pt x="31" y="564"/>
                  </a:lnTo>
                  <a:lnTo>
                    <a:pt x="21" y="600"/>
                  </a:lnTo>
                  <a:lnTo>
                    <a:pt x="13" y="638"/>
                  </a:lnTo>
                  <a:lnTo>
                    <a:pt x="7" y="677"/>
                  </a:lnTo>
                  <a:lnTo>
                    <a:pt x="2" y="716"/>
                  </a:lnTo>
                  <a:lnTo>
                    <a:pt x="1" y="754"/>
                  </a:lnTo>
                  <a:lnTo>
                    <a:pt x="0" y="794"/>
                  </a:lnTo>
                  <a:lnTo>
                    <a:pt x="2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3" name="Freeform 188"/>
            <p:cNvSpPr/>
            <p:nvPr/>
          </p:nvSpPr>
          <p:spPr>
            <a:xfrm>
              <a:off x="2959200" y="3679920"/>
              <a:ext cx="833040" cy="831600"/>
            </a:xfrm>
            <a:custGeom>
              <a:avLst/>
              <a:gdLst/>
              <a:ahLst/>
              <a:rect l="l" t="t" r="r" b="b"/>
              <a:pathLst>
                <a:path w="1233" h="1231">
                  <a:moveTo>
                    <a:pt x="1" y="658"/>
                  </a:moveTo>
                  <a:lnTo>
                    <a:pt x="4" y="690"/>
                  </a:lnTo>
                  <a:lnTo>
                    <a:pt x="9" y="721"/>
                  </a:lnTo>
                  <a:lnTo>
                    <a:pt x="15" y="752"/>
                  </a:lnTo>
                  <a:lnTo>
                    <a:pt x="21" y="781"/>
                  </a:lnTo>
                  <a:lnTo>
                    <a:pt x="41" y="840"/>
                  </a:lnTo>
                  <a:lnTo>
                    <a:pt x="66" y="894"/>
                  </a:lnTo>
                  <a:lnTo>
                    <a:pt x="96" y="946"/>
                  </a:lnTo>
                  <a:lnTo>
                    <a:pt x="130" y="995"/>
                  </a:lnTo>
                  <a:lnTo>
                    <a:pt x="169" y="1039"/>
                  </a:lnTo>
                  <a:lnTo>
                    <a:pt x="211" y="1080"/>
                  </a:lnTo>
                  <a:lnTo>
                    <a:pt x="258" y="1117"/>
                  </a:lnTo>
                  <a:lnTo>
                    <a:pt x="308" y="1149"/>
                  </a:lnTo>
                  <a:lnTo>
                    <a:pt x="360" y="1176"/>
                  </a:lnTo>
                  <a:lnTo>
                    <a:pt x="416" y="1198"/>
                  </a:lnTo>
                  <a:lnTo>
                    <a:pt x="474" y="1215"/>
                  </a:lnTo>
                  <a:lnTo>
                    <a:pt x="534" y="1227"/>
                  </a:lnTo>
                  <a:lnTo>
                    <a:pt x="597" y="1231"/>
                  </a:lnTo>
                  <a:lnTo>
                    <a:pt x="627" y="1231"/>
                  </a:lnTo>
                  <a:lnTo>
                    <a:pt x="659" y="1230"/>
                  </a:lnTo>
                  <a:lnTo>
                    <a:pt x="691" y="1227"/>
                  </a:lnTo>
                  <a:lnTo>
                    <a:pt x="722" y="1222"/>
                  </a:lnTo>
                  <a:lnTo>
                    <a:pt x="753" y="1216"/>
                  </a:lnTo>
                  <a:lnTo>
                    <a:pt x="783" y="1209"/>
                  </a:lnTo>
                  <a:lnTo>
                    <a:pt x="841" y="1190"/>
                  </a:lnTo>
                  <a:lnTo>
                    <a:pt x="896" y="1165"/>
                  </a:lnTo>
                  <a:lnTo>
                    <a:pt x="948" y="1135"/>
                  </a:lnTo>
                  <a:lnTo>
                    <a:pt x="996" y="1101"/>
                  </a:lnTo>
                  <a:lnTo>
                    <a:pt x="1041" y="1062"/>
                  </a:lnTo>
                  <a:lnTo>
                    <a:pt x="1082" y="1020"/>
                  </a:lnTo>
                  <a:lnTo>
                    <a:pt x="1118" y="973"/>
                  </a:lnTo>
                  <a:lnTo>
                    <a:pt x="1151" y="923"/>
                  </a:lnTo>
                  <a:lnTo>
                    <a:pt x="1177" y="870"/>
                  </a:lnTo>
                  <a:lnTo>
                    <a:pt x="1200" y="815"/>
                  </a:lnTo>
                  <a:lnTo>
                    <a:pt x="1217" y="758"/>
                  </a:lnTo>
                  <a:lnTo>
                    <a:pt x="1228" y="697"/>
                  </a:lnTo>
                  <a:lnTo>
                    <a:pt x="1233" y="635"/>
                  </a:lnTo>
                  <a:lnTo>
                    <a:pt x="1233" y="605"/>
                  </a:lnTo>
                  <a:lnTo>
                    <a:pt x="1232" y="573"/>
                  </a:lnTo>
                  <a:lnTo>
                    <a:pt x="1229" y="541"/>
                  </a:lnTo>
                  <a:lnTo>
                    <a:pt x="1224" y="510"/>
                  </a:lnTo>
                  <a:lnTo>
                    <a:pt x="1219" y="479"/>
                  </a:lnTo>
                  <a:lnTo>
                    <a:pt x="1211" y="449"/>
                  </a:lnTo>
                  <a:lnTo>
                    <a:pt x="1191" y="391"/>
                  </a:lnTo>
                  <a:lnTo>
                    <a:pt x="1167" y="336"/>
                  </a:lnTo>
                  <a:lnTo>
                    <a:pt x="1138" y="285"/>
                  </a:lnTo>
                  <a:lnTo>
                    <a:pt x="1102" y="236"/>
                  </a:lnTo>
                  <a:lnTo>
                    <a:pt x="1063" y="191"/>
                  </a:lnTo>
                  <a:lnTo>
                    <a:pt x="1021" y="150"/>
                  </a:lnTo>
                  <a:lnTo>
                    <a:pt x="974" y="114"/>
                  </a:lnTo>
                  <a:lnTo>
                    <a:pt x="924" y="82"/>
                  </a:lnTo>
                  <a:lnTo>
                    <a:pt x="872" y="55"/>
                  </a:lnTo>
                  <a:lnTo>
                    <a:pt x="816" y="33"/>
                  </a:lnTo>
                  <a:lnTo>
                    <a:pt x="758" y="16"/>
                  </a:lnTo>
                  <a:lnTo>
                    <a:pt x="698" y="4"/>
                  </a:lnTo>
                  <a:lnTo>
                    <a:pt x="635" y="0"/>
                  </a:lnTo>
                  <a:lnTo>
                    <a:pt x="605" y="0"/>
                  </a:lnTo>
                  <a:lnTo>
                    <a:pt x="573" y="1"/>
                  </a:lnTo>
                  <a:lnTo>
                    <a:pt x="541" y="4"/>
                  </a:lnTo>
                  <a:lnTo>
                    <a:pt x="510" y="9"/>
                  </a:lnTo>
                  <a:lnTo>
                    <a:pt x="479" y="15"/>
                  </a:lnTo>
                  <a:lnTo>
                    <a:pt x="449" y="23"/>
                  </a:lnTo>
                  <a:lnTo>
                    <a:pt x="391" y="42"/>
                  </a:lnTo>
                  <a:lnTo>
                    <a:pt x="336" y="66"/>
                  </a:lnTo>
                  <a:lnTo>
                    <a:pt x="285" y="96"/>
                  </a:lnTo>
                  <a:lnTo>
                    <a:pt x="236" y="130"/>
                  </a:lnTo>
                  <a:lnTo>
                    <a:pt x="191" y="169"/>
                  </a:lnTo>
                  <a:lnTo>
                    <a:pt x="150" y="212"/>
                  </a:lnTo>
                  <a:lnTo>
                    <a:pt x="114" y="258"/>
                  </a:lnTo>
                  <a:lnTo>
                    <a:pt x="82" y="308"/>
                  </a:lnTo>
                  <a:lnTo>
                    <a:pt x="55" y="360"/>
                  </a:lnTo>
                  <a:lnTo>
                    <a:pt x="33" y="416"/>
                  </a:lnTo>
                  <a:lnTo>
                    <a:pt x="16" y="473"/>
                  </a:lnTo>
                  <a:lnTo>
                    <a:pt x="4" y="534"/>
                  </a:lnTo>
                  <a:lnTo>
                    <a:pt x="0" y="595"/>
                  </a:lnTo>
                  <a:lnTo>
                    <a:pt x="0" y="626"/>
                  </a:lnTo>
                  <a:lnTo>
                    <a:pt x="1" y="6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4" name="Freeform 189"/>
            <p:cNvSpPr/>
            <p:nvPr/>
          </p:nvSpPr>
          <p:spPr>
            <a:xfrm>
              <a:off x="3079440" y="3810240"/>
              <a:ext cx="159120" cy="142200"/>
            </a:xfrm>
            <a:custGeom>
              <a:avLst/>
              <a:gdLst/>
              <a:ahLst/>
              <a:rect l="l" t="t" r="r" b="b"/>
              <a:pathLst>
                <a:path w="236" h="211">
                  <a:moveTo>
                    <a:pt x="71" y="191"/>
                  </a:moveTo>
                  <a:lnTo>
                    <a:pt x="93" y="202"/>
                  </a:lnTo>
                  <a:lnTo>
                    <a:pt x="116" y="208"/>
                  </a:lnTo>
                  <a:lnTo>
                    <a:pt x="139" y="211"/>
                  </a:lnTo>
                  <a:lnTo>
                    <a:pt x="161" y="208"/>
                  </a:lnTo>
                  <a:lnTo>
                    <a:pt x="181" y="203"/>
                  </a:lnTo>
                  <a:lnTo>
                    <a:pt x="198" y="194"/>
                  </a:lnTo>
                  <a:lnTo>
                    <a:pt x="214" y="181"/>
                  </a:lnTo>
                  <a:lnTo>
                    <a:pt x="226" y="165"/>
                  </a:lnTo>
                  <a:lnTo>
                    <a:pt x="234" y="147"/>
                  </a:lnTo>
                  <a:lnTo>
                    <a:pt x="236" y="126"/>
                  </a:lnTo>
                  <a:lnTo>
                    <a:pt x="234" y="107"/>
                  </a:lnTo>
                  <a:lnTo>
                    <a:pt x="228" y="86"/>
                  </a:lnTo>
                  <a:lnTo>
                    <a:pt x="218" y="67"/>
                  </a:lnTo>
                  <a:lnTo>
                    <a:pt x="204" y="49"/>
                  </a:lnTo>
                  <a:lnTo>
                    <a:pt x="186" y="33"/>
                  </a:lnTo>
                  <a:lnTo>
                    <a:pt x="165" y="19"/>
                  </a:lnTo>
                  <a:lnTo>
                    <a:pt x="142" y="9"/>
                  </a:lnTo>
                  <a:lnTo>
                    <a:pt x="120" y="2"/>
                  </a:lnTo>
                  <a:lnTo>
                    <a:pt x="97" y="0"/>
                  </a:lnTo>
                  <a:lnTo>
                    <a:pt x="75" y="2"/>
                  </a:lnTo>
                  <a:lnTo>
                    <a:pt x="55" y="8"/>
                  </a:lnTo>
                  <a:lnTo>
                    <a:pt x="37" y="17"/>
                  </a:lnTo>
                  <a:lnTo>
                    <a:pt x="21" y="29"/>
                  </a:lnTo>
                  <a:lnTo>
                    <a:pt x="10" y="45"/>
                  </a:lnTo>
                  <a:lnTo>
                    <a:pt x="3" y="64"/>
                  </a:lnTo>
                  <a:lnTo>
                    <a:pt x="0" y="84"/>
                  </a:lnTo>
                  <a:lnTo>
                    <a:pt x="2" y="103"/>
                  </a:lnTo>
                  <a:lnTo>
                    <a:pt x="8" y="124"/>
                  </a:lnTo>
                  <a:lnTo>
                    <a:pt x="18" y="143"/>
                  </a:lnTo>
                  <a:lnTo>
                    <a:pt x="32" y="162"/>
                  </a:lnTo>
                  <a:lnTo>
                    <a:pt x="50" y="178"/>
                  </a:lnTo>
                  <a:lnTo>
                    <a:pt x="7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5" name="Freeform 190"/>
            <p:cNvSpPr/>
            <p:nvPr/>
          </p:nvSpPr>
          <p:spPr>
            <a:xfrm>
              <a:off x="3513240" y="3803760"/>
              <a:ext cx="155160" cy="145800"/>
            </a:xfrm>
            <a:custGeom>
              <a:avLst/>
              <a:gdLst/>
              <a:ahLst/>
              <a:rect l="l" t="t" r="r" b="b"/>
              <a:pathLst>
                <a:path w="230" h="216">
                  <a:moveTo>
                    <a:pt x="56" y="30"/>
                  </a:moveTo>
                  <a:lnTo>
                    <a:pt x="38" y="47"/>
                  </a:lnTo>
                  <a:lnTo>
                    <a:pt x="22" y="66"/>
                  </a:lnTo>
                  <a:lnTo>
                    <a:pt x="11" y="85"/>
                  </a:lnTo>
                  <a:lnTo>
                    <a:pt x="4" y="105"/>
                  </a:lnTo>
                  <a:lnTo>
                    <a:pt x="0" y="126"/>
                  </a:lnTo>
                  <a:lnTo>
                    <a:pt x="0" y="147"/>
                  </a:lnTo>
                  <a:lnTo>
                    <a:pt x="6" y="165"/>
                  </a:lnTo>
                  <a:lnTo>
                    <a:pt x="16" y="182"/>
                  </a:lnTo>
                  <a:lnTo>
                    <a:pt x="30" y="197"/>
                  </a:lnTo>
                  <a:lnTo>
                    <a:pt x="47" y="207"/>
                  </a:lnTo>
                  <a:lnTo>
                    <a:pt x="65" y="213"/>
                  </a:lnTo>
                  <a:lnTo>
                    <a:pt x="87" y="216"/>
                  </a:lnTo>
                  <a:lnTo>
                    <a:pt x="109" y="215"/>
                  </a:lnTo>
                  <a:lnTo>
                    <a:pt x="130" y="209"/>
                  </a:lnTo>
                  <a:lnTo>
                    <a:pt x="152" y="200"/>
                  </a:lnTo>
                  <a:lnTo>
                    <a:pt x="174" y="187"/>
                  </a:lnTo>
                  <a:lnTo>
                    <a:pt x="192" y="169"/>
                  </a:lnTo>
                  <a:lnTo>
                    <a:pt x="208" y="151"/>
                  </a:lnTo>
                  <a:lnTo>
                    <a:pt x="219" y="132"/>
                  </a:lnTo>
                  <a:lnTo>
                    <a:pt x="226" y="111"/>
                  </a:lnTo>
                  <a:lnTo>
                    <a:pt x="230" y="91"/>
                  </a:lnTo>
                  <a:lnTo>
                    <a:pt x="229" y="70"/>
                  </a:lnTo>
                  <a:lnTo>
                    <a:pt x="224" y="51"/>
                  </a:lnTo>
                  <a:lnTo>
                    <a:pt x="214" y="34"/>
                  </a:lnTo>
                  <a:lnTo>
                    <a:pt x="200" y="19"/>
                  </a:lnTo>
                  <a:lnTo>
                    <a:pt x="183" y="8"/>
                  </a:lnTo>
                  <a:lnTo>
                    <a:pt x="163" y="3"/>
                  </a:lnTo>
                  <a:lnTo>
                    <a:pt x="143" y="0"/>
                  </a:lnTo>
                  <a:lnTo>
                    <a:pt x="121" y="2"/>
                  </a:lnTo>
                  <a:lnTo>
                    <a:pt x="98" y="7"/>
                  </a:lnTo>
                  <a:lnTo>
                    <a:pt x="77" y="16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6" name="Freeform 191"/>
            <p:cNvSpPr/>
            <p:nvPr/>
          </p:nvSpPr>
          <p:spPr>
            <a:xfrm>
              <a:off x="3508560" y="4243320"/>
              <a:ext cx="159840" cy="141120"/>
            </a:xfrm>
            <a:custGeom>
              <a:avLst/>
              <a:gdLst/>
              <a:ahLst/>
              <a:rect l="l" t="t" r="r" b="b"/>
              <a:pathLst>
                <a:path w="237" h="209">
                  <a:moveTo>
                    <a:pt x="71" y="191"/>
                  </a:moveTo>
                  <a:lnTo>
                    <a:pt x="94" y="201"/>
                  </a:lnTo>
                  <a:lnTo>
                    <a:pt x="117" y="207"/>
                  </a:lnTo>
                  <a:lnTo>
                    <a:pt x="140" y="209"/>
                  </a:lnTo>
                  <a:lnTo>
                    <a:pt x="161" y="208"/>
                  </a:lnTo>
                  <a:lnTo>
                    <a:pt x="182" y="202"/>
                  </a:lnTo>
                  <a:lnTo>
                    <a:pt x="199" y="193"/>
                  </a:lnTo>
                  <a:lnTo>
                    <a:pt x="215" y="180"/>
                  </a:lnTo>
                  <a:lnTo>
                    <a:pt x="226" y="164"/>
                  </a:lnTo>
                  <a:lnTo>
                    <a:pt x="233" y="146"/>
                  </a:lnTo>
                  <a:lnTo>
                    <a:pt x="237" y="127"/>
                  </a:lnTo>
                  <a:lnTo>
                    <a:pt x="234" y="106"/>
                  </a:lnTo>
                  <a:lnTo>
                    <a:pt x="229" y="87"/>
                  </a:lnTo>
                  <a:lnTo>
                    <a:pt x="218" y="67"/>
                  </a:lnTo>
                  <a:lnTo>
                    <a:pt x="204" y="49"/>
                  </a:lnTo>
                  <a:lnTo>
                    <a:pt x="186" y="33"/>
                  </a:lnTo>
                  <a:lnTo>
                    <a:pt x="166" y="19"/>
                  </a:lnTo>
                  <a:lnTo>
                    <a:pt x="143" y="9"/>
                  </a:lnTo>
                  <a:lnTo>
                    <a:pt x="120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5" y="7"/>
                  </a:lnTo>
                  <a:lnTo>
                    <a:pt x="38" y="16"/>
                  </a:lnTo>
                  <a:lnTo>
                    <a:pt x="22" y="29"/>
                  </a:lnTo>
                  <a:lnTo>
                    <a:pt x="11" y="44"/>
                  </a:lnTo>
                  <a:lnTo>
                    <a:pt x="4" y="63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3"/>
                  </a:lnTo>
                  <a:lnTo>
                    <a:pt x="19" y="143"/>
                  </a:lnTo>
                  <a:lnTo>
                    <a:pt x="34" y="161"/>
                  </a:lnTo>
                  <a:lnTo>
                    <a:pt x="51" y="177"/>
                  </a:lnTo>
                  <a:lnTo>
                    <a:pt x="7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7" name="Freeform 192"/>
            <p:cNvSpPr/>
            <p:nvPr/>
          </p:nvSpPr>
          <p:spPr>
            <a:xfrm>
              <a:off x="3079440" y="4246920"/>
              <a:ext cx="153720" cy="145440"/>
            </a:xfrm>
            <a:custGeom>
              <a:avLst/>
              <a:gdLst/>
              <a:ahLst/>
              <a:rect l="l" t="t" r="r" b="b"/>
              <a:pathLst>
                <a:path w="228" h="215">
                  <a:moveTo>
                    <a:pt x="55" y="28"/>
                  </a:moveTo>
                  <a:lnTo>
                    <a:pt x="36" y="45"/>
                  </a:lnTo>
                  <a:lnTo>
                    <a:pt x="21" y="63"/>
                  </a:lnTo>
                  <a:lnTo>
                    <a:pt x="10" y="83"/>
                  </a:lnTo>
                  <a:lnTo>
                    <a:pt x="3" y="103"/>
                  </a:lnTo>
                  <a:lnTo>
                    <a:pt x="0" y="124"/>
                  </a:lnTo>
                  <a:lnTo>
                    <a:pt x="0" y="144"/>
                  </a:lnTo>
                  <a:lnTo>
                    <a:pt x="5" y="164"/>
                  </a:lnTo>
                  <a:lnTo>
                    <a:pt x="16" y="181"/>
                  </a:lnTo>
                  <a:lnTo>
                    <a:pt x="29" y="196"/>
                  </a:lnTo>
                  <a:lnTo>
                    <a:pt x="47" y="206"/>
                  </a:lnTo>
                  <a:lnTo>
                    <a:pt x="66" y="213"/>
                  </a:lnTo>
                  <a:lnTo>
                    <a:pt x="87" y="215"/>
                  </a:lnTo>
                  <a:lnTo>
                    <a:pt x="108" y="214"/>
                  </a:lnTo>
                  <a:lnTo>
                    <a:pt x="131" y="208"/>
                  </a:lnTo>
                  <a:lnTo>
                    <a:pt x="153" y="199"/>
                  </a:lnTo>
                  <a:lnTo>
                    <a:pt x="173" y="187"/>
                  </a:lnTo>
                  <a:lnTo>
                    <a:pt x="192" y="170"/>
                  </a:lnTo>
                  <a:lnTo>
                    <a:pt x="206" y="151"/>
                  </a:lnTo>
                  <a:lnTo>
                    <a:pt x="218" y="132"/>
                  </a:lnTo>
                  <a:lnTo>
                    <a:pt x="225" y="111"/>
                  </a:lnTo>
                  <a:lnTo>
                    <a:pt x="228" y="91"/>
                  </a:lnTo>
                  <a:lnTo>
                    <a:pt x="227" y="70"/>
                  </a:lnTo>
                  <a:lnTo>
                    <a:pt x="222" y="51"/>
                  </a:lnTo>
                  <a:lnTo>
                    <a:pt x="212" y="34"/>
                  </a:lnTo>
                  <a:lnTo>
                    <a:pt x="198" y="19"/>
                  </a:lnTo>
                  <a:lnTo>
                    <a:pt x="181" y="9"/>
                  </a:lnTo>
                  <a:lnTo>
                    <a:pt x="162" y="2"/>
                  </a:lnTo>
                  <a:lnTo>
                    <a:pt x="141" y="0"/>
                  </a:lnTo>
                  <a:lnTo>
                    <a:pt x="120" y="1"/>
                  </a:lnTo>
                  <a:lnTo>
                    <a:pt x="97" y="6"/>
                  </a:lnTo>
                  <a:lnTo>
                    <a:pt x="75" y="16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8" name="Rectangle 193"/>
            <p:cNvSpPr/>
            <p:nvPr/>
          </p:nvSpPr>
          <p:spPr>
            <a:xfrm>
              <a:off x="3320640" y="3644640"/>
              <a:ext cx="108000" cy="90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9" name="Rectangle 194"/>
            <p:cNvSpPr/>
            <p:nvPr/>
          </p:nvSpPr>
          <p:spPr>
            <a:xfrm>
              <a:off x="2913120" y="4054320"/>
              <a:ext cx="904680" cy="10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0" name="Group 195"/>
          <p:cNvGrpSpPr/>
          <p:nvPr/>
        </p:nvGrpSpPr>
        <p:grpSpPr>
          <a:xfrm>
            <a:off x="896760" y="5027760"/>
            <a:ext cx="1221120" cy="1220760"/>
            <a:chOff x="896760" y="5027760"/>
            <a:chExt cx="1221120" cy="1220760"/>
          </a:xfrm>
        </p:grpSpPr>
        <p:sp>
          <p:nvSpPr>
            <p:cNvPr id="7321" name="Oval 196"/>
            <p:cNvSpPr/>
            <p:nvPr/>
          </p:nvSpPr>
          <p:spPr>
            <a:xfrm>
              <a:off x="896760" y="5027760"/>
              <a:ext cx="1221120" cy="12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2" name="Group 197"/>
            <p:cNvGrpSpPr/>
            <p:nvPr/>
          </p:nvGrpSpPr>
          <p:grpSpPr>
            <a:xfrm>
              <a:off x="922680" y="5037840"/>
              <a:ext cx="1163520" cy="1107000"/>
              <a:chOff x="922680" y="5037840"/>
              <a:chExt cx="1163520" cy="1107000"/>
            </a:xfrm>
          </p:grpSpPr>
          <p:sp>
            <p:nvSpPr>
              <p:cNvPr id="7323" name="AutoShape 198"/>
              <p:cNvSpPr/>
              <p:nvPr/>
            </p:nvSpPr>
            <p:spPr>
              <a:xfrm>
                <a:off x="924480" y="5039640"/>
                <a:ext cx="1161720" cy="110376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4" name="AutoShape 199"/>
              <p:cNvSpPr/>
              <p:nvPr/>
            </p:nvSpPr>
            <p:spPr>
              <a:xfrm>
                <a:off x="924480" y="5039640"/>
                <a:ext cx="1161720" cy="110376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Line 200"/>
              <p:cNvSpPr/>
              <p:nvPr/>
            </p:nvSpPr>
            <p:spPr>
              <a:xfrm>
                <a:off x="924480" y="5460480"/>
                <a:ext cx="116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Line 201"/>
              <p:cNvSpPr/>
              <p:nvPr/>
            </p:nvSpPr>
            <p:spPr>
              <a:xfrm>
                <a:off x="922680" y="5462280"/>
                <a:ext cx="93852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Line 202"/>
              <p:cNvSpPr/>
              <p:nvPr/>
            </p:nvSpPr>
            <p:spPr>
              <a:xfrm flipH="1">
                <a:off x="1148760" y="5460840"/>
                <a:ext cx="936360" cy="68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Line 203"/>
              <p:cNvSpPr/>
              <p:nvPr/>
            </p:nvSpPr>
            <p:spPr>
              <a:xfrm flipH="1" flipV="1">
                <a:off x="1504440" y="5040000"/>
                <a:ext cx="354600" cy="11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Line 204"/>
              <p:cNvSpPr/>
              <p:nvPr/>
            </p:nvSpPr>
            <p:spPr>
              <a:xfrm flipV="1">
                <a:off x="1152000" y="5038200"/>
                <a:ext cx="352800" cy="109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Freeform 205"/>
              <p:cNvSpPr/>
              <p:nvPr/>
            </p:nvSpPr>
            <p:spPr>
              <a:xfrm>
                <a:off x="1284840" y="5460480"/>
                <a:ext cx="438120" cy="424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Freeform 206"/>
              <p:cNvSpPr/>
              <p:nvPr/>
            </p:nvSpPr>
            <p:spPr>
              <a:xfrm>
                <a:off x="1369440" y="5039640"/>
                <a:ext cx="271440" cy="41940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Freeform 207"/>
              <p:cNvSpPr/>
              <p:nvPr/>
            </p:nvSpPr>
            <p:spPr>
              <a:xfrm>
                <a:off x="1640880" y="5457960"/>
                <a:ext cx="444960" cy="26316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Freeform 208"/>
              <p:cNvSpPr/>
              <p:nvPr/>
            </p:nvSpPr>
            <p:spPr>
              <a:xfrm>
                <a:off x="1507680" y="5724720"/>
                <a:ext cx="352080" cy="41724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Freeform 209"/>
              <p:cNvSpPr/>
              <p:nvPr/>
            </p:nvSpPr>
            <p:spPr>
              <a:xfrm>
                <a:off x="1149840" y="5723640"/>
                <a:ext cx="355320" cy="41868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Freeform 210"/>
              <p:cNvSpPr/>
              <p:nvPr/>
            </p:nvSpPr>
            <p:spPr>
              <a:xfrm>
                <a:off x="924480" y="5459400"/>
                <a:ext cx="442800" cy="26532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Freeform 211"/>
              <p:cNvSpPr/>
              <p:nvPr/>
            </p:nvSpPr>
            <p:spPr>
              <a:xfrm>
                <a:off x="1505880" y="5037840"/>
                <a:ext cx="577800" cy="419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Freeform 212"/>
              <p:cNvSpPr/>
              <p:nvPr/>
            </p:nvSpPr>
            <p:spPr>
              <a:xfrm>
                <a:off x="1726560" y="5458680"/>
                <a:ext cx="358920" cy="68292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Freeform 213"/>
              <p:cNvSpPr/>
              <p:nvPr/>
            </p:nvSpPr>
            <p:spPr>
              <a:xfrm>
                <a:off x="1150560" y="5886360"/>
                <a:ext cx="709200" cy="25848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Freeform 214"/>
              <p:cNvSpPr/>
              <p:nvPr/>
            </p:nvSpPr>
            <p:spPr>
              <a:xfrm>
                <a:off x="925920" y="5460480"/>
                <a:ext cx="357120" cy="68112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Freeform 215"/>
              <p:cNvSpPr/>
              <p:nvPr/>
            </p:nvSpPr>
            <p:spPr>
              <a:xfrm>
                <a:off x="925920" y="5037840"/>
                <a:ext cx="576000" cy="42264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1" name="Group 216"/>
          <p:cNvGrpSpPr/>
          <p:nvPr/>
        </p:nvGrpSpPr>
        <p:grpSpPr>
          <a:xfrm>
            <a:off x="4672080" y="3476520"/>
            <a:ext cx="1136520" cy="1136880"/>
            <a:chOff x="4672080" y="3476520"/>
            <a:chExt cx="1136520" cy="1136880"/>
          </a:xfrm>
        </p:grpSpPr>
        <p:sp>
          <p:nvSpPr>
            <p:cNvPr id="7342" name="Freeform 217"/>
            <p:cNvSpPr/>
            <p:nvPr/>
          </p:nvSpPr>
          <p:spPr>
            <a:xfrm>
              <a:off x="4771800" y="3493080"/>
              <a:ext cx="953280" cy="110700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3" name="Oval 218"/>
            <p:cNvSpPr/>
            <p:nvPr/>
          </p:nvSpPr>
          <p:spPr>
            <a:xfrm>
              <a:off x="4672080" y="3476520"/>
              <a:ext cx="1136520" cy="11368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4" name="AutoShape 219"/>
          <p:cNvSpPr/>
          <p:nvPr/>
        </p:nvSpPr>
        <p:spPr>
          <a:xfrm>
            <a:off x="6781680" y="3403440"/>
            <a:ext cx="1381320" cy="1194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5" name="Group 220"/>
          <p:cNvGrpSpPr/>
          <p:nvPr/>
        </p:nvGrpSpPr>
        <p:grpSpPr>
          <a:xfrm>
            <a:off x="2762280" y="5130720"/>
            <a:ext cx="1028520" cy="1028880"/>
            <a:chOff x="2762280" y="5130720"/>
            <a:chExt cx="1028520" cy="1028880"/>
          </a:xfrm>
        </p:grpSpPr>
        <p:sp>
          <p:nvSpPr>
            <p:cNvPr id="7346" name="Oval 221"/>
            <p:cNvSpPr/>
            <p:nvPr/>
          </p:nvSpPr>
          <p:spPr>
            <a:xfrm>
              <a:off x="2762280" y="5130720"/>
              <a:ext cx="1028520" cy="102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7" name="Freeform 222"/>
            <p:cNvSpPr/>
            <p:nvPr/>
          </p:nvSpPr>
          <p:spPr>
            <a:xfrm>
              <a:off x="2878920" y="5239800"/>
              <a:ext cx="801360" cy="800280"/>
            </a:xfrm>
            <a:custGeom>
              <a:avLst/>
              <a:gdLst/>
              <a:ahLst/>
              <a:rect l="l" t="t" r="r" b="b"/>
              <a:pathLst>
                <a:path w="3116" h="3112">
                  <a:moveTo>
                    <a:pt x="3116" y="2662"/>
                  </a:moveTo>
                  <a:lnTo>
                    <a:pt x="3112" y="2677"/>
                  </a:lnTo>
                  <a:lnTo>
                    <a:pt x="3102" y="2699"/>
                  </a:lnTo>
                  <a:lnTo>
                    <a:pt x="3085" y="2726"/>
                  </a:lnTo>
                  <a:lnTo>
                    <a:pt x="3063" y="2759"/>
                  </a:lnTo>
                  <a:lnTo>
                    <a:pt x="3038" y="2795"/>
                  </a:lnTo>
                  <a:lnTo>
                    <a:pt x="3006" y="2832"/>
                  </a:lnTo>
                  <a:lnTo>
                    <a:pt x="2938" y="2910"/>
                  </a:lnTo>
                  <a:lnTo>
                    <a:pt x="2863" y="2986"/>
                  </a:lnTo>
                  <a:lnTo>
                    <a:pt x="2826" y="3020"/>
                  </a:lnTo>
                  <a:lnTo>
                    <a:pt x="2789" y="3051"/>
                  </a:lnTo>
                  <a:lnTo>
                    <a:pt x="2754" y="3076"/>
                  </a:lnTo>
                  <a:lnTo>
                    <a:pt x="2721" y="3094"/>
                  </a:lnTo>
                  <a:lnTo>
                    <a:pt x="2689" y="3108"/>
                  </a:lnTo>
                  <a:lnTo>
                    <a:pt x="2664" y="3112"/>
                  </a:lnTo>
                  <a:lnTo>
                    <a:pt x="0" y="450"/>
                  </a:lnTo>
                  <a:lnTo>
                    <a:pt x="4" y="434"/>
                  </a:lnTo>
                  <a:lnTo>
                    <a:pt x="18" y="413"/>
                  </a:lnTo>
                  <a:lnTo>
                    <a:pt x="35" y="385"/>
                  </a:lnTo>
                  <a:lnTo>
                    <a:pt x="61" y="352"/>
                  </a:lnTo>
                  <a:lnTo>
                    <a:pt x="92" y="317"/>
                  </a:lnTo>
                  <a:lnTo>
                    <a:pt x="125" y="280"/>
                  </a:lnTo>
                  <a:lnTo>
                    <a:pt x="202" y="201"/>
                  </a:lnTo>
                  <a:lnTo>
                    <a:pt x="280" y="125"/>
                  </a:lnTo>
                  <a:lnTo>
                    <a:pt x="319" y="92"/>
                  </a:lnTo>
                  <a:lnTo>
                    <a:pt x="354" y="60"/>
                  </a:lnTo>
                  <a:lnTo>
                    <a:pt x="386" y="35"/>
                  </a:lnTo>
                  <a:lnTo>
                    <a:pt x="415" y="17"/>
                  </a:lnTo>
                  <a:lnTo>
                    <a:pt x="437" y="4"/>
                  </a:lnTo>
                  <a:lnTo>
                    <a:pt x="452" y="0"/>
                  </a:lnTo>
                  <a:lnTo>
                    <a:pt x="3116" y="26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8" name="Freeform 223"/>
            <p:cNvSpPr/>
            <p:nvPr/>
          </p:nvSpPr>
          <p:spPr>
            <a:xfrm>
              <a:off x="2878920" y="5239800"/>
              <a:ext cx="801360" cy="800280"/>
            </a:xfrm>
            <a:custGeom>
              <a:avLst/>
              <a:gdLst/>
              <a:ahLst/>
              <a:rect l="l" t="t" r="r" b="b"/>
              <a:pathLst>
                <a:path w="3116" h="3112">
                  <a:moveTo>
                    <a:pt x="0" y="2662"/>
                  </a:moveTo>
                  <a:lnTo>
                    <a:pt x="4" y="2677"/>
                  </a:lnTo>
                  <a:lnTo>
                    <a:pt x="14" y="2699"/>
                  </a:lnTo>
                  <a:lnTo>
                    <a:pt x="31" y="2726"/>
                  </a:lnTo>
                  <a:lnTo>
                    <a:pt x="53" y="2759"/>
                  </a:lnTo>
                  <a:lnTo>
                    <a:pt x="78" y="2795"/>
                  </a:lnTo>
                  <a:lnTo>
                    <a:pt x="110" y="2832"/>
                  </a:lnTo>
                  <a:lnTo>
                    <a:pt x="178" y="2910"/>
                  </a:lnTo>
                  <a:lnTo>
                    <a:pt x="253" y="2986"/>
                  </a:lnTo>
                  <a:lnTo>
                    <a:pt x="290" y="3020"/>
                  </a:lnTo>
                  <a:lnTo>
                    <a:pt x="327" y="3051"/>
                  </a:lnTo>
                  <a:lnTo>
                    <a:pt x="362" y="3076"/>
                  </a:lnTo>
                  <a:lnTo>
                    <a:pt x="395" y="3094"/>
                  </a:lnTo>
                  <a:lnTo>
                    <a:pt x="427" y="3108"/>
                  </a:lnTo>
                  <a:lnTo>
                    <a:pt x="452" y="3112"/>
                  </a:lnTo>
                  <a:lnTo>
                    <a:pt x="3116" y="450"/>
                  </a:lnTo>
                  <a:lnTo>
                    <a:pt x="3112" y="434"/>
                  </a:lnTo>
                  <a:lnTo>
                    <a:pt x="3098" y="413"/>
                  </a:lnTo>
                  <a:lnTo>
                    <a:pt x="3081" y="385"/>
                  </a:lnTo>
                  <a:lnTo>
                    <a:pt x="3055" y="352"/>
                  </a:lnTo>
                  <a:lnTo>
                    <a:pt x="3024" y="317"/>
                  </a:lnTo>
                  <a:lnTo>
                    <a:pt x="2991" y="280"/>
                  </a:lnTo>
                  <a:lnTo>
                    <a:pt x="2914" y="201"/>
                  </a:lnTo>
                  <a:lnTo>
                    <a:pt x="2836" y="125"/>
                  </a:lnTo>
                  <a:lnTo>
                    <a:pt x="2797" y="92"/>
                  </a:lnTo>
                  <a:lnTo>
                    <a:pt x="2762" y="60"/>
                  </a:lnTo>
                  <a:lnTo>
                    <a:pt x="2730" y="35"/>
                  </a:lnTo>
                  <a:lnTo>
                    <a:pt x="2701" y="17"/>
                  </a:lnTo>
                  <a:lnTo>
                    <a:pt x="2680" y="4"/>
                  </a:lnTo>
                  <a:lnTo>
                    <a:pt x="2664" y="0"/>
                  </a:lnTo>
                  <a:lnTo>
                    <a:pt x="0" y="26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9" name="Group 224"/>
          <p:cNvGrpSpPr/>
          <p:nvPr/>
        </p:nvGrpSpPr>
        <p:grpSpPr>
          <a:xfrm>
            <a:off x="4753080" y="5067360"/>
            <a:ext cx="1087200" cy="1087200"/>
            <a:chOff x="4753080" y="5067360"/>
            <a:chExt cx="1087200" cy="1087200"/>
          </a:xfrm>
        </p:grpSpPr>
        <p:sp>
          <p:nvSpPr>
            <p:cNvPr id="7350" name="Freeform 225"/>
            <p:cNvSpPr/>
            <p:nvPr/>
          </p:nvSpPr>
          <p:spPr>
            <a:xfrm>
              <a:off x="4753080" y="5067360"/>
              <a:ext cx="1087200" cy="1087200"/>
            </a:xfrm>
            <a:custGeom>
              <a:avLst/>
              <a:gdLst/>
              <a:ahLst/>
              <a:rect l="l" t="t" r="r" b="b"/>
              <a:pathLst>
                <a:path w="2083" h="2082">
                  <a:moveTo>
                    <a:pt x="557" y="1679"/>
                  </a:moveTo>
                  <a:lnTo>
                    <a:pt x="557" y="2082"/>
                  </a:lnTo>
                  <a:lnTo>
                    <a:pt x="417" y="2082"/>
                  </a:lnTo>
                  <a:lnTo>
                    <a:pt x="417" y="1679"/>
                  </a:lnTo>
                  <a:lnTo>
                    <a:pt x="72" y="1880"/>
                  </a:lnTo>
                  <a:lnTo>
                    <a:pt x="0" y="1760"/>
                  </a:lnTo>
                  <a:lnTo>
                    <a:pt x="345" y="1559"/>
                  </a:lnTo>
                  <a:lnTo>
                    <a:pt x="0" y="1362"/>
                  </a:lnTo>
                  <a:lnTo>
                    <a:pt x="72" y="1237"/>
                  </a:lnTo>
                  <a:lnTo>
                    <a:pt x="417" y="1439"/>
                  </a:lnTo>
                  <a:lnTo>
                    <a:pt x="417" y="1041"/>
                  </a:lnTo>
                  <a:lnTo>
                    <a:pt x="557" y="1041"/>
                  </a:lnTo>
                  <a:lnTo>
                    <a:pt x="557" y="1439"/>
                  </a:lnTo>
                  <a:lnTo>
                    <a:pt x="902" y="1237"/>
                  </a:lnTo>
                  <a:lnTo>
                    <a:pt x="974" y="1362"/>
                  </a:lnTo>
                  <a:lnTo>
                    <a:pt x="624" y="1559"/>
                  </a:lnTo>
                  <a:lnTo>
                    <a:pt x="974" y="1760"/>
                  </a:lnTo>
                  <a:lnTo>
                    <a:pt x="902" y="1880"/>
                  </a:lnTo>
                  <a:lnTo>
                    <a:pt x="557" y="1679"/>
                  </a:lnTo>
                  <a:close/>
                  <a:moveTo>
                    <a:pt x="1665" y="1679"/>
                  </a:moveTo>
                  <a:lnTo>
                    <a:pt x="1665" y="2082"/>
                  </a:lnTo>
                  <a:lnTo>
                    <a:pt x="1526" y="2082"/>
                  </a:lnTo>
                  <a:lnTo>
                    <a:pt x="1526" y="1679"/>
                  </a:lnTo>
                  <a:lnTo>
                    <a:pt x="1180" y="1880"/>
                  </a:lnTo>
                  <a:lnTo>
                    <a:pt x="1108" y="1760"/>
                  </a:lnTo>
                  <a:lnTo>
                    <a:pt x="1459" y="1559"/>
                  </a:lnTo>
                  <a:lnTo>
                    <a:pt x="1108" y="1362"/>
                  </a:lnTo>
                  <a:lnTo>
                    <a:pt x="1180" y="1237"/>
                  </a:lnTo>
                  <a:lnTo>
                    <a:pt x="1526" y="1439"/>
                  </a:lnTo>
                  <a:lnTo>
                    <a:pt x="1526" y="1041"/>
                  </a:lnTo>
                  <a:lnTo>
                    <a:pt x="1665" y="1041"/>
                  </a:lnTo>
                  <a:lnTo>
                    <a:pt x="1665" y="1439"/>
                  </a:lnTo>
                  <a:lnTo>
                    <a:pt x="2011" y="1237"/>
                  </a:lnTo>
                  <a:lnTo>
                    <a:pt x="2083" y="1362"/>
                  </a:lnTo>
                  <a:lnTo>
                    <a:pt x="1732" y="1559"/>
                  </a:lnTo>
                  <a:lnTo>
                    <a:pt x="2083" y="1760"/>
                  </a:lnTo>
                  <a:lnTo>
                    <a:pt x="2011" y="1880"/>
                  </a:lnTo>
                  <a:lnTo>
                    <a:pt x="1665" y="1679"/>
                  </a:lnTo>
                  <a:close/>
                  <a:moveTo>
                    <a:pt x="1108" y="638"/>
                  </a:moveTo>
                  <a:lnTo>
                    <a:pt x="1108" y="1041"/>
                  </a:lnTo>
                  <a:lnTo>
                    <a:pt x="974" y="1041"/>
                  </a:lnTo>
                  <a:lnTo>
                    <a:pt x="974" y="638"/>
                  </a:lnTo>
                  <a:lnTo>
                    <a:pt x="624" y="839"/>
                  </a:lnTo>
                  <a:lnTo>
                    <a:pt x="557" y="719"/>
                  </a:lnTo>
                  <a:lnTo>
                    <a:pt x="902" y="518"/>
                  </a:lnTo>
                  <a:lnTo>
                    <a:pt x="557" y="321"/>
                  </a:lnTo>
                  <a:lnTo>
                    <a:pt x="624" y="197"/>
                  </a:lnTo>
                  <a:lnTo>
                    <a:pt x="974" y="398"/>
                  </a:lnTo>
                  <a:lnTo>
                    <a:pt x="974" y="0"/>
                  </a:lnTo>
                  <a:lnTo>
                    <a:pt x="1108" y="0"/>
                  </a:lnTo>
                  <a:lnTo>
                    <a:pt x="1108" y="398"/>
                  </a:lnTo>
                  <a:lnTo>
                    <a:pt x="1459" y="197"/>
                  </a:lnTo>
                  <a:lnTo>
                    <a:pt x="1526" y="321"/>
                  </a:lnTo>
                  <a:lnTo>
                    <a:pt x="1180" y="518"/>
                  </a:lnTo>
                  <a:lnTo>
                    <a:pt x="1526" y="719"/>
                  </a:lnTo>
                  <a:lnTo>
                    <a:pt x="1459" y="839"/>
                  </a:lnTo>
                  <a:lnTo>
                    <a:pt x="1108" y="6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1" name="Freeform 226"/>
            <p:cNvSpPr/>
            <p:nvPr/>
          </p:nvSpPr>
          <p:spPr>
            <a:xfrm>
              <a:off x="4753080" y="5610960"/>
              <a:ext cx="508320" cy="543600"/>
            </a:xfrm>
            <a:custGeom>
              <a:avLst/>
              <a:gdLst/>
              <a:ahLst/>
              <a:rect l="l" t="t" r="r" b="b"/>
              <a:pathLst>
                <a:path w="974" h="1041">
                  <a:moveTo>
                    <a:pt x="557" y="638"/>
                  </a:moveTo>
                  <a:lnTo>
                    <a:pt x="557" y="1041"/>
                  </a:lnTo>
                  <a:lnTo>
                    <a:pt x="417" y="1041"/>
                  </a:lnTo>
                  <a:lnTo>
                    <a:pt x="417" y="638"/>
                  </a:lnTo>
                  <a:lnTo>
                    <a:pt x="72" y="839"/>
                  </a:lnTo>
                  <a:lnTo>
                    <a:pt x="0" y="719"/>
                  </a:lnTo>
                  <a:lnTo>
                    <a:pt x="345" y="518"/>
                  </a:lnTo>
                  <a:lnTo>
                    <a:pt x="0" y="321"/>
                  </a:lnTo>
                  <a:lnTo>
                    <a:pt x="72" y="196"/>
                  </a:lnTo>
                  <a:lnTo>
                    <a:pt x="417" y="398"/>
                  </a:lnTo>
                  <a:lnTo>
                    <a:pt x="417" y="0"/>
                  </a:lnTo>
                  <a:lnTo>
                    <a:pt x="557" y="0"/>
                  </a:lnTo>
                  <a:lnTo>
                    <a:pt x="557" y="398"/>
                  </a:lnTo>
                  <a:lnTo>
                    <a:pt x="902" y="196"/>
                  </a:lnTo>
                  <a:lnTo>
                    <a:pt x="974" y="321"/>
                  </a:lnTo>
                  <a:lnTo>
                    <a:pt x="624" y="518"/>
                  </a:lnTo>
                  <a:lnTo>
                    <a:pt x="974" y="719"/>
                  </a:lnTo>
                  <a:lnTo>
                    <a:pt x="902" y="839"/>
                  </a:lnTo>
                  <a:lnTo>
                    <a:pt x="557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2" name="Freeform 227"/>
            <p:cNvSpPr/>
            <p:nvPr/>
          </p:nvSpPr>
          <p:spPr>
            <a:xfrm>
              <a:off x="5331240" y="5610960"/>
              <a:ext cx="508680" cy="543600"/>
            </a:xfrm>
            <a:custGeom>
              <a:avLst/>
              <a:gdLst/>
              <a:ahLst/>
              <a:rect l="l" t="t" r="r" b="b"/>
              <a:pathLst>
                <a:path w="975" h="1041">
                  <a:moveTo>
                    <a:pt x="557" y="638"/>
                  </a:moveTo>
                  <a:lnTo>
                    <a:pt x="557" y="1041"/>
                  </a:lnTo>
                  <a:lnTo>
                    <a:pt x="418" y="1041"/>
                  </a:lnTo>
                  <a:lnTo>
                    <a:pt x="418" y="638"/>
                  </a:lnTo>
                  <a:lnTo>
                    <a:pt x="72" y="839"/>
                  </a:lnTo>
                  <a:lnTo>
                    <a:pt x="0" y="719"/>
                  </a:lnTo>
                  <a:lnTo>
                    <a:pt x="351" y="518"/>
                  </a:lnTo>
                  <a:lnTo>
                    <a:pt x="0" y="321"/>
                  </a:lnTo>
                  <a:lnTo>
                    <a:pt x="72" y="196"/>
                  </a:lnTo>
                  <a:lnTo>
                    <a:pt x="418" y="398"/>
                  </a:lnTo>
                  <a:lnTo>
                    <a:pt x="418" y="0"/>
                  </a:lnTo>
                  <a:lnTo>
                    <a:pt x="557" y="0"/>
                  </a:lnTo>
                  <a:lnTo>
                    <a:pt x="557" y="398"/>
                  </a:lnTo>
                  <a:lnTo>
                    <a:pt x="903" y="196"/>
                  </a:lnTo>
                  <a:lnTo>
                    <a:pt x="975" y="321"/>
                  </a:lnTo>
                  <a:lnTo>
                    <a:pt x="624" y="518"/>
                  </a:lnTo>
                  <a:lnTo>
                    <a:pt x="975" y="719"/>
                  </a:lnTo>
                  <a:lnTo>
                    <a:pt x="903" y="839"/>
                  </a:lnTo>
                  <a:lnTo>
                    <a:pt x="557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3" name="Freeform 228"/>
            <p:cNvSpPr/>
            <p:nvPr/>
          </p:nvSpPr>
          <p:spPr>
            <a:xfrm>
              <a:off x="5043600" y="5067360"/>
              <a:ext cx="505800" cy="543600"/>
            </a:xfrm>
            <a:custGeom>
              <a:avLst/>
              <a:gdLst/>
              <a:ahLst/>
              <a:rect l="l" t="t" r="r" b="b"/>
              <a:pathLst>
                <a:path w="969" h="1041">
                  <a:moveTo>
                    <a:pt x="551" y="638"/>
                  </a:moveTo>
                  <a:lnTo>
                    <a:pt x="551" y="1041"/>
                  </a:lnTo>
                  <a:lnTo>
                    <a:pt x="417" y="1041"/>
                  </a:lnTo>
                  <a:lnTo>
                    <a:pt x="417" y="638"/>
                  </a:lnTo>
                  <a:lnTo>
                    <a:pt x="67" y="839"/>
                  </a:lnTo>
                  <a:lnTo>
                    <a:pt x="0" y="719"/>
                  </a:lnTo>
                  <a:lnTo>
                    <a:pt x="345" y="518"/>
                  </a:lnTo>
                  <a:lnTo>
                    <a:pt x="0" y="321"/>
                  </a:lnTo>
                  <a:lnTo>
                    <a:pt x="67" y="197"/>
                  </a:lnTo>
                  <a:lnTo>
                    <a:pt x="417" y="398"/>
                  </a:lnTo>
                  <a:lnTo>
                    <a:pt x="417" y="0"/>
                  </a:lnTo>
                  <a:lnTo>
                    <a:pt x="551" y="0"/>
                  </a:lnTo>
                  <a:lnTo>
                    <a:pt x="551" y="398"/>
                  </a:lnTo>
                  <a:lnTo>
                    <a:pt x="902" y="197"/>
                  </a:lnTo>
                  <a:lnTo>
                    <a:pt x="969" y="321"/>
                  </a:lnTo>
                  <a:lnTo>
                    <a:pt x="623" y="518"/>
                  </a:lnTo>
                  <a:lnTo>
                    <a:pt x="969" y="719"/>
                  </a:lnTo>
                  <a:lnTo>
                    <a:pt x="902" y="839"/>
                  </a:lnTo>
                  <a:lnTo>
                    <a:pt x="551" y="638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4" name="Group 229"/>
          <p:cNvGrpSpPr/>
          <p:nvPr/>
        </p:nvGrpSpPr>
        <p:grpSpPr>
          <a:xfrm>
            <a:off x="7011720" y="5121360"/>
            <a:ext cx="920520" cy="920520"/>
            <a:chOff x="7011720" y="5121360"/>
            <a:chExt cx="920520" cy="920520"/>
          </a:xfrm>
        </p:grpSpPr>
        <p:sp>
          <p:nvSpPr>
            <p:cNvPr id="7355" name="Rectangle 230"/>
            <p:cNvSpPr/>
            <p:nvPr/>
          </p:nvSpPr>
          <p:spPr>
            <a:xfrm rot="5400000">
              <a:off x="7011720" y="5121360"/>
              <a:ext cx="920520" cy="9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6" name="Freeform 231"/>
            <p:cNvSpPr/>
            <p:nvPr/>
          </p:nvSpPr>
          <p:spPr>
            <a:xfrm rot="5400000">
              <a:off x="7096680" y="5198760"/>
              <a:ext cx="761040" cy="761400"/>
            </a:xfrm>
            <a:custGeom>
              <a:avLst/>
              <a:gdLst/>
              <a:ahLst/>
              <a:rect l="l" t="t" r="r" b="b"/>
              <a:pathLst>
                <a:path w="1075" h="1075">
                  <a:moveTo>
                    <a:pt x="0" y="418"/>
                  </a:moveTo>
                  <a:lnTo>
                    <a:pt x="0" y="0"/>
                  </a:lnTo>
                  <a:lnTo>
                    <a:pt x="1075" y="0"/>
                  </a:lnTo>
                  <a:lnTo>
                    <a:pt x="1075" y="1075"/>
                  </a:lnTo>
                  <a:lnTo>
                    <a:pt x="648" y="1075"/>
                  </a:lnTo>
                  <a:lnTo>
                    <a:pt x="643" y="1012"/>
                  </a:lnTo>
                  <a:lnTo>
                    <a:pt x="633" y="950"/>
                  </a:lnTo>
                  <a:lnTo>
                    <a:pt x="600" y="825"/>
                  </a:lnTo>
                  <a:lnTo>
                    <a:pt x="542" y="715"/>
                  </a:lnTo>
                  <a:lnTo>
                    <a:pt x="461" y="614"/>
                  </a:lnTo>
                  <a:lnTo>
                    <a:pt x="365" y="537"/>
                  </a:lnTo>
                  <a:lnTo>
                    <a:pt x="254" y="475"/>
                  </a:lnTo>
                  <a:lnTo>
                    <a:pt x="130" y="437"/>
                  </a:lnTo>
                  <a:lnTo>
                    <a:pt x="67" y="427"/>
                  </a:lnTo>
                  <a:lnTo>
                    <a:pt x="0" y="422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7" name="Rectangle 232"/>
            <p:cNvSpPr/>
            <p:nvPr/>
          </p:nvSpPr>
          <p:spPr>
            <a:xfrm rot="5400000">
              <a:off x="7090200" y="5195160"/>
              <a:ext cx="152640" cy="15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1204920" y="1379520"/>
            <a:ext cx="1144440" cy="1873440"/>
            <a:chOff x="1204920" y="1379520"/>
            <a:chExt cx="1144440" cy="1873440"/>
          </a:xfrm>
        </p:grpSpPr>
        <p:grpSp>
          <p:nvGrpSpPr>
            <p:cNvPr id="865" name="Group 3"/>
            <p:cNvGrpSpPr/>
            <p:nvPr/>
          </p:nvGrpSpPr>
          <p:grpSpPr>
            <a:xfrm>
              <a:off x="1701720" y="1379520"/>
              <a:ext cx="149400" cy="1873440"/>
              <a:chOff x="1701720" y="1379520"/>
              <a:chExt cx="149400" cy="1873440"/>
            </a:xfrm>
          </p:grpSpPr>
          <p:sp>
            <p:nvSpPr>
              <p:cNvPr id="866" name="Rectangle 4"/>
              <p:cNvSpPr/>
              <p:nvPr/>
            </p:nvSpPr>
            <p:spPr>
              <a:xfrm>
                <a:off x="1701720" y="298548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Rectangle 5"/>
              <p:cNvSpPr/>
              <p:nvPr/>
            </p:nvSpPr>
            <p:spPr>
              <a:xfrm>
                <a:off x="1701720" y="271764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6"/>
              <p:cNvSpPr/>
              <p:nvPr/>
            </p:nvSpPr>
            <p:spPr>
              <a:xfrm>
                <a:off x="1701720" y="244980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7"/>
              <p:cNvSpPr/>
              <p:nvPr/>
            </p:nvSpPr>
            <p:spPr>
              <a:xfrm>
                <a:off x="1701720" y="218232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8"/>
              <p:cNvSpPr/>
              <p:nvPr/>
            </p:nvSpPr>
            <p:spPr>
              <a:xfrm>
                <a:off x="1701720" y="191484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9"/>
              <p:cNvSpPr/>
              <p:nvPr/>
            </p:nvSpPr>
            <p:spPr>
              <a:xfrm>
                <a:off x="1701720" y="164700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0"/>
              <p:cNvSpPr/>
              <p:nvPr/>
            </p:nvSpPr>
            <p:spPr>
              <a:xfrm>
                <a:off x="1701720" y="137952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Freeform 11"/>
            <p:cNvSpPr/>
            <p:nvPr/>
          </p:nvSpPr>
          <p:spPr>
            <a:xfrm>
              <a:off x="1852560" y="164952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"/>
            <p:cNvSpPr/>
            <p:nvPr/>
          </p:nvSpPr>
          <p:spPr>
            <a:xfrm flipH="1">
              <a:off x="1204920" y="16477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Text Box 1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1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877" name="Group 1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878" name="AutoShape 1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AutoShape 1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AutoShape 1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1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2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884" name="AutoShape 2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2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2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2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2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2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890" name="AutoShape 2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AutoShape 2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3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3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AutoShape 3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Group 3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896" name="AutoShape 3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AutoShape 3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AutoShape 3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AutoShape 3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AutoShape 3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3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902" name="AutoShape 4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AutoShape 4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AutoShape 4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AutoShape 4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AutoShape 4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AutoShape 4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4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4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4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4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5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5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5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916" name="Group 5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917" name="AutoShape 5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AutoShape 5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AutoShape 5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AutoShape 5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5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922" name="AutoShape 6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6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AutoShape 6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AutoShape 6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AutoShape 6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6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928" name="AutoShape 6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AutoShape 6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AutoShape 6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AutoShape 6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AutoShape 7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Group 7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934" name="AutoShape 7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AutoShape 7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AutoShape 7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AutoShape 7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AutoShape 7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9" name="AutoShape 7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7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7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8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8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944" name="Group 8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945" name="AutoShape 8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utoShape 8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utoShape 8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AutoShape 8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9" name="Group 8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950" name="AutoShape 8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AutoShape 8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AutoShape 9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AutoShape 9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AutoShape 9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Group 9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956" name="AutoShape 9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AutoShape 9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AutoShape 9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AutoShape 9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AutoShape 9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Group 9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962" name="AutoShape 10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AutoShape 10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AutoShape 10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AutoShape 10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AutoShape 10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AutoShape 10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AutoShape 10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AutoShape 10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utoShape 10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109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972" name="Group 110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973" name="AutoShape 111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112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AutoShape 113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AutoShape 114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AutoShape 115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116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979" name="AutoShape 117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utoShape 118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AutoShape 119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AutoShape 120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AutoShape 121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22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985" name="AutoShape 123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utoShape 124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AutoShape 125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126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utoShape 127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128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991" name="AutoShape 129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130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131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32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33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134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997" name="AutoShape 135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AutoShape 136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AutoShape 137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138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AutoShape 139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2" name="AutoShape 140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141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142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utoShape 143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utoShape 144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145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utoShape 146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147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AutoShape 148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738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149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1012" name="Freeform 150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f97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151"/>
            <p:cNvSpPr/>
            <p:nvPr/>
          </p:nvSpPr>
          <p:spPr>
            <a:xfrm>
              <a:off x="1838880" y="4165560"/>
              <a:ext cx="277560" cy="4096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52"/>
            <p:cNvSpPr/>
            <p:nvPr/>
          </p:nvSpPr>
          <p:spPr>
            <a:xfrm>
              <a:off x="1767960" y="4715640"/>
              <a:ext cx="41544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53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54"/>
            <p:cNvSpPr/>
            <p:nvPr/>
          </p:nvSpPr>
          <p:spPr>
            <a:xfrm>
              <a:off x="1248840" y="4978440"/>
              <a:ext cx="49968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55"/>
            <p:cNvSpPr/>
            <p:nvPr/>
          </p:nvSpPr>
          <p:spPr>
            <a:xfrm>
              <a:off x="2206800" y="4978440"/>
              <a:ext cx="49824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156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1019" name="Freeform 157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158"/>
            <p:cNvSpPr/>
            <p:nvPr/>
          </p:nvSpPr>
          <p:spPr>
            <a:xfrm>
              <a:off x="1838520" y="4165560"/>
              <a:ext cx="277920" cy="409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59"/>
            <p:cNvSpPr/>
            <p:nvPr/>
          </p:nvSpPr>
          <p:spPr>
            <a:xfrm>
              <a:off x="1767960" y="4715640"/>
              <a:ext cx="41580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60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61"/>
            <p:cNvSpPr/>
            <p:nvPr/>
          </p:nvSpPr>
          <p:spPr>
            <a:xfrm>
              <a:off x="1248480" y="4978440"/>
              <a:ext cx="50004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62"/>
            <p:cNvSpPr/>
            <p:nvPr/>
          </p:nvSpPr>
          <p:spPr>
            <a:xfrm>
              <a:off x="2206800" y="4978440"/>
              <a:ext cx="49860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189"/>
          <p:cNvGrpSpPr/>
          <p:nvPr/>
        </p:nvGrpSpPr>
        <p:grpSpPr>
          <a:xfrm>
            <a:off x="1204920" y="1379520"/>
            <a:ext cx="1144080" cy="1873440"/>
            <a:chOff x="1204920" y="1379520"/>
            <a:chExt cx="1144080" cy="1873440"/>
          </a:xfrm>
        </p:grpSpPr>
        <p:grpSp>
          <p:nvGrpSpPr>
            <p:cNvPr id="1026" name="Group 190"/>
            <p:cNvGrpSpPr/>
            <p:nvPr/>
          </p:nvGrpSpPr>
          <p:grpSpPr>
            <a:xfrm>
              <a:off x="1701720" y="1379520"/>
              <a:ext cx="148680" cy="1873440"/>
              <a:chOff x="1701720" y="1379520"/>
              <a:chExt cx="148680" cy="1873440"/>
            </a:xfrm>
          </p:grpSpPr>
          <p:sp>
            <p:nvSpPr>
              <p:cNvPr id="1027" name="Rectangle 191"/>
              <p:cNvSpPr/>
              <p:nvPr/>
            </p:nvSpPr>
            <p:spPr>
              <a:xfrm>
                <a:off x="1701720" y="298548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192"/>
              <p:cNvSpPr/>
              <p:nvPr/>
            </p:nvSpPr>
            <p:spPr>
              <a:xfrm>
                <a:off x="1701720" y="271764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193"/>
              <p:cNvSpPr/>
              <p:nvPr/>
            </p:nvSpPr>
            <p:spPr>
              <a:xfrm>
                <a:off x="1701720" y="244980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194"/>
              <p:cNvSpPr/>
              <p:nvPr/>
            </p:nvSpPr>
            <p:spPr>
              <a:xfrm>
                <a:off x="1701720" y="218232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Rectangle 195"/>
              <p:cNvSpPr/>
              <p:nvPr/>
            </p:nvSpPr>
            <p:spPr>
              <a:xfrm>
                <a:off x="1701720" y="191484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Rectangle 196"/>
              <p:cNvSpPr/>
              <p:nvPr/>
            </p:nvSpPr>
            <p:spPr>
              <a:xfrm>
                <a:off x="1701720" y="164700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197"/>
              <p:cNvSpPr/>
              <p:nvPr/>
            </p:nvSpPr>
            <p:spPr>
              <a:xfrm>
                <a:off x="1701720" y="137952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198"/>
            <p:cNvSpPr/>
            <p:nvPr/>
          </p:nvSpPr>
          <p:spPr>
            <a:xfrm>
              <a:off x="1852200" y="16495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99"/>
            <p:cNvSpPr/>
            <p:nvPr/>
          </p:nvSpPr>
          <p:spPr>
            <a:xfrm flipH="1">
              <a:off x="1204920" y="164808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Text Box 201"/>
          <p:cNvSpPr/>
          <p:nvPr/>
        </p:nvSpPr>
        <p:spPr>
          <a:xfrm>
            <a:off x="1238400" y="329400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Group 202"/>
          <p:cNvGrpSpPr/>
          <p:nvPr/>
        </p:nvGrpSpPr>
        <p:grpSpPr>
          <a:xfrm>
            <a:off x="5864400" y="1405080"/>
            <a:ext cx="1755720" cy="1755720"/>
            <a:chOff x="5864400" y="1405080"/>
            <a:chExt cx="1755720" cy="1755720"/>
          </a:xfrm>
        </p:grpSpPr>
        <p:sp>
          <p:nvSpPr>
            <p:cNvPr id="1038" name="AutoShape 203"/>
            <p:cNvSpPr/>
            <p:nvPr/>
          </p:nvSpPr>
          <p:spPr>
            <a:xfrm>
              <a:off x="5864400" y="1405080"/>
              <a:ext cx="1755720" cy="1755720"/>
            </a:xfrm>
            <a:custGeom>
              <a:avLst/>
              <a:gdLst>
                <a:gd name="textAreaLeft" fmla="*/ 257040 w 1755720"/>
                <a:gd name="textAreaRight" fmla="*/ 1498680 w 1755720"/>
                <a:gd name="textAreaTop" fmla="*/ 257040 h 1755720"/>
                <a:gd name="textAreaBottom" fmla="*/ 1498680 h 17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204"/>
            <p:cNvSpPr/>
            <p:nvPr/>
          </p:nvSpPr>
          <p:spPr>
            <a:xfrm>
              <a:off x="6108840" y="16430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205"/>
          <p:cNvSpPr/>
          <p:nvPr/>
        </p:nvSpPr>
        <p:spPr>
          <a:xfrm>
            <a:off x="7353360" y="300996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06"/>
          <p:cNvSpPr/>
          <p:nvPr/>
        </p:nvSpPr>
        <p:spPr>
          <a:xfrm>
            <a:off x="5654520" y="128268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207"/>
          <p:cNvSpPr/>
          <p:nvPr/>
        </p:nvSpPr>
        <p:spPr>
          <a:xfrm>
            <a:off x="6197760" y="325296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208"/>
          <p:cNvSpPr/>
          <p:nvPr/>
        </p:nvSpPr>
        <p:spPr>
          <a:xfrm>
            <a:off x="1886040" y="4210200"/>
            <a:ext cx="162000" cy="16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212"/>
          <p:cNvGrpSpPr/>
          <p:nvPr/>
        </p:nvGrpSpPr>
        <p:grpSpPr>
          <a:xfrm>
            <a:off x="5678640" y="3900600"/>
            <a:ext cx="2084400" cy="2065320"/>
            <a:chOff x="5678640" y="3900600"/>
            <a:chExt cx="2084400" cy="2065320"/>
          </a:xfrm>
        </p:grpSpPr>
        <p:sp>
          <p:nvSpPr>
            <p:cNvPr id="1045" name="Freeform 213"/>
            <p:cNvSpPr/>
            <p:nvPr/>
          </p:nvSpPr>
          <p:spPr>
            <a:xfrm>
              <a:off x="6764400" y="3900600"/>
              <a:ext cx="982800" cy="9907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14"/>
            <p:cNvSpPr/>
            <p:nvPr/>
          </p:nvSpPr>
          <p:spPr>
            <a:xfrm>
              <a:off x="6815520" y="3957840"/>
              <a:ext cx="868320" cy="8683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15"/>
            <p:cNvSpPr/>
            <p:nvPr/>
          </p:nvSpPr>
          <p:spPr>
            <a:xfrm>
              <a:off x="6931440" y="4068720"/>
              <a:ext cx="630000" cy="63684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6"/>
            <p:cNvSpPr/>
            <p:nvPr/>
          </p:nvSpPr>
          <p:spPr>
            <a:xfrm>
              <a:off x="5678640" y="3922920"/>
              <a:ext cx="1005120" cy="9730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7"/>
            <p:cNvSpPr/>
            <p:nvPr/>
          </p:nvSpPr>
          <p:spPr>
            <a:xfrm>
              <a:off x="5742360" y="3981600"/>
              <a:ext cx="884160" cy="84924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8"/>
            <p:cNvSpPr/>
            <p:nvPr/>
          </p:nvSpPr>
          <p:spPr>
            <a:xfrm>
              <a:off x="5864400" y="409104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19"/>
            <p:cNvSpPr/>
            <p:nvPr/>
          </p:nvSpPr>
          <p:spPr>
            <a:xfrm>
              <a:off x="5700960" y="4965840"/>
              <a:ext cx="971640" cy="100008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20"/>
            <p:cNvSpPr/>
            <p:nvPr/>
          </p:nvSpPr>
          <p:spPr>
            <a:xfrm>
              <a:off x="5759640" y="5023080"/>
              <a:ext cx="847800" cy="8794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21"/>
            <p:cNvSpPr/>
            <p:nvPr/>
          </p:nvSpPr>
          <p:spPr>
            <a:xfrm>
              <a:off x="5869080" y="5132520"/>
              <a:ext cx="619200" cy="647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22"/>
            <p:cNvSpPr/>
            <p:nvPr/>
          </p:nvSpPr>
          <p:spPr>
            <a:xfrm>
              <a:off x="6764400" y="4965840"/>
              <a:ext cx="998640" cy="97164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23"/>
            <p:cNvSpPr/>
            <p:nvPr/>
          </p:nvSpPr>
          <p:spPr>
            <a:xfrm>
              <a:off x="6821640" y="5023080"/>
              <a:ext cx="884160" cy="85068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24"/>
            <p:cNvSpPr/>
            <p:nvPr/>
          </p:nvSpPr>
          <p:spPr>
            <a:xfrm>
              <a:off x="6950160" y="513252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226"/>
          <p:cNvGrpSpPr/>
          <p:nvPr/>
        </p:nvGrpSpPr>
        <p:grpSpPr>
          <a:xfrm>
            <a:off x="5645160" y="3851280"/>
            <a:ext cx="2166480" cy="2149200"/>
            <a:chOff x="5645160" y="3851280"/>
            <a:chExt cx="2166480" cy="2149200"/>
          </a:xfrm>
        </p:grpSpPr>
        <p:sp>
          <p:nvSpPr>
            <p:cNvPr id="1058" name="Freeform 227"/>
            <p:cNvSpPr/>
            <p:nvPr/>
          </p:nvSpPr>
          <p:spPr>
            <a:xfrm>
              <a:off x="6773760" y="3851280"/>
              <a:ext cx="1020600" cy="102996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28"/>
            <p:cNvSpPr/>
            <p:nvPr/>
          </p:nvSpPr>
          <p:spPr>
            <a:xfrm>
              <a:off x="6827040" y="3910680"/>
              <a:ext cx="901440" cy="90324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29"/>
            <p:cNvSpPr/>
            <p:nvPr/>
          </p:nvSpPr>
          <p:spPr>
            <a:xfrm>
              <a:off x="6947640" y="4026240"/>
              <a:ext cx="654120" cy="66240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30"/>
            <p:cNvSpPr/>
            <p:nvPr/>
          </p:nvSpPr>
          <p:spPr>
            <a:xfrm>
              <a:off x="5645160" y="3874320"/>
              <a:ext cx="1044360" cy="10126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31"/>
            <p:cNvSpPr/>
            <p:nvPr/>
          </p:nvSpPr>
          <p:spPr>
            <a:xfrm>
              <a:off x="5711040" y="3935520"/>
              <a:ext cx="918720" cy="88452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232"/>
            <p:cNvSpPr/>
            <p:nvPr/>
          </p:nvSpPr>
          <p:spPr>
            <a:xfrm>
              <a:off x="5837760" y="40496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33"/>
            <p:cNvSpPr/>
            <p:nvPr/>
          </p:nvSpPr>
          <p:spPr>
            <a:xfrm>
              <a:off x="5668560" y="4959360"/>
              <a:ext cx="1009440" cy="104112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34"/>
            <p:cNvSpPr/>
            <p:nvPr/>
          </p:nvSpPr>
          <p:spPr>
            <a:xfrm>
              <a:off x="5729400" y="5019120"/>
              <a:ext cx="881640" cy="91584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35"/>
            <p:cNvSpPr/>
            <p:nvPr/>
          </p:nvSpPr>
          <p:spPr>
            <a:xfrm>
              <a:off x="5843880" y="5133240"/>
              <a:ext cx="641880" cy="674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36"/>
            <p:cNvSpPr/>
            <p:nvPr/>
          </p:nvSpPr>
          <p:spPr>
            <a:xfrm>
              <a:off x="6773760" y="4959360"/>
              <a:ext cx="1037880" cy="10116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37"/>
            <p:cNvSpPr/>
            <p:nvPr/>
          </p:nvSpPr>
          <p:spPr>
            <a:xfrm>
              <a:off x="6833160" y="5019120"/>
              <a:ext cx="919080" cy="88596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38"/>
            <p:cNvSpPr/>
            <p:nvPr/>
          </p:nvSpPr>
          <p:spPr>
            <a:xfrm>
              <a:off x="6966360" y="51332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Text Box 240"/>
          <p:cNvSpPr/>
          <p:nvPr/>
        </p:nvSpPr>
        <p:spPr>
          <a:xfrm>
            <a:off x="2870280" y="1257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i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7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4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2"/>
          <p:cNvGrpSpPr/>
          <p:nvPr/>
        </p:nvGrpSpPr>
        <p:grpSpPr>
          <a:xfrm>
            <a:off x="1204920" y="1379520"/>
            <a:ext cx="1144440" cy="1873440"/>
            <a:chOff x="1204920" y="1379520"/>
            <a:chExt cx="1144440" cy="1873440"/>
          </a:xfrm>
        </p:grpSpPr>
        <p:grpSp>
          <p:nvGrpSpPr>
            <p:cNvPr id="1072" name="Group 3"/>
            <p:cNvGrpSpPr/>
            <p:nvPr/>
          </p:nvGrpSpPr>
          <p:grpSpPr>
            <a:xfrm>
              <a:off x="1701720" y="1379520"/>
              <a:ext cx="149400" cy="1873440"/>
              <a:chOff x="1701720" y="1379520"/>
              <a:chExt cx="149400" cy="1873440"/>
            </a:xfrm>
          </p:grpSpPr>
          <p:sp>
            <p:nvSpPr>
              <p:cNvPr id="1073" name="Rectangle 4"/>
              <p:cNvSpPr/>
              <p:nvPr/>
            </p:nvSpPr>
            <p:spPr>
              <a:xfrm>
                <a:off x="1701720" y="298548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5"/>
              <p:cNvSpPr/>
              <p:nvPr/>
            </p:nvSpPr>
            <p:spPr>
              <a:xfrm>
                <a:off x="1701720" y="271764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6"/>
              <p:cNvSpPr/>
              <p:nvPr/>
            </p:nvSpPr>
            <p:spPr>
              <a:xfrm>
                <a:off x="1701720" y="244980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7"/>
              <p:cNvSpPr/>
              <p:nvPr/>
            </p:nvSpPr>
            <p:spPr>
              <a:xfrm>
                <a:off x="1701720" y="218232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8"/>
              <p:cNvSpPr/>
              <p:nvPr/>
            </p:nvSpPr>
            <p:spPr>
              <a:xfrm>
                <a:off x="1701720" y="191484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9"/>
              <p:cNvSpPr/>
              <p:nvPr/>
            </p:nvSpPr>
            <p:spPr>
              <a:xfrm>
                <a:off x="1701720" y="164700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10"/>
              <p:cNvSpPr/>
              <p:nvPr/>
            </p:nvSpPr>
            <p:spPr>
              <a:xfrm>
                <a:off x="1701720" y="137952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Freeform 11"/>
            <p:cNvSpPr/>
            <p:nvPr/>
          </p:nvSpPr>
          <p:spPr>
            <a:xfrm>
              <a:off x="1852560" y="164952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2"/>
            <p:cNvSpPr/>
            <p:nvPr/>
          </p:nvSpPr>
          <p:spPr>
            <a:xfrm flipH="1">
              <a:off x="1204920" y="16477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Text Box 1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1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084" name="Group 1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085" name="AutoShape 1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AutoShape 1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AutoShape 1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AutoShape 1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AutoShape 2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091" name="AutoShape 2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2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2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AutoShape 2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AutoShape 2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Group 2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097" name="AutoShape 2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2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3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AutoShape 3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AutoShape 3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Group 3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103" name="AutoShape 3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3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AutoShape 3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3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AutoShape 3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3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109" name="AutoShape 4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AutoShape 4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AutoShape 4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AutoShape 4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AutoShape 4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AutoShape 4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AutoShape 4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4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4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AutoShape 4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AutoShape 5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AutoShape 5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5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5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123" name="Group 5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124" name="AutoShape 5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5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5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5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8" name="Group 5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129" name="AutoShape 6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AutoShape 6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AutoShape 6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AutoShape 6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AutoShape 6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Group 6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135" name="AutoShape 6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AutoShape 6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AutoShape 6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6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AutoShape 7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0" name="Group 7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141" name="AutoShape 7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AutoShape 7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AutoShape 7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AutoShape 7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AutoShape 7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6" name="AutoShape 7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7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7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8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8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151" name="Group 8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152" name="AutoShape 8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8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AutoShape 8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AutoShape 8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6" name="Group 8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157" name="AutoShape 8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AutoShape 8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AutoShape 9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AutoShape 9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AutoShape 9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" name="Group 9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163" name="AutoShape 9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9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AutoShape 9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AutoShape 9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AutoShape 9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9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169" name="AutoShape 10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AutoShape 10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AutoShape 10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AutoShape 10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AutoShape 10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AutoShape 10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0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AutoShape 10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AutoShape 10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Group 109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179" name="Group 110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180" name="AutoShape 111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AutoShape 112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113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AutoShape 114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AutoShape 115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116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186" name="AutoShape 117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118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AutoShape 119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AutoShape 120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AutoShape 121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122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192" name="AutoShape 123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utoShape 124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AutoShape 125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AutoShape 126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AutoShape 127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128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198" name="AutoShape 129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130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AutoShape 131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AutoShape 132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AutoShape 133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34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204" name="AutoShape 135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136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137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138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39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9" name="AutoShape 140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utoShape 141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utoShape 142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143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44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145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146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147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AutoShape 148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738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150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1219" name="Freeform 151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f97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52"/>
            <p:cNvSpPr/>
            <p:nvPr/>
          </p:nvSpPr>
          <p:spPr>
            <a:xfrm>
              <a:off x="1838880" y="4165560"/>
              <a:ext cx="277560" cy="4096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53"/>
            <p:cNvSpPr/>
            <p:nvPr/>
          </p:nvSpPr>
          <p:spPr>
            <a:xfrm>
              <a:off x="1767960" y="4715640"/>
              <a:ext cx="41544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54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55"/>
            <p:cNvSpPr/>
            <p:nvPr/>
          </p:nvSpPr>
          <p:spPr>
            <a:xfrm>
              <a:off x="1248840" y="4978440"/>
              <a:ext cx="49968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6"/>
            <p:cNvSpPr/>
            <p:nvPr/>
          </p:nvSpPr>
          <p:spPr>
            <a:xfrm>
              <a:off x="2206800" y="4978440"/>
              <a:ext cx="49824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190"/>
          <p:cNvGrpSpPr/>
          <p:nvPr/>
        </p:nvGrpSpPr>
        <p:grpSpPr>
          <a:xfrm>
            <a:off x="1204920" y="1379520"/>
            <a:ext cx="1144080" cy="1873440"/>
            <a:chOff x="1204920" y="1379520"/>
            <a:chExt cx="1144080" cy="1873440"/>
          </a:xfrm>
        </p:grpSpPr>
        <p:grpSp>
          <p:nvGrpSpPr>
            <p:cNvPr id="1226" name="Group 191"/>
            <p:cNvGrpSpPr/>
            <p:nvPr/>
          </p:nvGrpSpPr>
          <p:grpSpPr>
            <a:xfrm>
              <a:off x="1701720" y="1379520"/>
              <a:ext cx="148680" cy="1873440"/>
              <a:chOff x="1701720" y="1379520"/>
              <a:chExt cx="148680" cy="1873440"/>
            </a:xfrm>
          </p:grpSpPr>
          <p:sp>
            <p:nvSpPr>
              <p:cNvPr id="1227" name="Rectangle 192"/>
              <p:cNvSpPr/>
              <p:nvPr/>
            </p:nvSpPr>
            <p:spPr>
              <a:xfrm>
                <a:off x="1701720" y="298548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93"/>
              <p:cNvSpPr/>
              <p:nvPr/>
            </p:nvSpPr>
            <p:spPr>
              <a:xfrm>
                <a:off x="1701720" y="271764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94"/>
              <p:cNvSpPr/>
              <p:nvPr/>
            </p:nvSpPr>
            <p:spPr>
              <a:xfrm>
                <a:off x="1701720" y="244980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95"/>
              <p:cNvSpPr/>
              <p:nvPr/>
            </p:nvSpPr>
            <p:spPr>
              <a:xfrm>
                <a:off x="1701720" y="218232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96"/>
              <p:cNvSpPr/>
              <p:nvPr/>
            </p:nvSpPr>
            <p:spPr>
              <a:xfrm>
                <a:off x="1701720" y="191484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97"/>
              <p:cNvSpPr/>
              <p:nvPr/>
            </p:nvSpPr>
            <p:spPr>
              <a:xfrm>
                <a:off x="1701720" y="164700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98"/>
              <p:cNvSpPr/>
              <p:nvPr/>
            </p:nvSpPr>
            <p:spPr>
              <a:xfrm>
                <a:off x="1701720" y="137952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4" name="Freeform 199"/>
            <p:cNvSpPr/>
            <p:nvPr/>
          </p:nvSpPr>
          <p:spPr>
            <a:xfrm>
              <a:off x="1852200" y="16495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00"/>
            <p:cNvSpPr/>
            <p:nvPr/>
          </p:nvSpPr>
          <p:spPr>
            <a:xfrm flipH="1">
              <a:off x="1204920" y="164808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Text Box 202"/>
          <p:cNvSpPr/>
          <p:nvPr/>
        </p:nvSpPr>
        <p:spPr>
          <a:xfrm>
            <a:off x="1238400" y="329400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205"/>
          <p:cNvGrpSpPr/>
          <p:nvPr/>
        </p:nvGrpSpPr>
        <p:grpSpPr>
          <a:xfrm>
            <a:off x="5864400" y="1405080"/>
            <a:ext cx="1755720" cy="1755720"/>
            <a:chOff x="5864400" y="1405080"/>
            <a:chExt cx="1755720" cy="1755720"/>
          </a:xfrm>
        </p:grpSpPr>
        <p:sp>
          <p:nvSpPr>
            <p:cNvPr id="1238" name="AutoShape 149"/>
            <p:cNvSpPr/>
            <p:nvPr/>
          </p:nvSpPr>
          <p:spPr>
            <a:xfrm>
              <a:off x="5864400" y="1405080"/>
              <a:ext cx="1755720" cy="1755720"/>
            </a:xfrm>
            <a:custGeom>
              <a:avLst/>
              <a:gdLst>
                <a:gd name="textAreaLeft" fmla="*/ 257040 w 1755720"/>
                <a:gd name="textAreaRight" fmla="*/ 1498680 w 1755720"/>
                <a:gd name="textAreaTop" fmla="*/ 257040 h 1755720"/>
                <a:gd name="textAreaBottom" fmla="*/ 1498680 h 17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203"/>
            <p:cNvSpPr/>
            <p:nvPr/>
          </p:nvSpPr>
          <p:spPr>
            <a:xfrm>
              <a:off x="6108840" y="16430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Text Box 206"/>
          <p:cNvSpPr/>
          <p:nvPr/>
        </p:nvSpPr>
        <p:spPr>
          <a:xfrm>
            <a:off x="7353360" y="300996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207"/>
          <p:cNvSpPr/>
          <p:nvPr/>
        </p:nvSpPr>
        <p:spPr>
          <a:xfrm>
            <a:off x="5654520" y="128268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208"/>
          <p:cNvSpPr/>
          <p:nvPr/>
        </p:nvSpPr>
        <p:spPr>
          <a:xfrm>
            <a:off x="6197760" y="325296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210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grpSp>
          <p:nvGrpSpPr>
            <p:cNvPr id="1244" name="Group 157"/>
            <p:cNvGrpSpPr/>
            <p:nvPr/>
          </p:nvGrpSpPr>
          <p:grpSpPr>
            <a:xfrm>
              <a:off x="938160" y="3887640"/>
              <a:ext cx="2079360" cy="2077920"/>
              <a:chOff x="938160" y="3887640"/>
              <a:chExt cx="2079360" cy="2077920"/>
            </a:xfrm>
          </p:grpSpPr>
          <p:sp>
            <p:nvSpPr>
              <p:cNvPr id="1245" name="Freeform 158"/>
              <p:cNvSpPr/>
              <p:nvPr/>
            </p:nvSpPr>
            <p:spPr>
              <a:xfrm>
                <a:off x="938160" y="3887640"/>
                <a:ext cx="2079360" cy="2077920"/>
              </a:xfrm>
              <a:custGeom>
                <a:avLst/>
                <a:gdLst/>
                <a:ahLst/>
                <a:rect l="l" t="t" r="r" b="b"/>
                <a:pathLst>
                  <a:path w="2082" h="2081">
                    <a:moveTo>
                      <a:pt x="902" y="690"/>
                    </a:moveTo>
                    <a:lnTo>
                      <a:pt x="902" y="278"/>
                    </a:lnTo>
                    <a:lnTo>
                      <a:pt x="1180" y="278"/>
                    </a:lnTo>
                    <a:lnTo>
                      <a:pt x="1180" y="690"/>
                    </a:lnTo>
                    <a:lnTo>
                      <a:pt x="902" y="690"/>
                    </a:lnTo>
                    <a:close/>
                    <a:moveTo>
                      <a:pt x="1041" y="1247"/>
                    </a:moveTo>
                    <a:lnTo>
                      <a:pt x="998" y="1242"/>
                    </a:lnTo>
                    <a:lnTo>
                      <a:pt x="959" y="1232"/>
                    </a:lnTo>
                    <a:lnTo>
                      <a:pt x="926" y="1213"/>
                    </a:lnTo>
                    <a:lnTo>
                      <a:pt x="892" y="1189"/>
                    </a:lnTo>
                    <a:lnTo>
                      <a:pt x="868" y="1156"/>
                    </a:lnTo>
                    <a:lnTo>
                      <a:pt x="849" y="1117"/>
                    </a:lnTo>
                    <a:lnTo>
                      <a:pt x="835" y="1079"/>
                    </a:lnTo>
                    <a:lnTo>
                      <a:pt x="830" y="1040"/>
                    </a:lnTo>
                    <a:lnTo>
                      <a:pt x="835" y="997"/>
                    </a:lnTo>
                    <a:lnTo>
                      <a:pt x="849" y="959"/>
                    </a:lnTo>
                    <a:lnTo>
                      <a:pt x="868" y="925"/>
                    </a:lnTo>
                    <a:lnTo>
                      <a:pt x="892" y="892"/>
                    </a:lnTo>
                    <a:lnTo>
                      <a:pt x="926" y="868"/>
                    </a:lnTo>
                    <a:lnTo>
                      <a:pt x="959" y="849"/>
                    </a:lnTo>
                    <a:lnTo>
                      <a:pt x="998" y="834"/>
                    </a:lnTo>
                    <a:lnTo>
                      <a:pt x="1041" y="829"/>
                    </a:lnTo>
                    <a:lnTo>
                      <a:pt x="1079" y="834"/>
                    </a:lnTo>
                    <a:lnTo>
                      <a:pt x="1118" y="849"/>
                    </a:lnTo>
                    <a:lnTo>
                      <a:pt x="1156" y="868"/>
                    </a:lnTo>
                    <a:lnTo>
                      <a:pt x="1185" y="892"/>
                    </a:lnTo>
                    <a:lnTo>
                      <a:pt x="1214" y="925"/>
                    </a:lnTo>
                    <a:lnTo>
                      <a:pt x="1233" y="959"/>
                    </a:lnTo>
                    <a:lnTo>
                      <a:pt x="1242" y="997"/>
                    </a:lnTo>
                    <a:lnTo>
                      <a:pt x="1247" y="1040"/>
                    </a:lnTo>
                    <a:lnTo>
                      <a:pt x="1242" y="1079"/>
                    </a:lnTo>
                    <a:lnTo>
                      <a:pt x="1233" y="1117"/>
                    </a:lnTo>
                    <a:lnTo>
                      <a:pt x="1214" y="1156"/>
                    </a:lnTo>
                    <a:lnTo>
                      <a:pt x="1185" y="1189"/>
                    </a:lnTo>
                    <a:lnTo>
                      <a:pt x="1156" y="1213"/>
                    </a:lnTo>
                    <a:lnTo>
                      <a:pt x="1118" y="1232"/>
                    </a:lnTo>
                    <a:lnTo>
                      <a:pt x="1079" y="1242"/>
                    </a:lnTo>
                    <a:lnTo>
                      <a:pt x="1041" y="1247"/>
                    </a:lnTo>
                    <a:close/>
                    <a:moveTo>
                      <a:pt x="1041" y="2081"/>
                    </a:moveTo>
                    <a:lnTo>
                      <a:pt x="988" y="2081"/>
                    </a:lnTo>
                    <a:lnTo>
                      <a:pt x="935" y="2077"/>
                    </a:lnTo>
                    <a:lnTo>
                      <a:pt x="883" y="2072"/>
                    </a:lnTo>
                    <a:lnTo>
                      <a:pt x="835" y="2062"/>
                    </a:lnTo>
                    <a:lnTo>
                      <a:pt x="782" y="2053"/>
                    </a:lnTo>
                    <a:lnTo>
                      <a:pt x="734" y="2038"/>
                    </a:lnTo>
                    <a:lnTo>
                      <a:pt x="686" y="2024"/>
                    </a:lnTo>
                    <a:lnTo>
                      <a:pt x="643" y="2005"/>
                    </a:lnTo>
                    <a:lnTo>
                      <a:pt x="595" y="1985"/>
                    </a:lnTo>
                    <a:lnTo>
                      <a:pt x="551" y="1961"/>
                    </a:lnTo>
                    <a:lnTo>
                      <a:pt x="508" y="1937"/>
                    </a:lnTo>
                    <a:lnTo>
                      <a:pt x="465" y="1909"/>
                    </a:lnTo>
                    <a:lnTo>
                      <a:pt x="422" y="1880"/>
                    </a:lnTo>
                    <a:lnTo>
                      <a:pt x="383" y="1846"/>
                    </a:lnTo>
                    <a:lnTo>
                      <a:pt x="340" y="1813"/>
                    </a:lnTo>
                    <a:lnTo>
                      <a:pt x="302" y="1774"/>
                    </a:lnTo>
                    <a:lnTo>
                      <a:pt x="268" y="1736"/>
                    </a:lnTo>
                    <a:lnTo>
                      <a:pt x="235" y="1698"/>
                    </a:lnTo>
                    <a:lnTo>
                      <a:pt x="201" y="1659"/>
                    </a:lnTo>
                    <a:lnTo>
                      <a:pt x="172" y="1616"/>
                    </a:lnTo>
                    <a:lnTo>
                      <a:pt x="144" y="1573"/>
                    </a:lnTo>
                    <a:lnTo>
                      <a:pt x="120" y="1530"/>
                    </a:lnTo>
                    <a:lnTo>
                      <a:pt x="96" y="1487"/>
                    </a:lnTo>
                    <a:lnTo>
                      <a:pt x="76" y="1439"/>
                    </a:lnTo>
                    <a:lnTo>
                      <a:pt x="57" y="1391"/>
                    </a:lnTo>
                    <a:lnTo>
                      <a:pt x="43" y="1347"/>
                    </a:lnTo>
                    <a:lnTo>
                      <a:pt x="28" y="1295"/>
                    </a:lnTo>
                    <a:lnTo>
                      <a:pt x="19" y="1247"/>
                    </a:lnTo>
                    <a:lnTo>
                      <a:pt x="9" y="1199"/>
                    </a:lnTo>
                    <a:lnTo>
                      <a:pt x="4" y="1146"/>
                    </a:lnTo>
                    <a:lnTo>
                      <a:pt x="0" y="1093"/>
                    </a:lnTo>
                    <a:lnTo>
                      <a:pt x="0" y="1040"/>
                    </a:lnTo>
                    <a:lnTo>
                      <a:pt x="0" y="988"/>
                    </a:lnTo>
                    <a:lnTo>
                      <a:pt x="4" y="935"/>
                    </a:lnTo>
                    <a:lnTo>
                      <a:pt x="9" y="882"/>
                    </a:lnTo>
                    <a:lnTo>
                      <a:pt x="19" y="829"/>
                    </a:lnTo>
                    <a:lnTo>
                      <a:pt x="28" y="781"/>
                    </a:lnTo>
                    <a:lnTo>
                      <a:pt x="43" y="733"/>
                    </a:lnTo>
                    <a:lnTo>
                      <a:pt x="57" y="686"/>
                    </a:lnTo>
                    <a:lnTo>
                      <a:pt x="76" y="638"/>
                    </a:lnTo>
                    <a:lnTo>
                      <a:pt x="96" y="594"/>
                    </a:lnTo>
                    <a:lnTo>
                      <a:pt x="120" y="551"/>
                    </a:lnTo>
                    <a:lnTo>
                      <a:pt x="144" y="508"/>
                    </a:lnTo>
                    <a:lnTo>
                      <a:pt x="172" y="465"/>
                    </a:lnTo>
                    <a:lnTo>
                      <a:pt x="201" y="422"/>
                    </a:lnTo>
                    <a:lnTo>
                      <a:pt x="235" y="383"/>
                    </a:lnTo>
                    <a:lnTo>
                      <a:pt x="268" y="340"/>
                    </a:lnTo>
                    <a:lnTo>
                      <a:pt x="307" y="302"/>
                    </a:lnTo>
                    <a:lnTo>
                      <a:pt x="345" y="268"/>
                    </a:lnTo>
                    <a:lnTo>
                      <a:pt x="383" y="235"/>
                    </a:lnTo>
                    <a:lnTo>
                      <a:pt x="422" y="201"/>
                    </a:lnTo>
                    <a:lnTo>
                      <a:pt x="465" y="172"/>
                    </a:lnTo>
                    <a:lnTo>
                      <a:pt x="508" y="144"/>
                    </a:lnTo>
                    <a:lnTo>
                      <a:pt x="551" y="120"/>
                    </a:lnTo>
                    <a:lnTo>
                      <a:pt x="595" y="96"/>
                    </a:lnTo>
                    <a:lnTo>
                      <a:pt x="643" y="76"/>
                    </a:lnTo>
                    <a:lnTo>
                      <a:pt x="686" y="57"/>
                    </a:lnTo>
                    <a:lnTo>
                      <a:pt x="734" y="43"/>
                    </a:lnTo>
                    <a:lnTo>
                      <a:pt x="782" y="28"/>
                    </a:lnTo>
                    <a:lnTo>
                      <a:pt x="835" y="19"/>
                    </a:lnTo>
                    <a:lnTo>
                      <a:pt x="883" y="9"/>
                    </a:lnTo>
                    <a:lnTo>
                      <a:pt x="935" y="4"/>
                    </a:lnTo>
                    <a:lnTo>
                      <a:pt x="988" y="0"/>
                    </a:lnTo>
                    <a:lnTo>
                      <a:pt x="1041" y="0"/>
                    </a:lnTo>
                    <a:lnTo>
                      <a:pt x="1094" y="0"/>
                    </a:lnTo>
                    <a:lnTo>
                      <a:pt x="1146" y="4"/>
                    </a:lnTo>
                    <a:lnTo>
                      <a:pt x="1199" y="9"/>
                    </a:lnTo>
                    <a:lnTo>
                      <a:pt x="1247" y="19"/>
                    </a:lnTo>
                    <a:lnTo>
                      <a:pt x="1300" y="28"/>
                    </a:lnTo>
                    <a:lnTo>
                      <a:pt x="1348" y="43"/>
                    </a:lnTo>
                    <a:lnTo>
                      <a:pt x="1396" y="57"/>
                    </a:lnTo>
                    <a:lnTo>
                      <a:pt x="1439" y="76"/>
                    </a:lnTo>
                    <a:lnTo>
                      <a:pt x="1487" y="96"/>
                    </a:lnTo>
                    <a:lnTo>
                      <a:pt x="1530" y="120"/>
                    </a:lnTo>
                    <a:lnTo>
                      <a:pt x="1574" y="144"/>
                    </a:lnTo>
                    <a:lnTo>
                      <a:pt x="1617" y="172"/>
                    </a:lnTo>
                    <a:lnTo>
                      <a:pt x="1660" y="201"/>
                    </a:lnTo>
                    <a:lnTo>
                      <a:pt x="1698" y="235"/>
                    </a:lnTo>
                    <a:lnTo>
                      <a:pt x="1737" y="268"/>
                    </a:lnTo>
                    <a:lnTo>
                      <a:pt x="1775" y="302"/>
                    </a:lnTo>
                    <a:lnTo>
                      <a:pt x="1813" y="340"/>
                    </a:lnTo>
                    <a:lnTo>
                      <a:pt x="1847" y="383"/>
                    </a:lnTo>
                    <a:lnTo>
                      <a:pt x="1881" y="422"/>
                    </a:lnTo>
                    <a:lnTo>
                      <a:pt x="1909" y="465"/>
                    </a:lnTo>
                    <a:lnTo>
                      <a:pt x="1938" y="508"/>
                    </a:lnTo>
                    <a:lnTo>
                      <a:pt x="1962" y="551"/>
                    </a:lnTo>
                    <a:lnTo>
                      <a:pt x="1986" y="594"/>
                    </a:lnTo>
                    <a:lnTo>
                      <a:pt x="2005" y="638"/>
                    </a:lnTo>
                    <a:lnTo>
                      <a:pt x="2025" y="686"/>
                    </a:lnTo>
                    <a:lnTo>
                      <a:pt x="2039" y="733"/>
                    </a:lnTo>
                    <a:lnTo>
                      <a:pt x="2053" y="781"/>
                    </a:lnTo>
                    <a:lnTo>
                      <a:pt x="2063" y="829"/>
                    </a:lnTo>
                    <a:lnTo>
                      <a:pt x="2073" y="882"/>
                    </a:lnTo>
                    <a:lnTo>
                      <a:pt x="2077" y="935"/>
                    </a:lnTo>
                    <a:lnTo>
                      <a:pt x="2082" y="988"/>
                    </a:lnTo>
                    <a:lnTo>
                      <a:pt x="2082" y="1040"/>
                    </a:lnTo>
                    <a:lnTo>
                      <a:pt x="2082" y="1093"/>
                    </a:lnTo>
                    <a:lnTo>
                      <a:pt x="2077" y="1146"/>
                    </a:lnTo>
                    <a:lnTo>
                      <a:pt x="2073" y="1199"/>
                    </a:lnTo>
                    <a:lnTo>
                      <a:pt x="2063" y="1247"/>
                    </a:lnTo>
                    <a:lnTo>
                      <a:pt x="2053" y="1295"/>
                    </a:lnTo>
                    <a:lnTo>
                      <a:pt x="2039" y="1347"/>
                    </a:lnTo>
                    <a:lnTo>
                      <a:pt x="2025" y="1391"/>
                    </a:lnTo>
                    <a:lnTo>
                      <a:pt x="2005" y="1439"/>
                    </a:lnTo>
                    <a:lnTo>
                      <a:pt x="1986" y="1487"/>
                    </a:lnTo>
                    <a:lnTo>
                      <a:pt x="1962" y="1530"/>
                    </a:lnTo>
                    <a:lnTo>
                      <a:pt x="1938" y="1573"/>
                    </a:lnTo>
                    <a:lnTo>
                      <a:pt x="1909" y="1616"/>
                    </a:lnTo>
                    <a:lnTo>
                      <a:pt x="1881" y="1659"/>
                    </a:lnTo>
                    <a:lnTo>
                      <a:pt x="1847" y="1698"/>
                    </a:lnTo>
                    <a:lnTo>
                      <a:pt x="1813" y="1736"/>
                    </a:lnTo>
                    <a:lnTo>
                      <a:pt x="1775" y="1774"/>
                    </a:lnTo>
                    <a:lnTo>
                      <a:pt x="1737" y="1813"/>
                    </a:lnTo>
                    <a:lnTo>
                      <a:pt x="1698" y="1846"/>
                    </a:lnTo>
                    <a:lnTo>
                      <a:pt x="1660" y="1880"/>
                    </a:lnTo>
                    <a:lnTo>
                      <a:pt x="1617" y="1909"/>
                    </a:lnTo>
                    <a:lnTo>
                      <a:pt x="1574" y="1937"/>
                    </a:lnTo>
                    <a:lnTo>
                      <a:pt x="1530" y="1961"/>
                    </a:lnTo>
                    <a:lnTo>
                      <a:pt x="1487" y="1985"/>
                    </a:lnTo>
                    <a:lnTo>
                      <a:pt x="1439" y="2005"/>
                    </a:lnTo>
                    <a:lnTo>
                      <a:pt x="1396" y="2024"/>
                    </a:lnTo>
                    <a:lnTo>
                      <a:pt x="1348" y="2038"/>
                    </a:lnTo>
                    <a:lnTo>
                      <a:pt x="1300" y="2053"/>
                    </a:lnTo>
                    <a:lnTo>
                      <a:pt x="1247" y="2062"/>
                    </a:lnTo>
                    <a:lnTo>
                      <a:pt x="1199" y="2072"/>
                    </a:lnTo>
                    <a:lnTo>
                      <a:pt x="1146" y="2077"/>
                    </a:lnTo>
                    <a:lnTo>
                      <a:pt x="1094" y="2081"/>
                    </a:lnTo>
                    <a:lnTo>
                      <a:pt x="1041" y="2081"/>
                    </a:lnTo>
                    <a:close/>
                    <a:moveTo>
                      <a:pt x="1041" y="2009"/>
                    </a:moveTo>
                    <a:lnTo>
                      <a:pt x="1137" y="2005"/>
                    </a:lnTo>
                    <a:lnTo>
                      <a:pt x="1233" y="1995"/>
                    </a:lnTo>
                    <a:lnTo>
                      <a:pt x="1324" y="1971"/>
                    </a:lnTo>
                    <a:lnTo>
                      <a:pt x="1415" y="1937"/>
                    </a:lnTo>
                    <a:lnTo>
                      <a:pt x="1497" y="1899"/>
                    </a:lnTo>
                    <a:lnTo>
                      <a:pt x="1578" y="1851"/>
                    </a:lnTo>
                    <a:lnTo>
                      <a:pt x="1655" y="1794"/>
                    </a:lnTo>
                    <a:lnTo>
                      <a:pt x="1727" y="1726"/>
                    </a:lnTo>
                    <a:lnTo>
                      <a:pt x="1794" y="1654"/>
                    </a:lnTo>
                    <a:lnTo>
                      <a:pt x="1852" y="1578"/>
                    </a:lnTo>
                    <a:lnTo>
                      <a:pt x="1900" y="1496"/>
                    </a:lnTo>
                    <a:lnTo>
                      <a:pt x="1943" y="1415"/>
                    </a:lnTo>
                    <a:lnTo>
                      <a:pt x="1972" y="1323"/>
                    </a:lnTo>
                    <a:lnTo>
                      <a:pt x="1996" y="1232"/>
                    </a:lnTo>
                    <a:lnTo>
                      <a:pt x="2005" y="1136"/>
                    </a:lnTo>
                    <a:lnTo>
                      <a:pt x="2010" y="1040"/>
                    </a:lnTo>
                    <a:lnTo>
                      <a:pt x="2005" y="940"/>
                    </a:lnTo>
                    <a:lnTo>
                      <a:pt x="1996" y="844"/>
                    </a:lnTo>
                    <a:lnTo>
                      <a:pt x="1972" y="753"/>
                    </a:lnTo>
                    <a:lnTo>
                      <a:pt x="1943" y="666"/>
                    </a:lnTo>
                    <a:lnTo>
                      <a:pt x="1900" y="585"/>
                    </a:lnTo>
                    <a:lnTo>
                      <a:pt x="1852" y="503"/>
                    </a:lnTo>
                    <a:lnTo>
                      <a:pt x="1794" y="426"/>
                    </a:lnTo>
                    <a:lnTo>
                      <a:pt x="1727" y="355"/>
                    </a:lnTo>
                    <a:lnTo>
                      <a:pt x="1655" y="287"/>
                    </a:lnTo>
                    <a:lnTo>
                      <a:pt x="1578" y="230"/>
                    </a:lnTo>
                    <a:lnTo>
                      <a:pt x="1497" y="182"/>
                    </a:lnTo>
                    <a:lnTo>
                      <a:pt x="1415" y="139"/>
                    </a:lnTo>
                    <a:lnTo>
                      <a:pt x="1324" y="110"/>
                    </a:lnTo>
                    <a:lnTo>
                      <a:pt x="1233" y="86"/>
                    </a:lnTo>
                    <a:lnTo>
                      <a:pt x="1137" y="72"/>
                    </a:lnTo>
                    <a:lnTo>
                      <a:pt x="1041" y="67"/>
                    </a:lnTo>
                    <a:lnTo>
                      <a:pt x="940" y="72"/>
                    </a:lnTo>
                    <a:lnTo>
                      <a:pt x="849" y="86"/>
                    </a:lnTo>
                    <a:lnTo>
                      <a:pt x="758" y="110"/>
                    </a:lnTo>
                    <a:lnTo>
                      <a:pt x="667" y="139"/>
                    </a:lnTo>
                    <a:lnTo>
                      <a:pt x="585" y="182"/>
                    </a:lnTo>
                    <a:lnTo>
                      <a:pt x="503" y="230"/>
                    </a:lnTo>
                    <a:lnTo>
                      <a:pt x="427" y="287"/>
                    </a:lnTo>
                    <a:lnTo>
                      <a:pt x="355" y="355"/>
                    </a:lnTo>
                    <a:lnTo>
                      <a:pt x="287" y="426"/>
                    </a:lnTo>
                    <a:lnTo>
                      <a:pt x="230" y="503"/>
                    </a:lnTo>
                    <a:lnTo>
                      <a:pt x="182" y="585"/>
                    </a:lnTo>
                    <a:lnTo>
                      <a:pt x="139" y="666"/>
                    </a:lnTo>
                    <a:lnTo>
                      <a:pt x="110" y="753"/>
                    </a:lnTo>
                    <a:lnTo>
                      <a:pt x="86" y="844"/>
                    </a:lnTo>
                    <a:lnTo>
                      <a:pt x="72" y="940"/>
                    </a:lnTo>
                    <a:lnTo>
                      <a:pt x="67" y="1040"/>
                    </a:lnTo>
                    <a:lnTo>
                      <a:pt x="72" y="1136"/>
                    </a:lnTo>
                    <a:lnTo>
                      <a:pt x="86" y="1232"/>
                    </a:lnTo>
                    <a:lnTo>
                      <a:pt x="110" y="1323"/>
                    </a:lnTo>
                    <a:lnTo>
                      <a:pt x="139" y="1415"/>
                    </a:lnTo>
                    <a:lnTo>
                      <a:pt x="182" y="1496"/>
                    </a:lnTo>
                    <a:lnTo>
                      <a:pt x="230" y="1578"/>
                    </a:lnTo>
                    <a:lnTo>
                      <a:pt x="287" y="1654"/>
                    </a:lnTo>
                    <a:lnTo>
                      <a:pt x="355" y="1726"/>
                    </a:lnTo>
                    <a:lnTo>
                      <a:pt x="427" y="1794"/>
                    </a:lnTo>
                    <a:lnTo>
                      <a:pt x="503" y="1851"/>
                    </a:lnTo>
                    <a:lnTo>
                      <a:pt x="585" y="1899"/>
                    </a:lnTo>
                    <a:lnTo>
                      <a:pt x="667" y="1937"/>
                    </a:lnTo>
                    <a:lnTo>
                      <a:pt x="758" y="1971"/>
                    </a:lnTo>
                    <a:lnTo>
                      <a:pt x="849" y="1995"/>
                    </a:lnTo>
                    <a:lnTo>
                      <a:pt x="940" y="2005"/>
                    </a:lnTo>
                    <a:lnTo>
                      <a:pt x="1041" y="2009"/>
                    </a:lnTo>
                    <a:close/>
                    <a:moveTo>
                      <a:pt x="451" y="1539"/>
                    </a:moveTo>
                    <a:lnTo>
                      <a:pt x="311" y="1299"/>
                    </a:lnTo>
                    <a:lnTo>
                      <a:pt x="671" y="1093"/>
                    </a:lnTo>
                    <a:lnTo>
                      <a:pt x="811" y="1333"/>
                    </a:lnTo>
                    <a:lnTo>
                      <a:pt x="451" y="1539"/>
                    </a:lnTo>
                    <a:close/>
                    <a:moveTo>
                      <a:pt x="1631" y="1539"/>
                    </a:moveTo>
                    <a:lnTo>
                      <a:pt x="1271" y="1333"/>
                    </a:lnTo>
                    <a:lnTo>
                      <a:pt x="1410" y="1093"/>
                    </a:lnTo>
                    <a:lnTo>
                      <a:pt x="1770" y="1299"/>
                    </a:lnTo>
                    <a:lnTo>
                      <a:pt x="1631" y="1539"/>
                    </a:lnTo>
                    <a:close/>
                  </a:path>
                </a:pathLst>
              </a:custGeom>
              <a:solidFill>
                <a:srgbClr val="1f1a1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59"/>
              <p:cNvSpPr/>
              <p:nvPr/>
            </p:nvSpPr>
            <p:spPr>
              <a:xfrm>
                <a:off x="1838520" y="4165560"/>
                <a:ext cx="277920" cy="409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160"/>
              <p:cNvSpPr/>
              <p:nvPr/>
            </p:nvSpPr>
            <p:spPr>
              <a:xfrm>
                <a:off x="1767960" y="4715640"/>
                <a:ext cx="415800" cy="417960"/>
              </a:xfrm>
              <a:custGeom>
                <a:avLst/>
                <a:gdLst/>
                <a:ahLst/>
                <a:rect l="l" t="t" r="r" b="b"/>
                <a:pathLst>
                  <a:path w="417" h="418">
                    <a:moveTo>
                      <a:pt x="211" y="418"/>
                    </a:moveTo>
                    <a:lnTo>
                      <a:pt x="168" y="413"/>
                    </a:lnTo>
                    <a:lnTo>
                      <a:pt x="129" y="403"/>
                    </a:lnTo>
                    <a:lnTo>
                      <a:pt x="96" y="384"/>
                    </a:lnTo>
                    <a:lnTo>
                      <a:pt x="62" y="360"/>
                    </a:lnTo>
                    <a:lnTo>
                      <a:pt x="38" y="327"/>
                    </a:lnTo>
                    <a:lnTo>
                      <a:pt x="19" y="288"/>
                    </a:lnTo>
                    <a:lnTo>
                      <a:pt x="5" y="250"/>
                    </a:lnTo>
                    <a:lnTo>
                      <a:pt x="0" y="211"/>
                    </a:lnTo>
                    <a:lnTo>
                      <a:pt x="5" y="168"/>
                    </a:lnTo>
                    <a:lnTo>
                      <a:pt x="19" y="130"/>
                    </a:lnTo>
                    <a:lnTo>
                      <a:pt x="38" y="96"/>
                    </a:lnTo>
                    <a:lnTo>
                      <a:pt x="62" y="63"/>
                    </a:lnTo>
                    <a:lnTo>
                      <a:pt x="96" y="39"/>
                    </a:lnTo>
                    <a:lnTo>
                      <a:pt x="129" y="20"/>
                    </a:lnTo>
                    <a:lnTo>
                      <a:pt x="168" y="5"/>
                    </a:lnTo>
                    <a:lnTo>
                      <a:pt x="211" y="0"/>
                    </a:lnTo>
                    <a:lnTo>
                      <a:pt x="249" y="5"/>
                    </a:lnTo>
                    <a:lnTo>
                      <a:pt x="288" y="20"/>
                    </a:lnTo>
                    <a:lnTo>
                      <a:pt x="326" y="39"/>
                    </a:lnTo>
                    <a:lnTo>
                      <a:pt x="355" y="63"/>
                    </a:lnTo>
                    <a:lnTo>
                      <a:pt x="384" y="96"/>
                    </a:lnTo>
                    <a:lnTo>
                      <a:pt x="403" y="130"/>
                    </a:lnTo>
                    <a:lnTo>
                      <a:pt x="412" y="168"/>
                    </a:lnTo>
                    <a:lnTo>
                      <a:pt x="417" y="211"/>
                    </a:lnTo>
                    <a:lnTo>
                      <a:pt x="412" y="250"/>
                    </a:lnTo>
                    <a:lnTo>
                      <a:pt x="403" y="288"/>
                    </a:lnTo>
                    <a:lnTo>
                      <a:pt x="384" y="327"/>
                    </a:lnTo>
                    <a:lnTo>
                      <a:pt x="355" y="360"/>
                    </a:lnTo>
                    <a:lnTo>
                      <a:pt x="326" y="384"/>
                    </a:lnTo>
                    <a:lnTo>
                      <a:pt x="288" y="403"/>
                    </a:lnTo>
                    <a:lnTo>
                      <a:pt x="249" y="413"/>
                    </a:lnTo>
                    <a:lnTo>
                      <a:pt x="211" y="4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161"/>
              <p:cNvSpPr/>
              <p:nvPr/>
            </p:nvSpPr>
            <p:spPr>
              <a:xfrm>
                <a:off x="938160" y="3887640"/>
                <a:ext cx="2079360" cy="2077920"/>
              </a:xfrm>
              <a:custGeom>
                <a:avLst/>
                <a:gdLst/>
                <a:ahLst/>
                <a:rect l="l" t="t" r="r" b="b"/>
                <a:pathLst>
                  <a:path w="2082" h="2081">
                    <a:moveTo>
                      <a:pt x="1041" y="2081"/>
                    </a:moveTo>
                    <a:lnTo>
                      <a:pt x="988" y="2081"/>
                    </a:lnTo>
                    <a:lnTo>
                      <a:pt x="935" y="2077"/>
                    </a:lnTo>
                    <a:lnTo>
                      <a:pt x="883" y="2072"/>
                    </a:lnTo>
                    <a:lnTo>
                      <a:pt x="835" y="2062"/>
                    </a:lnTo>
                    <a:lnTo>
                      <a:pt x="782" y="2053"/>
                    </a:lnTo>
                    <a:lnTo>
                      <a:pt x="734" y="2038"/>
                    </a:lnTo>
                    <a:lnTo>
                      <a:pt x="686" y="2024"/>
                    </a:lnTo>
                    <a:lnTo>
                      <a:pt x="643" y="2005"/>
                    </a:lnTo>
                    <a:lnTo>
                      <a:pt x="595" y="1985"/>
                    </a:lnTo>
                    <a:lnTo>
                      <a:pt x="551" y="1961"/>
                    </a:lnTo>
                    <a:lnTo>
                      <a:pt x="508" y="1937"/>
                    </a:lnTo>
                    <a:lnTo>
                      <a:pt x="465" y="1909"/>
                    </a:lnTo>
                    <a:lnTo>
                      <a:pt x="422" y="1880"/>
                    </a:lnTo>
                    <a:lnTo>
                      <a:pt x="383" y="1846"/>
                    </a:lnTo>
                    <a:lnTo>
                      <a:pt x="340" y="1813"/>
                    </a:lnTo>
                    <a:lnTo>
                      <a:pt x="302" y="1774"/>
                    </a:lnTo>
                    <a:lnTo>
                      <a:pt x="268" y="1736"/>
                    </a:lnTo>
                    <a:lnTo>
                      <a:pt x="235" y="1698"/>
                    </a:lnTo>
                    <a:lnTo>
                      <a:pt x="201" y="1659"/>
                    </a:lnTo>
                    <a:lnTo>
                      <a:pt x="172" y="1616"/>
                    </a:lnTo>
                    <a:lnTo>
                      <a:pt x="144" y="1573"/>
                    </a:lnTo>
                    <a:lnTo>
                      <a:pt x="120" y="1530"/>
                    </a:lnTo>
                    <a:lnTo>
                      <a:pt x="96" y="1487"/>
                    </a:lnTo>
                    <a:lnTo>
                      <a:pt x="76" y="1439"/>
                    </a:lnTo>
                    <a:lnTo>
                      <a:pt x="57" y="1391"/>
                    </a:lnTo>
                    <a:lnTo>
                      <a:pt x="43" y="1347"/>
                    </a:lnTo>
                    <a:lnTo>
                      <a:pt x="28" y="1295"/>
                    </a:lnTo>
                    <a:lnTo>
                      <a:pt x="19" y="1247"/>
                    </a:lnTo>
                    <a:lnTo>
                      <a:pt x="9" y="1199"/>
                    </a:lnTo>
                    <a:lnTo>
                      <a:pt x="4" y="1146"/>
                    </a:lnTo>
                    <a:lnTo>
                      <a:pt x="0" y="1093"/>
                    </a:lnTo>
                    <a:lnTo>
                      <a:pt x="0" y="1040"/>
                    </a:lnTo>
                    <a:lnTo>
                      <a:pt x="0" y="988"/>
                    </a:lnTo>
                    <a:lnTo>
                      <a:pt x="4" y="935"/>
                    </a:lnTo>
                    <a:lnTo>
                      <a:pt x="9" y="882"/>
                    </a:lnTo>
                    <a:lnTo>
                      <a:pt x="19" y="829"/>
                    </a:lnTo>
                    <a:lnTo>
                      <a:pt x="28" y="781"/>
                    </a:lnTo>
                    <a:lnTo>
                      <a:pt x="43" y="733"/>
                    </a:lnTo>
                    <a:lnTo>
                      <a:pt x="57" y="686"/>
                    </a:lnTo>
                    <a:lnTo>
                      <a:pt x="76" y="638"/>
                    </a:lnTo>
                    <a:lnTo>
                      <a:pt x="96" y="594"/>
                    </a:lnTo>
                    <a:lnTo>
                      <a:pt x="120" y="551"/>
                    </a:lnTo>
                    <a:lnTo>
                      <a:pt x="144" y="508"/>
                    </a:lnTo>
                    <a:lnTo>
                      <a:pt x="172" y="465"/>
                    </a:lnTo>
                    <a:lnTo>
                      <a:pt x="201" y="422"/>
                    </a:lnTo>
                    <a:lnTo>
                      <a:pt x="235" y="383"/>
                    </a:lnTo>
                    <a:lnTo>
                      <a:pt x="268" y="340"/>
                    </a:lnTo>
                    <a:lnTo>
                      <a:pt x="307" y="302"/>
                    </a:lnTo>
                    <a:lnTo>
                      <a:pt x="345" y="268"/>
                    </a:lnTo>
                    <a:lnTo>
                      <a:pt x="383" y="235"/>
                    </a:lnTo>
                    <a:lnTo>
                      <a:pt x="422" y="201"/>
                    </a:lnTo>
                    <a:lnTo>
                      <a:pt x="465" y="172"/>
                    </a:lnTo>
                    <a:lnTo>
                      <a:pt x="508" y="144"/>
                    </a:lnTo>
                    <a:lnTo>
                      <a:pt x="551" y="120"/>
                    </a:lnTo>
                    <a:lnTo>
                      <a:pt x="595" y="96"/>
                    </a:lnTo>
                    <a:lnTo>
                      <a:pt x="643" y="76"/>
                    </a:lnTo>
                    <a:lnTo>
                      <a:pt x="686" y="57"/>
                    </a:lnTo>
                    <a:lnTo>
                      <a:pt x="734" y="43"/>
                    </a:lnTo>
                    <a:lnTo>
                      <a:pt x="782" y="28"/>
                    </a:lnTo>
                    <a:lnTo>
                      <a:pt x="835" y="19"/>
                    </a:lnTo>
                    <a:lnTo>
                      <a:pt x="883" y="9"/>
                    </a:lnTo>
                    <a:lnTo>
                      <a:pt x="935" y="4"/>
                    </a:lnTo>
                    <a:lnTo>
                      <a:pt x="988" y="0"/>
                    </a:lnTo>
                    <a:lnTo>
                      <a:pt x="1041" y="0"/>
                    </a:lnTo>
                    <a:lnTo>
                      <a:pt x="1094" y="0"/>
                    </a:lnTo>
                    <a:lnTo>
                      <a:pt x="1146" y="4"/>
                    </a:lnTo>
                    <a:lnTo>
                      <a:pt x="1199" y="9"/>
                    </a:lnTo>
                    <a:lnTo>
                      <a:pt x="1247" y="19"/>
                    </a:lnTo>
                    <a:lnTo>
                      <a:pt x="1300" y="28"/>
                    </a:lnTo>
                    <a:lnTo>
                      <a:pt x="1348" y="43"/>
                    </a:lnTo>
                    <a:lnTo>
                      <a:pt x="1396" y="57"/>
                    </a:lnTo>
                    <a:lnTo>
                      <a:pt x="1439" y="76"/>
                    </a:lnTo>
                    <a:lnTo>
                      <a:pt x="1487" y="96"/>
                    </a:lnTo>
                    <a:lnTo>
                      <a:pt x="1530" y="120"/>
                    </a:lnTo>
                    <a:lnTo>
                      <a:pt x="1574" y="144"/>
                    </a:lnTo>
                    <a:lnTo>
                      <a:pt x="1617" y="172"/>
                    </a:lnTo>
                    <a:lnTo>
                      <a:pt x="1660" y="201"/>
                    </a:lnTo>
                    <a:lnTo>
                      <a:pt x="1698" y="235"/>
                    </a:lnTo>
                    <a:lnTo>
                      <a:pt x="1737" y="268"/>
                    </a:lnTo>
                    <a:lnTo>
                      <a:pt x="1775" y="302"/>
                    </a:lnTo>
                    <a:lnTo>
                      <a:pt x="1813" y="340"/>
                    </a:lnTo>
                    <a:lnTo>
                      <a:pt x="1847" y="383"/>
                    </a:lnTo>
                    <a:lnTo>
                      <a:pt x="1881" y="422"/>
                    </a:lnTo>
                    <a:lnTo>
                      <a:pt x="1909" y="465"/>
                    </a:lnTo>
                    <a:lnTo>
                      <a:pt x="1938" y="508"/>
                    </a:lnTo>
                    <a:lnTo>
                      <a:pt x="1962" y="551"/>
                    </a:lnTo>
                    <a:lnTo>
                      <a:pt x="1986" y="594"/>
                    </a:lnTo>
                    <a:lnTo>
                      <a:pt x="2005" y="638"/>
                    </a:lnTo>
                    <a:lnTo>
                      <a:pt x="2025" y="686"/>
                    </a:lnTo>
                    <a:lnTo>
                      <a:pt x="2039" y="733"/>
                    </a:lnTo>
                    <a:lnTo>
                      <a:pt x="2053" y="781"/>
                    </a:lnTo>
                    <a:lnTo>
                      <a:pt x="2063" y="829"/>
                    </a:lnTo>
                    <a:lnTo>
                      <a:pt x="2073" y="882"/>
                    </a:lnTo>
                    <a:lnTo>
                      <a:pt x="2077" y="935"/>
                    </a:lnTo>
                    <a:lnTo>
                      <a:pt x="2082" y="988"/>
                    </a:lnTo>
                    <a:lnTo>
                      <a:pt x="2082" y="1040"/>
                    </a:lnTo>
                    <a:lnTo>
                      <a:pt x="2082" y="1093"/>
                    </a:lnTo>
                    <a:lnTo>
                      <a:pt x="2077" y="1146"/>
                    </a:lnTo>
                    <a:lnTo>
                      <a:pt x="2073" y="1199"/>
                    </a:lnTo>
                    <a:lnTo>
                      <a:pt x="2063" y="1247"/>
                    </a:lnTo>
                    <a:lnTo>
                      <a:pt x="2053" y="1295"/>
                    </a:lnTo>
                    <a:lnTo>
                      <a:pt x="2039" y="1347"/>
                    </a:lnTo>
                    <a:lnTo>
                      <a:pt x="2025" y="1391"/>
                    </a:lnTo>
                    <a:lnTo>
                      <a:pt x="2005" y="1439"/>
                    </a:lnTo>
                    <a:lnTo>
                      <a:pt x="1986" y="1487"/>
                    </a:lnTo>
                    <a:lnTo>
                      <a:pt x="1962" y="1530"/>
                    </a:lnTo>
                    <a:lnTo>
                      <a:pt x="1938" y="1573"/>
                    </a:lnTo>
                    <a:lnTo>
                      <a:pt x="1909" y="1616"/>
                    </a:lnTo>
                    <a:lnTo>
                      <a:pt x="1881" y="1659"/>
                    </a:lnTo>
                    <a:lnTo>
                      <a:pt x="1847" y="1698"/>
                    </a:lnTo>
                    <a:lnTo>
                      <a:pt x="1813" y="1736"/>
                    </a:lnTo>
                    <a:lnTo>
                      <a:pt x="1775" y="1774"/>
                    </a:lnTo>
                    <a:lnTo>
                      <a:pt x="1737" y="1813"/>
                    </a:lnTo>
                    <a:lnTo>
                      <a:pt x="1698" y="1846"/>
                    </a:lnTo>
                    <a:lnTo>
                      <a:pt x="1660" y="1880"/>
                    </a:lnTo>
                    <a:lnTo>
                      <a:pt x="1617" y="1909"/>
                    </a:lnTo>
                    <a:lnTo>
                      <a:pt x="1574" y="1937"/>
                    </a:lnTo>
                    <a:lnTo>
                      <a:pt x="1530" y="1961"/>
                    </a:lnTo>
                    <a:lnTo>
                      <a:pt x="1487" y="1985"/>
                    </a:lnTo>
                    <a:lnTo>
                      <a:pt x="1439" y="2005"/>
                    </a:lnTo>
                    <a:lnTo>
                      <a:pt x="1396" y="2024"/>
                    </a:lnTo>
                    <a:lnTo>
                      <a:pt x="1348" y="2038"/>
                    </a:lnTo>
                    <a:lnTo>
                      <a:pt x="1300" y="2053"/>
                    </a:lnTo>
                    <a:lnTo>
                      <a:pt x="1247" y="2062"/>
                    </a:lnTo>
                    <a:lnTo>
                      <a:pt x="1199" y="2072"/>
                    </a:lnTo>
                    <a:lnTo>
                      <a:pt x="1146" y="2077"/>
                    </a:lnTo>
                    <a:lnTo>
                      <a:pt x="1094" y="2081"/>
                    </a:lnTo>
                    <a:lnTo>
                      <a:pt x="1041" y="20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162"/>
              <p:cNvSpPr/>
              <p:nvPr/>
            </p:nvSpPr>
            <p:spPr>
              <a:xfrm>
                <a:off x="1248480" y="4978440"/>
                <a:ext cx="500040" cy="446760"/>
              </a:xfrm>
              <a:custGeom>
                <a:avLst/>
                <a:gdLst/>
                <a:ahLst/>
                <a:rect l="l" t="t" r="r" b="b"/>
                <a:pathLst>
                  <a:path w="500" h="446">
                    <a:moveTo>
                      <a:pt x="140" y="446"/>
                    </a:moveTo>
                    <a:lnTo>
                      <a:pt x="0" y="206"/>
                    </a:lnTo>
                    <a:lnTo>
                      <a:pt x="360" y="0"/>
                    </a:lnTo>
                    <a:lnTo>
                      <a:pt x="500" y="240"/>
                    </a:lnTo>
                    <a:lnTo>
                      <a:pt x="140" y="4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163"/>
              <p:cNvSpPr/>
              <p:nvPr/>
            </p:nvSpPr>
            <p:spPr>
              <a:xfrm>
                <a:off x="2206800" y="4978440"/>
                <a:ext cx="498600" cy="446760"/>
              </a:xfrm>
              <a:custGeom>
                <a:avLst/>
                <a:gdLst/>
                <a:ahLst/>
                <a:rect l="l" t="t" r="r" b="b"/>
                <a:pathLst>
                  <a:path w="499" h="446">
                    <a:moveTo>
                      <a:pt x="360" y="446"/>
                    </a:moveTo>
                    <a:lnTo>
                      <a:pt x="0" y="240"/>
                    </a:lnTo>
                    <a:lnTo>
                      <a:pt x="139" y="0"/>
                    </a:lnTo>
                    <a:lnTo>
                      <a:pt x="499" y="206"/>
                    </a:lnTo>
                    <a:lnTo>
                      <a:pt x="360" y="4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1" name="Oval 209"/>
            <p:cNvSpPr/>
            <p:nvPr/>
          </p:nvSpPr>
          <p:spPr>
            <a:xfrm>
              <a:off x="1886040" y="4210200"/>
              <a:ext cx="162000" cy="16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 Box 211"/>
          <p:cNvSpPr/>
          <p:nvPr/>
        </p:nvSpPr>
        <p:spPr>
          <a:xfrm>
            <a:off x="2954160" y="54324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212"/>
          <p:cNvSpPr/>
          <p:nvPr/>
        </p:nvSpPr>
        <p:spPr>
          <a:xfrm>
            <a:off x="587520" y="540072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213"/>
          <p:cNvSpPr/>
          <p:nvPr/>
        </p:nvSpPr>
        <p:spPr>
          <a:xfrm>
            <a:off x="2225520" y="34830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14"/>
          <p:cNvSpPr/>
          <p:nvPr/>
        </p:nvSpPr>
        <p:spPr>
          <a:xfrm>
            <a:off x="1477800" y="60674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Group 216"/>
          <p:cNvGrpSpPr/>
          <p:nvPr/>
        </p:nvGrpSpPr>
        <p:grpSpPr>
          <a:xfrm>
            <a:off x="5678640" y="3900600"/>
            <a:ext cx="2084400" cy="2065320"/>
            <a:chOff x="5678640" y="3900600"/>
            <a:chExt cx="2084400" cy="2065320"/>
          </a:xfrm>
        </p:grpSpPr>
        <p:sp>
          <p:nvSpPr>
            <p:cNvPr id="1257" name="Freeform 217"/>
            <p:cNvSpPr/>
            <p:nvPr/>
          </p:nvSpPr>
          <p:spPr>
            <a:xfrm>
              <a:off x="6764400" y="3900600"/>
              <a:ext cx="982800" cy="9907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218"/>
            <p:cNvSpPr/>
            <p:nvPr/>
          </p:nvSpPr>
          <p:spPr>
            <a:xfrm>
              <a:off x="6815520" y="3957840"/>
              <a:ext cx="868320" cy="8683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19"/>
            <p:cNvSpPr/>
            <p:nvPr/>
          </p:nvSpPr>
          <p:spPr>
            <a:xfrm>
              <a:off x="6931440" y="4068720"/>
              <a:ext cx="630000" cy="63684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20"/>
            <p:cNvSpPr/>
            <p:nvPr/>
          </p:nvSpPr>
          <p:spPr>
            <a:xfrm>
              <a:off x="5678640" y="3922920"/>
              <a:ext cx="1005120" cy="9730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21"/>
            <p:cNvSpPr/>
            <p:nvPr/>
          </p:nvSpPr>
          <p:spPr>
            <a:xfrm>
              <a:off x="5742360" y="3981600"/>
              <a:ext cx="884160" cy="84924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22"/>
            <p:cNvSpPr/>
            <p:nvPr/>
          </p:nvSpPr>
          <p:spPr>
            <a:xfrm>
              <a:off x="5864400" y="409104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23"/>
            <p:cNvSpPr/>
            <p:nvPr/>
          </p:nvSpPr>
          <p:spPr>
            <a:xfrm>
              <a:off x="5700960" y="4965840"/>
              <a:ext cx="971640" cy="100008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24"/>
            <p:cNvSpPr/>
            <p:nvPr/>
          </p:nvSpPr>
          <p:spPr>
            <a:xfrm>
              <a:off x="5759640" y="5023080"/>
              <a:ext cx="847800" cy="8794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25"/>
            <p:cNvSpPr/>
            <p:nvPr/>
          </p:nvSpPr>
          <p:spPr>
            <a:xfrm>
              <a:off x="5869080" y="5132520"/>
              <a:ext cx="619200" cy="647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26"/>
            <p:cNvSpPr/>
            <p:nvPr/>
          </p:nvSpPr>
          <p:spPr>
            <a:xfrm>
              <a:off x="6764400" y="4965840"/>
              <a:ext cx="998640" cy="97164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27"/>
            <p:cNvSpPr/>
            <p:nvPr/>
          </p:nvSpPr>
          <p:spPr>
            <a:xfrm>
              <a:off x="6821640" y="5023080"/>
              <a:ext cx="884160" cy="85068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28"/>
            <p:cNvSpPr/>
            <p:nvPr/>
          </p:nvSpPr>
          <p:spPr>
            <a:xfrm>
              <a:off x="6950160" y="513252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230"/>
          <p:cNvGrpSpPr/>
          <p:nvPr/>
        </p:nvGrpSpPr>
        <p:grpSpPr>
          <a:xfrm>
            <a:off x="5645160" y="3851280"/>
            <a:ext cx="2166480" cy="2149200"/>
            <a:chOff x="5645160" y="3851280"/>
            <a:chExt cx="2166480" cy="2149200"/>
          </a:xfrm>
        </p:grpSpPr>
        <p:sp>
          <p:nvSpPr>
            <p:cNvPr id="1270" name="Freeform 231"/>
            <p:cNvSpPr/>
            <p:nvPr/>
          </p:nvSpPr>
          <p:spPr>
            <a:xfrm>
              <a:off x="6773760" y="3851280"/>
              <a:ext cx="1020600" cy="102996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232"/>
            <p:cNvSpPr/>
            <p:nvPr/>
          </p:nvSpPr>
          <p:spPr>
            <a:xfrm>
              <a:off x="6827040" y="3910680"/>
              <a:ext cx="901440" cy="90324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233"/>
            <p:cNvSpPr/>
            <p:nvPr/>
          </p:nvSpPr>
          <p:spPr>
            <a:xfrm>
              <a:off x="6947640" y="4026240"/>
              <a:ext cx="654120" cy="66240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234"/>
            <p:cNvSpPr/>
            <p:nvPr/>
          </p:nvSpPr>
          <p:spPr>
            <a:xfrm>
              <a:off x="5645160" y="3874320"/>
              <a:ext cx="1044360" cy="10126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235"/>
            <p:cNvSpPr/>
            <p:nvPr/>
          </p:nvSpPr>
          <p:spPr>
            <a:xfrm>
              <a:off x="5711040" y="3935520"/>
              <a:ext cx="918720" cy="88452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236"/>
            <p:cNvSpPr/>
            <p:nvPr/>
          </p:nvSpPr>
          <p:spPr>
            <a:xfrm>
              <a:off x="5837760" y="40496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237"/>
            <p:cNvSpPr/>
            <p:nvPr/>
          </p:nvSpPr>
          <p:spPr>
            <a:xfrm>
              <a:off x="5668560" y="4959360"/>
              <a:ext cx="1009440" cy="104112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38"/>
            <p:cNvSpPr/>
            <p:nvPr/>
          </p:nvSpPr>
          <p:spPr>
            <a:xfrm>
              <a:off x="5729400" y="5019120"/>
              <a:ext cx="881640" cy="91584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239"/>
            <p:cNvSpPr/>
            <p:nvPr/>
          </p:nvSpPr>
          <p:spPr>
            <a:xfrm>
              <a:off x="5843880" y="5133240"/>
              <a:ext cx="641880" cy="674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240"/>
            <p:cNvSpPr/>
            <p:nvPr/>
          </p:nvSpPr>
          <p:spPr>
            <a:xfrm>
              <a:off x="6773760" y="4959360"/>
              <a:ext cx="1037880" cy="101160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241"/>
            <p:cNvSpPr/>
            <p:nvPr/>
          </p:nvSpPr>
          <p:spPr>
            <a:xfrm>
              <a:off x="6833160" y="5019120"/>
              <a:ext cx="919080" cy="88596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242"/>
            <p:cNvSpPr/>
            <p:nvPr/>
          </p:nvSpPr>
          <p:spPr>
            <a:xfrm>
              <a:off x="6966360" y="5133240"/>
              <a:ext cx="671760" cy="64476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Oval 243"/>
          <p:cNvSpPr/>
          <p:nvPr/>
        </p:nvSpPr>
        <p:spPr>
          <a:xfrm>
            <a:off x="7353360" y="4089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244"/>
          <p:cNvSpPr/>
          <p:nvPr/>
        </p:nvSpPr>
        <p:spPr>
          <a:xfrm>
            <a:off x="2870280" y="1257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i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03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10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17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1204920" y="1379520"/>
            <a:ext cx="1144440" cy="1873440"/>
            <a:chOff x="1204920" y="1379520"/>
            <a:chExt cx="1144440" cy="1873440"/>
          </a:xfrm>
        </p:grpSpPr>
        <p:grpSp>
          <p:nvGrpSpPr>
            <p:cNvPr id="1285" name="Group 3"/>
            <p:cNvGrpSpPr/>
            <p:nvPr/>
          </p:nvGrpSpPr>
          <p:grpSpPr>
            <a:xfrm>
              <a:off x="1701720" y="1379520"/>
              <a:ext cx="149400" cy="1873440"/>
              <a:chOff x="1701720" y="1379520"/>
              <a:chExt cx="149400" cy="1873440"/>
            </a:xfrm>
          </p:grpSpPr>
          <p:sp>
            <p:nvSpPr>
              <p:cNvPr id="1286" name="Rectangle 4"/>
              <p:cNvSpPr/>
              <p:nvPr/>
            </p:nvSpPr>
            <p:spPr>
              <a:xfrm>
                <a:off x="1701720" y="298548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5"/>
              <p:cNvSpPr/>
              <p:nvPr/>
            </p:nvSpPr>
            <p:spPr>
              <a:xfrm>
                <a:off x="1701720" y="271764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Rectangle 6"/>
              <p:cNvSpPr/>
              <p:nvPr/>
            </p:nvSpPr>
            <p:spPr>
              <a:xfrm>
                <a:off x="1701720" y="244980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7"/>
              <p:cNvSpPr/>
              <p:nvPr/>
            </p:nvSpPr>
            <p:spPr>
              <a:xfrm>
                <a:off x="1701720" y="218232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Rectangle 8"/>
              <p:cNvSpPr/>
              <p:nvPr/>
            </p:nvSpPr>
            <p:spPr>
              <a:xfrm>
                <a:off x="1701720" y="191484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Rectangle 9"/>
              <p:cNvSpPr/>
              <p:nvPr/>
            </p:nvSpPr>
            <p:spPr>
              <a:xfrm>
                <a:off x="1701720" y="1647000"/>
                <a:ext cx="14940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10"/>
              <p:cNvSpPr/>
              <p:nvPr/>
            </p:nvSpPr>
            <p:spPr>
              <a:xfrm>
                <a:off x="1701720" y="1379520"/>
                <a:ext cx="149400" cy="267480"/>
              </a:xfrm>
              <a:prstGeom prst="rect">
                <a:avLst/>
              </a:prstGeom>
              <a:solidFill>
                <a:srgbClr val="f9738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3" name="Freeform 11"/>
            <p:cNvSpPr/>
            <p:nvPr/>
          </p:nvSpPr>
          <p:spPr>
            <a:xfrm>
              <a:off x="1852560" y="164952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2"/>
            <p:cNvSpPr/>
            <p:nvPr/>
          </p:nvSpPr>
          <p:spPr>
            <a:xfrm flipH="1">
              <a:off x="1204920" y="16477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Text Box 1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6" name="Group 14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297" name="Group 15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298" name="AutoShape 16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17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AutoShape 18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AutoShape 19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20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3" name="Group 21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304" name="AutoShape 22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AutoShape 23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AutoShape 24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25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26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27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310" name="AutoShape 28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29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30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AutoShape 31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32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Group 33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316" name="AutoShape 34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AutoShape 35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36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AutoShape 37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AutoShape 38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1" name="Group 39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322" name="AutoShape 40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AutoShape 41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AutoShape 42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AutoShape 43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AutoShape 44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AutoShape 45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AutoShape 46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AutoShape 47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AutoShape 48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AutoShape 49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AutoShape 50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AutoShape 51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AutoShape 52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53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336" name="Group 54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337" name="AutoShape 55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AutoShape 56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AutoShape 57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AutoShape 58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Group 59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342" name="AutoShape 60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AutoShape 61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AutoShape 62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AutoShape 63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AutoShape 64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7" name="Group 65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348" name="AutoShape 66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AutoShape 67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AutoShape 68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AutoShape 69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AutoShape 70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3" name="Group 71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354" name="AutoShape 72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AutoShape 73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AutoShape 74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AutoShape 75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AutoShape 76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9" name="AutoShape 77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AutoShape 78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AutoShape 79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AutoShape 80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81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364" name="Group 82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365" name="AutoShape 83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utoShape 84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AutoShape 85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AutoShape 86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9" name="Group 87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370" name="AutoShape 88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AutoShape 89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AutoShape 90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AutoShape 91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AutoShape 92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Group 93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376" name="AutoShape 94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AutoShape 95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AutoShape 96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AutoShape 97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AutoShape 98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1" name="Group 99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382" name="AutoShape 100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AutoShape 101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AutoShape 102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AutoShape 103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AutoShape 104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7" name="AutoShape 105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AutoShape 106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107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108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Group 109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392" name="Group 110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393" name="AutoShape 111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AutoShape 112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AutoShape 113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AutoShape 114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AutoShape 115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8" name="Group 116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399" name="AutoShape 117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AutoShape 118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AutoShape 119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120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121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4" name="Group 122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405" name="AutoShape 123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AutoShape 124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AutoShape 125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126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127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0" name="Group 128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411" name="AutoShape 129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AutoShape 130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AutoShape 131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132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133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Group 134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417" name="AutoShape 135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AutoShape 136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137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AutoShape 138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AutoShape 139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2" name="AutoShape 140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141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AutoShape 142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AutoShape 143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144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AutoShape 145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AutoShape 146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AutoShape 147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AutoShape 148"/>
          <p:cNvSpPr/>
          <p:nvPr/>
        </p:nvSpPr>
        <p:spPr>
          <a:xfrm>
            <a:off x="5864400" y="1405080"/>
            <a:ext cx="1755720" cy="1755720"/>
          </a:xfrm>
          <a:custGeom>
            <a:avLst/>
            <a:gdLst>
              <a:gd name="textAreaLeft" fmla="*/ 257040 w 1755720"/>
              <a:gd name="textAreaRight" fmla="*/ 1498680 w 1755720"/>
              <a:gd name="textAreaTop" fmla="*/ 257040 h 1755720"/>
              <a:gd name="textAreaBottom" fmla="*/ 149868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738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Group 149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sp>
          <p:nvSpPr>
            <p:cNvPr id="1432" name="Freeform 150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902" y="690"/>
                  </a:moveTo>
                  <a:lnTo>
                    <a:pt x="902" y="278"/>
                  </a:lnTo>
                  <a:lnTo>
                    <a:pt x="1180" y="278"/>
                  </a:lnTo>
                  <a:lnTo>
                    <a:pt x="1180" y="690"/>
                  </a:lnTo>
                  <a:lnTo>
                    <a:pt x="902" y="690"/>
                  </a:lnTo>
                  <a:close/>
                  <a:moveTo>
                    <a:pt x="1041" y="1247"/>
                  </a:moveTo>
                  <a:lnTo>
                    <a:pt x="998" y="1242"/>
                  </a:lnTo>
                  <a:lnTo>
                    <a:pt x="959" y="1232"/>
                  </a:lnTo>
                  <a:lnTo>
                    <a:pt x="926" y="1213"/>
                  </a:lnTo>
                  <a:lnTo>
                    <a:pt x="892" y="1189"/>
                  </a:lnTo>
                  <a:lnTo>
                    <a:pt x="868" y="1156"/>
                  </a:lnTo>
                  <a:lnTo>
                    <a:pt x="849" y="1117"/>
                  </a:lnTo>
                  <a:lnTo>
                    <a:pt x="835" y="1079"/>
                  </a:lnTo>
                  <a:lnTo>
                    <a:pt x="830" y="1040"/>
                  </a:lnTo>
                  <a:lnTo>
                    <a:pt x="835" y="997"/>
                  </a:lnTo>
                  <a:lnTo>
                    <a:pt x="849" y="959"/>
                  </a:lnTo>
                  <a:lnTo>
                    <a:pt x="868" y="925"/>
                  </a:lnTo>
                  <a:lnTo>
                    <a:pt x="892" y="892"/>
                  </a:lnTo>
                  <a:lnTo>
                    <a:pt x="926" y="868"/>
                  </a:lnTo>
                  <a:lnTo>
                    <a:pt x="959" y="849"/>
                  </a:lnTo>
                  <a:lnTo>
                    <a:pt x="998" y="834"/>
                  </a:lnTo>
                  <a:lnTo>
                    <a:pt x="1041" y="829"/>
                  </a:lnTo>
                  <a:lnTo>
                    <a:pt x="1079" y="834"/>
                  </a:lnTo>
                  <a:lnTo>
                    <a:pt x="1118" y="849"/>
                  </a:lnTo>
                  <a:lnTo>
                    <a:pt x="1156" y="868"/>
                  </a:lnTo>
                  <a:lnTo>
                    <a:pt x="1185" y="892"/>
                  </a:lnTo>
                  <a:lnTo>
                    <a:pt x="1214" y="925"/>
                  </a:lnTo>
                  <a:lnTo>
                    <a:pt x="1233" y="959"/>
                  </a:lnTo>
                  <a:lnTo>
                    <a:pt x="1242" y="997"/>
                  </a:lnTo>
                  <a:lnTo>
                    <a:pt x="1247" y="1040"/>
                  </a:lnTo>
                  <a:lnTo>
                    <a:pt x="1242" y="1079"/>
                  </a:lnTo>
                  <a:lnTo>
                    <a:pt x="1233" y="1117"/>
                  </a:lnTo>
                  <a:lnTo>
                    <a:pt x="1214" y="1156"/>
                  </a:lnTo>
                  <a:lnTo>
                    <a:pt x="1185" y="1189"/>
                  </a:lnTo>
                  <a:lnTo>
                    <a:pt x="1156" y="1213"/>
                  </a:lnTo>
                  <a:lnTo>
                    <a:pt x="1118" y="1232"/>
                  </a:lnTo>
                  <a:lnTo>
                    <a:pt x="1079" y="1242"/>
                  </a:lnTo>
                  <a:lnTo>
                    <a:pt x="1041" y="1247"/>
                  </a:lnTo>
                  <a:close/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  <a:close/>
                  <a:moveTo>
                    <a:pt x="1041" y="2009"/>
                  </a:moveTo>
                  <a:lnTo>
                    <a:pt x="1137" y="2005"/>
                  </a:lnTo>
                  <a:lnTo>
                    <a:pt x="1233" y="1995"/>
                  </a:lnTo>
                  <a:lnTo>
                    <a:pt x="1324" y="1971"/>
                  </a:lnTo>
                  <a:lnTo>
                    <a:pt x="1415" y="1937"/>
                  </a:lnTo>
                  <a:lnTo>
                    <a:pt x="1497" y="1899"/>
                  </a:lnTo>
                  <a:lnTo>
                    <a:pt x="1578" y="1851"/>
                  </a:lnTo>
                  <a:lnTo>
                    <a:pt x="1655" y="1794"/>
                  </a:lnTo>
                  <a:lnTo>
                    <a:pt x="1727" y="1726"/>
                  </a:lnTo>
                  <a:lnTo>
                    <a:pt x="1794" y="1654"/>
                  </a:lnTo>
                  <a:lnTo>
                    <a:pt x="1852" y="1578"/>
                  </a:lnTo>
                  <a:lnTo>
                    <a:pt x="1900" y="1496"/>
                  </a:lnTo>
                  <a:lnTo>
                    <a:pt x="1943" y="1415"/>
                  </a:lnTo>
                  <a:lnTo>
                    <a:pt x="1972" y="1323"/>
                  </a:lnTo>
                  <a:lnTo>
                    <a:pt x="1996" y="1232"/>
                  </a:lnTo>
                  <a:lnTo>
                    <a:pt x="2005" y="1136"/>
                  </a:lnTo>
                  <a:lnTo>
                    <a:pt x="2010" y="1040"/>
                  </a:lnTo>
                  <a:lnTo>
                    <a:pt x="2005" y="940"/>
                  </a:lnTo>
                  <a:lnTo>
                    <a:pt x="1996" y="844"/>
                  </a:lnTo>
                  <a:lnTo>
                    <a:pt x="1972" y="753"/>
                  </a:lnTo>
                  <a:lnTo>
                    <a:pt x="1943" y="666"/>
                  </a:lnTo>
                  <a:lnTo>
                    <a:pt x="1900" y="585"/>
                  </a:lnTo>
                  <a:lnTo>
                    <a:pt x="1852" y="503"/>
                  </a:lnTo>
                  <a:lnTo>
                    <a:pt x="1794" y="426"/>
                  </a:lnTo>
                  <a:lnTo>
                    <a:pt x="1727" y="355"/>
                  </a:lnTo>
                  <a:lnTo>
                    <a:pt x="1655" y="287"/>
                  </a:lnTo>
                  <a:lnTo>
                    <a:pt x="1578" y="230"/>
                  </a:lnTo>
                  <a:lnTo>
                    <a:pt x="1497" y="182"/>
                  </a:lnTo>
                  <a:lnTo>
                    <a:pt x="1415" y="139"/>
                  </a:lnTo>
                  <a:lnTo>
                    <a:pt x="1324" y="110"/>
                  </a:lnTo>
                  <a:lnTo>
                    <a:pt x="1233" y="86"/>
                  </a:lnTo>
                  <a:lnTo>
                    <a:pt x="1137" y="72"/>
                  </a:lnTo>
                  <a:lnTo>
                    <a:pt x="1041" y="67"/>
                  </a:lnTo>
                  <a:lnTo>
                    <a:pt x="940" y="72"/>
                  </a:lnTo>
                  <a:lnTo>
                    <a:pt x="849" y="86"/>
                  </a:lnTo>
                  <a:lnTo>
                    <a:pt x="758" y="110"/>
                  </a:lnTo>
                  <a:lnTo>
                    <a:pt x="667" y="139"/>
                  </a:lnTo>
                  <a:lnTo>
                    <a:pt x="585" y="182"/>
                  </a:lnTo>
                  <a:lnTo>
                    <a:pt x="503" y="230"/>
                  </a:lnTo>
                  <a:lnTo>
                    <a:pt x="427" y="287"/>
                  </a:lnTo>
                  <a:lnTo>
                    <a:pt x="355" y="355"/>
                  </a:lnTo>
                  <a:lnTo>
                    <a:pt x="287" y="426"/>
                  </a:lnTo>
                  <a:lnTo>
                    <a:pt x="230" y="503"/>
                  </a:lnTo>
                  <a:lnTo>
                    <a:pt x="182" y="585"/>
                  </a:lnTo>
                  <a:lnTo>
                    <a:pt x="139" y="666"/>
                  </a:lnTo>
                  <a:lnTo>
                    <a:pt x="110" y="753"/>
                  </a:lnTo>
                  <a:lnTo>
                    <a:pt x="86" y="844"/>
                  </a:lnTo>
                  <a:lnTo>
                    <a:pt x="72" y="940"/>
                  </a:lnTo>
                  <a:lnTo>
                    <a:pt x="67" y="1040"/>
                  </a:lnTo>
                  <a:lnTo>
                    <a:pt x="72" y="1136"/>
                  </a:lnTo>
                  <a:lnTo>
                    <a:pt x="86" y="1232"/>
                  </a:lnTo>
                  <a:lnTo>
                    <a:pt x="110" y="1323"/>
                  </a:lnTo>
                  <a:lnTo>
                    <a:pt x="139" y="1415"/>
                  </a:lnTo>
                  <a:lnTo>
                    <a:pt x="182" y="1496"/>
                  </a:lnTo>
                  <a:lnTo>
                    <a:pt x="230" y="1578"/>
                  </a:lnTo>
                  <a:lnTo>
                    <a:pt x="287" y="1654"/>
                  </a:lnTo>
                  <a:lnTo>
                    <a:pt x="355" y="1726"/>
                  </a:lnTo>
                  <a:lnTo>
                    <a:pt x="427" y="1794"/>
                  </a:lnTo>
                  <a:lnTo>
                    <a:pt x="503" y="1851"/>
                  </a:lnTo>
                  <a:lnTo>
                    <a:pt x="585" y="1899"/>
                  </a:lnTo>
                  <a:lnTo>
                    <a:pt x="667" y="1937"/>
                  </a:lnTo>
                  <a:lnTo>
                    <a:pt x="758" y="1971"/>
                  </a:lnTo>
                  <a:lnTo>
                    <a:pt x="849" y="1995"/>
                  </a:lnTo>
                  <a:lnTo>
                    <a:pt x="940" y="2005"/>
                  </a:lnTo>
                  <a:lnTo>
                    <a:pt x="1041" y="2009"/>
                  </a:lnTo>
                  <a:close/>
                  <a:moveTo>
                    <a:pt x="451" y="1539"/>
                  </a:moveTo>
                  <a:lnTo>
                    <a:pt x="311" y="1299"/>
                  </a:lnTo>
                  <a:lnTo>
                    <a:pt x="671" y="1093"/>
                  </a:lnTo>
                  <a:lnTo>
                    <a:pt x="811" y="1333"/>
                  </a:lnTo>
                  <a:lnTo>
                    <a:pt x="451" y="1539"/>
                  </a:lnTo>
                  <a:close/>
                  <a:moveTo>
                    <a:pt x="1631" y="1539"/>
                  </a:moveTo>
                  <a:lnTo>
                    <a:pt x="1271" y="1333"/>
                  </a:lnTo>
                  <a:lnTo>
                    <a:pt x="1410" y="1093"/>
                  </a:lnTo>
                  <a:lnTo>
                    <a:pt x="1770" y="1299"/>
                  </a:lnTo>
                  <a:lnTo>
                    <a:pt x="1631" y="1539"/>
                  </a:lnTo>
                  <a:close/>
                </a:path>
              </a:pathLst>
            </a:custGeom>
            <a:solidFill>
              <a:srgbClr val="f97383"/>
            </a:solidFill>
            <a:ln w="9360">
              <a:solidFill>
                <a:srgbClr val="f973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51"/>
            <p:cNvSpPr/>
            <p:nvPr/>
          </p:nvSpPr>
          <p:spPr>
            <a:xfrm>
              <a:off x="1838880" y="4165560"/>
              <a:ext cx="277560" cy="4096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52"/>
            <p:cNvSpPr/>
            <p:nvPr/>
          </p:nvSpPr>
          <p:spPr>
            <a:xfrm>
              <a:off x="1767960" y="4715640"/>
              <a:ext cx="415440" cy="417960"/>
            </a:xfrm>
            <a:custGeom>
              <a:avLst/>
              <a:gdLst/>
              <a:ahLst/>
              <a:rect l="l" t="t" r="r" b="b"/>
              <a:pathLst>
                <a:path w="417" h="418">
                  <a:moveTo>
                    <a:pt x="211" y="418"/>
                  </a:moveTo>
                  <a:lnTo>
                    <a:pt x="168" y="413"/>
                  </a:lnTo>
                  <a:lnTo>
                    <a:pt x="129" y="403"/>
                  </a:lnTo>
                  <a:lnTo>
                    <a:pt x="96" y="384"/>
                  </a:lnTo>
                  <a:lnTo>
                    <a:pt x="62" y="360"/>
                  </a:lnTo>
                  <a:lnTo>
                    <a:pt x="38" y="327"/>
                  </a:lnTo>
                  <a:lnTo>
                    <a:pt x="19" y="288"/>
                  </a:lnTo>
                  <a:lnTo>
                    <a:pt x="5" y="250"/>
                  </a:lnTo>
                  <a:lnTo>
                    <a:pt x="0" y="211"/>
                  </a:lnTo>
                  <a:lnTo>
                    <a:pt x="5" y="168"/>
                  </a:lnTo>
                  <a:lnTo>
                    <a:pt x="19" y="130"/>
                  </a:lnTo>
                  <a:lnTo>
                    <a:pt x="38" y="96"/>
                  </a:lnTo>
                  <a:lnTo>
                    <a:pt x="62" y="63"/>
                  </a:lnTo>
                  <a:lnTo>
                    <a:pt x="96" y="39"/>
                  </a:lnTo>
                  <a:lnTo>
                    <a:pt x="129" y="20"/>
                  </a:lnTo>
                  <a:lnTo>
                    <a:pt x="168" y="5"/>
                  </a:lnTo>
                  <a:lnTo>
                    <a:pt x="211" y="0"/>
                  </a:lnTo>
                  <a:lnTo>
                    <a:pt x="249" y="5"/>
                  </a:lnTo>
                  <a:lnTo>
                    <a:pt x="288" y="20"/>
                  </a:lnTo>
                  <a:lnTo>
                    <a:pt x="326" y="39"/>
                  </a:lnTo>
                  <a:lnTo>
                    <a:pt x="355" y="63"/>
                  </a:lnTo>
                  <a:lnTo>
                    <a:pt x="384" y="96"/>
                  </a:lnTo>
                  <a:lnTo>
                    <a:pt x="403" y="130"/>
                  </a:lnTo>
                  <a:lnTo>
                    <a:pt x="412" y="168"/>
                  </a:lnTo>
                  <a:lnTo>
                    <a:pt x="417" y="211"/>
                  </a:lnTo>
                  <a:lnTo>
                    <a:pt x="412" y="250"/>
                  </a:lnTo>
                  <a:lnTo>
                    <a:pt x="403" y="288"/>
                  </a:lnTo>
                  <a:lnTo>
                    <a:pt x="384" y="327"/>
                  </a:lnTo>
                  <a:lnTo>
                    <a:pt x="355" y="360"/>
                  </a:lnTo>
                  <a:lnTo>
                    <a:pt x="326" y="384"/>
                  </a:lnTo>
                  <a:lnTo>
                    <a:pt x="288" y="403"/>
                  </a:lnTo>
                  <a:lnTo>
                    <a:pt x="249" y="413"/>
                  </a:lnTo>
                  <a:lnTo>
                    <a:pt x="211" y="4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53"/>
            <p:cNvSpPr/>
            <p:nvPr/>
          </p:nvSpPr>
          <p:spPr>
            <a:xfrm>
              <a:off x="938160" y="3887640"/>
              <a:ext cx="2079360" cy="2077920"/>
            </a:xfrm>
            <a:custGeom>
              <a:avLst/>
              <a:gdLst/>
              <a:ahLst/>
              <a:rect l="l" t="t" r="r" b="b"/>
              <a:pathLst>
                <a:path w="2082" h="2081">
                  <a:moveTo>
                    <a:pt x="1041" y="2081"/>
                  </a:moveTo>
                  <a:lnTo>
                    <a:pt x="988" y="2081"/>
                  </a:lnTo>
                  <a:lnTo>
                    <a:pt x="935" y="2077"/>
                  </a:lnTo>
                  <a:lnTo>
                    <a:pt x="883" y="2072"/>
                  </a:lnTo>
                  <a:lnTo>
                    <a:pt x="835" y="2062"/>
                  </a:lnTo>
                  <a:lnTo>
                    <a:pt x="782" y="2053"/>
                  </a:lnTo>
                  <a:lnTo>
                    <a:pt x="734" y="2038"/>
                  </a:lnTo>
                  <a:lnTo>
                    <a:pt x="686" y="2024"/>
                  </a:lnTo>
                  <a:lnTo>
                    <a:pt x="643" y="2005"/>
                  </a:lnTo>
                  <a:lnTo>
                    <a:pt x="595" y="1985"/>
                  </a:lnTo>
                  <a:lnTo>
                    <a:pt x="551" y="1961"/>
                  </a:lnTo>
                  <a:lnTo>
                    <a:pt x="508" y="1937"/>
                  </a:lnTo>
                  <a:lnTo>
                    <a:pt x="465" y="1909"/>
                  </a:lnTo>
                  <a:lnTo>
                    <a:pt x="422" y="1880"/>
                  </a:lnTo>
                  <a:lnTo>
                    <a:pt x="383" y="1846"/>
                  </a:lnTo>
                  <a:lnTo>
                    <a:pt x="340" y="1813"/>
                  </a:lnTo>
                  <a:lnTo>
                    <a:pt x="302" y="1774"/>
                  </a:lnTo>
                  <a:lnTo>
                    <a:pt x="268" y="1736"/>
                  </a:lnTo>
                  <a:lnTo>
                    <a:pt x="235" y="1698"/>
                  </a:lnTo>
                  <a:lnTo>
                    <a:pt x="201" y="1659"/>
                  </a:lnTo>
                  <a:lnTo>
                    <a:pt x="172" y="1616"/>
                  </a:lnTo>
                  <a:lnTo>
                    <a:pt x="144" y="1573"/>
                  </a:lnTo>
                  <a:lnTo>
                    <a:pt x="120" y="1530"/>
                  </a:lnTo>
                  <a:lnTo>
                    <a:pt x="96" y="1487"/>
                  </a:lnTo>
                  <a:lnTo>
                    <a:pt x="76" y="1439"/>
                  </a:lnTo>
                  <a:lnTo>
                    <a:pt x="57" y="1391"/>
                  </a:lnTo>
                  <a:lnTo>
                    <a:pt x="43" y="1347"/>
                  </a:lnTo>
                  <a:lnTo>
                    <a:pt x="28" y="1295"/>
                  </a:lnTo>
                  <a:lnTo>
                    <a:pt x="19" y="1247"/>
                  </a:lnTo>
                  <a:lnTo>
                    <a:pt x="9" y="1199"/>
                  </a:lnTo>
                  <a:lnTo>
                    <a:pt x="4" y="1146"/>
                  </a:lnTo>
                  <a:lnTo>
                    <a:pt x="0" y="1093"/>
                  </a:lnTo>
                  <a:lnTo>
                    <a:pt x="0" y="1040"/>
                  </a:lnTo>
                  <a:lnTo>
                    <a:pt x="0" y="988"/>
                  </a:lnTo>
                  <a:lnTo>
                    <a:pt x="4" y="935"/>
                  </a:lnTo>
                  <a:lnTo>
                    <a:pt x="9" y="882"/>
                  </a:lnTo>
                  <a:lnTo>
                    <a:pt x="19" y="829"/>
                  </a:lnTo>
                  <a:lnTo>
                    <a:pt x="28" y="781"/>
                  </a:lnTo>
                  <a:lnTo>
                    <a:pt x="43" y="733"/>
                  </a:lnTo>
                  <a:lnTo>
                    <a:pt x="57" y="686"/>
                  </a:lnTo>
                  <a:lnTo>
                    <a:pt x="76" y="638"/>
                  </a:lnTo>
                  <a:lnTo>
                    <a:pt x="96" y="594"/>
                  </a:lnTo>
                  <a:lnTo>
                    <a:pt x="120" y="551"/>
                  </a:lnTo>
                  <a:lnTo>
                    <a:pt x="144" y="508"/>
                  </a:lnTo>
                  <a:lnTo>
                    <a:pt x="172" y="465"/>
                  </a:lnTo>
                  <a:lnTo>
                    <a:pt x="201" y="422"/>
                  </a:lnTo>
                  <a:lnTo>
                    <a:pt x="235" y="383"/>
                  </a:lnTo>
                  <a:lnTo>
                    <a:pt x="268" y="340"/>
                  </a:lnTo>
                  <a:lnTo>
                    <a:pt x="307" y="302"/>
                  </a:lnTo>
                  <a:lnTo>
                    <a:pt x="345" y="268"/>
                  </a:lnTo>
                  <a:lnTo>
                    <a:pt x="383" y="235"/>
                  </a:lnTo>
                  <a:lnTo>
                    <a:pt x="422" y="201"/>
                  </a:lnTo>
                  <a:lnTo>
                    <a:pt x="465" y="172"/>
                  </a:lnTo>
                  <a:lnTo>
                    <a:pt x="508" y="144"/>
                  </a:lnTo>
                  <a:lnTo>
                    <a:pt x="551" y="120"/>
                  </a:lnTo>
                  <a:lnTo>
                    <a:pt x="595" y="96"/>
                  </a:lnTo>
                  <a:lnTo>
                    <a:pt x="643" y="76"/>
                  </a:lnTo>
                  <a:lnTo>
                    <a:pt x="686" y="57"/>
                  </a:lnTo>
                  <a:lnTo>
                    <a:pt x="734" y="43"/>
                  </a:lnTo>
                  <a:lnTo>
                    <a:pt x="782" y="28"/>
                  </a:lnTo>
                  <a:lnTo>
                    <a:pt x="835" y="19"/>
                  </a:lnTo>
                  <a:lnTo>
                    <a:pt x="883" y="9"/>
                  </a:lnTo>
                  <a:lnTo>
                    <a:pt x="935" y="4"/>
                  </a:lnTo>
                  <a:lnTo>
                    <a:pt x="988" y="0"/>
                  </a:lnTo>
                  <a:lnTo>
                    <a:pt x="1041" y="0"/>
                  </a:lnTo>
                  <a:lnTo>
                    <a:pt x="1094" y="0"/>
                  </a:lnTo>
                  <a:lnTo>
                    <a:pt x="1146" y="4"/>
                  </a:lnTo>
                  <a:lnTo>
                    <a:pt x="1199" y="9"/>
                  </a:lnTo>
                  <a:lnTo>
                    <a:pt x="1247" y="19"/>
                  </a:lnTo>
                  <a:lnTo>
                    <a:pt x="1300" y="28"/>
                  </a:lnTo>
                  <a:lnTo>
                    <a:pt x="1348" y="43"/>
                  </a:lnTo>
                  <a:lnTo>
                    <a:pt x="1396" y="57"/>
                  </a:lnTo>
                  <a:lnTo>
                    <a:pt x="1439" y="76"/>
                  </a:lnTo>
                  <a:lnTo>
                    <a:pt x="1487" y="96"/>
                  </a:lnTo>
                  <a:lnTo>
                    <a:pt x="1530" y="120"/>
                  </a:lnTo>
                  <a:lnTo>
                    <a:pt x="1574" y="144"/>
                  </a:lnTo>
                  <a:lnTo>
                    <a:pt x="1617" y="172"/>
                  </a:lnTo>
                  <a:lnTo>
                    <a:pt x="1660" y="201"/>
                  </a:lnTo>
                  <a:lnTo>
                    <a:pt x="1698" y="235"/>
                  </a:lnTo>
                  <a:lnTo>
                    <a:pt x="1737" y="268"/>
                  </a:lnTo>
                  <a:lnTo>
                    <a:pt x="1775" y="302"/>
                  </a:lnTo>
                  <a:lnTo>
                    <a:pt x="1813" y="340"/>
                  </a:lnTo>
                  <a:lnTo>
                    <a:pt x="1847" y="383"/>
                  </a:lnTo>
                  <a:lnTo>
                    <a:pt x="1881" y="422"/>
                  </a:lnTo>
                  <a:lnTo>
                    <a:pt x="1909" y="465"/>
                  </a:lnTo>
                  <a:lnTo>
                    <a:pt x="1938" y="508"/>
                  </a:lnTo>
                  <a:lnTo>
                    <a:pt x="1962" y="551"/>
                  </a:lnTo>
                  <a:lnTo>
                    <a:pt x="1986" y="594"/>
                  </a:lnTo>
                  <a:lnTo>
                    <a:pt x="2005" y="638"/>
                  </a:lnTo>
                  <a:lnTo>
                    <a:pt x="2025" y="686"/>
                  </a:lnTo>
                  <a:lnTo>
                    <a:pt x="2039" y="733"/>
                  </a:lnTo>
                  <a:lnTo>
                    <a:pt x="2053" y="781"/>
                  </a:lnTo>
                  <a:lnTo>
                    <a:pt x="2063" y="829"/>
                  </a:lnTo>
                  <a:lnTo>
                    <a:pt x="2073" y="882"/>
                  </a:lnTo>
                  <a:lnTo>
                    <a:pt x="2077" y="935"/>
                  </a:lnTo>
                  <a:lnTo>
                    <a:pt x="2082" y="988"/>
                  </a:lnTo>
                  <a:lnTo>
                    <a:pt x="2082" y="1040"/>
                  </a:lnTo>
                  <a:lnTo>
                    <a:pt x="2082" y="1093"/>
                  </a:lnTo>
                  <a:lnTo>
                    <a:pt x="2077" y="1146"/>
                  </a:lnTo>
                  <a:lnTo>
                    <a:pt x="2073" y="1199"/>
                  </a:lnTo>
                  <a:lnTo>
                    <a:pt x="2063" y="1247"/>
                  </a:lnTo>
                  <a:lnTo>
                    <a:pt x="2053" y="1295"/>
                  </a:lnTo>
                  <a:lnTo>
                    <a:pt x="2039" y="1347"/>
                  </a:lnTo>
                  <a:lnTo>
                    <a:pt x="2025" y="1391"/>
                  </a:lnTo>
                  <a:lnTo>
                    <a:pt x="2005" y="1439"/>
                  </a:lnTo>
                  <a:lnTo>
                    <a:pt x="1986" y="1487"/>
                  </a:lnTo>
                  <a:lnTo>
                    <a:pt x="1962" y="1530"/>
                  </a:lnTo>
                  <a:lnTo>
                    <a:pt x="1938" y="1573"/>
                  </a:lnTo>
                  <a:lnTo>
                    <a:pt x="1909" y="1616"/>
                  </a:lnTo>
                  <a:lnTo>
                    <a:pt x="1881" y="1659"/>
                  </a:lnTo>
                  <a:lnTo>
                    <a:pt x="1847" y="1698"/>
                  </a:lnTo>
                  <a:lnTo>
                    <a:pt x="1813" y="1736"/>
                  </a:lnTo>
                  <a:lnTo>
                    <a:pt x="1775" y="1774"/>
                  </a:lnTo>
                  <a:lnTo>
                    <a:pt x="1737" y="1813"/>
                  </a:lnTo>
                  <a:lnTo>
                    <a:pt x="1698" y="1846"/>
                  </a:lnTo>
                  <a:lnTo>
                    <a:pt x="1660" y="1880"/>
                  </a:lnTo>
                  <a:lnTo>
                    <a:pt x="1617" y="1909"/>
                  </a:lnTo>
                  <a:lnTo>
                    <a:pt x="1574" y="1937"/>
                  </a:lnTo>
                  <a:lnTo>
                    <a:pt x="1530" y="1961"/>
                  </a:lnTo>
                  <a:lnTo>
                    <a:pt x="1487" y="1985"/>
                  </a:lnTo>
                  <a:lnTo>
                    <a:pt x="1439" y="2005"/>
                  </a:lnTo>
                  <a:lnTo>
                    <a:pt x="1396" y="2024"/>
                  </a:lnTo>
                  <a:lnTo>
                    <a:pt x="1348" y="2038"/>
                  </a:lnTo>
                  <a:lnTo>
                    <a:pt x="1300" y="2053"/>
                  </a:lnTo>
                  <a:lnTo>
                    <a:pt x="1247" y="2062"/>
                  </a:lnTo>
                  <a:lnTo>
                    <a:pt x="1199" y="2072"/>
                  </a:lnTo>
                  <a:lnTo>
                    <a:pt x="1146" y="2077"/>
                  </a:lnTo>
                  <a:lnTo>
                    <a:pt x="1094" y="2081"/>
                  </a:lnTo>
                  <a:lnTo>
                    <a:pt x="1041" y="20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54"/>
            <p:cNvSpPr/>
            <p:nvPr/>
          </p:nvSpPr>
          <p:spPr>
            <a:xfrm>
              <a:off x="1248840" y="4978440"/>
              <a:ext cx="499680" cy="446760"/>
            </a:xfrm>
            <a:custGeom>
              <a:avLst/>
              <a:gdLst/>
              <a:ahLst/>
              <a:rect l="l" t="t" r="r" b="b"/>
              <a:pathLst>
                <a:path w="500" h="446">
                  <a:moveTo>
                    <a:pt x="140" y="446"/>
                  </a:moveTo>
                  <a:lnTo>
                    <a:pt x="0" y="206"/>
                  </a:lnTo>
                  <a:lnTo>
                    <a:pt x="360" y="0"/>
                  </a:lnTo>
                  <a:lnTo>
                    <a:pt x="500" y="240"/>
                  </a:lnTo>
                  <a:lnTo>
                    <a:pt x="14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55"/>
            <p:cNvSpPr/>
            <p:nvPr/>
          </p:nvSpPr>
          <p:spPr>
            <a:xfrm>
              <a:off x="2206800" y="4978440"/>
              <a:ext cx="498240" cy="446760"/>
            </a:xfrm>
            <a:custGeom>
              <a:avLst/>
              <a:gdLst/>
              <a:ahLst/>
              <a:rect l="l" t="t" r="r" b="b"/>
              <a:pathLst>
                <a:path w="499" h="446">
                  <a:moveTo>
                    <a:pt x="360" y="446"/>
                  </a:moveTo>
                  <a:lnTo>
                    <a:pt x="0" y="240"/>
                  </a:lnTo>
                  <a:lnTo>
                    <a:pt x="139" y="0"/>
                  </a:lnTo>
                  <a:lnTo>
                    <a:pt x="499" y="206"/>
                  </a:lnTo>
                  <a:lnTo>
                    <a:pt x="360" y="44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Group 182"/>
          <p:cNvGrpSpPr/>
          <p:nvPr/>
        </p:nvGrpSpPr>
        <p:grpSpPr>
          <a:xfrm>
            <a:off x="1204920" y="1379520"/>
            <a:ext cx="1144080" cy="1873440"/>
            <a:chOff x="1204920" y="1379520"/>
            <a:chExt cx="1144080" cy="1873440"/>
          </a:xfrm>
        </p:grpSpPr>
        <p:grpSp>
          <p:nvGrpSpPr>
            <p:cNvPr id="1439" name="Group 183"/>
            <p:cNvGrpSpPr/>
            <p:nvPr/>
          </p:nvGrpSpPr>
          <p:grpSpPr>
            <a:xfrm>
              <a:off x="1701720" y="1379520"/>
              <a:ext cx="148680" cy="1873440"/>
              <a:chOff x="1701720" y="1379520"/>
              <a:chExt cx="148680" cy="1873440"/>
            </a:xfrm>
          </p:grpSpPr>
          <p:sp>
            <p:nvSpPr>
              <p:cNvPr id="1440" name="Rectangle 184"/>
              <p:cNvSpPr/>
              <p:nvPr/>
            </p:nvSpPr>
            <p:spPr>
              <a:xfrm>
                <a:off x="1701720" y="298548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185"/>
              <p:cNvSpPr/>
              <p:nvPr/>
            </p:nvSpPr>
            <p:spPr>
              <a:xfrm>
                <a:off x="1701720" y="271764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186"/>
              <p:cNvSpPr/>
              <p:nvPr/>
            </p:nvSpPr>
            <p:spPr>
              <a:xfrm>
                <a:off x="1701720" y="244980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187"/>
              <p:cNvSpPr/>
              <p:nvPr/>
            </p:nvSpPr>
            <p:spPr>
              <a:xfrm>
                <a:off x="1701720" y="218232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88"/>
              <p:cNvSpPr/>
              <p:nvPr/>
            </p:nvSpPr>
            <p:spPr>
              <a:xfrm>
                <a:off x="1701720" y="191484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189"/>
              <p:cNvSpPr/>
              <p:nvPr/>
            </p:nvSpPr>
            <p:spPr>
              <a:xfrm>
                <a:off x="1701720" y="1647000"/>
                <a:ext cx="148680" cy="267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190"/>
              <p:cNvSpPr/>
              <p:nvPr/>
            </p:nvSpPr>
            <p:spPr>
              <a:xfrm>
                <a:off x="1701720" y="1379520"/>
                <a:ext cx="148680" cy="267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7" name="Freeform 191"/>
            <p:cNvSpPr/>
            <p:nvPr/>
          </p:nvSpPr>
          <p:spPr>
            <a:xfrm>
              <a:off x="1852200" y="1649520"/>
              <a:ext cx="496800" cy="26208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92"/>
            <p:cNvSpPr/>
            <p:nvPr/>
          </p:nvSpPr>
          <p:spPr>
            <a:xfrm flipH="1">
              <a:off x="1204920" y="1648080"/>
              <a:ext cx="496800" cy="261720"/>
            </a:xfrm>
            <a:custGeom>
              <a:avLst/>
              <a:gdLst/>
              <a:ahLst/>
              <a:rect l="l" t="t" r="r" b="b"/>
              <a:pathLst>
                <a:path w="313" h="262">
                  <a:moveTo>
                    <a:pt x="0" y="0"/>
                  </a:moveTo>
                  <a:lnTo>
                    <a:pt x="313" y="134"/>
                  </a:lnTo>
                  <a:lnTo>
                    <a:pt x="0" y="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Text Box 194"/>
          <p:cNvSpPr/>
          <p:nvPr/>
        </p:nvSpPr>
        <p:spPr>
          <a:xfrm>
            <a:off x="1238400" y="329400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Group 195"/>
          <p:cNvGrpSpPr/>
          <p:nvPr/>
        </p:nvGrpSpPr>
        <p:grpSpPr>
          <a:xfrm>
            <a:off x="5864400" y="1405080"/>
            <a:ext cx="1755720" cy="1755720"/>
            <a:chOff x="5864400" y="1405080"/>
            <a:chExt cx="1755720" cy="1755720"/>
          </a:xfrm>
        </p:grpSpPr>
        <p:sp>
          <p:nvSpPr>
            <p:cNvPr id="1451" name="AutoShape 196"/>
            <p:cNvSpPr/>
            <p:nvPr/>
          </p:nvSpPr>
          <p:spPr>
            <a:xfrm>
              <a:off x="5864400" y="1405080"/>
              <a:ext cx="1755720" cy="1755720"/>
            </a:xfrm>
            <a:custGeom>
              <a:avLst/>
              <a:gdLst>
                <a:gd name="textAreaLeft" fmla="*/ 257040 w 1755720"/>
                <a:gd name="textAreaRight" fmla="*/ 1498680 w 1755720"/>
                <a:gd name="textAreaTop" fmla="*/ 257040 h 1755720"/>
                <a:gd name="textAreaBottom" fmla="*/ 1498680 h 17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97"/>
            <p:cNvSpPr/>
            <p:nvPr/>
          </p:nvSpPr>
          <p:spPr>
            <a:xfrm>
              <a:off x="6108840" y="16430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Text Box 198"/>
          <p:cNvSpPr/>
          <p:nvPr/>
        </p:nvSpPr>
        <p:spPr>
          <a:xfrm>
            <a:off x="7353360" y="300996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199"/>
          <p:cNvSpPr/>
          <p:nvPr/>
        </p:nvSpPr>
        <p:spPr>
          <a:xfrm>
            <a:off x="5654520" y="128268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200"/>
          <p:cNvSpPr/>
          <p:nvPr/>
        </p:nvSpPr>
        <p:spPr>
          <a:xfrm>
            <a:off x="6197760" y="3252960"/>
            <a:ext cx="11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201"/>
          <p:cNvGrpSpPr/>
          <p:nvPr/>
        </p:nvGrpSpPr>
        <p:grpSpPr>
          <a:xfrm>
            <a:off x="938160" y="3887640"/>
            <a:ext cx="2079360" cy="2077920"/>
            <a:chOff x="938160" y="3887640"/>
            <a:chExt cx="2079360" cy="2077920"/>
          </a:xfrm>
        </p:grpSpPr>
        <p:grpSp>
          <p:nvGrpSpPr>
            <p:cNvPr id="1457" name="Group 202"/>
            <p:cNvGrpSpPr/>
            <p:nvPr/>
          </p:nvGrpSpPr>
          <p:grpSpPr>
            <a:xfrm>
              <a:off x="938160" y="3887640"/>
              <a:ext cx="2079360" cy="2077920"/>
              <a:chOff x="938160" y="3887640"/>
              <a:chExt cx="2079360" cy="2077920"/>
            </a:xfrm>
          </p:grpSpPr>
          <p:sp>
            <p:nvSpPr>
              <p:cNvPr id="1458" name="Freeform 203"/>
              <p:cNvSpPr/>
              <p:nvPr/>
            </p:nvSpPr>
            <p:spPr>
              <a:xfrm>
                <a:off x="938160" y="3887640"/>
                <a:ext cx="2079360" cy="2077920"/>
              </a:xfrm>
              <a:custGeom>
                <a:avLst/>
                <a:gdLst/>
                <a:ahLst/>
                <a:rect l="l" t="t" r="r" b="b"/>
                <a:pathLst>
                  <a:path w="2082" h="2081">
                    <a:moveTo>
                      <a:pt x="902" y="690"/>
                    </a:moveTo>
                    <a:lnTo>
                      <a:pt x="902" y="278"/>
                    </a:lnTo>
                    <a:lnTo>
                      <a:pt x="1180" y="278"/>
                    </a:lnTo>
                    <a:lnTo>
                      <a:pt x="1180" y="690"/>
                    </a:lnTo>
                    <a:lnTo>
                      <a:pt x="902" y="690"/>
                    </a:lnTo>
                    <a:close/>
                    <a:moveTo>
                      <a:pt x="1041" y="1247"/>
                    </a:moveTo>
                    <a:lnTo>
                      <a:pt x="998" y="1242"/>
                    </a:lnTo>
                    <a:lnTo>
                      <a:pt x="959" y="1232"/>
                    </a:lnTo>
                    <a:lnTo>
                      <a:pt x="926" y="1213"/>
                    </a:lnTo>
                    <a:lnTo>
                      <a:pt x="892" y="1189"/>
                    </a:lnTo>
                    <a:lnTo>
                      <a:pt x="868" y="1156"/>
                    </a:lnTo>
                    <a:lnTo>
                      <a:pt x="849" y="1117"/>
                    </a:lnTo>
                    <a:lnTo>
                      <a:pt x="835" y="1079"/>
                    </a:lnTo>
                    <a:lnTo>
                      <a:pt x="830" y="1040"/>
                    </a:lnTo>
                    <a:lnTo>
                      <a:pt x="835" y="997"/>
                    </a:lnTo>
                    <a:lnTo>
                      <a:pt x="849" y="959"/>
                    </a:lnTo>
                    <a:lnTo>
                      <a:pt x="868" y="925"/>
                    </a:lnTo>
                    <a:lnTo>
                      <a:pt x="892" y="892"/>
                    </a:lnTo>
                    <a:lnTo>
                      <a:pt x="926" y="868"/>
                    </a:lnTo>
                    <a:lnTo>
                      <a:pt x="959" y="849"/>
                    </a:lnTo>
                    <a:lnTo>
                      <a:pt x="998" y="834"/>
                    </a:lnTo>
                    <a:lnTo>
                      <a:pt x="1041" y="829"/>
                    </a:lnTo>
                    <a:lnTo>
                      <a:pt x="1079" y="834"/>
                    </a:lnTo>
                    <a:lnTo>
                      <a:pt x="1118" y="849"/>
                    </a:lnTo>
                    <a:lnTo>
                      <a:pt x="1156" y="868"/>
                    </a:lnTo>
                    <a:lnTo>
                      <a:pt x="1185" y="892"/>
                    </a:lnTo>
                    <a:lnTo>
                      <a:pt x="1214" y="925"/>
                    </a:lnTo>
                    <a:lnTo>
                      <a:pt x="1233" y="959"/>
                    </a:lnTo>
                    <a:lnTo>
                      <a:pt x="1242" y="997"/>
                    </a:lnTo>
                    <a:lnTo>
                      <a:pt x="1247" y="1040"/>
                    </a:lnTo>
                    <a:lnTo>
                      <a:pt x="1242" y="1079"/>
                    </a:lnTo>
                    <a:lnTo>
                      <a:pt x="1233" y="1117"/>
                    </a:lnTo>
                    <a:lnTo>
                      <a:pt x="1214" y="1156"/>
                    </a:lnTo>
                    <a:lnTo>
                      <a:pt x="1185" y="1189"/>
                    </a:lnTo>
                    <a:lnTo>
                      <a:pt x="1156" y="1213"/>
                    </a:lnTo>
                    <a:lnTo>
                      <a:pt x="1118" y="1232"/>
                    </a:lnTo>
                    <a:lnTo>
                      <a:pt x="1079" y="1242"/>
                    </a:lnTo>
                    <a:lnTo>
                      <a:pt x="1041" y="1247"/>
                    </a:lnTo>
                    <a:close/>
                    <a:moveTo>
                      <a:pt x="1041" y="2081"/>
                    </a:moveTo>
                    <a:lnTo>
                      <a:pt x="988" y="2081"/>
                    </a:lnTo>
                    <a:lnTo>
                      <a:pt x="935" y="2077"/>
                    </a:lnTo>
                    <a:lnTo>
                      <a:pt x="883" y="2072"/>
                    </a:lnTo>
                    <a:lnTo>
                      <a:pt x="835" y="2062"/>
                    </a:lnTo>
                    <a:lnTo>
                      <a:pt x="782" y="2053"/>
                    </a:lnTo>
                    <a:lnTo>
                      <a:pt x="734" y="2038"/>
                    </a:lnTo>
                    <a:lnTo>
                      <a:pt x="686" y="2024"/>
                    </a:lnTo>
                    <a:lnTo>
                      <a:pt x="643" y="2005"/>
                    </a:lnTo>
                    <a:lnTo>
                      <a:pt x="595" y="1985"/>
                    </a:lnTo>
                    <a:lnTo>
                      <a:pt x="551" y="1961"/>
                    </a:lnTo>
                    <a:lnTo>
                      <a:pt x="508" y="1937"/>
                    </a:lnTo>
                    <a:lnTo>
                      <a:pt x="465" y="1909"/>
                    </a:lnTo>
                    <a:lnTo>
                      <a:pt x="422" y="1880"/>
                    </a:lnTo>
                    <a:lnTo>
                      <a:pt x="383" y="1846"/>
                    </a:lnTo>
                    <a:lnTo>
                      <a:pt x="340" y="1813"/>
                    </a:lnTo>
                    <a:lnTo>
                      <a:pt x="302" y="1774"/>
                    </a:lnTo>
                    <a:lnTo>
                      <a:pt x="268" y="1736"/>
                    </a:lnTo>
                    <a:lnTo>
                      <a:pt x="235" y="1698"/>
                    </a:lnTo>
                    <a:lnTo>
                      <a:pt x="201" y="1659"/>
                    </a:lnTo>
                    <a:lnTo>
                      <a:pt x="172" y="1616"/>
                    </a:lnTo>
                    <a:lnTo>
                      <a:pt x="144" y="1573"/>
                    </a:lnTo>
                    <a:lnTo>
                      <a:pt x="120" y="1530"/>
                    </a:lnTo>
                    <a:lnTo>
                      <a:pt x="96" y="1487"/>
                    </a:lnTo>
                    <a:lnTo>
                      <a:pt x="76" y="1439"/>
                    </a:lnTo>
                    <a:lnTo>
                      <a:pt x="57" y="1391"/>
                    </a:lnTo>
                    <a:lnTo>
                      <a:pt x="43" y="1347"/>
                    </a:lnTo>
                    <a:lnTo>
                      <a:pt x="28" y="1295"/>
                    </a:lnTo>
                    <a:lnTo>
                      <a:pt x="19" y="1247"/>
                    </a:lnTo>
                    <a:lnTo>
                      <a:pt x="9" y="1199"/>
                    </a:lnTo>
                    <a:lnTo>
                      <a:pt x="4" y="1146"/>
                    </a:lnTo>
                    <a:lnTo>
                      <a:pt x="0" y="1093"/>
                    </a:lnTo>
                    <a:lnTo>
                      <a:pt x="0" y="1040"/>
                    </a:lnTo>
                    <a:lnTo>
                      <a:pt x="0" y="988"/>
                    </a:lnTo>
                    <a:lnTo>
                      <a:pt x="4" y="935"/>
                    </a:lnTo>
                    <a:lnTo>
                      <a:pt x="9" y="882"/>
                    </a:lnTo>
                    <a:lnTo>
                      <a:pt x="19" y="829"/>
                    </a:lnTo>
                    <a:lnTo>
                      <a:pt x="28" y="781"/>
                    </a:lnTo>
                    <a:lnTo>
                      <a:pt x="43" y="733"/>
                    </a:lnTo>
                    <a:lnTo>
                      <a:pt x="57" y="686"/>
                    </a:lnTo>
                    <a:lnTo>
                      <a:pt x="76" y="638"/>
                    </a:lnTo>
                    <a:lnTo>
                      <a:pt x="96" y="594"/>
                    </a:lnTo>
                    <a:lnTo>
                      <a:pt x="120" y="551"/>
                    </a:lnTo>
                    <a:lnTo>
                      <a:pt x="144" y="508"/>
                    </a:lnTo>
                    <a:lnTo>
                      <a:pt x="172" y="465"/>
                    </a:lnTo>
                    <a:lnTo>
                      <a:pt x="201" y="422"/>
                    </a:lnTo>
                    <a:lnTo>
                      <a:pt x="235" y="383"/>
                    </a:lnTo>
                    <a:lnTo>
                      <a:pt x="268" y="340"/>
                    </a:lnTo>
                    <a:lnTo>
                      <a:pt x="307" y="302"/>
                    </a:lnTo>
                    <a:lnTo>
                      <a:pt x="345" y="268"/>
                    </a:lnTo>
                    <a:lnTo>
                      <a:pt x="383" y="235"/>
                    </a:lnTo>
                    <a:lnTo>
                      <a:pt x="422" y="201"/>
                    </a:lnTo>
                    <a:lnTo>
                      <a:pt x="465" y="172"/>
                    </a:lnTo>
                    <a:lnTo>
                      <a:pt x="508" y="144"/>
                    </a:lnTo>
                    <a:lnTo>
                      <a:pt x="551" y="120"/>
                    </a:lnTo>
                    <a:lnTo>
                      <a:pt x="595" y="96"/>
                    </a:lnTo>
                    <a:lnTo>
                      <a:pt x="643" y="76"/>
                    </a:lnTo>
                    <a:lnTo>
                      <a:pt x="686" y="57"/>
                    </a:lnTo>
                    <a:lnTo>
                      <a:pt x="734" y="43"/>
                    </a:lnTo>
                    <a:lnTo>
                      <a:pt x="782" y="28"/>
                    </a:lnTo>
                    <a:lnTo>
                      <a:pt x="835" y="19"/>
                    </a:lnTo>
                    <a:lnTo>
                      <a:pt x="883" y="9"/>
                    </a:lnTo>
                    <a:lnTo>
                      <a:pt x="935" y="4"/>
                    </a:lnTo>
                    <a:lnTo>
                      <a:pt x="988" y="0"/>
                    </a:lnTo>
                    <a:lnTo>
                      <a:pt x="1041" y="0"/>
                    </a:lnTo>
                    <a:lnTo>
                      <a:pt x="1094" y="0"/>
                    </a:lnTo>
                    <a:lnTo>
                      <a:pt x="1146" y="4"/>
                    </a:lnTo>
                    <a:lnTo>
                      <a:pt x="1199" y="9"/>
                    </a:lnTo>
                    <a:lnTo>
                      <a:pt x="1247" y="19"/>
                    </a:lnTo>
                    <a:lnTo>
                      <a:pt x="1300" y="28"/>
                    </a:lnTo>
                    <a:lnTo>
                      <a:pt x="1348" y="43"/>
                    </a:lnTo>
                    <a:lnTo>
                      <a:pt x="1396" y="57"/>
                    </a:lnTo>
                    <a:lnTo>
                      <a:pt x="1439" y="76"/>
                    </a:lnTo>
                    <a:lnTo>
                      <a:pt x="1487" y="96"/>
                    </a:lnTo>
                    <a:lnTo>
                      <a:pt x="1530" y="120"/>
                    </a:lnTo>
                    <a:lnTo>
                      <a:pt x="1574" y="144"/>
                    </a:lnTo>
                    <a:lnTo>
                      <a:pt x="1617" y="172"/>
                    </a:lnTo>
                    <a:lnTo>
                      <a:pt x="1660" y="201"/>
                    </a:lnTo>
                    <a:lnTo>
                      <a:pt x="1698" y="235"/>
                    </a:lnTo>
                    <a:lnTo>
                      <a:pt x="1737" y="268"/>
                    </a:lnTo>
                    <a:lnTo>
                      <a:pt x="1775" y="302"/>
                    </a:lnTo>
                    <a:lnTo>
                      <a:pt x="1813" y="340"/>
                    </a:lnTo>
                    <a:lnTo>
                      <a:pt x="1847" y="383"/>
                    </a:lnTo>
                    <a:lnTo>
                      <a:pt x="1881" y="422"/>
                    </a:lnTo>
                    <a:lnTo>
                      <a:pt x="1909" y="465"/>
                    </a:lnTo>
                    <a:lnTo>
                      <a:pt x="1938" y="508"/>
                    </a:lnTo>
                    <a:lnTo>
                      <a:pt x="1962" y="551"/>
                    </a:lnTo>
                    <a:lnTo>
                      <a:pt x="1986" y="594"/>
                    </a:lnTo>
                    <a:lnTo>
                      <a:pt x="2005" y="638"/>
                    </a:lnTo>
                    <a:lnTo>
                      <a:pt x="2025" y="686"/>
                    </a:lnTo>
                    <a:lnTo>
                      <a:pt x="2039" y="733"/>
                    </a:lnTo>
                    <a:lnTo>
                      <a:pt x="2053" y="781"/>
                    </a:lnTo>
                    <a:lnTo>
                      <a:pt x="2063" y="829"/>
                    </a:lnTo>
                    <a:lnTo>
                      <a:pt x="2073" y="882"/>
                    </a:lnTo>
                    <a:lnTo>
                      <a:pt x="2077" y="935"/>
                    </a:lnTo>
                    <a:lnTo>
                      <a:pt x="2082" y="988"/>
                    </a:lnTo>
                    <a:lnTo>
                      <a:pt x="2082" y="1040"/>
                    </a:lnTo>
                    <a:lnTo>
                      <a:pt x="2082" y="1093"/>
                    </a:lnTo>
                    <a:lnTo>
                      <a:pt x="2077" y="1146"/>
                    </a:lnTo>
                    <a:lnTo>
                      <a:pt x="2073" y="1199"/>
                    </a:lnTo>
                    <a:lnTo>
                      <a:pt x="2063" y="1247"/>
                    </a:lnTo>
                    <a:lnTo>
                      <a:pt x="2053" y="1295"/>
                    </a:lnTo>
                    <a:lnTo>
                      <a:pt x="2039" y="1347"/>
                    </a:lnTo>
                    <a:lnTo>
                      <a:pt x="2025" y="1391"/>
                    </a:lnTo>
                    <a:lnTo>
                      <a:pt x="2005" y="1439"/>
                    </a:lnTo>
                    <a:lnTo>
                      <a:pt x="1986" y="1487"/>
                    </a:lnTo>
                    <a:lnTo>
                      <a:pt x="1962" y="1530"/>
                    </a:lnTo>
                    <a:lnTo>
                      <a:pt x="1938" y="1573"/>
                    </a:lnTo>
                    <a:lnTo>
                      <a:pt x="1909" y="1616"/>
                    </a:lnTo>
                    <a:lnTo>
                      <a:pt x="1881" y="1659"/>
                    </a:lnTo>
                    <a:lnTo>
                      <a:pt x="1847" y="1698"/>
                    </a:lnTo>
                    <a:lnTo>
                      <a:pt x="1813" y="1736"/>
                    </a:lnTo>
                    <a:lnTo>
                      <a:pt x="1775" y="1774"/>
                    </a:lnTo>
                    <a:lnTo>
                      <a:pt x="1737" y="1813"/>
                    </a:lnTo>
                    <a:lnTo>
                      <a:pt x="1698" y="1846"/>
                    </a:lnTo>
                    <a:lnTo>
                      <a:pt x="1660" y="1880"/>
                    </a:lnTo>
                    <a:lnTo>
                      <a:pt x="1617" y="1909"/>
                    </a:lnTo>
                    <a:lnTo>
                      <a:pt x="1574" y="1937"/>
                    </a:lnTo>
                    <a:lnTo>
                      <a:pt x="1530" y="1961"/>
                    </a:lnTo>
                    <a:lnTo>
                      <a:pt x="1487" y="1985"/>
                    </a:lnTo>
                    <a:lnTo>
                      <a:pt x="1439" y="2005"/>
                    </a:lnTo>
                    <a:lnTo>
                      <a:pt x="1396" y="2024"/>
                    </a:lnTo>
                    <a:lnTo>
                      <a:pt x="1348" y="2038"/>
                    </a:lnTo>
                    <a:lnTo>
                      <a:pt x="1300" y="2053"/>
                    </a:lnTo>
                    <a:lnTo>
                      <a:pt x="1247" y="2062"/>
                    </a:lnTo>
                    <a:lnTo>
                      <a:pt x="1199" y="2072"/>
                    </a:lnTo>
                    <a:lnTo>
                      <a:pt x="1146" y="2077"/>
                    </a:lnTo>
                    <a:lnTo>
                      <a:pt x="1094" y="2081"/>
                    </a:lnTo>
                    <a:lnTo>
                      <a:pt x="1041" y="2081"/>
                    </a:lnTo>
                    <a:close/>
                    <a:moveTo>
                      <a:pt x="1041" y="2009"/>
                    </a:moveTo>
                    <a:lnTo>
                      <a:pt x="1137" y="2005"/>
                    </a:lnTo>
                    <a:lnTo>
                      <a:pt x="1233" y="1995"/>
                    </a:lnTo>
                    <a:lnTo>
                      <a:pt x="1324" y="1971"/>
                    </a:lnTo>
                    <a:lnTo>
                      <a:pt x="1415" y="1937"/>
                    </a:lnTo>
                    <a:lnTo>
                      <a:pt x="1497" y="1899"/>
                    </a:lnTo>
                    <a:lnTo>
                      <a:pt x="1578" y="1851"/>
                    </a:lnTo>
                    <a:lnTo>
                      <a:pt x="1655" y="1794"/>
                    </a:lnTo>
                    <a:lnTo>
                      <a:pt x="1727" y="1726"/>
                    </a:lnTo>
                    <a:lnTo>
                      <a:pt x="1794" y="1654"/>
                    </a:lnTo>
                    <a:lnTo>
                      <a:pt x="1852" y="1578"/>
                    </a:lnTo>
                    <a:lnTo>
                      <a:pt x="1900" y="1496"/>
                    </a:lnTo>
                    <a:lnTo>
                      <a:pt x="1943" y="1415"/>
                    </a:lnTo>
                    <a:lnTo>
                      <a:pt x="1972" y="1323"/>
                    </a:lnTo>
                    <a:lnTo>
                      <a:pt x="1996" y="1232"/>
                    </a:lnTo>
                    <a:lnTo>
                      <a:pt x="2005" y="1136"/>
                    </a:lnTo>
                    <a:lnTo>
                      <a:pt x="2010" y="1040"/>
                    </a:lnTo>
                    <a:lnTo>
                      <a:pt x="2005" y="940"/>
                    </a:lnTo>
                    <a:lnTo>
                      <a:pt x="1996" y="844"/>
                    </a:lnTo>
                    <a:lnTo>
                      <a:pt x="1972" y="753"/>
                    </a:lnTo>
                    <a:lnTo>
                      <a:pt x="1943" y="666"/>
                    </a:lnTo>
                    <a:lnTo>
                      <a:pt x="1900" y="585"/>
                    </a:lnTo>
                    <a:lnTo>
                      <a:pt x="1852" y="503"/>
                    </a:lnTo>
                    <a:lnTo>
                      <a:pt x="1794" y="426"/>
                    </a:lnTo>
                    <a:lnTo>
                      <a:pt x="1727" y="355"/>
                    </a:lnTo>
                    <a:lnTo>
                      <a:pt x="1655" y="287"/>
                    </a:lnTo>
                    <a:lnTo>
                      <a:pt x="1578" y="230"/>
                    </a:lnTo>
                    <a:lnTo>
                      <a:pt x="1497" y="182"/>
                    </a:lnTo>
                    <a:lnTo>
                      <a:pt x="1415" y="139"/>
                    </a:lnTo>
                    <a:lnTo>
                      <a:pt x="1324" y="110"/>
                    </a:lnTo>
                    <a:lnTo>
                      <a:pt x="1233" y="86"/>
                    </a:lnTo>
                    <a:lnTo>
                      <a:pt x="1137" y="72"/>
                    </a:lnTo>
                    <a:lnTo>
                      <a:pt x="1041" y="67"/>
                    </a:lnTo>
                    <a:lnTo>
                      <a:pt x="940" y="72"/>
                    </a:lnTo>
                    <a:lnTo>
                      <a:pt x="849" y="86"/>
                    </a:lnTo>
                    <a:lnTo>
                      <a:pt x="758" y="110"/>
                    </a:lnTo>
                    <a:lnTo>
                      <a:pt x="667" y="139"/>
                    </a:lnTo>
                    <a:lnTo>
                      <a:pt x="585" y="182"/>
                    </a:lnTo>
                    <a:lnTo>
                      <a:pt x="503" y="230"/>
                    </a:lnTo>
                    <a:lnTo>
                      <a:pt x="427" y="287"/>
                    </a:lnTo>
                    <a:lnTo>
                      <a:pt x="355" y="355"/>
                    </a:lnTo>
                    <a:lnTo>
                      <a:pt x="287" y="426"/>
                    </a:lnTo>
                    <a:lnTo>
                      <a:pt x="230" y="503"/>
                    </a:lnTo>
                    <a:lnTo>
                      <a:pt x="182" y="585"/>
                    </a:lnTo>
                    <a:lnTo>
                      <a:pt x="139" y="666"/>
                    </a:lnTo>
                    <a:lnTo>
                      <a:pt x="110" y="753"/>
                    </a:lnTo>
                    <a:lnTo>
                      <a:pt x="86" y="844"/>
                    </a:lnTo>
                    <a:lnTo>
                      <a:pt x="72" y="940"/>
                    </a:lnTo>
                    <a:lnTo>
                      <a:pt x="67" y="1040"/>
                    </a:lnTo>
                    <a:lnTo>
                      <a:pt x="72" y="1136"/>
                    </a:lnTo>
                    <a:lnTo>
                      <a:pt x="86" y="1232"/>
                    </a:lnTo>
                    <a:lnTo>
                      <a:pt x="110" y="1323"/>
                    </a:lnTo>
                    <a:lnTo>
                      <a:pt x="139" y="1415"/>
                    </a:lnTo>
                    <a:lnTo>
                      <a:pt x="182" y="1496"/>
                    </a:lnTo>
                    <a:lnTo>
                      <a:pt x="230" y="1578"/>
                    </a:lnTo>
                    <a:lnTo>
                      <a:pt x="287" y="1654"/>
                    </a:lnTo>
                    <a:lnTo>
                      <a:pt x="355" y="1726"/>
                    </a:lnTo>
                    <a:lnTo>
                      <a:pt x="427" y="1794"/>
                    </a:lnTo>
                    <a:lnTo>
                      <a:pt x="503" y="1851"/>
                    </a:lnTo>
                    <a:lnTo>
                      <a:pt x="585" y="1899"/>
                    </a:lnTo>
                    <a:lnTo>
                      <a:pt x="667" y="1937"/>
                    </a:lnTo>
                    <a:lnTo>
                      <a:pt x="758" y="1971"/>
                    </a:lnTo>
                    <a:lnTo>
                      <a:pt x="849" y="1995"/>
                    </a:lnTo>
                    <a:lnTo>
                      <a:pt x="940" y="2005"/>
                    </a:lnTo>
                    <a:lnTo>
                      <a:pt x="1041" y="2009"/>
                    </a:lnTo>
                    <a:close/>
                    <a:moveTo>
                      <a:pt x="451" y="1539"/>
                    </a:moveTo>
                    <a:lnTo>
                      <a:pt x="311" y="1299"/>
                    </a:lnTo>
                    <a:lnTo>
                      <a:pt x="671" y="1093"/>
                    </a:lnTo>
                    <a:lnTo>
                      <a:pt x="811" y="1333"/>
                    </a:lnTo>
                    <a:lnTo>
                      <a:pt x="451" y="1539"/>
                    </a:lnTo>
                    <a:close/>
                    <a:moveTo>
                      <a:pt x="1631" y="1539"/>
                    </a:moveTo>
                    <a:lnTo>
                      <a:pt x="1271" y="1333"/>
                    </a:lnTo>
                    <a:lnTo>
                      <a:pt x="1410" y="1093"/>
                    </a:lnTo>
                    <a:lnTo>
                      <a:pt x="1770" y="1299"/>
                    </a:lnTo>
                    <a:lnTo>
                      <a:pt x="1631" y="1539"/>
                    </a:lnTo>
                    <a:close/>
                  </a:path>
                </a:pathLst>
              </a:custGeom>
              <a:solidFill>
                <a:srgbClr val="1f1a1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204"/>
              <p:cNvSpPr/>
              <p:nvPr/>
            </p:nvSpPr>
            <p:spPr>
              <a:xfrm>
                <a:off x="1838520" y="4165560"/>
                <a:ext cx="277920" cy="409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05"/>
              <p:cNvSpPr/>
              <p:nvPr/>
            </p:nvSpPr>
            <p:spPr>
              <a:xfrm>
                <a:off x="1767960" y="4715640"/>
                <a:ext cx="415800" cy="417960"/>
              </a:xfrm>
              <a:custGeom>
                <a:avLst/>
                <a:gdLst/>
                <a:ahLst/>
                <a:rect l="l" t="t" r="r" b="b"/>
                <a:pathLst>
                  <a:path w="417" h="418">
                    <a:moveTo>
                      <a:pt x="211" y="418"/>
                    </a:moveTo>
                    <a:lnTo>
                      <a:pt x="168" y="413"/>
                    </a:lnTo>
                    <a:lnTo>
                      <a:pt x="129" y="403"/>
                    </a:lnTo>
                    <a:lnTo>
                      <a:pt x="96" y="384"/>
                    </a:lnTo>
                    <a:lnTo>
                      <a:pt x="62" y="360"/>
                    </a:lnTo>
                    <a:lnTo>
                      <a:pt x="38" y="327"/>
                    </a:lnTo>
                    <a:lnTo>
                      <a:pt x="19" y="288"/>
                    </a:lnTo>
                    <a:lnTo>
                      <a:pt x="5" y="250"/>
                    </a:lnTo>
                    <a:lnTo>
                      <a:pt x="0" y="211"/>
                    </a:lnTo>
                    <a:lnTo>
                      <a:pt x="5" y="168"/>
                    </a:lnTo>
                    <a:lnTo>
                      <a:pt x="19" y="130"/>
                    </a:lnTo>
                    <a:lnTo>
                      <a:pt x="38" y="96"/>
                    </a:lnTo>
                    <a:lnTo>
                      <a:pt x="62" y="63"/>
                    </a:lnTo>
                    <a:lnTo>
                      <a:pt x="96" y="39"/>
                    </a:lnTo>
                    <a:lnTo>
                      <a:pt x="129" y="20"/>
                    </a:lnTo>
                    <a:lnTo>
                      <a:pt x="168" y="5"/>
                    </a:lnTo>
                    <a:lnTo>
                      <a:pt x="211" y="0"/>
                    </a:lnTo>
                    <a:lnTo>
                      <a:pt x="249" y="5"/>
                    </a:lnTo>
                    <a:lnTo>
                      <a:pt x="288" y="20"/>
                    </a:lnTo>
                    <a:lnTo>
                      <a:pt x="326" y="39"/>
                    </a:lnTo>
                    <a:lnTo>
                      <a:pt x="355" y="63"/>
                    </a:lnTo>
                    <a:lnTo>
                      <a:pt x="384" y="96"/>
                    </a:lnTo>
                    <a:lnTo>
                      <a:pt x="403" y="130"/>
                    </a:lnTo>
                    <a:lnTo>
                      <a:pt x="412" y="168"/>
                    </a:lnTo>
                    <a:lnTo>
                      <a:pt x="417" y="211"/>
                    </a:lnTo>
                    <a:lnTo>
                      <a:pt x="412" y="250"/>
                    </a:lnTo>
                    <a:lnTo>
                      <a:pt x="403" y="288"/>
                    </a:lnTo>
                    <a:lnTo>
                      <a:pt x="384" y="327"/>
                    </a:lnTo>
                    <a:lnTo>
                      <a:pt x="355" y="360"/>
                    </a:lnTo>
                    <a:lnTo>
                      <a:pt x="326" y="384"/>
                    </a:lnTo>
                    <a:lnTo>
                      <a:pt x="288" y="403"/>
                    </a:lnTo>
                    <a:lnTo>
                      <a:pt x="249" y="413"/>
                    </a:lnTo>
                    <a:lnTo>
                      <a:pt x="211" y="4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06"/>
              <p:cNvSpPr/>
              <p:nvPr/>
            </p:nvSpPr>
            <p:spPr>
              <a:xfrm>
                <a:off x="938160" y="3887640"/>
                <a:ext cx="2079360" cy="2077920"/>
              </a:xfrm>
              <a:custGeom>
                <a:avLst/>
                <a:gdLst/>
                <a:ahLst/>
                <a:rect l="l" t="t" r="r" b="b"/>
                <a:pathLst>
                  <a:path w="2082" h="2081">
                    <a:moveTo>
                      <a:pt x="1041" y="2081"/>
                    </a:moveTo>
                    <a:lnTo>
                      <a:pt x="988" y="2081"/>
                    </a:lnTo>
                    <a:lnTo>
                      <a:pt x="935" y="2077"/>
                    </a:lnTo>
                    <a:lnTo>
                      <a:pt x="883" y="2072"/>
                    </a:lnTo>
                    <a:lnTo>
                      <a:pt x="835" y="2062"/>
                    </a:lnTo>
                    <a:lnTo>
                      <a:pt x="782" y="2053"/>
                    </a:lnTo>
                    <a:lnTo>
                      <a:pt x="734" y="2038"/>
                    </a:lnTo>
                    <a:lnTo>
                      <a:pt x="686" y="2024"/>
                    </a:lnTo>
                    <a:lnTo>
                      <a:pt x="643" y="2005"/>
                    </a:lnTo>
                    <a:lnTo>
                      <a:pt x="595" y="1985"/>
                    </a:lnTo>
                    <a:lnTo>
                      <a:pt x="551" y="1961"/>
                    </a:lnTo>
                    <a:lnTo>
                      <a:pt x="508" y="1937"/>
                    </a:lnTo>
                    <a:lnTo>
                      <a:pt x="465" y="1909"/>
                    </a:lnTo>
                    <a:lnTo>
                      <a:pt x="422" y="1880"/>
                    </a:lnTo>
                    <a:lnTo>
                      <a:pt x="383" y="1846"/>
                    </a:lnTo>
                    <a:lnTo>
                      <a:pt x="340" y="1813"/>
                    </a:lnTo>
                    <a:lnTo>
                      <a:pt x="302" y="1774"/>
                    </a:lnTo>
                    <a:lnTo>
                      <a:pt x="268" y="1736"/>
                    </a:lnTo>
                    <a:lnTo>
                      <a:pt x="235" y="1698"/>
                    </a:lnTo>
                    <a:lnTo>
                      <a:pt x="201" y="1659"/>
                    </a:lnTo>
                    <a:lnTo>
                      <a:pt x="172" y="1616"/>
                    </a:lnTo>
                    <a:lnTo>
                      <a:pt x="144" y="1573"/>
                    </a:lnTo>
                    <a:lnTo>
                      <a:pt x="120" y="1530"/>
                    </a:lnTo>
                    <a:lnTo>
                      <a:pt x="96" y="1487"/>
                    </a:lnTo>
                    <a:lnTo>
                      <a:pt x="76" y="1439"/>
                    </a:lnTo>
                    <a:lnTo>
                      <a:pt x="57" y="1391"/>
                    </a:lnTo>
                    <a:lnTo>
                      <a:pt x="43" y="1347"/>
                    </a:lnTo>
                    <a:lnTo>
                      <a:pt x="28" y="1295"/>
                    </a:lnTo>
                    <a:lnTo>
                      <a:pt x="19" y="1247"/>
                    </a:lnTo>
                    <a:lnTo>
                      <a:pt x="9" y="1199"/>
                    </a:lnTo>
                    <a:lnTo>
                      <a:pt x="4" y="1146"/>
                    </a:lnTo>
                    <a:lnTo>
                      <a:pt x="0" y="1093"/>
                    </a:lnTo>
                    <a:lnTo>
                      <a:pt x="0" y="1040"/>
                    </a:lnTo>
                    <a:lnTo>
                      <a:pt x="0" y="988"/>
                    </a:lnTo>
                    <a:lnTo>
                      <a:pt x="4" y="935"/>
                    </a:lnTo>
                    <a:lnTo>
                      <a:pt x="9" y="882"/>
                    </a:lnTo>
                    <a:lnTo>
                      <a:pt x="19" y="829"/>
                    </a:lnTo>
                    <a:lnTo>
                      <a:pt x="28" y="781"/>
                    </a:lnTo>
                    <a:lnTo>
                      <a:pt x="43" y="733"/>
                    </a:lnTo>
                    <a:lnTo>
                      <a:pt x="57" y="686"/>
                    </a:lnTo>
                    <a:lnTo>
                      <a:pt x="76" y="638"/>
                    </a:lnTo>
                    <a:lnTo>
                      <a:pt x="96" y="594"/>
                    </a:lnTo>
                    <a:lnTo>
                      <a:pt x="120" y="551"/>
                    </a:lnTo>
                    <a:lnTo>
                      <a:pt x="144" y="508"/>
                    </a:lnTo>
                    <a:lnTo>
                      <a:pt x="172" y="465"/>
                    </a:lnTo>
                    <a:lnTo>
                      <a:pt x="201" y="422"/>
                    </a:lnTo>
                    <a:lnTo>
                      <a:pt x="235" y="383"/>
                    </a:lnTo>
                    <a:lnTo>
                      <a:pt x="268" y="340"/>
                    </a:lnTo>
                    <a:lnTo>
                      <a:pt x="307" y="302"/>
                    </a:lnTo>
                    <a:lnTo>
                      <a:pt x="345" y="268"/>
                    </a:lnTo>
                    <a:lnTo>
                      <a:pt x="383" y="235"/>
                    </a:lnTo>
                    <a:lnTo>
                      <a:pt x="422" y="201"/>
                    </a:lnTo>
                    <a:lnTo>
                      <a:pt x="465" y="172"/>
                    </a:lnTo>
                    <a:lnTo>
                      <a:pt x="508" y="144"/>
                    </a:lnTo>
                    <a:lnTo>
                      <a:pt x="551" y="120"/>
                    </a:lnTo>
                    <a:lnTo>
                      <a:pt x="595" y="96"/>
                    </a:lnTo>
                    <a:lnTo>
                      <a:pt x="643" y="76"/>
                    </a:lnTo>
                    <a:lnTo>
                      <a:pt x="686" y="57"/>
                    </a:lnTo>
                    <a:lnTo>
                      <a:pt x="734" y="43"/>
                    </a:lnTo>
                    <a:lnTo>
                      <a:pt x="782" y="28"/>
                    </a:lnTo>
                    <a:lnTo>
                      <a:pt x="835" y="19"/>
                    </a:lnTo>
                    <a:lnTo>
                      <a:pt x="883" y="9"/>
                    </a:lnTo>
                    <a:lnTo>
                      <a:pt x="935" y="4"/>
                    </a:lnTo>
                    <a:lnTo>
                      <a:pt x="988" y="0"/>
                    </a:lnTo>
                    <a:lnTo>
                      <a:pt x="1041" y="0"/>
                    </a:lnTo>
                    <a:lnTo>
                      <a:pt x="1094" y="0"/>
                    </a:lnTo>
                    <a:lnTo>
                      <a:pt x="1146" y="4"/>
                    </a:lnTo>
                    <a:lnTo>
                      <a:pt x="1199" y="9"/>
                    </a:lnTo>
                    <a:lnTo>
                      <a:pt x="1247" y="19"/>
                    </a:lnTo>
                    <a:lnTo>
                      <a:pt x="1300" y="28"/>
                    </a:lnTo>
                    <a:lnTo>
                      <a:pt x="1348" y="43"/>
                    </a:lnTo>
                    <a:lnTo>
                      <a:pt x="1396" y="57"/>
                    </a:lnTo>
                    <a:lnTo>
                      <a:pt x="1439" y="76"/>
                    </a:lnTo>
                    <a:lnTo>
                      <a:pt x="1487" y="96"/>
                    </a:lnTo>
                    <a:lnTo>
                      <a:pt x="1530" y="120"/>
                    </a:lnTo>
                    <a:lnTo>
                      <a:pt x="1574" y="144"/>
                    </a:lnTo>
                    <a:lnTo>
                      <a:pt x="1617" y="172"/>
                    </a:lnTo>
                    <a:lnTo>
                      <a:pt x="1660" y="201"/>
                    </a:lnTo>
                    <a:lnTo>
                      <a:pt x="1698" y="235"/>
                    </a:lnTo>
                    <a:lnTo>
                      <a:pt x="1737" y="268"/>
                    </a:lnTo>
                    <a:lnTo>
                      <a:pt x="1775" y="302"/>
                    </a:lnTo>
                    <a:lnTo>
                      <a:pt x="1813" y="340"/>
                    </a:lnTo>
                    <a:lnTo>
                      <a:pt x="1847" y="383"/>
                    </a:lnTo>
                    <a:lnTo>
                      <a:pt x="1881" y="422"/>
                    </a:lnTo>
                    <a:lnTo>
                      <a:pt x="1909" y="465"/>
                    </a:lnTo>
                    <a:lnTo>
                      <a:pt x="1938" y="508"/>
                    </a:lnTo>
                    <a:lnTo>
                      <a:pt x="1962" y="551"/>
                    </a:lnTo>
                    <a:lnTo>
                      <a:pt x="1986" y="594"/>
                    </a:lnTo>
                    <a:lnTo>
                      <a:pt x="2005" y="638"/>
                    </a:lnTo>
                    <a:lnTo>
                      <a:pt x="2025" y="686"/>
                    </a:lnTo>
                    <a:lnTo>
                      <a:pt x="2039" y="733"/>
                    </a:lnTo>
                    <a:lnTo>
                      <a:pt x="2053" y="781"/>
                    </a:lnTo>
                    <a:lnTo>
                      <a:pt x="2063" y="829"/>
                    </a:lnTo>
                    <a:lnTo>
                      <a:pt x="2073" y="882"/>
                    </a:lnTo>
                    <a:lnTo>
                      <a:pt x="2077" y="935"/>
                    </a:lnTo>
                    <a:lnTo>
                      <a:pt x="2082" y="988"/>
                    </a:lnTo>
                    <a:lnTo>
                      <a:pt x="2082" y="1040"/>
                    </a:lnTo>
                    <a:lnTo>
                      <a:pt x="2082" y="1093"/>
                    </a:lnTo>
                    <a:lnTo>
                      <a:pt x="2077" y="1146"/>
                    </a:lnTo>
                    <a:lnTo>
                      <a:pt x="2073" y="1199"/>
                    </a:lnTo>
                    <a:lnTo>
                      <a:pt x="2063" y="1247"/>
                    </a:lnTo>
                    <a:lnTo>
                      <a:pt x="2053" y="1295"/>
                    </a:lnTo>
                    <a:lnTo>
                      <a:pt x="2039" y="1347"/>
                    </a:lnTo>
                    <a:lnTo>
                      <a:pt x="2025" y="1391"/>
                    </a:lnTo>
                    <a:lnTo>
                      <a:pt x="2005" y="1439"/>
                    </a:lnTo>
                    <a:lnTo>
                      <a:pt x="1986" y="1487"/>
                    </a:lnTo>
                    <a:lnTo>
                      <a:pt x="1962" y="1530"/>
                    </a:lnTo>
                    <a:lnTo>
                      <a:pt x="1938" y="1573"/>
                    </a:lnTo>
                    <a:lnTo>
                      <a:pt x="1909" y="1616"/>
                    </a:lnTo>
                    <a:lnTo>
                      <a:pt x="1881" y="1659"/>
                    </a:lnTo>
                    <a:lnTo>
                      <a:pt x="1847" y="1698"/>
                    </a:lnTo>
                    <a:lnTo>
                      <a:pt x="1813" y="1736"/>
                    </a:lnTo>
                    <a:lnTo>
                      <a:pt x="1775" y="1774"/>
                    </a:lnTo>
                    <a:lnTo>
                      <a:pt x="1737" y="1813"/>
                    </a:lnTo>
                    <a:lnTo>
                      <a:pt x="1698" y="1846"/>
                    </a:lnTo>
                    <a:lnTo>
                      <a:pt x="1660" y="1880"/>
                    </a:lnTo>
                    <a:lnTo>
                      <a:pt x="1617" y="1909"/>
                    </a:lnTo>
                    <a:lnTo>
                      <a:pt x="1574" y="1937"/>
                    </a:lnTo>
                    <a:lnTo>
                      <a:pt x="1530" y="1961"/>
                    </a:lnTo>
                    <a:lnTo>
                      <a:pt x="1487" y="1985"/>
                    </a:lnTo>
                    <a:lnTo>
                      <a:pt x="1439" y="2005"/>
                    </a:lnTo>
                    <a:lnTo>
                      <a:pt x="1396" y="2024"/>
                    </a:lnTo>
                    <a:lnTo>
                      <a:pt x="1348" y="2038"/>
                    </a:lnTo>
                    <a:lnTo>
                      <a:pt x="1300" y="2053"/>
                    </a:lnTo>
                    <a:lnTo>
                      <a:pt x="1247" y="2062"/>
                    </a:lnTo>
                    <a:lnTo>
                      <a:pt x="1199" y="2072"/>
                    </a:lnTo>
                    <a:lnTo>
                      <a:pt x="1146" y="2077"/>
                    </a:lnTo>
                    <a:lnTo>
                      <a:pt x="1094" y="2081"/>
                    </a:lnTo>
                    <a:lnTo>
                      <a:pt x="1041" y="20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07"/>
              <p:cNvSpPr/>
              <p:nvPr/>
            </p:nvSpPr>
            <p:spPr>
              <a:xfrm>
                <a:off x="1248480" y="4978440"/>
                <a:ext cx="500040" cy="446760"/>
              </a:xfrm>
              <a:custGeom>
                <a:avLst/>
                <a:gdLst/>
                <a:ahLst/>
                <a:rect l="l" t="t" r="r" b="b"/>
                <a:pathLst>
                  <a:path w="500" h="446">
                    <a:moveTo>
                      <a:pt x="140" y="446"/>
                    </a:moveTo>
                    <a:lnTo>
                      <a:pt x="0" y="206"/>
                    </a:lnTo>
                    <a:lnTo>
                      <a:pt x="360" y="0"/>
                    </a:lnTo>
                    <a:lnTo>
                      <a:pt x="500" y="240"/>
                    </a:lnTo>
                    <a:lnTo>
                      <a:pt x="140" y="4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08"/>
              <p:cNvSpPr/>
              <p:nvPr/>
            </p:nvSpPr>
            <p:spPr>
              <a:xfrm>
                <a:off x="2206800" y="4978440"/>
                <a:ext cx="498600" cy="446760"/>
              </a:xfrm>
              <a:custGeom>
                <a:avLst/>
                <a:gdLst/>
                <a:ahLst/>
                <a:rect l="l" t="t" r="r" b="b"/>
                <a:pathLst>
                  <a:path w="499" h="446">
                    <a:moveTo>
                      <a:pt x="360" y="446"/>
                    </a:moveTo>
                    <a:lnTo>
                      <a:pt x="0" y="240"/>
                    </a:lnTo>
                    <a:lnTo>
                      <a:pt x="139" y="0"/>
                    </a:lnTo>
                    <a:lnTo>
                      <a:pt x="499" y="206"/>
                    </a:lnTo>
                    <a:lnTo>
                      <a:pt x="360" y="4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4" name="Oval 209"/>
            <p:cNvSpPr/>
            <p:nvPr/>
          </p:nvSpPr>
          <p:spPr>
            <a:xfrm>
              <a:off x="1886040" y="4210200"/>
              <a:ext cx="162000" cy="16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5" name="Text Box 210"/>
          <p:cNvSpPr/>
          <p:nvPr/>
        </p:nvSpPr>
        <p:spPr>
          <a:xfrm>
            <a:off x="2954160" y="54324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211"/>
          <p:cNvSpPr/>
          <p:nvPr/>
        </p:nvSpPr>
        <p:spPr>
          <a:xfrm>
            <a:off x="587520" y="540072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212"/>
          <p:cNvSpPr/>
          <p:nvPr/>
        </p:nvSpPr>
        <p:spPr>
          <a:xfrm>
            <a:off x="2225520" y="34830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213"/>
          <p:cNvSpPr/>
          <p:nvPr/>
        </p:nvSpPr>
        <p:spPr>
          <a:xfrm>
            <a:off x="1477800" y="60674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Group 216"/>
          <p:cNvGrpSpPr/>
          <p:nvPr/>
        </p:nvGrpSpPr>
        <p:grpSpPr>
          <a:xfrm>
            <a:off x="5678640" y="3900600"/>
            <a:ext cx="2084400" cy="2065320"/>
            <a:chOff x="5678640" y="3900600"/>
            <a:chExt cx="2084400" cy="2065320"/>
          </a:xfrm>
        </p:grpSpPr>
        <p:sp>
          <p:nvSpPr>
            <p:cNvPr id="1470" name="Freeform 217"/>
            <p:cNvSpPr/>
            <p:nvPr/>
          </p:nvSpPr>
          <p:spPr>
            <a:xfrm>
              <a:off x="6764400" y="3900600"/>
              <a:ext cx="982800" cy="990720"/>
            </a:xfrm>
            <a:custGeom>
              <a:avLst/>
              <a:gdLst/>
              <a:ahLst/>
              <a:rect l="l" t="t" r="r" b="b"/>
              <a:pathLst>
                <a:path w="822" h="829">
                  <a:moveTo>
                    <a:pt x="0" y="829"/>
                  </a:moveTo>
                  <a:lnTo>
                    <a:pt x="0" y="693"/>
                  </a:lnTo>
                  <a:lnTo>
                    <a:pt x="10" y="625"/>
                  </a:lnTo>
                  <a:lnTo>
                    <a:pt x="19" y="553"/>
                  </a:lnTo>
                  <a:lnTo>
                    <a:pt x="39" y="480"/>
                  </a:lnTo>
                  <a:lnTo>
                    <a:pt x="68" y="402"/>
                  </a:lnTo>
                  <a:lnTo>
                    <a:pt x="106" y="320"/>
                  </a:lnTo>
                  <a:lnTo>
                    <a:pt x="159" y="247"/>
                  </a:lnTo>
                  <a:lnTo>
                    <a:pt x="227" y="179"/>
                  </a:lnTo>
                  <a:lnTo>
                    <a:pt x="305" y="116"/>
                  </a:lnTo>
                  <a:lnTo>
                    <a:pt x="406" y="63"/>
                  </a:lnTo>
                  <a:lnTo>
                    <a:pt x="522" y="29"/>
                  </a:lnTo>
                  <a:lnTo>
                    <a:pt x="662" y="5"/>
                  </a:lnTo>
                  <a:lnTo>
                    <a:pt x="740" y="0"/>
                  </a:lnTo>
                  <a:lnTo>
                    <a:pt x="822" y="0"/>
                  </a:lnTo>
                  <a:lnTo>
                    <a:pt x="822" y="78"/>
                  </a:lnTo>
                  <a:lnTo>
                    <a:pt x="817" y="126"/>
                  </a:lnTo>
                  <a:lnTo>
                    <a:pt x="807" y="189"/>
                  </a:lnTo>
                  <a:lnTo>
                    <a:pt x="793" y="262"/>
                  </a:lnTo>
                  <a:lnTo>
                    <a:pt x="769" y="334"/>
                  </a:lnTo>
                  <a:lnTo>
                    <a:pt x="740" y="412"/>
                  </a:lnTo>
                  <a:lnTo>
                    <a:pt x="696" y="490"/>
                  </a:lnTo>
                  <a:lnTo>
                    <a:pt x="643" y="562"/>
                  </a:lnTo>
                  <a:lnTo>
                    <a:pt x="575" y="630"/>
                  </a:lnTo>
                  <a:lnTo>
                    <a:pt x="498" y="693"/>
                  </a:lnTo>
                  <a:lnTo>
                    <a:pt x="401" y="746"/>
                  </a:lnTo>
                  <a:lnTo>
                    <a:pt x="285" y="790"/>
                  </a:lnTo>
                  <a:lnTo>
                    <a:pt x="155" y="819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18"/>
            <p:cNvSpPr/>
            <p:nvPr/>
          </p:nvSpPr>
          <p:spPr>
            <a:xfrm>
              <a:off x="6815520" y="3957840"/>
              <a:ext cx="868320" cy="868320"/>
            </a:xfrm>
            <a:custGeom>
              <a:avLst/>
              <a:gdLst/>
              <a:ahLst/>
              <a:rect l="l" t="t" r="r" b="b"/>
              <a:pathLst>
                <a:path w="726" h="727">
                  <a:moveTo>
                    <a:pt x="0" y="727"/>
                  </a:moveTo>
                  <a:lnTo>
                    <a:pt x="0" y="694"/>
                  </a:lnTo>
                  <a:lnTo>
                    <a:pt x="5" y="655"/>
                  </a:lnTo>
                  <a:lnTo>
                    <a:pt x="5" y="606"/>
                  </a:lnTo>
                  <a:lnTo>
                    <a:pt x="15" y="553"/>
                  </a:lnTo>
                  <a:lnTo>
                    <a:pt x="25" y="490"/>
                  </a:lnTo>
                  <a:lnTo>
                    <a:pt x="44" y="422"/>
                  </a:lnTo>
                  <a:lnTo>
                    <a:pt x="73" y="354"/>
                  </a:lnTo>
                  <a:lnTo>
                    <a:pt x="107" y="286"/>
                  </a:lnTo>
                  <a:lnTo>
                    <a:pt x="150" y="223"/>
                  </a:lnTo>
                  <a:lnTo>
                    <a:pt x="208" y="160"/>
                  </a:lnTo>
                  <a:lnTo>
                    <a:pt x="281" y="107"/>
                  </a:lnTo>
                  <a:lnTo>
                    <a:pt x="368" y="63"/>
                  </a:lnTo>
                  <a:lnTo>
                    <a:pt x="469" y="30"/>
                  </a:lnTo>
                  <a:lnTo>
                    <a:pt x="585" y="5"/>
                  </a:lnTo>
                  <a:lnTo>
                    <a:pt x="726" y="0"/>
                  </a:lnTo>
                  <a:lnTo>
                    <a:pt x="726" y="68"/>
                  </a:lnTo>
                  <a:lnTo>
                    <a:pt x="721" y="112"/>
                  </a:lnTo>
                  <a:lnTo>
                    <a:pt x="711" y="165"/>
                  </a:lnTo>
                  <a:lnTo>
                    <a:pt x="697" y="223"/>
                  </a:lnTo>
                  <a:lnTo>
                    <a:pt x="677" y="291"/>
                  </a:lnTo>
                  <a:lnTo>
                    <a:pt x="648" y="359"/>
                  </a:lnTo>
                  <a:lnTo>
                    <a:pt x="614" y="422"/>
                  </a:lnTo>
                  <a:lnTo>
                    <a:pt x="566" y="490"/>
                  </a:lnTo>
                  <a:lnTo>
                    <a:pt x="508" y="548"/>
                  </a:lnTo>
                  <a:lnTo>
                    <a:pt x="436" y="606"/>
                  </a:lnTo>
                  <a:lnTo>
                    <a:pt x="353" y="655"/>
                  </a:lnTo>
                  <a:lnTo>
                    <a:pt x="252" y="689"/>
                  </a:lnTo>
                  <a:lnTo>
                    <a:pt x="136" y="718"/>
                  </a:lnTo>
                  <a:lnTo>
                    <a:pt x="5" y="727"/>
                  </a:lnTo>
                  <a:lnTo>
                    <a:pt x="0" y="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19"/>
            <p:cNvSpPr/>
            <p:nvPr/>
          </p:nvSpPr>
          <p:spPr>
            <a:xfrm>
              <a:off x="6931440" y="4068720"/>
              <a:ext cx="630000" cy="636840"/>
            </a:xfrm>
            <a:custGeom>
              <a:avLst/>
              <a:gdLst/>
              <a:ahLst/>
              <a:rect l="l" t="t" r="r" b="b"/>
              <a:pathLst>
                <a:path w="527" h="533">
                  <a:moveTo>
                    <a:pt x="0" y="533"/>
                  </a:moveTo>
                  <a:lnTo>
                    <a:pt x="0" y="508"/>
                  </a:lnTo>
                  <a:lnTo>
                    <a:pt x="5" y="484"/>
                  </a:lnTo>
                  <a:lnTo>
                    <a:pt x="5" y="450"/>
                  </a:lnTo>
                  <a:lnTo>
                    <a:pt x="24" y="368"/>
                  </a:lnTo>
                  <a:lnTo>
                    <a:pt x="58" y="271"/>
                  </a:lnTo>
                  <a:lnTo>
                    <a:pt x="87" y="223"/>
                  </a:lnTo>
                  <a:lnTo>
                    <a:pt x="121" y="174"/>
                  </a:lnTo>
                  <a:lnTo>
                    <a:pt x="160" y="130"/>
                  </a:lnTo>
                  <a:lnTo>
                    <a:pt x="213" y="87"/>
                  </a:lnTo>
                  <a:lnTo>
                    <a:pt x="276" y="53"/>
                  </a:lnTo>
                  <a:lnTo>
                    <a:pt x="348" y="29"/>
                  </a:lnTo>
                  <a:lnTo>
                    <a:pt x="430" y="9"/>
                  </a:lnTo>
                  <a:lnTo>
                    <a:pt x="527" y="0"/>
                  </a:lnTo>
                  <a:lnTo>
                    <a:pt x="527" y="48"/>
                  </a:lnTo>
                  <a:lnTo>
                    <a:pt x="522" y="77"/>
                  </a:lnTo>
                  <a:lnTo>
                    <a:pt x="503" y="160"/>
                  </a:lnTo>
                  <a:lnTo>
                    <a:pt x="464" y="252"/>
                  </a:lnTo>
                  <a:lnTo>
                    <a:pt x="435" y="300"/>
                  </a:lnTo>
                  <a:lnTo>
                    <a:pt x="401" y="349"/>
                  </a:lnTo>
                  <a:lnTo>
                    <a:pt x="358" y="392"/>
                  </a:lnTo>
                  <a:lnTo>
                    <a:pt x="305" y="436"/>
                  </a:lnTo>
                  <a:lnTo>
                    <a:pt x="247" y="470"/>
                  </a:lnTo>
                  <a:lnTo>
                    <a:pt x="174" y="499"/>
                  </a:lnTo>
                  <a:lnTo>
                    <a:pt x="92" y="52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220"/>
            <p:cNvSpPr/>
            <p:nvPr/>
          </p:nvSpPr>
          <p:spPr>
            <a:xfrm>
              <a:off x="5678640" y="3922920"/>
              <a:ext cx="1005120" cy="973080"/>
            </a:xfrm>
            <a:custGeom>
              <a:avLst/>
              <a:gdLst/>
              <a:ahLst/>
              <a:rect l="l" t="t" r="r" b="b"/>
              <a:pathLst>
                <a:path w="841" h="815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5"/>
                  </a:lnTo>
                  <a:lnTo>
                    <a:pt x="348" y="34"/>
                  </a:lnTo>
                  <a:lnTo>
                    <a:pt x="430" y="63"/>
                  </a:lnTo>
                  <a:lnTo>
                    <a:pt x="508" y="97"/>
                  </a:lnTo>
                  <a:lnTo>
                    <a:pt x="585" y="151"/>
                  </a:lnTo>
                  <a:lnTo>
                    <a:pt x="653" y="214"/>
                  </a:lnTo>
                  <a:lnTo>
                    <a:pt x="716" y="296"/>
                  </a:lnTo>
                  <a:lnTo>
                    <a:pt x="769" y="393"/>
                  </a:lnTo>
                  <a:lnTo>
                    <a:pt x="807" y="509"/>
                  </a:lnTo>
                  <a:lnTo>
                    <a:pt x="836" y="650"/>
                  </a:lnTo>
                  <a:lnTo>
                    <a:pt x="841" y="727"/>
                  </a:lnTo>
                  <a:lnTo>
                    <a:pt x="841" y="810"/>
                  </a:lnTo>
                  <a:lnTo>
                    <a:pt x="832" y="810"/>
                  </a:lnTo>
                  <a:lnTo>
                    <a:pt x="807" y="815"/>
                  </a:lnTo>
                  <a:lnTo>
                    <a:pt x="764" y="810"/>
                  </a:lnTo>
                  <a:lnTo>
                    <a:pt x="716" y="810"/>
                  </a:lnTo>
                  <a:lnTo>
                    <a:pt x="653" y="800"/>
                  </a:lnTo>
                  <a:lnTo>
                    <a:pt x="580" y="786"/>
                  </a:lnTo>
                  <a:lnTo>
                    <a:pt x="508" y="766"/>
                  </a:lnTo>
                  <a:lnTo>
                    <a:pt x="430" y="737"/>
                  </a:lnTo>
                  <a:lnTo>
                    <a:pt x="353" y="693"/>
                  </a:lnTo>
                  <a:lnTo>
                    <a:pt x="276" y="645"/>
                  </a:lnTo>
                  <a:lnTo>
                    <a:pt x="208" y="577"/>
                  </a:lnTo>
                  <a:lnTo>
                    <a:pt x="140" y="500"/>
                  </a:lnTo>
                  <a:lnTo>
                    <a:pt x="87" y="403"/>
                  </a:lnTo>
                  <a:lnTo>
                    <a:pt x="44" y="286"/>
                  </a:lnTo>
                  <a:lnTo>
                    <a:pt x="15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221"/>
            <p:cNvSpPr/>
            <p:nvPr/>
          </p:nvSpPr>
          <p:spPr>
            <a:xfrm>
              <a:off x="5742360" y="3981600"/>
              <a:ext cx="884160" cy="849240"/>
            </a:xfrm>
            <a:custGeom>
              <a:avLst/>
              <a:gdLst/>
              <a:ahLst/>
              <a:rect l="l" t="t" r="r" b="b"/>
              <a:pathLst>
                <a:path w="740" h="712">
                  <a:moveTo>
                    <a:pt x="0" y="0"/>
                  </a:moveTo>
                  <a:lnTo>
                    <a:pt x="121" y="0"/>
                  </a:lnTo>
                  <a:lnTo>
                    <a:pt x="174" y="10"/>
                  </a:lnTo>
                  <a:lnTo>
                    <a:pt x="237" y="19"/>
                  </a:lnTo>
                  <a:lnTo>
                    <a:pt x="305" y="34"/>
                  </a:lnTo>
                  <a:lnTo>
                    <a:pt x="372" y="58"/>
                  </a:lnTo>
                  <a:lnTo>
                    <a:pt x="440" y="92"/>
                  </a:lnTo>
                  <a:lnTo>
                    <a:pt x="508" y="140"/>
                  </a:lnTo>
                  <a:lnTo>
                    <a:pt x="571" y="194"/>
                  </a:lnTo>
                  <a:lnTo>
                    <a:pt x="624" y="266"/>
                  </a:lnTo>
                  <a:lnTo>
                    <a:pt x="672" y="354"/>
                  </a:lnTo>
                  <a:lnTo>
                    <a:pt x="711" y="455"/>
                  </a:lnTo>
                  <a:lnTo>
                    <a:pt x="730" y="572"/>
                  </a:lnTo>
                  <a:lnTo>
                    <a:pt x="740" y="712"/>
                  </a:lnTo>
                  <a:lnTo>
                    <a:pt x="672" y="712"/>
                  </a:lnTo>
                  <a:lnTo>
                    <a:pt x="629" y="707"/>
                  </a:lnTo>
                  <a:lnTo>
                    <a:pt x="576" y="698"/>
                  </a:lnTo>
                  <a:lnTo>
                    <a:pt x="513" y="688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4" y="606"/>
                  </a:lnTo>
                  <a:lnTo>
                    <a:pt x="247" y="557"/>
                  </a:lnTo>
                  <a:lnTo>
                    <a:pt x="184" y="499"/>
                  </a:lnTo>
                  <a:lnTo>
                    <a:pt x="126" y="431"/>
                  </a:lnTo>
                  <a:lnTo>
                    <a:pt x="78" y="344"/>
                  </a:lnTo>
                  <a:lnTo>
                    <a:pt x="39" y="247"/>
                  </a:lnTo>
                  <a:lnTo>
                    <a:pt x="15" y="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22"/>
            <p:cNvSpPr/>
            <p:nvPr/>
          </p:nvSpPr>
          <p:spPr>
            <a:xfrm>
              <a:off x="5864400" y="409104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19"/>
                  </a:lnTo>
                  <a:lnTo>
                    <a:pt x="266" y="53"/>
                  </a:lnTo>
                  <a:lnTo>
                    <a:pt x="314" y="77"/>
                  </a:lnTo>
                  <a:lnTo>
                    <a:pt x="362" y="111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39"/>
                  </a:lnTo>
                  <a:lnTo>
                    <a:pt x="532" y="422"/>
                  </a:lnTo>
                  <a:lnTo>
                    <a:pt x="541" y="519"/>
                  </a:lnTo>
                  <a:lnTo>
                    <a:pt x="498" y="519"/>
                  </a:lnTo>
                  <a:lnTo>
                    <a:pt x="464" y="514"/>
                  </a:lnTo>
                  <a:lnTo>
                    <a:pt x="382" y="494"/>
                  </a:lnTo>
                  <a:lnTo>
                    <a:pt x="290" y="456"/>
                  </a:lnTo>
                  <a:lnTo>
                    <a:pt x="241" y="431"/>
                  </a:lnTo>
                  <a:lnTo>
                    <a:pt x="193" y="397"/>
                  </a:lnTo>
                  <a:lnTo>
                    <a:pt x="145" y="354"/>
                  </a:lnTo>
                  <a:lnTo>
                    <a:pt x="106" y="300"/>
                  </a:lnTo>
                  <a:lnTo>
                    <a:pt x="67" y="242"/>
                  </a:lnTo>
                  <a:lnTo>
                    <a:pt x="38" y="174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23"/>
            <p:cNvSpPr/>
            <p:nvPr/>
          </p:nvSpPr>
          <p:spPr>
            <a:xfrm>
              <a:off x="5700960" y="4965840"/>
              <a:ext cx="971640" cy="1000080"/>
            </a:xfrm>
            <a:custGeom>
              <a:avLst/>
              <a:gdLst/>
              <a:ahLst/>
              <a:rect l="l" t="t" r="r" b="b"/>
              <a:pathLst>
                <a:path w="813" h="838">
                  <a:moveTo>
                    <a:pt x="0" y="838"/>
                  </a:moveTo>
                  <a:lnTo>
                    <a:pt x="0" y="703"/>
                  </a:lnTo>
                  <a:lnTo>
                    <a:pt x="10" y="640"/>
                  </a:lnTo>
                  <a:lnTo>
                    <a:pt x="20" y="567"/>
                  </a:lnTo>
                  <a:lnTo>
                    <a:pt x="39" y="489"/>
                  </a:lnTo>
                  <a:lnTo>
                    <a:pt x="68" y="412"/>
                  </a:lnTo>
                  <a:lnTo>
                    <a:pt x="102" y="329"/>
                  </a:lnTo>
                  <a:lnTo>
                    <a:pt x="155" y="257"/>
                  </a:lnTo>
                  <a:lnTo>
                    <a:pt x="218" y="184"/>
                  </a:lnTo>
                  <a:lnTo>
                    <a:pt x="300" y="121"/>
                  </a:lnTo>
                  <a:lnTo>
                    <a:pt x="397" y="68"/>
                  </a:lnTo>
                  <a:lnTo>
                    <a:pt x="513" y="29"/>
                  </a:lnTo>
                  <a:lnTo>
                    <a:pt x="653" y="5"/>
                  </a:lnTo>
                  <a:lnTo>
                    <a:pt x="730" y="0"/>
                  </a:lnTo>
                  <a:lnTo>
                    <a:pt x="813" y="0"/>
                  </a:lnTo>
                  <a:lnTo>
                    <a:pt x="813" y="77"/>
                  </a:lnTo>
                  <a:lnTo>
                    <a:pt x="808" y="126"/>
                  </a:lnTo>
                  <a:lnTo>
                    <a:pt x="798" y="189"/>
                  </a:lnTo>
                  <a:lnTo>
                    <a:pt x="788" y="262"/>
                  </a:lnTo>
                  <a:lnTo>
                    <a:pt x="764" y="334"/>
                  </a:lnTo>
                  <a:lnTo>
                    <a:pt x="735" y="412"/>
                  </a:lnTo>
                  <a:lnTo>
                    <a:pt x="692" y="489"/>
                  </a:lnTo>
                  <a:lnTo>
                    <a:pt x="643" y="567"/>
                  </a:lnTo>
                  <a:lnTo>
                    <a:pt x="576" y="635"/>
                  </a:lnTo>
                  <a:lnTo>
                    <a:pt x="498" y="698"/>
                  </a:lnTo>
                  <a:lnTo>
                    <a:pt x="402" y="756"/>
                  </a:lnTo>
                  <a:lnTo>
                    <a:pt x="286" y="795"/>
                  </a:lnTo>
                  <a:lnTo>
                    <a:pt x="155" y="824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24"/>
            <p:cNvSpPr/>
            <p:nvPr/>
          </p:nvSpPr>
          <p:spPr>
            <a:xfrm>
              <a:off x="5759640" y="5023080"/>
              <a:ext cx="847800" cy="879480"/>
            </a:xfrm>
            <a:custGeom>
              <a:avLst/>
              <a:gdLst/>
              <a:ahLst/>
              <a:rect l="l" t="t" r="r" b="b"/>
              <a:pathLst>
                <a:path w="710" h="737">
                  <a:moveTo>
                    <a:pt x="0" y="737"/>
                  </a:moveTo>
                  <a:lnTo>
                    <a:pt x="0" y="621"/>
                  </a:lnTo>
                  <a:lnTo>
                    <a:pt x="9" y="563"/>
                  </a:lnTo>
                  <a:lnTo>
                    <a:pt x="19" y="499"/>
                  </a:lnTo>
                  <a:lnTo>
                    <a:pt x="34" y="436"/>
                  </a:lnTo>
                  <a:lnTo>
                    <a:pt x="58" y="369"/>
                  </a:lnTo>
                  <a:lnTo>
                    <a:pt x="92" y="301"/>
                  </a:lnTo>
                  <a:lnTo>
                    <a:pt x="140" y="233"/>
                  </a:lnTo>
                  <a:lnTo>
                    <a:pt x="193" y="170"/>
                  </a:lnTo>
                  <a:lnTo>
                    <a:pt x="266" y="117"/>
                  </a:lnTo>
                  <a:lnTo>
                    <a:pt x="353" y="68"/>
                  </a:lnTo>
                  <a:lnTo>
                    <a:pt x="454" y="29"/>
                  </a:lnTo>
                  <a:lnTo>
                    <a:pt x="570" y="10"/>
                  </a:lnTo>
                  <a:lnTo>
                    <a:pt x="710" y="0"/>
                  </a:lnTo>
                  <a:lnTo>
                    <a:pt x="710" y="68"/>
                  </a:lnTo>
                  <a:lnTo>
                    <a:pt x="706" y="112"/>
                  </a:lnTo>
                  <a:lnTo>
                    <a:pt x="701" y="165"/>
                  </a:lnTo>
                  <a:lnTo>
                    <a:pt x="686" y="228"/>
                  </a:lnTo>
                  <a:lnTo>
                    <a:pt x="667" y="291"/>
                  </a:lnTo>
                  <a:lnTo>
                    <a:pt x="638" y="359"/>
                  </a:lnTo>
                  <a:lnTo>
                    <a:pt x="604" y="427"/>
                  </a:lnTo>
                  <a:lnTo>
                    <a:pt x="556" y="490"/>
                  </a:lnTo>
                  <a:lnTo>
                    <a:pt x="498" y="553"/>
                  </a:lnTo>
                  <a:lnTo>
                    <a:pt x="430" y="611"/>
                  </a:lnTo>
                  <a:lnTo>
                    <a:pt x="348" y="659"/>
                  </a:lnTo>
                  <a:lnTo>
                    <a:pt x="246" y="698"/>
                  </a:lnTo>
                  <a:lnTo>
                    <a:pt x="130" y="722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5"/>
            <p:cNvSpPr/>
            <p:nvPr/>
          </p:nvSpPr>
          <p:spPr>
            <a:xfrm>
              <a:off x="5869080" y="5132520"/>
              <a:ext cx="619200" cy="647640"/>
            </a:xfrm>
            <a:custGeom>
              <a:avLst/>
              <a:gdLst/>
              <a:ahLst/>
              <a:rect l="l" t="t" r="r" b="b"/>
              <a:pathLst>
                <a:path w="517" h="543">
                  <a:moveTo>
                    <a:pt x="0" y="543"/>
                  </a:moveTo>
                  <a:lnTo>
                    <a:pt x="0" y="495"/>
                  </a:lnTo>
                  <a:lnTo>
                    <a:pt x="4" y="461"/>
                  </a:lnTo>
                  <a:lnTo>
                    <a:pt x="19" y="374"/>
                  </a:lnTo>
                  <a:lnTo>
                    <a:pt x="53" y="281"/>
                  </a:lnTo>
                  <a:lnTo>
                    <a:pt x="77" y="228"/>
                  </a:lnTo>
                  <a:lnTo>
                    <a:pt x="111" y="180"/>
                  </a:lnTo>
                  <a:lnTo>
                    <a:pt x="154" y="136"/>
                  </a:lnTo>
                  <a:lnTo>
                    <a:pt x="203" y="92"/>
                  </a:lnTo>
                  <a:lnTo>
                    <a:pt x="265" y="59"/>
                  </a:lnTo>
                  <a:lnTo>
                    <a:pt x="338" y="29"/>
                  </a:lnTo>
                  <a:lnTo>
                    <a:pt x="420" y="10"/>
                  </a:lnTo>
                  <a:lnTo>
                    <a:pt x="517" y="0"/>
                  </a:lnTo>
                  <a:lnTo>
                    <a:pt x="517" y="49"/>
                  </a:lnTo>
                  <a:lnTo>
                    <a:pt x="512" y="78"/>
                  </a:lnTo>
                  <a:lnTo>
                    <a:pt x="493" y="160"/>
                  </a:lnTo>
                  <a:lnTo>
                    <a:pt x="459" y="257"/>
                  </a:lnTo>
                  <a:lnTo>
                    <a:pt x="430" y="306"/>
                  </a:lnTo>
                  <a:lnTo>
                    <a:pt x="396" y="354"/>
                  </a:lnTo>
                  <a:lnTo>
                    <a:pt x="352" y="398"/>
                  </a:lnTo>
                  <a:lnTo>
                    <a:pt x="304" y="441"/>
                  </a:lnTo>
                  <a:lnTo>
                    <a:pt x="241" y="475"/>
                  </a:lnTo>
                  <a:lnTo>
                    <a:pt x="174" y="509"/>
                  </a:lnTo>
                  <a:lnTo>
                    <a:pt x="91" y="5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26"/>
            <p:cNvSpPr/>
            <p:nvPr/>
          </p:nvSpPr>
          <p:spPr>
            <a:xfrm>
              <a:off x="6764400" y="4965840"/>
              <a:ext cx="998640" cy="971640"/>
            </a:xfrm>
            <a:custGeom>
              <a:avLst/>
              <a:gdLst/>
              <a:ahLst/>
              <a:rect l="l" t="t" r="r" b="b"/>
              <a:pathLst>
                <a:path w="836" h="814">
                  <a:moveTo>
                    <a:pt x="0" y="0"/>
                  </a:moveTo>
                  <a:lnTo>
                    <a:pt x="135" y="0"/>
                  </a:lnTo>
                  <a:lnTo>
                    <a:pt x="198" y="5"/>
                  </a:lnTo>
                  <a:lnTo>
                    <a:pt x="271" y="14"/>
                  </a:lnTo>
                  <a:lnTo>
                    <a:pt x="348" y="34"/>
                  </a:lnTo>
                  <a:lnTo>
                    <a:pt x="425" y="63"/>
                  </a:lnTo>
                  <a:lnTo>
                    <a:pt x="508" y="102"/>
                  </a:lnTo>
                  <a:lnTo>
                    <a:pt x="580" y="150"/>
                  </a:lnTo>
                  <a:lnTo>
                    <a:pt x="653" y="218"/>
                  </a:lnTo>
                  <a:lnTo>
                    <a:pt x="715" y="295"/>
                  </a:lnTo>
                  <a:lnTo>
                    <a:pt x="769" y="392"/>
                  </a:lnTo>
                  <a:lnTo>
                    <a:pt x="807" y="514"/>
                  </a:lnTo>
                  <a:lnTo>
                    <a:pt x="831" y="649"/>
                  </a:lnTo>
                  <a:lnTo>
                    <a:pt x="836" y="727"/>
                  </a:lnTo>
                  <a:lnTo>
                    <a:pt x="836" y="809"/>
                  </a:lnTo>
                  <a:lnTo>
                    <a:pt x="827" y="809"/>
                  </a:lnTo>
                  <a:lnTo>
                    <a:pt x="802" y="814"/>
                  </a:lnTo>
                  <a:lnTo>
                    <a:pt x="759" y="809"/>
                  </a:lnTo>
                  <a:lnTo>
                    <a:pt x="711" y="809"/>
                  </a:lnTo>
                  <a:lnTo>
                    <a:pt x="648" y="800"/>
                  </a:lnTo>
                  <a:lnTo>
                    <a:pt x="575" y="785"/>
                  </a:lnTo>
                  <a:lnTo>
                    <a:pt x="503" y="766"/>
                  </a:lnTo>
                  <a:lnTo>
                    <a:pt x="425" y="737"/>
                  </a:lnTo>
                  <a:lnTo>
                    <a:pt x="348" y="693"/>
                  </a:lnTo>
                  <a:lnTo>
                    <a:pt x="271" y="644"/>
                  </a:lnTo>
                  <a:lnTo>
                    <a:pt x="203" y="577"/>
                  </a:lnTo>
                  <a:lnTo>
                    <a:pt x="140" y="499"/>
                  </a:lnTo>
                  <a:lnTo>
                    <a:pt x="82" y="402"/>
                  </a:lnTo>
                  <a:lnTo>
                    <a:pt x="43" y="286"/>
                  </a:lnTo>
                  <a:lnTo>
                    <a:pt x="14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27"/>
            <p:cNvSpPr/>
            <p:nvPr/>
          </p:nvSpPr>
          <p:spPr>
            <a:xfrm>
              <a:off x="6821640" y="5023080"/>
              <a:ext cx="884160" cy="850680"/>
            </a:xfrm>
            <a:custGeom>
              <a:avLst/>
              <a:gdLst/>
              <a:ahLst/>
              <a:rect l="l" t="t" r="r" b="b"/>
              <a:pathLst>
                <a:path w="740" h="713">
                  <a:moveTo>
                    <a:pt x="5" y="0"/>
                  </a:moveTo>
                  <a:lnTo>
                    <a:pt x="121" y="0"/>
                  </a:lnTo>
                  <a:lnTo>
                    <a:pt x="179" y="10"/>
                  </a:lnTo>
                  <a:lnTo>
                    <a:pt x="242" y="20"/>
                  </a:lnTo>
                  <a:lnTo>
                    <a:pt x="305" y="34"/>
                  </a:lnTo>
                  <a:lnTo>
                    <a:pt x="373" y="58"/>
                  </a:lnTo>
                  <a:lnTo>
                    <a:pt x="440" y="92"/>
                  </a:lnTo>
                  <a:lnTo>
                    <a:pt x="508" y="141"/>
                  </a:lnTo>
                  <a:lnTo>
                    <a:pt x="571" y="194"/>
                  </a:lnTo>
                  <a:lnTo>
                    <a:pt x="624" y="267"/>
                  </a:lnTo>
                  <a:lnTo>
                    <a:pt x="672" y="354"/>
                  </a:lnTo>
                  <a:lnTo>
                    <a:pt x="711" y="456"/>
                  </a:lnTo>
                  <a:lnTo>
                    <a:pt x="730" y="572"/>
                  </a:lnTo>
                  <a:lnTo>
                    <a:pt x="740" y="713"/>
                  </a:lnTo>
                  <a:lnTo>
                    <a:pt x="672" y="713"/>
                  </a:lnTo>
                  <a:lnTo>
                    <a:pt x="629" y="708"/>
                  </a:lnTo>
                  <a:lnTo>
                    <a:pt x="576" y="698"/>
                  </a:lnTo>
                  <a:lnTo>
                    <a:pt x="513" y="689"/>
                  </a:lnTo>
                  <a:lnTo>
                    <a:pt x="450" y="669"/>
                  </a:lnTo>
                  <a:lnTo>
                    <a:pt x="382" y="640"/>
                  </a:lnTo>
                  <a:lnTo>
                    <a:pt x="315" y="606"/>
                  </a:lnTo>
                  <a:lnTo>
                    <a:pt x="247" y="558"/>
                  </a:lnTo>
                  <a:lnTo>
                    <a:pt x="189" y="499"/>
                  </a:lnTo>
                  <a:lnTo>
                    <a:pt x="131" y="432"/>
                  </a:lnTo>
                  <a:lnTo>
                    <a:pt x="82" y="344"/>
                  </a:lnTo>
                  <a:lnTo>
                    <a:pt x="44" y="247"/>
                  </a:lnTo>
                  <a:lnTo>
                    <a:pt x="15" y="13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28"/>
            <p:cNvSpPr/>
            <p:nvPr/>
          </p:nvSpPr>
          <p:spPr>
            <a:xfrm>
              <a:off x="6950160" y="5132520"/>
              <a:ext cx="646200" cy="620640"/>
            </a:xfrm>
            <a:custGeom>
              <a:avLst/>
              <a:gdLst/>
              <a:ahLst/>
              <a:rect l="l" t="t" r="r" b="b"/>
              <a:pathLst>
                <a:path w="541" h="519">
                  <a:moveTo>
                    <a:pt x="0" y="0"/>
                  </a:moveTo>
                  <a:lnTo>
                    <a:pt x="48" y="0"/>
                  </a:lnTo>
                  <a:lnTo>
                    <a:pt x="82" y="5"/>
                  </a:lnTo>
                  <a:lnTo>
                    <a:pt x="169" y="20"/>
                  </a:lnTo>
                  <a:lnTo>
                    <a:pt x="266" y="54"/>
                  </a:lnTo>
                  <a:lnTo>
                    <a:pt x="314" y="78"/>
                  </a:lnTo>
                  <a:lnTo>
                    <a:pt x="362" y="112"/>
                  </a:lnTo>
                  <a:lnTo>
                    <a:pt x="406" y="155"/>
                  </a:lnTo>
                  <a:lnTo>
                    <a:pt x="449" y="204"/>
                  </a:lnTo>
                  <a:lnTo>
                    <a:pt x="483" y="267"/>
                  </a:lnTo>
                  <a:lnTo>
                    <a:pt x="512" y="340"/>
                  </a:lnTo>
                  <a:lnTo>
                    <a:pt x="531" y="422"/>
                  </a:lnTo>
                  <a:lnTo>
                    <a:pt x="541" y="519"/>
                  </a:lnTo>
                  <a:lnTo>
                    <a:pt x="493" y="519"/>
                  </a:lnTo>
                  <a:lnTo>
                    <a:pt x="464" y="514"/>
                  </a:lnTo>
                  <a:lnTo>
                    <a:pt x="382" y="495"/>
                  </a:lnTo>
                  <a:lnTo>
                    <a:pt x="285" y="456"/>
                  </a:lnTo>
                  <a:lnTo>
                    <a:pt x="237" y="432"/>
                  </a:lnTo>
                  <a:lnTo>
                    <a:pt x="188" y="398"/>
                  </a:lnTo>
                  <a:lnTo>
                    <a:pt x="145" y="354"/>
                  </a:lnTo>
                  <a:lnTo>
                    <a:pt x="101" y="301"/>
                  </a:lnTo>
                  <a:lnTo>
                    <a:pt x="67" y="243"/>
                  </a:lnTo>
                  <a:lnTo>
                    <a:pt x="33" y="175"/>
                  </a:lnTo>
                  <a:lnTo>
                    <a:pt x="1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7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Group 229"/>
          <p:cNvGrpSpPr/>
          <p:nvPr/>
        </p:nvGrpSpPr>
        <p:grpSpPr>
          <a:xfrm>
            <a:off x="5645160" y="3851280"/>
            <a:ext cx="2166120" cy="2148840"/>
            <a:chOff x="5645160" y="3851280"/>
            <a:chExt cx="2166120" cy="2148840"/>
          </a:xfrm>
        </p:grpSpPr>
        <p:grpSp>
          <p:nvGrpSpPr>
            <p:cNvPr id="1483" name="Group 230"/>
            <p:cNvGrpSpPr/>
            <p:nvPr/>
          </p:nvGrpSpPr>
          <p:grpSpPr>
            <a:xfrm>
              <a:off x="5645160" y="3851280"/>
              <a:ext cx="2166120" cy="2148840"/>
              <a:chOff x="5645160" y="3851280"/>
              <a:chExt cx="2166120" cy="2148840"/>
            </a:xfrm>
          </p:grpSpPr>
          <p:sp>
            <p:nvSpPr>
              <p:cNvPr id="1484" name="Freeform 231"/>
              <p:cNvSpPr/>
              <p:nvPr/>
            </p:nvSpPr>
            <p:spPr>
              <a:xfrm>
                <a:off x="6773760" y="3851280"/>
                <a:ext cx="1020600" cy="1029600"/>
              </a:xfrm>
              <a:custGeom>
                <a:avLst/>
                <a:gdLst/>
                <a:ahLst/>
                <a:rect l="l" t="t" r="r" b="b"/>
                <a:pathLst>
                  <a:path w="822" h="829">
                    <a:moveTo>
                      <a:pt x="0" y="829"/>
                    </a:moveTo>
                    <a:lnTo>
                      <a:pt x="0" y="693"/>
                    </a:lnTo>
                    <a:lnTo>
                      <a:pt x="10" y="625"/>
                    </a:lnTo>
                    <a:lnTo>
                      <a:pt x="19" y="553"/>
                    </a:lnTo>
                    <a:lnTo>
                      <a:pt x="39" y="480"/>
                    </a:lnTo>
                    <a:lnTo>
                      <a:pt x="68" y="402"/>
                    </a:lnTo>
                    <a:lnTo>
                      <a:pt x="106" y="320"/>
                    </a:lnTo>
                    <a:lnTo>
                      <a:pt x="159" y="247"/>
                    </a:lnTo>
                    <a:lnTo>
                      <a:pt x="227" y="179"/>
                    </a:lnTo>
                    <a:lnTo>
                      <a:pt x="305" y="116"/>
                    </a:lnTo>
                    <a:lnTo>
                      <a:pt x="406" y="63"/>
                    </a:lnTo>
                    <a:lnTo>
                      <a:pt x="522" y="29"/>
                    </a:lnTo>
                    <a:lnTo>
                      <a:pt x="662" y="5"/>
                    </a:lnTo>
                    <a:lnTo>
                      <a:pt x="740" y="0"/>
                    </a:lnTo>
                    <a:lnTo>
                      <a:pt x="822" y="0"/>
                    </a:lnTo>
                    <a:lnTo>
                      <a:pt x="822" y="78"/>
                    </a:lnTo>
                    <a:lnTo>
                      <a:pt x="817" y="126"/>
                    </a:lnTo>
                    <a:lnTo>
                      <a:pt x="807" y="189"/>
                    </a:lnTo>
                    <a:lnTo>
                      <a:pt x="793" y="262"/>
                    </a:lnTo>
                    <a:lnTo>
                      <a:pt x="769" y="334"/>
                    </a:lnTo>
                    <a:lnTo>
                      <a:pt x="740" y="412"/>
                    </a:lnTo>
                    <a:lnTo>
                      <a:pt x="696" y="490"/>
                    </a:lnTo>
                    <a:lnTo>
                      <a:pt x="643" y="562"/>
                    </a:lnTo>
                    <a:lnTo>
                      <a:pt x="575" y="630"/>
                    </a:lnTo>
                    <a:lnTo>
                      <a:pt x="498" y="693"/>
                    </a:lnTo>
                    <a:lnTo>
                      <a:pt x="401" y="746"/>
                    </a:lnTo>
                    <a:lnTo>
                      <a:pt x="285" y="790"/>
                    </a:lnTo>
                    <a:lnTo>
                      <a:pt x="155" y="819"/>
                    </a:lnTo>
                    <a:lnTo>
                      <a:pt x="0" y="8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232"/>
              <p:cNvSpPr/>
              <p:nvPr/>
            </p:nvSpPr>
            <p:spPr>
              <a:xfrm>
                <a:off x="6827040" y="3910680"/>
                <a:ext cx="901440" cy="903240"/>
              </a:xfrm>
              <a:custGeom>
                <a:avLst/>
                <a:gdLst/>
                <a:ahLst/>
                <a:rect l="l" t="t" r="r" b="b"/>
                <a:pathLst>
                  <a:path w="726" h="727">
                    <a:moveTo>
                      <a:pt x="0" y="727"/>
                    </a:moveTo>
                    <a:lnTo>
                      <a:pt x="0" y="694"/>
                    </a:lnTo>
                    <a:lnTo>
                      <a:pt x="5" y="655"/>
                    </a:lnTo>
                    <a:lnTo>
                      <a:pt x="5" y="606"/>
                    </a:lnTo>
                    <a:lnTo>
                      <a:pt x="15" y="553"/>
                    </a:lnTo>
                    <a:lnTo>
                      <a:pt x="25" y="490"/>
                    </a:lnTo>
                    <a:lnTo>
                      <a:pt x="44" y="422"/>
                    </a:lnTo>
                    <a:lnTo>
                      <a:pt x="73" y="354"/>
                    </a:lnTo>
                    <a:lnTo>
                      <a:pt x="107" y="286"/>
                    </a:lnTo>
                    <a:lnTo>
                      <a:pt x="150" y="223"/>
                    </a:lnTo>
                    <a:lnTo>
                      <a:pt x="208" y="160"/>
                    </a:lnTo>
                    <a:lnTo>
                      <a:pt x="281" y="107"/>
                    </a:lnTo>
                    <a:lnTo>
                      <a:pt x="368" y="63"/>
                    </a:lnTo>
                    <a:lnTo>
                      <a:pt x="469" y="30"/>
                    </a:lnTo>
                    <a:lnTo>
                      <a:pt x="585" y="5"/>
                    </a:lnTo>
                    <a:lnTo>
                      <a:pt x="726" y="0"/>
                    </a:lnTo>
                    <a:lnTo>
                      <a:pt x="726" y="68"/>
                    </a:lnTo>
                    <a:lnTo>
                      <a:pt x="721" y="112"/>
                    </a:lnTo>
                    <a:lnTo>
                      <a:pt x="711" y="165"/>
                    </a:lnTo>
                    <a:lnTo>
                      <a:pt x="697" y="223"/>
                    </a:lnTo>
                    <a:lnTo>
                      <a:pt x="677" y="291"/>
                    </a:lnTo>
                    <a:lnTo>
                      <a:pt x="648" y="359"/>
                    </a:lnTo>
                    <a:lnTo>
                      <a:pt x="614" y="422"/>
                    </a:lnTo>
                    <a:lnTo>
                      <a:pt x="566" y="490"/>
                    </a:lnTo>
                    <a:lnTo>
                      <a:pt x="508" y="548"/>
                    </a:lnTo>
                    <a:lnTo>
                      <a:pt x="436" y="606"/>
                    </a:lnTo>
                    <a:lnTo>
                      <a:pt x="353" y="655"/>
                    </a:lnTo>
                    <a:lnTo>
                      <a:pt x="252" y="689"/>
                    </a:lnTo>
                    <a:lnTo>
                      <a:pt x="136" y="718"/>
                    </a:lnTo>
                    <a:lnTo>
                      <a:pt x="5" y="727"/>
                    </a:lnTo>
                    <a:lnTo>
                      <a:pt x="0" y="7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233"/>
              <p:cNvSpPr/>
              <p:nvPr/>
            </p:nvSpPr>
            <p:spPr>
              <a:xfrm>
                <a:off x="6947280" y="4026240"/>
                <a:ext cx="654120" cy="662400"/>
              </a:xfrm>
              <a:custGeom>
                <a:avLst/>
                <a:gdLst/>
                <a:ahLst/>
                <a:rect l="l" t="t" r="r" b="b"/>
                <a:pathLst>
                  <a:path w="527" h="533">
                    <a:moveTo>
                      <a:pt x="0" y="533"/>
                    </a:moveTo>
                    <a:lnTo>
                      <a:pt x="0" y="508"/>
                    </a:lnTo>
                    <a:lnTo>
                      <a:pt x="5" y="484"/>
                    </a:lnTo>
                    <a:lnTo>
                      <a:pt x="5" y="450"/>
                    </a:lnTo>
                    <a:lnTo>
                      <a:pt x="24" y="368"/>
                    </a:lnTo>
                    <a:lnTo>
                      <a:pt x="58" y="271"/>
                    </a:lnTo>
                    <a:lnTo>
                      <a:pt x="87" y="223"/>
                    </a:lnTo>
                    <a:lnTo>
                      <a:pt x="121" y="174"/>
                    </a:lnTo>
                    <a:lnTo>
                      <a:pt x="160" y="130"/>
                    </a:lnTo>
                    <a:lnTo>
                      <a:pt x="213" y="87"/>
                    </a:lnTo>
                    <a:lnTo>
                      <a:pt x="276" y="53"/>
                    </a:lnTo>
                    <a:lnTo>
                      <a:pt x="348" y="29"/>
                    </a:lnTo>
                    <a:lnTo>
                      <a:pt x="430" y="9"/>
                    </a:lnTo>
                    <a:lnTo>
                      <a:pt x="527" y="0"/>
                    </a:lnTo>
                    <a:lnTo>
                      <a:pt x="527" y="48"/>
                    </a:lnTo>
                    <a:lnTo>
                      <a:pt x="522" y="77"/>
                    </a:lnTo>
                    <a:lnTo>
                      <a:pt x="503" y="160"/>
                    </a:lnTo>
                    <a:lnTo>
                      <a:pt x="464" y="252"/>
                    </a:lnTo>
                    <a:lnTo>
                      <a:pt x="435" y="300"/>
                    </a:lnTo>
                    <a:lnTo>
                      <a:pt x="401" y="349"/>
                    </a:lnTo>
                    <a:lnTo>
                      <a:pt x="358" y="392"/>
                    </a:lnTo>
                    <a:lnTo>
                      <a:pt x="305" y="436"/>
                    </a:lnTo>
                    <a:lnTo>
                      <a:pt x="247" y="470"/>
                    </a:lnTo>
                    <a:lnTo>
                      <a:pt x="174" y="499"/>
                    </a:lnTo>
                    <a:lnTo>
                      <a:pt x="92" y="523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234"/>
              <p:cNvSpPr/>
              <p:nvPr/>
            </p:nvSpPr>
            <p:spPr>
              <a:xfrm>
                <a:off x="5645160" y="3874320"/>
                <a:ext cx="1044000" cy="1012320"/>
              </a:xfrm>
              <a:custGeom>
                <a:avLst/>
                <a:gdLst/>
                <a:ahLst/>
                <a:rect l="l" t="t" r="r" b="b"/>
                <a:pathLst>
                  <a:path w="841" h="815">
                    <a:moveTo>
                      <a:pt x="0" y="0"/>
                    </a:moveTo>
                    <a:lnTo>
                      <a:pt x="135" y="0"/>
                    </a:lnTo>
                    <a:lnTo>
                      <a:pt x="198" y="5"/>
                    </a:lnTo>
                    <a:lnTo>
                      <a:pt x="271" y="15"/>
                    </a:lnTo>
                    <a:lnTo>
                      <a:pt x="348" y="34"/>
                    </a:lnTo>
                    <a:lnTo>
                      <a:pt x="430" y="63"/>
                    </a:lnTo>
                    <a:lnTo>
                      <a:pt x="508" y="97"/>
                    </a:lnTo>
                    <a:lnTo>
                      <a:pt x="585" y="151"/>
                    </a:lnTo>
                    <a:lnTo>
                      <a:pt x="653" y="214"/>
                    </a:lnTo>
                    <a:lnTo>
                      <a:pt x="716" y="296"/>
                    </a:lnTo>
                    <a:lnTo>
                      <a:pt x="769" y="393"/>
                    </a:lnTo>
                    <a:lnTo>
                      <a:pt x="807" y="509"/>
                    </a:lnTo>
                    <a:lnTo>
                      <a:pt x="836" y="650"/>
                    </a:lnTo>
                    <a:lnTo>
                      <a:pt x="841" y="727"/>
                    </a:lnTo>
                    <a:lnTo>
                      <a:pt x="841" y="810"/>
                    </a:lnTo>
                    <a:lnTo>
                      <a:pt x="832" y="810"/>
                    </a:lnTo>
                    <a:lnTo>
                      <a:pt x="807" y="815"/>
                    </a:lnTo>
                    <a:lnTo>
                      <a:pt x="764" y="810"/>
                    </a:lnTo>
                    <a:lnTo>
                      <a:pt x="716" y="810"/>
                    </a:lnTo>
                    <a:lnTo>
                      <a:pt x="653" y="800"/>
                    </a:lnTo>
                    <a:lnTo>
                      <a:pt x="580" y="786"/>
                    </a:lnTo>
                    <a:lnTo>
                      <a:pt x="508" y="766"/>
                    </a:lnTo>
                    <a:lnTo>
                      <a:pt x="430" y="737"/>
                    </a:lnTo>
                    <a:lnTo>
                      <a:pt x="353" y="693"/>
                    </a:lnTo>
                    <a:lnTo>
                      <a:pt x="276" y="645"/>
                    </a:lnTo>
                    <a:lnTo>
                      <a:pt x="208" y="577"/>
                    </a:lnTo>
                    <a:lnTo>
                      <a:pt x="140" y="500"/>
                    </a:lnTo>
                    <a:lnTo>
                      <a:pt x="87" y="403"/>
                    </a:lnTo>
                    <a:lnTo>
                      <a:pt x="44" y="286"/>
                    </a:lnTo>
                    <a:lnTo>
                      <a:pt x="15" y="1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235"/>
              <p:cNvSpPr/>
              <p:nvPr/>
            </p:nvSpPr>
            <p:spPr>
              <a:xfrm>
                <a:off x="5711040" y="3935520"/>
                <a:ext cx="918360" cy="884520"/>
              </a:xfrm>
              <a:custGeom>
                <a:avLst/>
                <a:gdLst/>
                <a:ahLst/>
                <a:rect l="l" t="t" r="r" b="b"/>
                <a:pathLst>
                  <a:path w="740" h="712">
                    <a:moveTo>
                      <a:pt x="0" y="0"/>
                    </a:moveTo>
                    <a:lnTo>
                      <a:pt x="121" y="0"/>
                    </a:lnTo>
                    <a:lnTo>
                      <a:pt x="174" y="10"/>
                    </a:lnTo>
                    <a:lnTo>
                      <a:pt x="237" y="19"/>
                    </a:lnTo>
                    <a:lnTo>
                      <a:pt x="305" y="34"/>
                    </a:lnTo>
                    <a:lnTo>
                      <a:pt x="372" y="58"/>
                    </a:lnTo>
                    <a:lnTo>
                      <a:pt x="440" y="92"/>
                    </a:lnTo>
                    <a:lnTo>
                      <a:pt x="508" y="140"/>
                    </a:lnTo>
                    <a:lnTo>
                      <a:pt x="571" y="194"/>
                    </a:lnTo>
                    <a:lnTo>
                      <a:pt x="624" y="266"/>
                    </a:lnTo>
                    <a:lnTo>
                      <a:pt x="672" y="354"/>
                    </a:lnTo>
                    <a:lnTo>
                      <a:pt x="711" y="455"/>
                    </a:lnTo>
                    <a:lnTo>
                      <a:pt x="730" y="572"/>
                    </a:lnTo>
                    <a:lnTo>
                      <a:pt x="740" y="712"/>
                    </a:lnTo>
                    <a:lnTo>
                      <a:pt x="672" y="712"/>
                    </a:lnTo>
                    <a:lnTo>
                      <a:pt x="629" y="707"/>
                    </a:lnTo>
                    <a:lnTo>
                      <a:pt x="576" y="698"/>
                    </a:lnTo>
                    <a:lnTo>
                      <a:pt x="513" y="688"/>
                    </a:lnTo>
                    <a:lnTo>
                      <a:pt x="450" y="669"/>
                    </a:lnTo>
                    <a:lnTo>
                      <a:pt x="382" y="640"/>
                    </a:lnTo>
                    <a:lnTo>
                      <a:pt x="314" y="606"/>
                    </a:lnTo>
                    <a:lnTo>
                      <a:pt x="247" y="557"/>
                    </a:lnTo>
                    <a:lnTo>
                      <a:pt x="184" y="499"/>
                    </a:lnTo>
                    <a:lnTo>
                      <a:pt x="126" y="431"/>
                    </a:lnTo>
                    <a:lnTo>
                      <a:pt x="78" y="344"/>
                    </a:lnTo>
                    <a:lnTo>
                      <a:pt x="39" y="247"/>
                    </a:lnTo>
                    <a:lnTo>
                      <a:pt x="15" y="1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236"/>
              <p:cNvSpPr/>
              <p:nvPr/>
            </p:nvSpPr>
            <p:spPr>
              <a:xfrm>
                <a:off x="5837400" y="4049640"/>
                <a:ext cx="671760" cy="644760"/>
              </a:xfrm>
              <a:custGeom>
                <a:avLst/>
                <a:gdLst/>
                <a:ahLst/>
                <a:rect l="l" t="t" r="r" b="b"/>
                <a:pathLst>
                  <a:path w="541" h="519">
                    <a:moveTo>
                      <a:pt x="0" y="0"/>
                    </a:moveTo>
                    <a:lnTo>
                      <a:pt x="48" y="0"/>
                    </a:lnTo>
                    <a:lnTo>
                      <a:pt x="82" y="5"/>
                    </a:lnTo>
                    <a:lnTo>
                      <a:pt x="169" y="19"/>
                    </a:lnTo>
                    <a:lnTo>
                      <a:pt x="266" y="53"/>
                    </a:lnTo>
                    <a:lnTo>
                      <a:pt x="314" y="77"/>
                    </a:lnTo>
                    <a:lnTo>
                      <a:pt x="362" y="111"/>
                    </a:lnTo>
                    <a:lnTo>
                      <a:pt x="406" y="155"/>
                    </a:lnTo>
                    <a:lnTo>
                      <a:pt x="449" y="204"/>
                    </a:lnTo>
                    <a:lnTo>
                      <a:pt x="483" y="267"/>
                    </a:lnTo>
                    <a:lnTo>
                      <a:pt x="512" y="339"/>
                    </a:lnTo>
                    <a:lnTo>
                      <a:pt x="532" y="422"/>
                    </a:lnTo>
                    <a:lnTo>
                      <a:pt x="541" y="519"/>
                    </a:lnTo>
                    <a:lnTo>
                      <a:pt x="498" y="519"/>
                    </a:lnTo>
                    <a:lnTo>
                      <a:pt x="464" y="514"/>
                    </a:lnTo>
                    <a:lnTo>
                      <a:pt x="382" y="494"/>
                    </a:lnTo>
                    <a:lnTo>
                      <a:pt x="290" y="456"/>
                    </a:lnTo>
                    <a:lnTo>
                      <a:pt x="241" y="431"/>
                    </a:lnTo>
                    <a:lnTo>
                      <a:pt x="193" y="397"/>
                    </a:lnTo>
                    <a:lnTo>
                      <a:pt x="145" y="354"/>
                    </a:lnTo>
                    <a:lnTo>
                      <a:pt x="106" y="300"/>
                    </a:lnTo>
                    <a:lnTo>
                      <a:pt x="67" y="242"/>
                    </a:lnTo>
                    <a:lnTo>
                      <a:pt x="38" y="174"/>
                    </a:lnTo>
                    <a:lnTo>
                      <a:pt x="14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237"/>
              <p:cNvSpPr/>
              <p:nvPr/>
            </p:nvSpPr>
            <p:spPr>
              <a:xfrm>
                <a:off x="5668560" y="4959360"/>
                <a:ext cx="1009080" cy="1040760"/>
              </a:xfrm>
              <a:custGeom>
                <a:avLst/>
                <a:gdLst/>
                <a:ahLst/>
                <a:rect l="l" t="t" r="r" b="b"/>
                <a:pathLst>
                  <a:path w="813" h="838">
                    <a:moveTo>
                      <a:pt x="0" y="838"/>
                    </a:moveTo>
                    <a:lnTo>
                      <a:pt x="0" y="703"/>
                    </a:lnTo>
                    <a:lnTo>
                      <a:pt x="10" y="640"/>
                    </a:lnTo>
                    <a:lnTo>
                      <a:pt x="20" y="567"/>
                    </a:lnTo>
                    <a:lnTo>
                      <a:pt x="39" y="489"/>
                    </a:lnTo>
                    <a:lnTo>
                      <a:pt x="68" y="412"/>
                    </a:lnTo>
                    <a:lnTo>
                      <a:pt x="102" y="329"/>
                    </a:lnTo>
                    <a:lnTo>
                      <a:pt x="155" y="257"/>
                    </a:lnTo>
                    <a:lnTo>
                      <a:pt x="218" y="184"/>
                    </a:lnTo>
                    <a:lnTo>
                      <a:pt x="300" y="121"/>
                    </a:lnTo>
                    <a:lnTo>
                      <a:pt x="397" y="68"/>
                    </a:lnTo>
                    <a:lnTo>
                      <a:pt x="513" y="29"/>
                    </a:lnTo>
                    <a:lnTo>
                      <a:pt x="653" y="5"/>
                    </a:lnTo>
                    <a:lnTo>
                      <a:pt x="730" y="0"/>
                    </a:lnTo>
                    <a:lnTo>
                      <a:pt x="813" y="0"/>
                    </a:lnTo>
                    <a:lnTo>
                      <a:pt x="813" y="77"/>
                    </a:lnTo>
                    <a:lnTo>
                      <a:pt x="808" y="126"/>
                    </a:lnTo>
                    <a:lnTo>
                      <a:pt x="798" y="189"/>
                    </a:lnTo>
                    <a:lnTo>
                      <a:pt x="788" y="262"/>
                    </a:lnTo>
                    <a:lnTo>
                      <a:pt x="764" y="334"/>
                    </a:lnTo>
                    <a:lnTo>
                      <a:pt x="735" y="412"/>
                    </a:lnTo>
                    <a:lnTo>
                      <a:pt x="692" y="489"/>
                    </a:lnTo>
                    <a:lnTo>
                      <a:pt x="643" y="567"/>
                    </a:lnTo>
                    <a:lnTo>
                      <a:pt x="576" y="635"/>
                    </a:lnTo>
                    <a:lnTo>
                      <a:pt x="498" y="698"/>
                    </a:lnTo>
                    <a:lnTo>
                      <a:pt x="402" y="756"/>
                    </a:lnTo>
                    <a:lnTo>
                      <a:pt x="286" y="795"/>
                    </a:lnTo>
                    <a:lnTo>
                      <a:pt x="155" y="824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238"/>
              <p:cNvSpPr/>
              <p:nvPr/>
            </p:nvSpPr>
            <p:spPr>
              <a:xfrm>
                <a:off x="5729400" y="5019120"/>
                <a:ext cx="881280" cy="915480"/>
              </a:xfrm>
              <a:custGeom>
                <a:avLst/>
                <a:gdLst/>
                <a:ahLst/>
                <a:rect l="l" t="t" r="r" b="b"/>
                <a:pathLst>
                  <a:path w="710" h="737">
                    <a:moveTo>
                      <a:pt x="0" y="737"/>
                    </a:moveTo>
                    <a:lnTo>
                      <a:pt x="0" y="621"/>
                    </a:lnTo>
                    <a:lnTo>
                      <a:pt x="9" y="563"/>
                    </a:lnTo>
                    <a:lnTo>
                      <a:pt x="19" y="499"/>
                    </a:lnTo>
                    <a:lnTo>
                      <a:pt x="34" y="436"/>
                    </a:lnTo>
                    <a:lnTo>
                      <a:pt x="58" y="369"/>
                    </a:lnTo>
                    <a:lnTo>
                      <a:pt x="92" y="301"/>
                    </a:lnTo>
                    <a:lnTo>
                      <a:pt x="140" y="233"/>
                    </a:lnTo>
                    <a:lnTo>
                      <a:pt x="193" y="170"/>
                    </a:lnTo>
                    <a:lnTo>
                      <a:pt x="266" y="117"/>
                    </a:lnTo>
                    <a:lnTo>
                      <a:pt x="353" y="68"/>
                    </a:lnTo>
                    <a:lnTo>
                      <a:pt x="454" y="29"/>
                    </a:lnTo>
                    <a:lnTo>
                      <a:pt x="570" y="10"/>
                    </a:lnTo>
                    <a:lnTo>
                      <a:pt x="710" y="0"/>
                    </a:lnTo>
                    <a:lnTo>
                      <a:pt x="710" y="68"/>
                    </a:lnTo>
                    <a:lnTo>
                      <a:pt x="706" y="112"/>
                    </a:lnTo>
                    <a:lnTo>
                      <a:pt x="701" y="165"/>
                    </a:lnTo>
                    <a:lnTo>
                      <a:pt x="686" y="228"/>
                    </a:lnTo>
                    <a:lnTo>
                      <a:pt x="667" y="291"/>
                    </a:lnTo>
                    <a:lnTo>
                      <a:pt x="638" y="359"/>
                    </a:lnTo>
                    <a:lnTo>
                      <a:pt x="604" y="427"/>
                    </a:lnTo>
                    <a:lnTo>
                      <a:pt x="556" y="490"/>
                    </a:lnTo>
                    <a:lnTo>
                      <a:pt x="498" y="553"/>
                    </a:lnTo>
                    <a:lnTo>
                      <a:pt x="430" y="611"/>
                    </a:lnTo>
                    <a:lnTo>
                      <a:pt x="348" y="659"/>
                    </a:lnTo>
                    <a:lnTo>
                      <a:pt x="246" y="698"/>
                    </a:lnTo>
                    <a:lnTo>
                      <a:pt x="130" y="722"/>
                    </a:lnTo>
                    <a:lnTo>
                      <a:pt x="0" y="7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239"/>
              <p:cNvSpPr/>
              <p:nvPr/>
            </p:nvSpPr>
            <p:spPr>
              <a:xfrm>
                <a:off x="5843880" y="5133240"/>
                <a:ext cx="641880" cy="674640"/>
              </a:xfrm>
              <a:custGeom>
                <a:avLst/>
                <a:gdLst/>
                <a:ahLst/>
                <a:rect l="l" t="t" r="r" b="b"/>
                <a:pathLst>
                  <a:path w="517" h="543">
                    <a:moveTo>
                      <a:pt x="0" y="543"/>
                    </a:moveTo>
                    <a:lnTo>
                      <a:pt x="0" y="495"/>
                    </a:lnTo>
                    <a:lnTo>
                      <a:pt x="4" y="461"/>
                    </a:lnTo>
                    <a:lnTo>
                      <a:pt x="19" y="374"/>
                    </a:lnTo>
                    <a:lnTo>
                      <a:pt x="53" y="281"/>
                    </a:lnTo>
                    <a:lnTo>
                      <a:pt x="77" y="228"/>
                    </a:lnTo>
                    <a:lnTo>
                      <a:pt x="111" y="180"/>
                    </a:lnTo>
                    <a:lnTo>
                      <a:pt x="154" y="136"/>
                    </a:lnTo>
                    <a:lnTo>
                      <a:pt x="203" y="92"/>
                    </a:lnTo>
                    <a:lnTo>
                      <a:pt x="265" y="59"/>
                    </a:lnTo>
                    <a:lnTo>
                      <a:pt x="338" y="29"/>
                    </a:lnTo>
                    <a:lnTo>
                      <a:pt x="420" y="10"/>
                    </a:lnTo>
                    <a:lnTo>
                      <a:pt x="517" y="0"/>
                    </a:lnTo>
                    <a:lnTo>
                      <a:pt x="517" y="49"/>
                    </a:lnTo>
                    <a:lnTo>
                      <a:pt x="512" y="78"/>
                    </a:lnTo>
                    <a:lnTo>
                      <a:pt x="493" y="160"/>
                    </a:lnTo>
                    <a:lnTo>
                      <a:pt x="459" y="257"/>
                    </a:lnTo>
                    <a:lnTo>
                      <a:pt x="430" y="306"/>
                    </a:lnTo>
                    <a:lnTo>
                      <a:pt x="396" y="354"/>
                    </a:lnTo>
                    <a:lnTo>
                      <a:pt x="352" y="398"/>
                    </a:lnTo>
                    <a:lnTo>
                      <a:pt x="304" y="441"/>
                    </a:lnTo>
                    <a:lnTo>
                      <a:pt x="241" y="475"/>
                    </a:lnTo>
                    <a:lnTo>
                      <a:pt x="174" y="509"/>
                    </a:lnTo>
                    <a:lnTo>
                      <a:pt x="91" y="529"/>
                    </a:lnTo>
                    <a:lnTo>
                      <a:pt x="0" y="5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240"/>
              <p:cNvSpPr/>
              <p:nvPr/>
            </p:nvSpPr>
            <p:spPr>
              <a:xfrm>
                <a:off x="6773760" y="4959360"/>
                <a:ext cx="1037520" cy="1011240"/>
              </a:xfrm>
              <a:custGeom>
                <a:avLst/>
                <a:gdLst/>
                <a:ahLst/>
                <a:rect l="l" t="t" r="r" b="b"/>
                <a:pathLst>
                  <a:path w="836" h="814">
                    <a:moveTo>
                      <a:pt x="0" y="0"/>
                    </a:moveTo>
                    <a:lnTo>
                      <a:pt x="135" y="0"/>
                    </a:lnTo>
                    <a:lnTo>
                      <a:pt x="198" y="5"/>
                    </a:lnTo>
                    <a:lnTo>
                      <a:pt x="271" y="14"/>
                    </a:lnTo>
                    <a:lnTo>
                      <a:pt x="348" y="34"/>
                    </a:lnTo>
                    <a:lnTo>
                      <a:pt x="425" y="63"/>
                    </a:lnTo>
                    <a:lnTo>
                      <a:pt x="508" y="102"/>
                    </a:lnTo>
                    <a:lnTo>
                      <a:pt x="580" y="150"/>
                    </a:lnTo>
                    <a:lnTo>
                      <a:pt x="653" y="218"/>
                    </a:lnTo>
                    <a:lnTo>
                      <a:pt x="715" y="295"/>
                    </a:lnTo>
                    <a:lnTo>
                      <a:pt x="769" y="392"/>
                    </a:lnTo>
                    <a:lnTo>
                      <a:pt x="807" y="514"/>
                    </a:lnTo>
                    <a:lnTo>
                      <a:pt x="831" y="649"/>
                    </a:lnTo>
                    <a:lnTo>
                      <a:pt x="836" y="727"/>
                    </a:lnTo>
                    <a:lnTo>
                      <a:pt x="836" y="809"/>
                    </a:lnTo>
                    <a:lnTo>
                      <a:pt x="827" y="809"/>
                    </a:lnTo>
                    <a:lnTo>
                      <a:pt x="802" y="814"/>
                    </a:lnTo>
                    <a:lnTo>
                      <a:pt x="759" y="809"/>
                    </a:lnTo>
                    <a:lnTo>
                      <a:pt x="711" y="809"/>
                    </a:lnTo>
                    <a:lnTo>
                      <a:pt x="648" y="800"/>
                    </a:lnTo>
                    <a:lnTo>
                      <a:pt x="575" y="785"/>
                    </a:lnTo>
                    <a:lnTo>
                      <a:pt x="503" y="766"/>
                    </a:lnTo>
                    <a:lnTo>
                      <a:pt x="425" y="737"/>
                    </a:lnTo>
                    <a:lnTo>
                      <a:pt x="348" y="693"/>
                    </a:lnTo>
                    <a:lnTo>
                      <a:pt x="271" y="644"/>
                    </a:lnTo>
                    <a:lnTo>
                      <a:pt x="203" y="577"/>
                    </a:lnTo>
                    <a:lnTo>
                      <a:pt x="140" y="499"/>
                    </a:lnTo>
                    <a:lnTo>
                      <a:pt x="82" y="402"/>
                    </a:lnTo>
                    <a:lnTo>
                      <a:pt x="43" y="286"/>
                    </a:lnTo>
                    <a:lnTo>
                      <a:pt x="14" y="1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241"/>
              <p:cNvSpPr/>
              <p:nvPr/>
            </p:nvSpPr>
            <p:spPr>
              <a:xfrm>
                <a:off x="6833160" y="5019120"/>
                <a:ext cx="918720" cy="885600"/>
              </a:xfrm>
              <a:custGeom>
                <a:avLst/>
                <a:gdLst/>
                <a:ahLst/>
                <a:rect l="l" t="t" r="r" b="b"/>
                <a:pathLst>
                  <a:path w="740" h="713">
                    <a:moveTo>
                      <a:pt x="5" y="0"/>
                    </a:moveTo>
                    <a:lnTo>
                      <a:pt x="121" y="0"/>
                    </a:lnTo>
                    <a:lnTo>
                      <a:pt x="179" y="10"/>
                    </a:lnTo>
                    <a:lnTo>
                      <a:pt x="242" y="20"/>
                    </a:lnTo>
                    <a:lnTo>
                      <a:pt x="305" y="34"/>
                    </a:lnTo>
                    <a:lnTo>
                      <a:pt x="373" y="58"/>
                    </a:lnTo>
                    <a:lnTo>
                      <a:pt x="440" y="92"/>
                    </a:lnTo>
                    <a:lnTo>
                      <a:pt x="508" y="141"/>
                    </a:lnTo>
                    <a:lnTo>
                      <a:pt x="571" y="194"/>
                    </a:lnTo>
                    <a:lnTo>
                      <a:pt x="624" y="267"/>
                    </a:lnTo>
                    <a:lnTo>
                      <a:pt x="672" y="354"/>
                    </a:lnTo>
                    <a:lnTo>
                      <a:pt x="711" y="456"/>
                    </a:lnTo>
                    <a:lnTo>
                      <a:pt x="730" y="572"/>
                    </a:lnTo>
                    <a:lnTo>
                      <a:pt x="740" y="713"/>
                    </a:lnTo>
                    <a:lnTo>
                      <a:pt x="672" y="713"/>
                    </a:lnTo>
                    <a:lnTo>
                      <a:pt x="629" y="708"/>
                    </a:lnTo>
                    <a:lnTo>
                      <a:pt x="576" y="698"/>
                    </a:lnTo>
                    <a:lnTo>
                      <a:pt x="513" y="689"/>
                    </a:lnTo>
                    <a:lnTo>
                      <a:pt x="450" y="669"/>
                    </a:lnTo>
                    <a:lnTo>
                      <a:pt x="382" y="640"/>
                    </a:lnTo>
                    <a:lnTo>
                      <a:pt x="315" y="606"/>
                    </a:lnTo>
                    <a:lnTo>
                      <a:pt x="247" y="558"/>
                    </a:lnTo>
                    <a:lnTo>
                      <a:pt x="189" y="499"/>
                    </a:lnTo>
                    <a:lnTo>
                      <a:pt x="131" y="432"/>
                    </a:lnTo>
                    <a:lnTo>
                      <a:pt x="82" y="344"/>
                    </a:lnTo>
                    <a:lnTo>
                      <a:pt x="44" y="247"/>
                    </a:lnTo>
                    <a:lnTo>
                      <a:pt x="15" y="131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242"/>
              <p:cNvSpPr/>
              <p:nvPr/>
            </p:nvSpPr>
            <p:spPr>
              <a:xfrm>
                <a:off x="6966000" y="5133240"/>
                <a:ext cx="671760" cy="644760"/>
              </a:xfrm>
              <a:custGeom>
                <a:avLst/>
                <a:gdLst/>
                <a:ahLst/>
                <a:rect l="l" t="t" r="r" b="b"/>
                <a:pathLst>
                  <a:path w="541" h="519">
                    <a:moveTo>
                      <a:pt x="0" y="0"/>
                    </a:moveTo>
                    <a:lnTo>
                      <a:pt x="48" y="0"/>
                    </a:lnTo>
                    <a:lnTo>
                      <a:pt x="82" y="5"/>
                    </a:lnTo>
                    <a:lnTo>
                      <a:pt x="169" y="20"/>
                    </a:lnTo>
                    <a:lnTo>
                      <a:pt x="266" y="54"/>
                    </a:lnTo>
                    <a:lnTo>
                      <a:pt x="314" y="78"/>
                    </a:lnTo>
                    <a:lnTo>
                      <a:pt x="362" y="112"/>
                    </a:lnTo>
                    <a:lnTo>
                      <a:pt x="406" y="155"/>
                    </a:lnTo>
                    <a:lnTo>
                      <a:pt x="449" y="204"/>
                    </a:lnTo>
                    <a:lnTo>
                      <a:pt x="483" y="267"/>
                    </a:lnTo>
                    <a:lnTo>
                      <a:pt x="512" y="340"/>
                    </a:lnTo>
                    <a:lnTo>
                      <a:pt x="531" y="422"/>
                    </a:lnTo>
                    <a:lnTo>
                      <a:pt x="541" y="519"/>
                    </a:lnTo>
                    <a:lnTo>
                      <a:pt x="493" y="519"/>
                    </a:lnTo>
                    <a:lnTo>
                      <a:pt x="464" y="514"/>
                    </a:lnTo>
                    <a:lnTo>
                      <a:pt x="382" y="495"/>
                    </a:lnTo>
                    <a:lnTo>
                      <a:pt x="285" y="456"/>
                    </a:lnTo>
                    <a:lnTo>
                      <a:pt x="237" y="432"/>
                    </a:lnTo>
                    <a:lnTo>
                      <a:pt x="188" y="398"/>
                    </a:lnTo>
                    <a:lnTo>
                      <a:pt x="145" y="354"/>
                    </a:lnTo>
                    <a:lnTo>
                      <a:pt x="101" y="301"/>
                    </a:lnTo>
                    <a:lnTo>
                      <a:pt x="67" y="243"/>
                    </a:lnTo>
                    <a:lnTo>
                      <a:pt x="33" y="175"/>
                    </a:lnTo>
                    <a:lnTo>
                      <a:pt x="14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Oval 243"/>
            <p:cNvSpPr/>
            <p:nvPr/>
          </p:nvSpPr>
          <p:spPr>
            <a:xfrm>
              <a:off x="7353000" y="4088880"/>
              <a:ext cx="179280" cy="18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7" name="Text Box 244"/>
          <p:cNvSpPr/>
          <p:nvPr/>
        </p:nvSpPr>
        <p:spPr>
          <a:xfrm>
            <a:off x="7875720" y="583884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245"/>
          <p:cNvSpPr/>
          <p:nvPr/>
        </p:nvSpPr>
        <p:spPr>
          <a:xfrm>
            <a:off x="5170320" y="58770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246"/>
          <p:cNvSpPr/>
          <p:nvPr/>
        </p:nvSpPr>
        <p:spPr>
          <a:xfrm>
            <a:off x="5018040" y="3686040"/>
            <a:ext cx="41904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247"/>
          <p:cNvSpPr/>
          <p:nvPr/>
        </p:nvSpPr>
        <p:spPr>
          <a:xfrm>
            <a:off x="7932600" y="3724200"/>
            <a:ext cx="419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249"/>
          <p:cNvSpPr/>
          <p:nvPr/>
        </p:nvSpPr>
        <p:spPr>
          <a:xfrm>
            <a:off x="6208560" y="59594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250"/>
          <p:cNvSpPr/>
          <p:nvPr/>
        </p:nvSpPr>
        <p:spPr>
          <a:xfrm>
            <a:off x="2870280" y="1257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s 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6" dur="2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143" dur="2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150" dur="2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157" dur="2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3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504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505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511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517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523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529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4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543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544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550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556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562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568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582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583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7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588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3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594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9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600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5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610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611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5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616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1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622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7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628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3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138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Group 186"/>
          <p:cNvGrpSpPr/>
          <p:nvPr/>
        </p:nvGrpSpPr>
        <p:grpSpPr>
          <a:xfrm>
            <a:off x="2781360" y="2281320"/>
            <a:ext cx="3370320" cy="3370320"/>
            <a:chOff x="2781360" y="2281320"/>
            <a:chExt cx="3370320" cy="3370320"/>
          </a:xfrm>
        </p:grpSpPr>
        <p:sp>
          <p:nvSpPr>
            <p:cNvPr id="1639" name="Oval 187"/>
            <p:cNvSpPr/>
            <p:nvPr/>
          </p:nvSpPr>
          <p:spPr>
            <a:xfrm>
              <a:off x="2781360" y="2281320"/>
              <a:ext cx="3370320" cy="337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0" name="Group 188"/>
            <p:cNvGrpSpPr/>
            <p:nvPr/>
          </p:nvGrpSpPr>
          <p:grpSpPr>
            <a:xfrm>
              <a:off x="2853000" y="2310120"/>
              <a:ext cx="3211560" cy="3057120"/>
              <a:chOff x="2853000" y="2310120"/>
              <a:chExt cx="3211560" cy="3057120"/>
            </a:xfrm>
          </p:grpSpPr>
          <p:sp>
            <p:nvSpPr>
              <p:cNvPr id="1641" name="AutoShape 189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AutoShape 190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191"/>
              <p:cNvSpPr/>
              <p:nvPr/>
            </p:nvSpPr>
            <p:spPr>
              <a:xfrm>
                <a:off x="2858040" y="3476880"/>
                <a:ext cx="32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192"/>
              <p:cNvSpPr/>
              <p:nvPr/>
            </p:nvSpPr>
            <p:spPr>
              <a:xfrm>
                <a:off x="2853000" y="3481560"/>
                <a:ext cx="2590920" cy="18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193"/>
              <p:cNvSpPr/>
              <p:nvPr/>
            </p:nvSpPr>
            <p:spPr>
              <a:xfrm flipH="1">
                <a:off x="3478320" y="3478320"/>
                <a:ext cx="2584440" cy="18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Line 194"/>
              <p:cNvSpPr/>
              <p:nvPr/>
            </p:nvSpPr>
            <p:spPr>
              <a:xfrm flipH="1" flipV="1">
                <a:off x="4459320" y="2316240"/>
                <a:ext cx="979560" cy="30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Line 195"/>
              <p:cNvSpPr/>
              <p:nvPr/>
            </p:nvSpPr>
            <p:spPr>
              <a:xfrm flipV="1">
                <a:off x="3486600" y="2311200"/>
                <a:ext cx="974520" cy="303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96"/>
              <p:cNvSpPr/>
              <p:nvPr/>
            </p:nvSpPr>
            <p:spPr>
              <a:xfrm>
                <a:off x="3853080" y="3476880"/>
                <a:ext cx="1209960" cy="1171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97"/>
              <p:cNvSpPr/>
              <p:nvPr/>
            </p:nvSpPr>
            <p:spPr>
              <a:xfrm>
                <a:off x="4086720" y="2314800"/>
                <a:ext cx="749160" cy="115848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98"/>
              <p:cNvSpPr/>
              <p:nvPr/>
            </p:nvSpPr>
            <p:spPr>
              <a:xfrm>
                <a:off x="4835880" y="3470400"/>
                <a:ext cx="1228680" cy="72684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99"/>
              <p:cNvSpPr/>
              <p:nvPr/>
            </p:nvSpPr>
            <p:spPr>
              <a:xfrm>
                <a:off x="4467600" y="4206960"/>
                <a:ext cx="971640" cy="115236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200"/>
              <p:cNvSpPr/>
              <p:nvPr/>
            </p:nvSpPr>
            <p:spPr>
              <a:xfrm>
                <a:off x="3480120" y="4203720"/>
                <a:ext cx="981000" cy="115560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201"/>
              <p:cNvSpPr/>
              <p:nvPr/>
            </p:nvSpPr>
            <p:spPr>
              <a:xfrm>
                <a:off x="2858040" y="3473640"/>
                <a:ext cx="1222200" cy="732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202"/>
              <p:cNvSpPr/>
              <p:nvPr/>
            </p:nvSpPr>
            <p:spPr>
              <a:xfrm>
                <a:off x="4462920" y="2310120"/>
                <a:ext cx="1595520" cy="1157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203"/>
              <p:cNvSpPr/>
              <p:nvPr/>
            </p:nvSpPr>
            <p:spPr>
              <a:xfrm>
                <a:off x="5072400" y="3471840"/>
                <a:ext cx="990720" cy="188568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204"/>
              <p:cNvSpPr/>
              <p:nvPr/>
            </p:nvSpPr>
            <p:spPr>
              <a:xfrm>
                <a:off x="3481920" y="4653000"/>
                <a:ext cx="1957320" cy="71424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205"/>
              <p:cNvSpPr/>
              <p:nvPr/>
            </p:nvSpPr>
            <p:spPr>
              <a:xfrm>
                <a:off x="2862720" y="3476880"/>
                <a:ext cx="985680" cy="188064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206"/>
              <p:cNvSpPr/>
              <p:nvPr/>
            </p:nvSpPr>
            <p:spPr>
              <a:xfrm>
                <a:off x="2862720" y="2310120"/>
                <a:ext cx="1590480" cy="116676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9" name="Group 185"/>
          <p:cNvGrpSpPr/>
          <p:nvPr/>
        </p:nvGrpSpPr>
        <p:grpSpPr>
          <a:xfrm>
            <a:off x="2725560" y="2246400"/>
            <a:ext cx="3493800" cy="3493800"/>
            <a:chOff x="2725560" y="2246400"/>
            <a:chExt cx="3493800" cy="3493800"/>
          </a:xfrm>
        </p:grpSpPr>
        <p:sp>
          <p:nvSpPr>
            <p:cNvPr id="1660" name="Oval 142"/>
            <p:cNvSpPr/>
            <p:nvPr/>
          </p:nvSpPr>
          <p:spPr>
            <a:xfrm>
              <a:off x="2725560" y="2246400"/>
              <a:ext cx="3493800" cy="3493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1" name="Group 165"/>
            <p:cNvGrpSpPr/>
            <p:nvPr/>
          </p:nvGrpSpPr>
          <p:grpSpPr>
            <a:xfrm>
              <a:off x="2799720" y="2275920"/>
              <a:ext cx="3328920" cy="3169440"/>
              <a:chOff x="2799720" y="2275920"/>
              <a:chExt cx="3328920" cy="3169440"/>
            </a:xfrm>
          </p:grpSpPr>
          <p:sp>
            <p:nvSpPr>
              <p:cNvPr id="1662" name="AutoShape 2"/>
              <p:cNvSpPr/>
              <p:nvPr/>
            </p:nvSpPr>
            <p:spPr>
              <a:xfrm>
                <a:off x="2804760" y="2280960"/>
                <a:ext cx="3323880" cy="31590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AutoShape 141"/>
              <p:cNvSpPr/>
              <p:nvPr/>
            </p:nvSpPr>
            <p:spPr>
              <a:xfrm>
                <a:off x="2804760" y="2280960"/>
                <a:ext cx="3323880" cy="31590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149"/>
              <p:cNvSpPr/>
              <p:nvPr/>
            </p:nvSpPr>
            <p:spPr>
              <a:xfrm>
                <a:off x="2804760" y="3485520"/>
                <a:ext cx="332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150"/>
              <p:cNvSpPr/>
              <p:nvPr/>
            </p:nvSpPr>
            <p:spPr>
              <a:xfrm>
                <a:off x="2799720" y="3490560"/>
                <a:ext cx="2685600" cy="19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151"/>
              <p:cNvSpPr/>
              <p:nvPr/>
            </p:nvSpPr>
            <p:spPr>
              <a:xfrm flipH="1">
                <a:off x="3448080" y="3486960"/>
                <a:ext cx="2679120" cy="19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152"/>
              <p:cNvSpPr/>
              <p:nvPr/>
            </p:nvSpPr>
            <p:spPr>
              <a:xfrm flipH="1" flipV="1">
                <a:off x="4465080" y="2282400"/>
                <a:ext cx="1015200" cy="315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153"/>
              <p:cNvSpPr/>
              <p:nvPr/>
            </p:nvSpPr>
            <p:spPr>
              <a:xfrm flipV="1">
                <a:off x="3456360" y="2277720"/>
                <a:ext cx="1010160" cy="31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54"/>
              <p:cNvSpPr/>
              <p:nvPr/>
            </p:nvSpPr>
            <p:spPr>
              <a:xfrm>
                <a:off x="3836160" y="3485520"/>
                <a:ext cx="1254240" cy="12142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55"/>
              <p:cNvSpPr/>
              <p:nvPr/>
            </p:nvSpPr>
            <p:spPr>
              <a:xfrm>
                <a:off x="4078440" y="2280960"/>
                <a:ext cx="776520" cy="120096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56"/>
              <p:cNvSpPr/>
              <p:nvPr/>
            </p:nvSpPr>
            <p:spPr>
              <a:xfrm>
                <a:off x="4854960" y="3479040"/>
                <a:ext cx="1273680" cy="75348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57"/>
              <p:cNvSpPr/>
              <p:nvPr/>
            </p:nvSpPr>
            <p:spPr>
              <a:xfrm>
                <a:off x="4473360" y="4242240"/>
                <a:ext cx="1006920" cy="119484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58"/>
              <p:cNvSpPr/>
              <p:nvPr/>
            </p:nvSpPr>
            <p:spPr>
              <a:xfrm>
                <a:off x="3449520" y="4239000"/>
                <a:ext cx="1016640" cy="119808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59"/>
              <p:cNvSpPr/>
              <p:nvPr/>
            </p:nvSpPr>
            <p:spPr>
              <a:xfrm>
                <a:off x="2804760" y="3482280"/>
                <a:ext cx="1266840" cy="759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60"/>
              <p:cNvSpPr/>
              <p:nvPr/>
            </p:nvSpPr>
            <p:spPr>
              <a:xfrm>
                <a:off x="4468320" y="2275920"/>
                <a:ext cx="1653840" cy="119952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61"/>
              <p:cNvSpPr/>
              <p:nvPr/>
            </p:nvSpPr>
            <p:spPr>
              <a:xfrm>
                <a:off x="5100120" y="3480480"/>
                <a:ext cx="1026720" cy="195480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62"/>
              <p:cNvSpPr/>
              <p:nvPr/>
            </p:nvSpPr>
            <p:spPr>
              <a:xfrm>
                <a:off x="3451680" y="4704840"/>
                <a:ext cx="2028960" cy="74052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63"/>
              <p:cNvSpPr/>
              <p:nvPr/>
            </p:nvSpPr>
            <p:spPr>
              <a:xfrm>
                <a:off x="2809440" y="3485520"/>
                <a:ext cx="1021680" cy="194976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64"/>
              <p:cNvSpPr/>
              <p:nvPr/>
            </p:nvSpPr>
            <p:spPr>
              <a:xfrm>
                <a:off x="2809440" y="2275920"/>
                <a:ext cx="1648440" cy="120960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0" name="Oval 207"/>
          <p:cNvSpPr/>
          <p:nvPr/>
        </p:nvSpPr>
        <p:spPr>
          <a:xfrm>
            <a:off x="4376880" y="2614680"/>
            <a:ext cx="158760" cy="158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08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2" name="Group 3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1683" name="Group 4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1684" name="AutoShape 5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AutoShape 6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AutoShape 7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AutoShape 8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9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9" name="Group 10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1690" name="AutoShape 11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AutoShape 12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AutoShape 13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AutoShape 14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AutoShape 15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5" name="Group 16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1696" name="AutoShape 17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AutoShape 18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AutoShape 19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AutoShape 20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AutoShape 21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1" name="Group 22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1702" name="AutoShape 23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AutoShape 24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AutoShape 25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AutoShape 26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AutoShape 27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Group 28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1708" name="AutoShape 29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AutoShape 30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AutoShape 31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AutoShape 32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AutoShape 33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3" name="AutoShape 34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AutoShape 35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AutoShape 36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AutoShape 37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AutoShape 38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AutoShape 39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AutoShape 40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AutoShape 41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Group 42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1722" name="Group 43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1723" name="AutoShape 44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AutoShape 45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AutoShape 46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AutoShape 47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AutoShape 48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49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1729" name="AutoShape 50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AutoShape 51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AutoShape 52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AutoShape 53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AutoShape 54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Group 55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1735" name="AutoShape 56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AutoShape 57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AutoShape 58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59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AutoShape 60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1741" name="AutoShape 62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63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AutoShape 64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AutoShape 65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AutoShape 66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6" name="Group 67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1747" name="AutoShape 68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AutoShape 69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AutoShape 70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AutoShape 71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72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AutoShape 73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AutoShape 74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AutoShape 75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AutoShape 76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AutoShape 77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78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79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AutoShape 80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81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1761" name="Group 82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1762" name="AutoShape 83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AutoShape 84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AutoShape 85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AutoShape 86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6" name="Group 87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1767" name="AutoShape 88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AutoShape 89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AutoShape 90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AutoShape 91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AutoShape 92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2" name="Group 93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1773" name="AutoShape 94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AutoShape 95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AutoShape 96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AutoShape 97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AutoShape 98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8" name="Group 99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1779" name="AutoShape 100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AutoShape 101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AutoShape 102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AutoShape 103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AutoShape 104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4" name="AutoShape 105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AutoShape 106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AutoShape 107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AutoShape 108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8" name="Group 109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1789" name="Group 110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1790" name="AutoShape 111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AutoShape 112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AutoShape 113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AutoShape 114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4" name="Group 115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1795" name="AutoShape 116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AutoShape 117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AutoShape 118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AutoShape 119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AutoShape 120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0" name="Group 121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1801" name="AutoShape 122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AutoShape 123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AutoShape 124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AutoShape 125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AutoShape 126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6" name="Group 127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1807" name="AutoShape 128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AutoShape 129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AutoShape 130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AutoShape 131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AutoShape 132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2" name="AutoShape 133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AutoShape 134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AutoShape 135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AutoShape 136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6" name="Text Box 139"/>
          <p:cNvSpPr/>
          <p:nvPr/>
        </p:nvSpPr>
        <p:spPr>
          <a:xfrm>
            <a:off x="6207120" y="328788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Text Box 140"/>
          <p:cNvSpPr/>
          <p:nvPr/>
        </p:nvSpPr>
        <p:spPr>
          <a:xfrm>
            <a:off x="5583240" y="55040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141"/>
          <p:cNvSpPr/>
          <p:nvPr/>
        </p:nvSpPr>
        <p:spPr>
          <a:xfrm>
            <a:off x="2865600" y="551016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142"/>
          <p:cNvSpPr/>
          <p:nvPr/>
        </p:nvSpPr>
        <p:spPr>
          <a:xfrm>
            <a:off x="2149560" y="324180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143"/>
          <p:cNvSpPr/>
          <p:nvPr/>
        </p:nvSpPr>
        <p:spPr>
          <a:xfrm>
            <a:off x="4175280" y="181944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Group 144"/>
          <p:cNvGrpSpPr/>
          <p:nvPr/>
        </p:nvGrpSpPr>
        <p:grpSpPr>
          <a:xfrm>
            <a:off x="2781360" y="2281320"/>
            <a:ext cx="3370320" cy="3370320"/>
            <a:chOff x="2781360" y="2281320"/>
            <a:chExt cx="3370320" cy="3370320"/>
          </a:xfrm>
        </p:grpSpPr>
        <p:sp>
          <p:nvSpPr>
            <p:cNvPr id="1822" name="Oval 145"/>
            <p:cNvSpPr/>
            <p:nvPr/>
          </p:nvSpPr>
          <p:spPr>
            <a:xfrm>
              <a:off x="2781360" y="2281320"/>
              <a:ext cx="3370320" cy="337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3" name="Group 146"/>
            <p:cNvGrpSpPr/>
            <p:nvPr/>
          </p:nvGrpSpPr>
          <p:grpSpPr>
            <a:xfrm>
              <a:off x="2853000" y="2310120"/>
              <a:ext cx="3211560" cy="3057120"/>
              <a:chOff x="2853000" y="2310120"/>
              <a:chExt cx="3211560" cy="3057120"/>
            </a:xfrm>
          </p:grpSpPr>
          <p:sp>
            <p:nvSpPr>
              <p:cNvPr id="1824" name="AutoShape 147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AutoShape 148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Line 149"/>
              <p:cNvSpPr/>
              <p:nvPr/>
            </p:nvSpPr>
            <p:spPr>
              <a:xfrm>
                <a:off x="2858040" y="3476880"/>
                <a:ext cx="32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Line 150"/>
              <p:cNvSpPr/>
              <p:nvPr/>
            </p:nvSpPr>
            <p:spPr>
              <a:xfrm>
                <a:off x="2853000" y="3481560"/>
                <a:ext cx="2590920" cy="18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Line 151"/>
              <p:cNvSpPr/>
              <p:nvPr/>
            </p:nvSpPr>
            <p:spPr>
              <a:xfrm flipH="1">
                <a:off x="3478320" y="3478320"/>
                <a:ext cx="2584440" cy="18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52"/>
              <p:cNvSpPr/>
              <p:nvPr/>
            </p:nvSpPr>
            <p:spPr>
              <a:xfrm flipH="1" flipV="1">
                <a:off x="4459320" y="2316240"/>
                <a:ext cx="979560" cy="30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Line 153"/>
              <p:cNvSpPr/>
              <p:nvPr/>
            </p:nvSpPr>
            <p:spPr>
              <a:xfrm flipV="1">
                <a:off x="3486600" y="2311200"/>
                <a:ext cx="974520" cy="303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853080" y="3476880"/>
                <a:ext cx="1209960" cy="1171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55"/>
              <p:cNvSpPr/>
              <p:nvPr/>
            </p:nvSpPr>
            <p:spPr>
              <a:xfrm>
                <a:off x="4086720" y="2314800"/>
                <a:ext cx="749160" cy="115848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6"/>
              <p:cNvSpPr/>
              <p:nvPr/>
            </p:nvSpPr>
            <p:spPr>
              <a:xfrm>
                <a:off x="4835880" y="3470400"/>
                <a:ext cx="1228680" cy="72684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4467600" y="4206960"/>
                <a:ext cx="971640" cy="115236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8"/>
              <p:cNvSpPr/>
              <p:nvPr/>
            </p:nvSpPr>
            <p:spPr>
              <a:xfrm>
                <a:off x="3480120" y="4203720"/>
                <a:ext cx="981000" cy="115560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9"/>
              <p:cNvSpPr/>
              <p:nvPr/>
            </p:nvSpPr>
            <p:spPr>
              <a:xfrm>
                <a:off x="2858040" y="3473640"/>
                <a:ext cx="1222200" cy="732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462920" y="2310120"/>
                <a:ext cx="1595520" cy="1157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61"/>
              <p:cNvSpPr/>
              <p:nvPr/>
            </p:nvSpPr>
            <p:spPr>
              <a:xfrm>
                <a:off x="5072400" y="3471840"/>
                <a:ext cx="990720" cy="188568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62"/>
              <p:cNvSpPr/>
              <p:nvPr/>
            </p:nvSpPr>
            <p:spPr>
              <a:xfrm>
                <a:off x="3481920" y="4653000"/>
                <a:ext cx="1957320" cy="71424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2862720" y="3476880"/>
                <a:ext cx="985680" cy="188064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64"/>
              <p:cNvSpPr/>
              <p:nvPr/>
            </p:nvSpPr>
            <p:spPr>
              <a:xfrm>
                <a:off x="2862720" y="2310120"/>
                <a:ext cx="1590480" cy="116676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2" name="Group 187"/>
          <p:cNvGrpSpPr/>
          <p:nvPr/>
        </p:nvGrpSpPr>
        <p:grpSpPr>
          <a:xfrm>
            <a:off x="2725560" y="2246400"/>
            <a:ext cx="3493800" cy="3493800"/>
            <a:chOff x="2725560" y="2246400"/>
            <a:chExt cx="3493800" cy="3493800"/>
          </a:xfrm>
        </p:grpSpPr>
        <p:grpSp>
          <p:nvGrpSpPr>
            <p:cNvPr id="1843" name="Group 165"/>
            <p:cNvGrpSpPr/>
            <p:nvPr/>
          </p:nvGrpSpPr>
          <p:grpSpPr>
            <a:xfrm>
              <a:off x="2725560" y="2246400"/>
              <a:ext cx="3493800" cy="3493800"/>
              <a:chOff x="2725560" y="2246400"/>
              <a:chExt cx="3493800" cy="3493800"/>
            </a:xfrm>
          </p:grpSpPr>
          <p:sp>
            <p:nvSpPr>
              <p:cNvPr id="1844" name="Oval 166"/>
              <p:cNvSpPr/>
              <p:nvPr/>
            </p:nvSpPr>
            <p:spPr>
              <a:xfrm>
                <a:off x="2725560" y="2246400"/>
                <a:ext cx="3493800" cy="3493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Group 167"/>
              <p:cNvGrpSpPr/>
              <p:nvPr/>
            </p:nvGrpSpPr>
            <p:grpSpPr>
              <a:xfrm>
                <a:off x="2799720" y="2275920"/>
                <a:ext cx="3328920" cy="3169440"/>
                <a:chOff x="2799720" y="2275920"/>
                <a:chExt cx="3328920" cy="3169440"/>
              </a:xfrm>
            </p:grpSpPr>
            <p:sp>
              <p:nvSpPr>
                <p:cNvPr id="1846" name="AutoShape 168"/>
                <p:cNvSpPr/>
                <p:nvPr/>
              </p:nvSpPr>
              <p:spPr>
                <a:xfrm>
                  <a:off x="2804760" y="2280960"/>
                  <a:ext cx="3323880" cy="3159000"/>
                </a:xfrm>
                <a:prstGeom prst="pentagon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AutoShape 169"/>
                <p:cNvSpPr/>
                <p:nvPr/>
              </p:nvSpPr>
              <p:spPr>
                <a:xfrm>
                  <a:off x="2804760" y="2280960"/>
                  <a:ext cx="3323880" cy="3159000"/>
                </a:xfrm>
                <a:prstGeom prst="pentagon">
                  <a:avLst/>
                </a:prstGeom>
                <a:solidFill>
                  <a:srgbClr val="edbfe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Line 170"/>
                <p:cNvSpPr/>
                <p:nvPr/>
              </p:nvSpPr>
              <p:spPr>
                <a:xfrm>
                  <a:off x="2804760" y="3485520"/>
                  <a:ext cx="332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Line 171"/>
                <p:cNvSpPr/>
                <p:nvPr/>
              </p:nvSpPr>
              <p:spPr>
                <a:xfrm>
                  <a:off x="2799720" y="3490560"/>
                  <a:ext cx="2685600" cy="19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Line 172"/>
                <p:cNvSpPr/>
                <p:nvPr/>
              </p:nvSpPr>
              <p:spPr>
                <a:xfrm flipH="1">
                  <a:off x="3448080" y="3486960"/>
                  <a:ext cx="2679120" cy="19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Line 173"/>
                <p:cNvSpPr/>
                <p:nvPr/>
              </p:nvSpPr>
              <p:spPr>
                <a:xfrm flipH="1" flipV="1">
                  <a:off x="4465080" y="2282400"/>
                  <a:ext cx="1015200" cy="31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Line 174"/>
                <p:cNvSpPr/>
                <p:nvPr/>
              </p:nvSpPr>
              <p:spPr>
                <a:xfrm flipV="1">
                  <a:off x="3456360" y="2277720"/>
                  <a:ext cx="1010160" cy="314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Freeform 175"/>
                <p:cNvSpPr/>
                <p:nvPr/>
              </p:nvSpPr>
              <p:spPr>
                <a:xfrm>
                  <a:off x="3836160" y="3485520"/>
                  <a:ext cx="1254240" cy="1214280"/>
                </a:xfrm>
                <a:custGeom>
                  <a:avLst/>
                  <a:gdLst/>
                  <a:ahLst/>
                  <a:rect l="l" t="t" r="r" b="b"/>
                  <a:pathLst>
                    <a:path w="762" h="738">
                      <a:moveTo>
                        <a:pt x="141" y="0"/>
                      </a:moveTo>
                      <a:lnTo>
                        <a:pt x="615" y="0"/>
                      </a:lnTo>
                      <a:lnTo>
                        <a:pt x="762" y="456"/>
                      </a:lnTo>
                      <a:lnTo>
                        <a:pt x="384" y="738"/>
                      </a:lnTo>
                      <a:lnTo>
                        <a:pt x="0" y="459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Freeform 176"/>
                <p:cNvSpPr/>
                <p:nvPr/>
              </p:nvSpPr>
              <p:spPr>
                <a:xfrm>
                  <a:off x="4078440" y="2280960"/>
                  <a:ext cx="776520" cy="1200960"/>
                </a:xfrm>
                <a:custGeom>
                  <a:avLst/>
                  <a:gdLst/>
                  <a:ahLst/>
                  <a:rect l="l" t="t" r="r" b="b"/>
                  <a:pathLst>
                    <a:path w="472" h="730">
                      <a:moveTo>
                        <a:pt x="0" y="730"/>
                      </a:moveTo>
                      <a:lnTo>
                        <a:pt x="232" y="0"/>
                      </a:lnTo>
                      <a:lnTo>
                        <a:pt x="472" y="728"/>
                      </a:lnTo>
                      <a:lnTo>
                        <a:pt x="0" y="7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Freeform 177"/>
                <p:cNvSpPr/>
                <p:nvPr/>
              </p:nvSpPr>
              <p:spPr>
                <a:xfrm>
                  <a:off x="4854960" y="3479040"/>
                  <a:ext cx="1273680" cy="753480"/>
                </a:xfrm>
                <a:custGeom>
                  <a:avLst/>
                  <a:gdLst/>
                  <a:ahLst/>
                  <a:rect l="l" t="t" r="r" b="b"/>
                  <a:pathLst>
                    <a:path w="774" h="458">
                      <a:moveTo>
                        <a:pt x="0" y="0"/>
                      </a:moveTo>
                      <a:lnTo>
                        <a:pt x="774" y="0"/>
                      </a:lnTo>
                      <a:lnTo>
                        <a:pt x="148" y="4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Freeform 178"/>
                <p:cNvSpPr/>
                <p:nvPr/>
              </p:nvSpPr>
              <p:spPr>
                <a:xfrm>
                  <a:off x="4473360" y="4242240"/>
                  <a:ext cx="1006920" cy="1194840"/>
                </a:xfrm>
                <a:custGeom>
                  <a:avLst/>
                  <a:gdLst/>
                  <a:ahLst/>
                  <a:rect l="l" t="t" r="r" b="b"/>
                  <a:pathLst>
                    <a:path w="612" h="726">
                      <a:moveTo>
                        <a:pt x="612" y="726"/>
                      </a:moveTo>
                      <a:lnTo>
                        <a:pt x="0" y="278"/>
                      </a:lnTo>
                      <a:lnTo>
                        <a:pt x="382" y="0"/>
                      </a:lnTo>
                      <a:lnTo>
                        <a:pt x="612" y="7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Freeform 179"/>
                <p:cNvSpPr/>
                <p:nvPr/>
              </p:nvSpPr>
              <p:spPr>
                <a:xfrm>
                  <a:off x="3449520" y="4239000"/>
                  <a:ext cx="1016640" cy="1198080"/>
                </a:xfrm>
                <a:custGeom>
                  <a:avLst/>
                  <a:gdLst/>
                  <a:ahLst/>
                  <a:rect l="l" t="t" r="r" b="b"/>
                  <a:pathLst>
                    <a:path w="618" h="728">
                      <a:moveTo>
                        <a:pt x="234" y="0"/>
                      </a:moveTo>
                      <a:lnTo>
                        <a:pt x="0" y="728"/>
                      </a:lnTo>
                      <a:lnTo>
                        <a:pt x="618" y="280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Freeform 180"/>
                <p:cNvSpPr/>
                <p:nvPr/>
              </p:nvSpPr>
              <p:spPr>
                <a:xfrm>
                  <a:off x="2804760" y="3482280"/>
                  <a:ext cx="1266840" cy="759960"/>
                </a:xfrm>
                <a:custGeom>
                  <a:avLst/>
                  <a:gdLst/>
                  <a:ahLst/>
                  <a:rect l="l" t="t" r="r" b="b"/>
                  <a:pathLst>
                    <a:path w="770" h="462">
                      <a:moveTo>
                        <a:pt x="770" y="0"/>
                      </a:moveTo>
                      <a:lnTo>
                        <a:pt x="0" y="2"/>
                      </a:lnTo>
                      <a:lnTo>
                        <a:pt x="626" y="462"/>
                      </a:lnTo>
                      <a:lnTo>
                        <a:pt x="7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Freeform 181"/>
                <p:cNvSpPr/>
                <p:nvPr/>
              </p:nvSpPr>
              <p:spPr>
                <a:xfrm>
                  <a:off x="4468320" y="2275920"/>
                  <a:ext cx="1653840" cy="1199520"/>
                </a:xfrm>
                <a:custGeom>
                  <a:avLst/>
                  <a:gdLst/>
                  <a:ahLst/>
                  <a:rect l="l" t="t" r="r" b="b"/>
                  <a:pathLst>
                    <a:path w="1005" h="729">
                      <a:moveTo>
                        <a:pt x="1005" y="729"/>
                      </a:moveTo>
                      <a:lnTo>
                        <a:pt x="240" y="729"/>
                      </a:lnTo>
                      <a:lnTo>
                        <a:pt x="0" y="0"/>
                      </a:lnTo>
                      <a:lnTo>
                        <a:pt x="1005" y="7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Freeform 182"/>
                <p:cNvSpPr/>
                <p:nvPr/>
              </p:nvSpPr>
              <p:spPr>
                <a:xfrm>
                  <a:off x="5100120" y="3480480"/>
                  <a:ext cx="1026720" cy="1954800"/>
                </a:xfrm>
                <a:custGeom>
                  <a:avLst/>
                  <a:gdLst/>
                  <a:ahLst/>
                  <a:rect l="l" t="t" r="r" b="b"/>
                  <a:pathLst>
                    <a:path w="624" h="1188">
                      <a:moveTo>
                        <a:pt x="624" y="0"/>
                      </a:moveTo>
                      <a:lnTo>
                        <a:pt x="228" y="1188"/>
                      </a:lnTo>
                      <a:lnTo>
                        <a:pt x="0" y="462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Freeform 183"/>
                <p:cNvSpPr/>
                <p:nvPr/>
              </p:nvSpPr>
              <p:spPr>
                <a:xfrm>
                  <a:off x="3451680" y="4704840"/>
                  <a:ext cx="2028960" cy="740520"/>
                </a:xfrm>
                <a:custGeom>
                  <a:avLst/>
                  <a:gdLst/>
                  <a:ahLst/>
                  <a:rect l="l" t="t" r="r" b="b"/>
                  <a:pathLst>
                    <a:path w="1233" h="450">
                      <a:moveTo>
                        <a:pt x="0" y="450"/>
                      </a:moveTo>
                      <a:lnTo>
                        <a:pt x="1233" y="450"/>
                      </a:lnTo>
                      <a:lnTo>
                        <a:pt x="621" y="0"/>
                      </a:lnTo>
                      <a:lnTo>
                        <a:pt x="0" y="4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Freeform 184"/>
                <p:cNvSpPr/>
                <p:nvPr/>
              </p:nvSpPr>
              <p:spPr>
                <a:xfrm>
                  <a:off x="2809440" y="3485520"/>
                  <a:ext cx="1021680" cy="1949760"/>
                </a:xfrm>
                <a:custGeom>
                  <a:avLst/>
                  <a:gdLst/>
                  <a:ahLst/>
                  <a:rect l="l" t="t" r="r" b="b"/>
                  <a:pathLst>
                    <a:path w="621" h="1185">
                      <a:moveTo>
                        <a:pt x="0" y="0"/>
                      </a:moveTo>
                      <a:lnTo>
                        <a:pt x="621" y="459"/>
                      </a:lnTo>
                      <a:lnTo>
                        <a:pt x="390" y="11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185"/>
                <p:cNvSpPr/>
                <p:nvPr/>
              </p:nvSpPr>
              <p:spPr>
                <a:xfrm>
                  <a:off x="2809440" y="2275920"/>
                  <a:ext cx="1648440" cy="1209600"/>
                </a:xfrm>
                <a:custGeom>
                  <a:avLst/>
                  <a:gdLst/>
                  <a:ahLst/>
                  <a:rect l="l" t="t" r="r" b="b"/>
                  <a:pathLst>
                    <a:path w="1002" h="735">
                      <a:moveTo>
                        <a:pt x="0" y="732"/>
                      </a:moveTo>
                      <a:lnTo>
                        <a:pt x="1002" y="0"/>
                      </a:lnTo>
                      <a:lnTo>
                        <a:pt x="768" y="735"/>
                      </a:lnTo>
                      <a:lnTo>
                        <a:pt x="0" y="7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4" name="Oval 186"/>
            <p:cNvSpPr/>
            <p:nvPr/>
          </p:nvSpPr>
          <p:spPr>
            <a:xfrm>
              <a:off x="4376880" y="2614680"/>
              <a:ext cx="15876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5" name="Text Box 188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189"/>
          <p:cNvSpPr/>
          <p:nvPr/>
        </p:nvSpPr>
        <p:spPr>
          <a:xfrm>
            <a:off x="3944880" y="556740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190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">
                                      <p:cBhvr>
                                        <p:cTn id="178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185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192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199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206" dur="2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6:03:11Z</dcterms:created>
  <dc:creator>Mike Crowley</dc:creator>
  <dc:description/>
  <dc:language>en-US</dc:language>
  <cp:lastModifiedBy>chmorgan</cp:lastModifiedBy>
  <dcterms:modified xsi:type="dcterms:W3CDTF">2014-04-11T19:04:26Z</dcterms:modified>
  <cp:revision>27</cp:revision>
  <dc:subject/>
  <dc:title>Symmetry Rotational</dc:title>
</cp:coreProperties>
</file>